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E42-5466-40B6-AC55-1876A694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ACB8-3CB9-4732-91E9-163EEE94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0A4-1645-44FF-BB38-9C0B4F66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104-4023-49F5-ACFB-B2F1ABC1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C8A2-7D98-48FA-ADE1-ACBE7D9C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7ED-CD8B-4ABC-8F40-B3F1E85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ABB6-6472-412E-9351-4EC95C5E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0938-B950-485E-91BB-2714245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D54C-F632-499B-9450-3F63CA0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0424-9E18-4A0E-ABD8-29FD3893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2F25-B2DC-4AD3-9BE7-9D54AC7C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343-E15D-4E28-915B-B88F1821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952B-7F7B-47B2-A6C7-74FB024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9D7B-D1E5-4CCC-9412-24BF4880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177-09A8-4111-8D80-6BF88DE6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F4C3-08EB-4E22-BCC9-9C197A1A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7672-7AC1-4AB7-A700-FEFF46013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7DD-364E-4F3E-BD8A-44F8538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783-C830-4A62-B600-E15E265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859-EC53-40AE-8C3F-0BDFCF1C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953-EBF1-4CAA-B122-B849DA7C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5D8D-2831-43A4-A02D-A3ACE03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44D-89A8-4687-915F-747A129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248-8322-46E0-B25D-87D3223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0BC0-6213-4A36-B093-39ADEACA45A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971A-0D23-4B6B-9C1E-06B803CBD47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2843280" y="549360"/>
            <a:ext cx="518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Учебно- исследовательская рабо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1477800" y="2349360"/>
            <a:ext cx="63072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"Старинные города Росси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Monotype Corsiva"/>
              </a:rPr>
              <a:t>Ту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Monotype Corsiva"/>
              <a:ea typeface="Monotype Corsiva"/>
            </a:endParaRPr>
          </a:p>
        </p:txBody>
      </p:sp>
      <p:sp>
        <p:nvSpPr>
          <p:cNvPr id="153" name="WordArt 6"/>
          <p:cNvSpPr txBox="1"/>
          <p:nvPr/>
        </p:nvSpPr>
        <p:spPr>
          <a:xfrm>
            <a:off x="2627280" y="5734080"/>
            <a:ext cx="41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Выполнила: ученица 9 "А"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Гришаева Анастас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759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сная поля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04_mot1"/>
          <p:cNvPicPr/>
          <p:nvPr/>
        </p:nvPicPr>
        <p:blipFill>
          <a:blip r:embed="rId1"/>
          <a:stretch/>
        </p:blipFill>
        <p:spPr>
          <a:xfrm>
            <a:off x="1619280" y="912960"/>
            <a:ext cx="6481800" cy="57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Картинка 23 из 2417"/>
          <p:cNvPicPr/>
          <p:nvPr/>
        </p:nvPicPr>
        <p:blipFill>
          <a:blip r:embed="rId1"/>
          <a:stretch/>
        </p:blipFill>
        <p:spPr>
          <a:xfrm>
            <a:off x="755640" y="333360"/>
            <a:ext cx="738036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3440" y="0"/>
            <a:ext cx="561348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оруж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057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а через века пронесла славу оружейной столицы и города мастеров. В заводском арсенале в 1775 году была открыта палата образцового и редкостного оружия.А 16 ноября 1924 года музей был открыт для всеобщего обозрения. В 1959 году ему было предоставлено помещение вне завода, а в настоящее время музей расположен в здании Богоявленского собора Тульского кремл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йдя по залам  музея мы узнаем много удивительных, интересных  вещей об истории оружейного производства и мастерства в Туле, увидим поистине уникальные образцы вооруж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95640" y="186840"/>
            <a:ext cx="468144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узей оруж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2f3ea1972cdd"/>
          <p:cNvPicPr/>
          <p:nvPr/>
        </p:nvPicPr>
        <p:blipFill>
          <a:blip r:embed="rId1"/>
          <a:stretch/>
        </p:blipFill>
        <p:spPr>
          <a:xfrm>
            <a:off x="6373800" y="1413000"/>
            <a:ext cx="1558800" cy="2698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21 из 281"/>
          <p:cNvPicPr/>
          <p:nvPr/>
        </p:nvPicPr>
        <p:blipFill>
          <a:blip r:embed="rId2"/>
          <a:stretch/>
        </p:blipFill>
        <p:spPr>
          <a:xfrm>
            <a:off x="1187280" y="836640"/>
            <a:ext cx="698508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95280" y="190080"/>
            <a:ext cx="4824360" cy="9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562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месте развалившейся Богородицкой крепости, построился один из значительных загородных ансамблей. Заказчицей выступила сама Екатерина Велика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18 г. в трех залах дворца открыли культурно- просветительный музей. Но дальнейшая судьба дворца- музея печальна. Окончательное разрушение сооружения произошло при отступлении гитлировских войск в 1941 г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зрождение началось в 1967г. И через  20 лет Богородицкий дворец- музей и парк распахнул двери для посетител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640" y="258840"/>
            <a:ext cx="489744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a0bc53ec6f07"/>
          <p:cNvPicPr/>
          <p:nvPr/>
        </p:nvPicPr>
        <p:blipFill>
          <a:blip r:embed="rId1"/>
          <a:stretch/>
        </p:blipFill>
        <p:spPr>
          <a:xfrm>
            <a:off x="1042920" y="1285920"/>
            <a:ext cx="741672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4705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орец графа Бобринског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Картинка 10 из 40"/>
          <p:cNvPicPr/>
          <p:nvPr/>
        </p:nvPicPr>
        <p:blipFill>
          <a:blip r:embed="rId1"/>
          <a:stretch/>
        </p:blipFill>
        <p:spPr>
          <a:xfrm>
            <a:off x="1692360" y="1268280"/>
            <a:ext cx="6480000" cy="51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640" y="115920"/>
            <a:ext cx="53992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нтральный пар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697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тр Петрович Белоусов был санитарным врачом Тулы, за короткий срок много сделавшим для города, но более всего горожане почитают его память за создание замечательного парка. Белоусовский парк входит в десятку крупнейших парковых сооружений в Европе. Когда- то это было место большой городской свалки и выпаса скота. Заложен парк был в 1893 г. Своего рода символ парка – белка. А на верхнем пруду в "Уголке природы" обитают белый лебедь кликун, черные австралийские лебеди, павлины, серебристые и алмазные фазаны, попугаи (Калито, Ларикет, волнистые) и др. птицы. Встретить в парке можно даже косуль и кроли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34920" y="115920"/>
            <a:ext cx="49654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Центральный па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4" descr="0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779400"/>
            <a:ext cx="705816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59022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удожественный Муз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ьский художественный музей- один из крупных областных музеев России. Открытие произошло в 1919 г.   Его основой послужили коллекции палаты древностей, собранные тульским краеведом Н. И. Троицким, а также произведения, поступившие из помещичьих усадеб (Бобринских, Олсуфьевых, Оболенских, Гагариных и других), из частных собраний Тулы, из музея имени М. Ю. Лермонтова в городе Ефремов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  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   Очень разнообразно представлено в музее прикладное искусство - фарфор русских и зарубежных заводов, изделия из хрусталя и цветного стекла, шитье бисером, шелком, шерстью, художественная мебел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GERBgub"/>
          <p:cNvPicPr/>
          <p:nvPr/>
        </p:nvPicPr>
        <p:blipFill>
          <a:blip r:embed="rId1"/>
          <a:stretch/>
        </p:blipFill>
        <p:spPr>
          <a:xfrm>
            <a:off x="3362400" y="0"/>
            <a:ext cx="222084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2268360" y="3473280"/>
          <a:ext cx="5328000" cy="3384720"/>
        </p:xfrm>
        <a:graphic>
          <a:graphicData uri="http://schemas.openxmlformats.org/drawingml/2006/table">
            <a:tbl>
              <a:tblPr/>
              <a:tblGrid>
                <a:gridCol w="532800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Тула – один из тех городов России, где живет ду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арода, где практически каждая его частич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проникнута национальной самобытностью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неповторимостью. Богатство русской культуры запечатлено в архитектурном облике города, в его многочисленных музеях и других достопримечательностях. По праву Тулу можно считать бесценным памятником истории земли русс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3480" y="258480"/>
            <a:ext cx="5329440" cy="47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Художественный муз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4" descr="х муз"/>
          <p:cNvPicPr/>
          <p:nvPr/>
        </p:nvPicPr>
        <p:blipFill>
          <a:blip r:embed="rId1"/>
          <a:stretch/>
        </p:blipFill>
        <p:spPr>
          <a:xfrm>
            <a:off x="971640" y="1314360"/>
            <a:ext cx="748800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7280" y="190080"/>
            <a:ext cx="58294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атр драмы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907920"/>
            <a:ext cx="769752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адемический театр драмы им. М. Горького - гордость туляков. В 1787 году Екатерина II, посетив Тульский театр, осталась довольна спектаклем. В истории Тульского театра много прелюбопытных фактов. Год работал в тульской антрепризе великий М. С. Щепкин, откуда и был приглашен на сцену Императорского Малого театра. В 1832 году здесь же состоялся дебют другого замечательного актера своего времени П. М. Садовского, родоначальника артистической династии Малого театра.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teatr"/>
          <p:cNvPicPr/>
          <p:nvPr/>
        </p:nvPicPr>
        <p:blipFill>
          <a:blip r:embed="rId1"/>
          <a:stretch/>
        </p:blipFill>
        <p:spPr>
          <a:xfrm>
            <a:off x="1979640" y="260280"/>
            <a:ext cx="4949640" cy="6597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3480" y="190080"/>
            <a:ext cx="532944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атр дра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640" y="258840"/>
            <a:ext cx="52545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укольный теат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7706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тский театр зародился на Тульской земле. Возникновение его связано с именем А.Т.Болотова, который, посещая со своими детьми постановки Тульского драматического театра, увидел, какое огромное впечатление производит на них театральное искусство. В большой комнате своего дома он устроил сцену с кулисами, занавесом, декорациями, где 24 ноября 1779 года состоялся первый спектакль в присутствии друзей и знакомы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Этот день и считается днем открытия первого в России детского театр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25800" y="258840"/>
            <a:ext cx="503712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атр куко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s03s"/>
          <p:cNvPicPr/>
          <p:nvPr/>
        </p:nvPicPr>
        <p:blipFill>
          <a:blip r:embed="rId1"/>
          <a:stretch/>
        </p:blipFill>
        <p:spPr>
          <a:xfrm>
            <a:off x="1909800" y="1413000"/>
            <a:ext cx="61912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3800" y="258840"/>
            <a:ext cx="54691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Музей Белобородо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060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м Белобородовых был построен в 1794-1799 годах. Это одно из старейших зданий в центре Тулы. 25 марта 1995 года в этом доме открыт мемориальный муз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лобородов всю жизнь прожил в этом доме. Здесь им была изобретена хроматическая гармоника и создан первый в России оркестр любителей игры на хроматических гармониках.  В музее постоянно работают выставки, для посетителей проводятся вечера в музыкальной гостино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54720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Белобород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286%20(1%20(386x232))"/>
          <p:cNvPicPr/>
          <p:nvPr/>
        </p:nvPicPr>
        <p:blipFill>
          <a:blip r:embed="rId1"/>
          <a:stretch/>
        </p:blipFill>
        <p:spPr>
          <a:xfrm>
            <a:off x="1116000" y="1166760"/>
            <a:ext cx="691056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640" y="190440"/>
            <a:ext cx="56152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626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вое письменное упоминание о тульском прянике нашли в писцовой книге за 1685 год и славится он с тех давних времен до наших дней. До наших времен сохранились доски, по которым можно судить о разнообразии пряников. Доски резали из березы и груши. Фигурный пряник - предмет художественного творчества. В 1996 году к празднованию 850-летия г. Тулы было принято решение об открытии музея "Тульский пряник" с чайным залом и магазином для продажи сувениров на улице Октябрьской в доме 45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0 октября был торжественно открыт единственный в мире музей "Тульский пряник". Именно тульский печатный пряник делается старинным традиционным дедовским способом уже много веков подряд от самого маленького 50 граммового до "почетного" 16 кг. В древние времена тульский пряник считали "королем" среди своих пряничных собратьев сделанных в древних городах Росс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258840"/>
            <a:ext cx="547236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6" descr="Картинка 192 из 699"/>
          <p:cNvPicPr/>
          <p:nvPr/>
        </p:nvPicPr>
        <p:blipFill>
          <a:blip r:embed="rId1"/>
          <a:stretch/>
        </p:blipFill>
        <p:spPr>
          <a:xfrm>
            <a:off x="1619280" y="1125360"/>
            <a:ext cx="62848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59022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 пряник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7" descr="Картинка 33 из 124"/>
          <p:cNvPicPr/>
          <p:nvPr/>
        </p:nvPicPr>
        <p:blipFill>
          <a:blip r:embed="rId1"/>
          <a:stretch/>
        </p:blipFill>
        <p:spPr>
          <a:xfrm>
            <a:off x="1258920" y="981000"/>
            <a:ext cx="712944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09800" y="190440"/>
            <a:ext cx="4680000" cy="6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льский кремл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13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ульский кремль вошел в историю со времени 1507 года, когда московский государь Василий III повелел построить «город каменный на Туле». Особо тяжелое испытание на долю кремля и жителей города выпало в 1552 году, когда крымская орда во главе с Давлет– Гиреем внезапно появилось под Тулой. И летом 1607 года, когда войска Василия Шуйского окружили город, под защиту укреплений которого отступили восставшие крестьяне во главе с Болотниковым.  Без малого пять веков существует Тульский кремль. Разные времена помнят его стены.  Он и сейчас стоит, наш красавец– кремль, в центре Тулы, радуя глаз своими совершенными и целесообразными форм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09800" y="190080"/>
            <a:ext cx="525312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- усадьба Полен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лее 100 лет на высоком холме над Окой стоит трехэтажный белый дом. Этот дом был построен в 1892 году. Поленов мечтал о домике на берегу Оки. 8 июня 1891 года Поленов получил во владение «Борок». 16 августа 1891 года был заложен дом. И уже 2 октября 1892 года семья переселилась в новый дом, именно эту дату и принято считать днем создания музе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1941 году через Поленово прошла линия фронта, экспонаты музея были эвакуированы в Тулу. Музей был вновь открыт для посещения в 1944 год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узей- усадьба Поленово- один из крупнейших музеев-заповедников страны и один из самых известных в России и за ее предела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258840"/>
            <a:ext cx="611964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узей- усадьба Полено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1_"/>
          <p:cNvPicPr/>
          <p:nvPr/>
        </p:nvPicPr>
        <p:blipFill>
          <a:blip r:embed="rId1"/>
          <a:stretch/>
        </p:blipFill>
        <p:spPr>
          <a:xfrm>
            <a:off x="1763640" y="1413000"/>
            <a:ext cx="655344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496728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784224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крытие нового цирка состоялось 3 сентября 1963 года. В этом же 1963 году знаменитый Михаил Арнольд ставит в Тульском цирке великолепный спектакль «Цирк на льду»- первый в мире. Это было началом творческих начал. Добрая репутация Тульского цирка широко разнеслась не только по нашей стране. Она перешагнула и за рубеж нашей Родины. В гостях у нас побывало много выдающихся мастеров циркового искусства, знаменитые клоуны: «Карандаш» - Михаил Николаевич Румянцев, Юрий Никулин со своим постоянным партнером Михаилом Шуйдиным, Олег Попов, Андрей Николаев. Трижды приезжал к нам великолепнейший иллюзионный аттракцион Кио, аттракцион Мстислава Запашног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11820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5" descr="cb8e9b6e76ad"/>
          <p:cNvPicPr/>
          <p:nvPr/>
        </p:nvPicPr>
        <p:blipFill>
          <a:blip r:embed="rId1"/>
          <a:stretch/>
        </p:blipFill>
        <p:spPr>
          <a:xfrm>
            <a:off x="1042920" y="1268280"/>
            <a:ext cx="748980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046920" cy="68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ульский цир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photo-2-s"/>
          <p:cNvPicPr/>
          <p:nvPr/>
        </p:nvPicPr>
        <p:blipFill>
          <a:blip r:embed="rId1"/>
          <a:stretch/>
        </p:blipFill>
        <p:spPr>
          <a:xfrm>
            <a:off x="108000" y="1197000"/>
            <a:ext cx="4537080" cy="301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photo-3-s"/>
          <p:cNvPicPr/>
          <p:nvPr/>
        </p:nvPicPr>
        <p:blipFill>
          <a:blip r:embed="rId2"/>
          <a:stretch/>
        </p:blipFill>
        <p:spPr>
          <a:xfrm>
            <a:off x="4859280" y="4008600"/>
            <a:ext cx="42847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59022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нев Монастыр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7986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никален Венев-Никольский монастырь, старейший из монастырей на Тульской земле. Первое упоминание в древних грамотах о Венев-монастыре относится к 1407 году. В 1570 г. по ложному доносу был сосла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ван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V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овгородский архиепископ Пимен, он был заточен в низкой, сырой келье. Всего за один год Пимен сконч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итель была в большом почете у жителей Тулы, Москвы, Рязани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6945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нев Монастыр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Picture 4" descr="PICT1912"/>
          <p:cNvPicPr/>
          <p:nvPr/>
        </p:nvPicPr>
        <p:blipFill>
          <a:blip r:embed="rId1"/>
          <a:stretch/>
        </p:blipFill>
        <p:spPr>
          <a:xfrm>
            <a:off x="1187280" y="1019160"/>
            <a:ext cx="70567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539640" y="2349360"/>
            <a:ext cx="784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3dff"/>
                    </a:gs>
                    <a:gs pos="50000">
                      <a:srgbClr val="ff0000"/>
                    </a:gs>
                    <a:gs pos="100000">
                      <a:srgbClr val="703dff"/>
                    </a:gs>
                  </a:gsLst>
                  <a:lin ang="18900000"/>
                </a:gra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3dff"/>
                    </a:gs>
                    <a:gs pos="50000">
                      <a:srgbClr val="ff0000"/>
                    </a:gs>
                    <a:gs pos="100000">
                      <a:srgbClr val="703dff"/>
                    </a:gs>
                  </a:gsLst>
                  <a:lin ang="18900000"/>
                </a:gradFill>
                <a:latin typeface="Arial"/>
              </a:rPr>
              <a:t>______ __ ________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3dff"/>
                  </a:gs>
                  <a:gs pos="50000">
                    <a:srgbClr val="ff0000"/>
                  </a:gs>
                  <a:gs pos="100000">
                    <a:srgbClr val="703d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tula1_big"/>
          <p:cNvPicPr/>
          <p:nvPr/>
        </p:nvPicPr>
        <p:blipFill>
          <a:blip r:embed="rId1"/>
          <a:stretch/>
        </p:blipFill>
        <p:spPr>
          <a:xfrm>
            <a:off x="1042920" y="1268280"/>
            <a:ext cx="7272360" cy="4772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7440" y="258840"/>
            <a:ext cx="5970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ульский кремл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story1"/>
          <p:cNvPicPr/>
          <p:nvPr/>
        </p:nvPicPr>
        <p:blipFill>
          <a:blip r:embed="rId1"/>
          <a:stretch/>
        </p:blipFill>
        <p:spPr>
          <a:xfrm>
            <a:off x="684360" y="549360"/>
            <a:ext cx="7440480" cy="49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3800" y="115560"/>
            <a:ext cx="525312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уликово поле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79866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ть в России места, при посещении которых русский человек не может остаться равнодушным. Одно из них—Куликово поле. На Куликовом поле расположен обелиск и храм, в котором размещен прекрасный музей. Оригинально и вместе с тем тактично по отношению к окружающему ландшафту благоустроен  Красный холм со смотровой площадкой, то есть фактически создан цельный историко– архитектурный ансамбл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439272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уликово пол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3__ulikovo_pole_kolonna_"/>
          <p:cNvPicPr/>
          <p:nvPr/>
        </p:nvPicPr>
        <p:blipFill>
          <a:blip r:embed="rId1"/>
          <a:stretch/>
        </p:blipFill>
        <p:spPr>
          <a:xfrm>
            <a:off x="2340000" y="954000"/>
            <a:ext cx="446400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Картинка 94 из 1010"/>
          <p:cNvPicPr/>
          <p:nvPr/>
        </p:nvPicPr>
        <p:blipFill>
          <a:blip r:embed="rId1"/>
          <a:stretch/>
        </p:blipFill>
        <p:spPr>
          <a:xfrm>
            <a:off x="971640" y="692280"/>
            <a:ext cx="7280280" cy="52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95640" y="115920"/>
            <a:ext cx="43178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mic Sans MS"/>
              </a:rPr>
              <a:t>Ясная поляна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0920" y="907920"/>
            <a:ext cx="77706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сная Поляна — место жизни и творчест­ва гениального писателя Льва Николаевича Толстого. При   посещении  Ясной Поляны Вы сможете пройтись не спеша по великолепным в любое время  года  березовым и липовым аллеям, по тем тропам, где гулял и обдумывал свои гениальные произведения Л.Н.Толстой, посидеть на его любимой березовой скамейке,         насладиться тишиной и неповторимой красотой окружающей природы, а главное – обрести чувство душевной свободы и осознать, что здесь жил и творил ген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4:02:12Z</dcterms:created>
  <dc:creator>User</dc:creator>
  <dc:description/>
  <dc:language>en-US</dc:language>
  <cp:lastModifiedBy>user</cp:lastModifiedBy>
  <dcterms:modified xsi:type="dcterms:W3CDTF">2013-04-08T17:12:46Z</dcterms:modified>
  <cp:revision>8</cp:revision>
  <dc:subject/>
  <dc:title>Слайд 1</dc:title>
</cp:coreProperties>
</file>