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767-088E-4654-B0BA-2C971F81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651-F8C9-47C9-A499-D97AE54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245-52E1-43CB-8DA2-4C90918F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478-FD33-4127-A66B-FB5FE691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122E-EAB4-4333-B93B-89BB7828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11F-E9E3-42DA-B2F1-D412C1ED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BD86-4D90-4C24-B919-EC0E8D37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A509-387C-4C27-B38D-E275D081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652D-6A39-4DFE-82A7-432C9EF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F4AB-C4DC-40C5-BA04-AD66DDD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BB02-7EC9-4043-ADB8-1326BE3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E0B-171F-49D7-AAD1-904069E1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1973-34F6-467D-BD2C-4A3DACCB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186C-A85E-4C75-B79F-763B60FB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C32-7D78-4847-BF5B-FA06707E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AE20-88E4-4965-BFE1-FA68A261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26EC-01E8-4301-8CBE-A399218D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7A9-1FE9-4AF9-92AB-3E324841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EA3-DBB4-412A-8F9D-8C738598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7DA-9993-4370-90EF-C7E6E085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3F8-0FEF-4A04-BE91-C18C1F2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569-0B58-4374-BBF7-2A9E5B6E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D55-1C0B-4F4E-80DC-14D02C2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A8C-91D8-4563-834E-BD133E22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493C-371B-4545-8E3D-ED4D8E568A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0B43-9AC9-4E67-9CAF-A4970A9518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843280" y="549360"/>
            <a:ext cx="518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Учебно- исследовательская рабо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477800" y="2349360"/>
            <a:ext cx="63072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"Старинные города Росси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Ту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2627280" y="5734080"/>
            <a:ext cx="41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ыполнила: ученица 9 "А"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Гришаева Анаста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7596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сная поля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04_mot1"/>
          <p:cNvPicPr/>
          <p:nvPr/>
        </p:nvPicPr>
        <p:blipFill>
          <a:blip r:embed="rId1"/>
          <a:stretch/>
        </p:blipFill>
        <p:spPr>
          <a:xfrm>
            <a:off x="1619280" y="912960"/>
            <a:ext cx="6481800" cy="57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Картинка 23 из 2417"/>
          <p:cNvPicPr/>
          <p:nvPr/>
        </p:nvPicPr>
        <p:blipFill>
          <a:blip r:embed="rId1"/>
          <a:stretch/>
        </p:blipFill>
        <p:spPr>
          <a:xfrm>
            <a:off x="755640" y="333360"/>
            <a:ext cx="738036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3440" y="0"/>
            <a:ext cx="5613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 оруж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057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ла через века пронесла славу оружейной столицы и города мастеров. В заводском арсенале в 1775 году была открыта палата образцового и редкостного оружия.А 16 ноября 1924 года музей был открыт для всеобщего обозрения. В 1959 году ему было предоставлено помещение вне завода, а в настоящее время музей расположен в здании Богоявленского собора Тульского крем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йдя по залам  музея мы узнаем много удивительных, интересных  вещей об истории оружейного производства и мастерства в Туле, увидим поистине уникальные образцы воору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95640" y="186840"/>
            <a:ext cx="46814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узей оруж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2f3ea1972cdd"/>
          <p:cNvPicPr/>
          <p:nvPr/>
        </p:nvPicPr>
        <p:blipFill>
          <a:blip r:embed="rId1"/>
          <a:stretch/>
        </p:blipFill>
        <p:spPr>
          <a:xfrm>
            <a:off x="6373800" y="1413000"/>
            <a:ext cx="1558800" cy="2698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21 из 281"/>
          <p:cNvPicPr/>
          <p:nvPr/>
        </p:nvPicPr>
        <p:blipFill>
          <a:blip r:embed="rId2"/>
          <a:stretch/>
        </p:blipFill>
        <p:spPr>
          <a:xfrm>
            <a:off x="1187280" y="836640"/>
            <a:ext cx="698508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95280" y="190080"/>
            <a:ext cx="4824360" cy="9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орец графа Бобринск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562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месте развалившейся Богородицкой крепости, построился один из значительных загородных ансамблей. Заказчицей выступила сама Екатерина Велика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18 г. в трех залах дворца открыли культурно- просветительный музей. Но дальнейшая судьба дворца- музея печальна. Окончательное разрушение сооружения произошло при отступлении гитлировских войск в 194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рождение началось в 1967г. И через  20 лет Богородицкий дворец- музей и парк распахнул двери для посетителе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640" y="258840"/>
            <a:ext cx="489744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орец графа Бобринск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0bc53ec6f07"/>
          <p:cNvPicPr/>
          <p:nvPr/>
        </p:nvPicPr>
        <p:blipFill>
          <a:blip r:embed="rId1"/>
          <a:stretch/>
        </p:blipFill>
        <p:spPr>
          <a:xfrm>
            <a:off x="1042920" y="1285920"/>
            <a:ext cx="741672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4705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орец графа Бобринск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Картинка 10 из 40"/>
          <p:cNvPicPr/>
          <p:nvPr/>
        </p:nvPicPr>
        <p:blipFill>
          <a:blip r:embed="rId1"/>
          <a:stretch/>
        </p:blipFill>
        <p:spPr>
          <a:xfrm>
            <a:off x="1692360" y="1268280"/>
            <a:ext cx="648000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640" y="115920"/>
            <a:ext cx="53992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нтральный пар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697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тр Петрович Белоусов был санитарным врачом Тулы, за короткий срок много сделавшим для города, но более всего горожане почитают его память за создание замечательного парка. Белоусовский парк входит в десятку крупнейших парковых сооружений в Европе. Когда- то это было место большой городской свалки и выпаса скота. Заложен парк был в 1893 г. Своего рода символ парка – белка. А на верхнем пруду в "Уголке природы" обитают белый лебедь кликун, черные австралийские лебеди, павлины, серебристые и алмазные фазаны, попугаи (Калито, Ларикет, волнистые) и др. птицы. Встретить в парке можно даже косуль и кроли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34920" y="115920"/>
            <a:ext cx="49654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Центральный пар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0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779400"/>
            <a:ext cx="70581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59022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удожественный Муз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86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льский художественный музей- один из крупных областных музеев России. Открытие произошло в 1919 г.   Его основой послужили коллекции палаты древностей, собранные тульским краеведом Н. И. Троицким, а также произведения, поступившие из помещичьих усадеб (Бобринских, Олсуфьевых, Оболенских, Гагариных и других), из частных собраний Тулы, из музея имени М. Ю. Лермонтова в городе Ефремов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  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   Очень разнообразно представлено в музее прикладное искусство - фарфор русских и зарубежных заводов, изделия из хрусталя и цветного стекла, шитье бисером, шелком, шерстью, художественная мебе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GERBgub"/>
          <p:cNvPicPr/>
          <p:nvPr/>
        </p:nvPicPr>
        <p:blipFill>
          <a:blip r:embed="rId1"/>
          <a:stretch/>
        </p:blipFill>
        <p:spPr>
          <a:xfrm>
            <a:off x="3362400" y="0"/>
            <a:ext cx="2220840" cy="31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268360" y="3473280"/>
          <a:ext cx="5328000" cy="3384720"/>
        </p:xfrm>
        <a:graphic>
          <a:graphicData uri="http://schemas.openxmlformats.org/drawingml/2006/table">
            <a:tbl>
              <a:tblPr/>
              <a:tblGrid>
                <a:gridCol w="5328000"/>
              </a:tblGrid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ла – один из тех городов России, где живет ду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рода, где практически каждая его частич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никнута национальной самобытностью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повторимостью. Богатство русской культуры запечатлено в архитектурном облике города, в его многочисленных музеях и других достопримечательностях. По праву Тулу можно считать бесценным памятником истории земли русс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3480" y="258480"/>
            <a:ext cx="532944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удожественный муз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4" descr="х муз"/>
          <p:cNvPicPr/>
          <p:nvPr/>
        </p:nvPicPr>
        <p:blipFill>
          <a:blip r:embed="rId1"/>
          <a:stretch/>
        </p:blipFill>
        <p:spPr>
          <a:xfrm>
            <a:off x="971640" y="1314360"/>
            <a:ext cx="748800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280" y="190080"/>
            <a:ext cx="58294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атр драмы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9752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адемический театр драмы им. М. Горького - гордость туляков. В 1787 году Екатерина II, посетив Тульский театр, осталась довольна спектаклем. В истории Тульского театра много прелюбопытных фактов. Год работал в тульской антрепризе великий М. С. Щепкин, откуда и был приглашен на сцену Императорского Малого театра. В 1832 году здесь же состоялся дебют другого замечательного актера своего времени П. М. Садовского, родоначальника артистической династии Малого театра.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teatr"/>
          <p:cNvPicPr/>
          <p:nvPr/>
        </p:nvPicPr>
        <p:blipFill>
          <a:blip r:embed="rId1"/>
          <a:stretch/>
        </p:blipFill>
        <p:spPr>
          <a:xfrm>
            <a:off x="1979640" y="260280"/>
            <a:ext cx="4949640" cy="6597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3480" y="190080"/>
            <a:ext cx="532944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атр дра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640" y="258840"/>
            <a:ext cx="5254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укольный теат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7706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ский театр зародился на Тульской земле. Возникновение его связано с именем А.Т.Болотова, который, посещая со своими детьми постановки Тульского драматического театра, увидел, какое огромное впечатление производит на них театральное искусство. В большой комнате своего дома он устроил сцену с кулисами, занавесом, декорациями, где 24 ноября 1779 года состоялся первый спектакль в присутствии друзей и знакомы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т день и считается днем открытия первого в России детского теат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25800" y="258840"/>
            <a:ext cx="503712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атр куко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s03s"/>
          <p:cNvPicPr/>
          <p:nvPr/>
        </p:nvPicPr>
        <p:blipFill>
          <a:blip r:embed="rId1"/>
          <a:stretch/>
        </p:blipFill>
        <p:spPr>
          <a:xfrm>
            <a:off x="1909800" y="1413000"/>
            <a:ext cx="61912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3800" y="258840"/>
            <a:ext cx="546912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узей Белобородо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06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м Белобородовых был построен в 1794-1799 годах. Это одно из старейших зданий в центре Тулы. 25 марта 1995 года в этом доме открыт мемориальный муз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лобородов всю жизнь прожил в этом доме. Здесь им была изобретена хроматическая гармоника и создан первый в России оркестр любителей игры на хроматических гармониках.  В музее постоянно работают выставки, для посетителей проводятся вечера в музыкальной гостин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5472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 Белобород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286%20(1%20(386x232))"/>
          <p:cNvPicPr/>
          <p:nvPr/>
        </p:nvPicPr>
        <p:blipFill>
          <a:blip r:embed="rId1"/>
          <a:stretch/>
        </p:blipFill>
        <p:spPr>
          <a:xfrm>
            <a:off x="1116000" y="1166760"/>
            <a:ext cx="691056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640" y="190440"/>
            <a:ext cx="56152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ей Пряни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7626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ое письменное упоминание о тульском прянике нашли в писцовой книге за 1685 год и славится он с тех давних времен до наших дней. До наших времен сохранились доски, по которым можно судить о разнообразии пряников. Доски резали из березы и груши. Фигурный пряник - предмет художественного творчества. В 1996 году к празднованию 850-летия г. Тулы было принято решение об открытии музея "Тульский пряник" с чайным залом и магазином для продажи сувениров на улице Октябрьской в доме 45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0 октября был торжественно открыт единственный в мире музей "Тульский пряник". Именно тульский печатный пряник делается старинным традиционным дедовским способом уже много веков подряд от самого маленького 50 граммового до "почетного" 16 кг. В древние времена тульский пряник считали "королем" среди своих пряничных собратьев сделанных в древних городах Росс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258840"/>
            <a:ext cx="54723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ей пря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6" descr="Картинка 192 из 699"/>
          <p:cNvPicPr/>
          <p:nvPr/>
        </p:nvPicPr>
        <p:blipFill>
          <a:blip r:embed="rId1"/>
          <a:stretch/>
        </p:blipFill>
        <p:spPr>
          <a:xfrm>
            <a:off x="1619280" y="1125360"/>
            <a:ext cx="628488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59022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 пряни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7" descr="Картинка 33 из 124"/>
          <p:cNvPicPr/>
          <p:nvPr/>
        </p:nvPicPr>
        <p:blipFill>
          <a:blip r:embed="rId1"/>
          <a:stretch/>
        </p:blipFill>
        <p:spPr>
          <a:xfrm>
            <a:off x="1258920" y="981000"/>
            <a:ext cx="712944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9800" y="190440"/>
            <a:ext cx="46800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льский кремл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13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льский кремль вошел в историю со времени 1507 года, когда московский государь Василий III повелел построить «город каменный на Туле». Особо тяжелое испытание на долю кремля и жителей города выпало в 1552 году, когда крымская орда во главе с Давлет– Гиреем внезапно появилось под Тулой. И летом 1607 года, когда войска Василия Шуйского окружили город, под защиту укреплений которого отступили восставшие крестьяне во главе с Болотниковым.  Без малого пять веков существует Тульский кремль. Разные времена помнят его стены.  Он и сейчас стоит, наш красавец– кремль, в центре Тулы, радуя глаз своими совершенными и целесообразными форм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9800" y="190080"/>
            <a:ext cx="525312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- усадьба Полен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ее 100 лет на высоком холме над Окой стоит трехэтажный белый дом. Этот дом был построен в 1892 году. Поленов мечтал о домике на берегу Оки. 8 июня 1891 года Поленов получил во владение «Борок». 16 августа 1891 года был заложен дом. И уже 2 октября 1892 года семья переселилась в новый дом, именно эту дату и принято считать днем создания музе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41 году через Поленово прошла линия фронта, экспонаты музея были эвакуированы в Тулу. Музей был вновь открыт для посещения в 1944 г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зей- усадьба Поленово- один из крупнейших музеев-заповедников страны и один из самых известных в России и за ее предел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258840"/>
            <a:ext cx="611964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- усадьба Полен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1_"/>
          <p:cNvPicPr/>
          <p:nvPr/>
        </p:nvPicPr>
        <p:blipFill>
          <a:blip r:embed="rId1"/>
          <a:stretch/>
        </p:blipFill>
        <p:spPr>
          <a:xfrm>
            <a:off x="1763640" y="1413000"/>
            <a:ext cx="655344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49672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льский цир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84224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крытие нового цирка состоялось 3 сентября 1963 года. В этом же 1963 году знаменитый Михаил Арнольд ставит в Тульском цирке великолепный спектакль «Цирк на льду»- первый в мире. Это было началом творческих начал. Добрая репутация Тульского цирка широко разнеслась не только по нашей стране. Она перешагнула и за рубеж нашей Родины. В гостях у нас побывало много выдающихся мастеров циркового искусства, знаменитые клоуны: «Карандаш» - Михаил Николаевич Румянцев, Юрий Никулин со своим постоянным партнером Михаилом Шуйдиным, Олег Попов, Андрей Николаев. Трижды приезжал к нам великолепнейший иллюзионный аттракцион Кио, аттракцион Мстислава Запашног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1182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ульский цир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5" descr="cb8e9b6e76ad"/>
          <p:cNvPicPr/>
          <p:nvPr/>
        </p:nvPicPr>
        <p:blipFill>
          <a:blip r:embed="rId1"/>
          <a:stretch/>
        </p:blipFill>
        <p:spPr>
          <a:xfrm>
            <a:off x="1042920" y="1268280"/>
            <a:ext cx="748980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04692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ульский цир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photo-2-s"/>
          <p:cNvPicPr/>
          <p:nvPr/>
        </p:nvPicPr>
        <p:blipFill>
          <a:blip r:embed="rId1"/>
          <a:stretch/>
        </p:blipFill>
        <p:spPr>
          <a:xfrm>
            <a:off x="108000" y="1197000"/>
            <a:ext cx="4537080" cy="301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hoto-3-s"/>
          <p:cNvPicPr/>
          <p:nvPr/>
        </p:nvPicPr>
        <p:blipFill>
          <a:blip r:embed="rId2"/>
          <a:stretch/>
        </p:blipFill>
        <p:spPr>
          <a:xfrm>
            <a:off x="4859280" y="4008600"/>
            <a:ext cx="428472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59022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нев Монастыр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866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никален Венев-Никольский монастырь, старейший из монастырей на Тульской земле. Первое упоминание в древних грамотах о Венев-монастыре относится к 1407 году. В 1570 г. по ложному доносу был сосла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ван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V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вгородский архиепископ Пимен, он был заточен в низкой, сырой келье. Всего за один год Пимен сконча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итель была в большом почете у жителей Тулы, Москвы, Рязани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нев Монастыр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4" descr="PICT1912"/>
          <p:cNvPicPr/>
          <p:nvPr/>
        </p:nvPicPr>
        <p:blipFill>
          <a:blip r:embed="rId1"/>
          <a:stretch/>
        </p:blipFill>
        <p:spPr>
          <a:xfrm>
            <a:off x="1187280" y="101916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539640" y="2349360"/>
            <a:ext cx="784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3dff"/>
                    </a:gs>
                    <a:gs pos="50000">
                      <a:srgbClr val="ff0000"/>
                    </a:gs>
                    <a:gs pos="100000">
                      <a:srgbClr val="703dff"/>
                    </a:gs>
                  </a:gsLst>
                  <a:lin ang="18900000"/>
                </a:gra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3dff"/>
                    </a:gs>
                    <a:gs pos="50000">
                      <a:srgbClr val="ff0000"/>
                    </a:gs>
                    <a:gs pos="100000">
                      <a:srgbClr val="703dff"/>
                    </a:gs>
                  </a:gsLst>
                  <a:lin ang="18900000"/>
                </a:gradFill>
                <a:latin typeface="Arial"/>
              </a:rPr>
              <a:t>______ __ ________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3dff"/>
                  </a:gs>
                  <a:gs pos="50000">
                    <a:srgbClr val="ff0000"/>
                  </a:gs>
                  <a:gs pos="100000">
                    <a:srgbClr val="703d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tula1_big"/>
          <p:cNvPicPr/>
          <p:nvPr/>
        </p:nvPicPr>
        <p:blipFill>
          <a:blip r:embed="rId1"/>
          <a:stretch/>
        </p:blipFill>
        <p:spPr>
          <a:xfrm>
            <a:off x="1042920" y="1268280"/>
            <a:ext cx="7272360" cy="4772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7440" y="258840"/>
            <a:ext cx="5970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ульский крем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story1"/>
          <p:cNvPicPr/>
          <p:nvPr/>
        </p:nvPicPr>
        <p:blipFill>
          <a:blip r:embed="rId1"/>
          <a:stretch/>
        </p:blipFill>
        <p:spPr>
          <a:xfrm>
            <a:off x="684360" y="549360"/>
            <a:ext cx="7440480" cy="49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3800" y="115560"/>
            <a:ext cx="52531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уликово пол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79866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ь в России места, при посещении которых русский человек не может остаться равнодушным. Одно из них—Куликово поле. На Куликовом поле расположен обелиск и храм, в котором размещен прекрасный музей. Оригинально и вместе с тем тактично по отношению к окружающему ландшафту благоустроен  Красный холм со смотровой площадкой, то есть фактически создан цельный историко– архитектурный ансамбл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439272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уликово п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3__ulikovo_pole_kolonna_"/>
          <p:cNvPicPr/>
          <p:nvPr/>
        </p:nvPicPr>
        <p:blipFill>
          <a:blip r:embed="rId1"/>
          <a:stretch/>
        </p:blipFill>
        <p:spPr>
          <a:xfrm>
            <a:off x="2340000" y="954000"/>
            <a:ext cx="4464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Картинка 94 из 1010"/>
          <p:cNvPicPr/>
          <p:nvPr/>
        </p:nvPicPr>
        <p:blipFill>
          <a:blip r:embed="rId1"/>
          <a:stretch/>
        </p:blipFill>
        <p:spPr>
          <a:xfrm>
            <a:off x="971640" y="692280"/>
            <a:ext cx="7280280" cy="52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640" y="115920"/>
            <a:ext cx="43178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Ясная поляна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77706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сная Поляна — место жизни и творчест­ва гениального писателя Льва Николаевича Толстого. При   посещении  Ясной Поляны Вы сможете пройтись не спеша по великолепным в любое время  года  березовым и липовым аллеям, по тем тропам, где гулял и обдумывал свои гениальные произведения Л.Н.Толстой, посидеть на его любимой березовой скамейке,         насладиться тишиной и неповторимой красотой окружающей природы, а главное – обрести чувство душевной свободы и осознать, что здесь жил и творил г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02:12Z</dcterms:created>
  <dc:creator>User</dc:creator>
  <dc:description/>
  <dc:language>en-US</dc:language>
  <cp:lastModifiedBy>user</cp:lastModifiedBy>
  <dcterms:modified xsi:type="dcterms:W3CDTF">2013-04-08T17:12:46Z</dcterms:modified>
  <cp:revision>8</cp:revision>
  <dc:subject/>
  <dc:title>Слайд 1</dc:title>
</cp:coreProperties>
</file>