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73F-AD56-4757-B6D8-FD192471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04D-F5E6-45AC-9D30-A3049556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A70-EC89-46B4-BDAA-7A484B06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02D-1153-467F-A5BD-9DB46497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4B8-14C8-4A07-9B3D-095B767B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E1F-2FDB-4A83-9294-840130C4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2FF-1846-4B8E-8535-301E208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8FB-A036-4154-916E-1B870C81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5D9-5871-42DF-80B2-07D077D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7C0-A9F1-46A9-A3A4-AADE06A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3BD-68F6-4106-87ED-684D77B6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A06-09D3-46D5-A685-058D1605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299C-0E4F-43F9-BCCE-063A7A05B9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 класс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4200" y="785520"/>
            <a:ext cx="8686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Уши у зайца длинные, а хвост 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Летом мех у зайца серый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  зимой -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Задние лапы у зайца длинные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а передние -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1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Голова у зайца маленькая, а туловище - 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Уши у зайца длинные, а хвост – коротк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Летом мех у зайца серый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  зимой – белы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Задние лапы у зайца длинные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а передние – коротки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Голова у зайца маленькая, а туловище – большо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rabbits-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лан рассказа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Какое животное: домашнее или дико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Части тела животного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Меняет ли цвет мех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.Чем питаетс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5f4ed"/>
                </a:solidFill>
                <a:latin typeface="Calibri"/>
              </a:rPr>
              <a:t>ЗАЯЦ И КРОЛИК 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4" descr="Картинка 18 из 25362"/>
          <p:cNvPicPr/>
          <p:nvPr/>
        </p:nvPicPr>
        <p:blipFill>
          <a:blip r:embed="rId2"/>
          <a:stretch/>
        </p:blipFill>
        <p:spPr>
          <a:xfrm>
            <a:off x="6429240" y="7920"/>
            <a:ext cx="2482920" cy="216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img-eburg.fotki.yandex.ru/get/38/degtyannikovaa.5/0_19366_9d7cbbc5_XL"/>
          <p:cNvPicPr/>
          <p:nvPr/>
        </p:nvPicPr>
        <p:blipFill>
          <a:blip r:embed="rId3"/>
          <a:stretch/>
        </p:blipFill>
        <p:spPr>
          <a:xfrm>
            <a:off x="4572000" y="4149720"/>
            <a:ext cx="36432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48402919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4" descr="rabbits-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rabbits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rabbits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168dcce6f77097cf727839cde72ae4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Build-a-Rabbit-C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www.oboi-jpeg.ru_animal_rabbit_ (5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лиент</cp:lastModifiedBy>
  <dcterms:modified xsi:type="dcterms:W3CDTF">2002-01-01T21:34:00Z</dcterms:modified>
  <cp:revision>23</cp:revision>
  <dc:subject/>
  <dc:title>Слайд 1</dc:title>
</cp:coreProperties>
</file>