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BE6-3B3B-4B65-A267-D0D47D34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7765-1002-4300-A58A-DFE23414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7F3C-8F88-4C16-9FF8-662F82B6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32A0-9FC5-4584-A77E-8035F4EE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FD5-237D-4BCF-82F8-BA878387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D400-8051-4BE3-9F9E-5D35EFEC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12B-B9B5-46B5-B83A-AEF2CEB3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D06A-5BB4-4597-9DAD-B3314415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11B3-0518-45B3-A0D9-0E1D7AC0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617-399C-4074-BC1D-E67C01F3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8619-EFB0-4612-9C84-833C19CC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C48-22F9-4E0F-AA81-89D05E1A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2D70-522F-4738-BF20-58769F4C6F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 класс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14200" y="785520"/>
            <a:ext cx="8686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Уши у зайца длинные, а хвост -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1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Летом мех у зайца серый,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  зимой - 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1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Задние лапы у зайца длинные,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 передние - 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1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Голова у зайца маленькая, а туловище - 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Уши у зайца длинные, а хвост – коротки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Летом мех у зайца серый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а  зимой – белы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Задние лапы у зайца длинные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а передние – коротки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Голова у зайца маленькая, а туловище – большо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rabbits-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лан рассказа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Какое животное: домашнее или дико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Части тела животного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Меняет ли цвет мех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Чем питаетс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5f4ed"/>
                </a:solidFill>
                <a:latin typeface="Calibri"/>
              </a:rPr>
              <a:t>ЗАЯЦ И КРОЛИК 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Picture 4" descr="Картинка 18 из 25362"/>
          <p:cNvPicPr/>
          <p:nvPr/>
        </p:nvPicPr>
        <p:blipFill>
          <a:blip r:embed="rId2"/>
          <a:stretch/>
        </p:blipFill>
        <p:spPr>
          <a:xfrm>
            <a:off x="6429240" y="7920"/>
            <a:ext cx="2482920" cy="2163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://img-eburg.fotki.yandex.ru/get/38/degtyannikovaa.5/0_19366_9d7cbbc5_XL"/>
          <p:cNvPicPr/>
          <p:nvPr/>
        </p:nvPicPr>
        <p:blipFill>
          <a:blip r:embed="rId3"/>
          <a:stretch/>
        </p:blipFill>
        <p:spPr>
          <a:xfrm>
            <a:off x="4572000" y="4149720"/>
            <a:ext cx="36432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48402919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rabbits-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rabbits-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rabbits-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168dcce6f77097cf727839cde72ae4a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Build-a-Rabbit-C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www.oboi-jpeg.ru_animal_rabbit_ (5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лиент</cp:lastModifiedBy>
  <dcterms:modified xsi:type="dcterms:W3CDTF">2002-01-01T21:34:00Z</dcterms:modified>
  <cp:revision>23</cp:revision>
  <dc:subject/>
  <dc:title>Слайд 1</dc:title>
</cp:coreProperties>
</file>