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B23B-AEBA-46B1-9BA5-1CD5E5915F10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DF81-1706-42DE-9B9B-8C3217A48410}" type="slidenum">
              <a:rPr b="0" lang="ru-RU" sz="1200" spc="-1" strike="noStrike">
                <a:solidFill>
                  <a:srgbClr val="b7e7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3EF-6ED2-4F2B-AD40-86958996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CE1-8E06-42B4-B1E3-8FE3D147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DFD-B7FF-4CE5-B314-33C89AD9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8F5-CB5E-42D2-9956-031461A0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967-A959-4FEA-8E5F-4997DBF2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669-96E1-48B3-886F-AC624E69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F06-1646-4D78-9153-4CCC665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E77-F60A-4974-B460-728F715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77A-D695-4B1B-8CB6-8E3CEA0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0A8-661D-4201-BF29-8CE9B34D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806-06AA-4BC3-81D0-AA867FB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879-6274-4312-AB26-BF6270EA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3A06-A9CE-4924-8ACA-FFED4A3DD7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E:\Мои рисунки\Фото0219.jpg"/>
          <p:cNvPicPr/>
          <p:nvPr/>
        </p:nvPicPr>
        <p:blipFill>
          <a:blip r:embed="rId1"/>
          <a:stretch/>
        </p:blipFill>
        <p:spPr>
          <a:xfrm>
            <a:off x="-6480" y="30240"/>
            <a:ext cx="2683080" cy="199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рганизация образовательного процесса по музыкальному воспитанию в дошкольном учреждении в рамках ФГТ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узыкальный  руководитель МБД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«Детский сад № 96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атяж Дина Мирзадза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месте весело живём и танцуем и поё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9" descr="DSC02800"/>
          <p:cNvPicPr/>
          <p:nvPr/>
        </p:nvPicPr>
        <p:blipFill>
          <a:blip r:embed="rId1"/>
          <a:stretch/>
        </p:blipFill>
        <p:spPr>
          <a:xfrm>
            <a:off x="1598760" y="1676520"/>
            <a:ext cx="1600200" cy="213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DSC02806"/>
          <p:cNvPicPr/>
          <p:nvPr/>
        </p:nvPicPr>
        <p:blipFill>
          <a:blip r:embed="rId2"/>
          <a:stretch/>
        </p:blipFill>
        <p:spPr>
          <a:xfrm>
            <a:off x="5322960" y="1676520"/>
            <a:ext cx="2844720" cy="2135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DSC05170"/>
          <p:cNvPicPr/>
          <p:nvPr/>
        </p:nvPicPr>
        <p:blipFill>
          <a:blip r:embed="rId3"/>
          <a:stretch/>
        </p:blipFill>
        <p:spPr>
          <a:xfrm>
            <a:off x="976320" y="3963960"/>
            <a:ext cx="284472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DSC05171"/>
          <p:cNvPicPr/>
          <p:nvPr/>
        </p:nvPicPr>
        <p:blipFill>
          <a:blip r:embed="rId4"/>
          <a:stretch/>
        </p:blipFill>
        <p:spPr>
          <a:xfrm>
            <a:off x="5322960" y="3963960"/>
            <a:ext cx="28447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держание организации образовательного процесс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о-государственные треб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и формы организации образовательного проце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ы реализации проектирования предметно-развивающей ср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ы развития ребёнка в музыкаль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тры музыки в групповых комн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Федерально-государственные требова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мы и положения, обязательные при реализации основной общеобразовательной программы в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окупность образовательных областей, предложенный ФГ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Формы организации образовательного процесс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6" descr="DSC02839"/>
          <p:cNvPicPr/>
          <p:nvPr/>
        </p:nvPicPr>
        <p:blipFill>
          <a:blip r:embed="rId1"/>
          <a:stretch/>
        </p:blipFill>
        <p:spPr>
          <a:xfrm>
            <a:off x="4800600" y="3581280"/>
            <a:ext cx="4194000" cy="314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336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рупп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микрогрупп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ирован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инципы реализации проектирования предметно-развивающей сред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танции , позиции при взаимодейств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сти, самостоятельности,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бильности, динам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ирования и гибкого зон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огенности ср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стетической организации ср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 открытости и закрыт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 половых и возрастных различ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инципы развития музыкальной деятельности в ДО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музыкальных центров в групповых комн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общение к мировой национальной куль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условий для развития творческой активности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совместной музыкальной деятельности детей и взрос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музыки в различных видах деятельности и режимных процес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узыкальные центры в групповых комната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7" descr="DSC05169"/>
          <p:cNvPicPr/>
          <p:nvPr/>
        </p:nvPicPr>
        <p:blipFill>
          <a:blip r:embed="rId1"/>
          <a:stretch/>
        </p:blipFill>
        <p:spPr>
          <a:xfrm>
            <a:off x="4724280" y="3581280"/>
            <a:ext cx="4194360" cy="3146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зыкально-технических сред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зыкальные инструмен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вающие музыкально-дидактически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плакатов, фотографий с изображением музыкальных фрагментов из оперы или бал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реты композито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етские музыкальные инструмент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Picture 6" descr="DSC05171"/>
          <p:cNvPicPr/>
          <p:nvPr/>
        </p:nvPicPr>
        <p:blipFill>
          <a:blip r:embed="rId1"/>
          <a:stretch/>
        </p:blipFill>
        <p:spPr>
          <a:xfrm>
            <a:off x="228600" y="2286000"/>
            <a:ext cx="3657600" cy="3146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лофон, ксилофон, музыкальные лесенка, музыкальный треугольник, а также духовые, струнные, ударные и шумо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уховые инструмент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дудочка, саксофон, триола, флейта, клар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рунные инструмент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балалайка, гитара, скрипка, арф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лавишные инструмент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детское пианино, рояль, электромузыкальные инструмен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дарные инструменты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рещотка, кастаньета, погремушки, маракасы, румба, бубенцы, коробочки, музыкальный молоточек, треугольник, колоту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 озвученные инструмент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лесенка (семиступенчатая и трёхступенчатая), балалайка, гитара, звуковая книж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азвлечения в ДО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7" descr="DSC02711"/>
          <p:cNvPicPr/>
          <p:nvPr/>
        </p:nvPicPr>
        <p:blipFill>
          <a:blip r:embed="rId1"/>
          <a:stretch/>
        </p:blipFill>
        <p:spPr>
          <a:xfrm>
            <a:off x="533520" y="1295280"/>
            <a:ext cx="304776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DSC02718"/>
          <p:cNvPicPr/>
          <p:nvPr/>
        </p:nvPicPr>
        <p:blipFill>
          <a:blip r:embed="rId2"/>
          <a:stretch/>
        </p:blipFill>
        <p:spPr>
          <a:xfrm>
            <a:off x="5257800" y="1295280"/>
            <a:ext cx="327672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DSC02778"/>
          <p:cNvPicPr/>
          <p:nvPr/>
        </p:nvPicPr>
        <p:blipFill>
          <a:blip r:embed="rId3"/>
          <a:stretch/>
        </p:blipFill>
        <p:spPr>
          <a:xfrm>
            <a:off x="3505320" y="3886200"/>
            <a:ext cx="1981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rnaeva</dc:creator>
  <dc:description/>
  <dc:language>en-US</dc:language>
  <cp:lastModifiedBy>Serge</cp:lastModifiedBy>
  <dcterms:modified xsi:type="dcterms:W3CDTF">2013-04-08T18:04:4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