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2CAB-AA00-456D-A0A6-810D6CE5869E}" type="slidenum">
              <a:rPr b="0" lang="ru-RU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0A1A-5D51-4736-8C1A-5ED1BE434C05}" type="slidenum">
              <a:rPr b="0" lang="ru-RU" sz="1200" spc="-1" strike="noStrike">
                <a:solidFill>
                  <a:srgbClr val="b7e7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D12-A7EA-4D53-AE6D-24A54957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FF3-F550-4CED-9FD0-C8251E72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A3F-51F4-4B3B-94EB-806723BA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576-A70F-480E-A932-EB03EA25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029-0D6C-467E-91C4-D790B5D1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8F8-3309-4AC5-9BCC-4216657C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984-973F-4BB9-93F2-80F52A4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2DF-94AF-41FC-924B-CA514CAF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977-C8E0-4DF6-9607-86A39EAC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D92-CF92-4463-9679-8CD82B52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0C19-C290-4D4F-98B6-4C242D44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1EE-47D8-43A4-9531-02829B4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59A-5CDA-4662-A96B-ABD04D9E17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E:\Мои рисунки\Фото0219.jpg"/>
          <p:cNvPicPr/>
          <p:nvPr/>
        </p:nvPicPr>
        <p:blipFill>
          <a:blip r:embed="rId1"/>
          <a:stretch/>
        </p:blipFill>
        <p:spPr>
          <a:xfrm>
            <a:off x="-6480" y="30240"/>
            <a:ext cx="2683080" cy="1993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рганизация образовательного процесса по музыкальному воспитанию в дошкольном учреждении в рамках ФГТ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узыкальный  руководитель МБ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«Детский сад № 96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атяж Дина Мирзадзан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месте весело живём и танцуем и поём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9" descr="DSC02800"/>
          <p:cNvPicPr/>
          <p:nvPr/>
        </p:nvPicPr>
        <p:blipFill>
          <a:blip r:embed="rId1"/>
          <a:stretch/>
        </p:blipFill>
        <p:spPr>
          <a:xfrm>
            <a:off x="1598760" y="1676520"/>
            <a:ext cx="1600200" cy="2135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DSC02806"/>
          <p:cNvPicPr/>
          <p:nvPr/>
        </p:nvPicPr>
        <p:blipFill>
          <a:blip r:embed="rId2"/>
          <a:stretch/>
        </p:blipFill>
        <p:spPr>
          <a:xfrm>
            <a:off x="5322960" y="1676520"/>
            <a:ext cx="2844720" cy="2135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DSC05170"/>
          <p:cNvPicPr/>
          <p:nvPr/>
        </p:nvPicPr>
        <p:blipFill>
          <a:blip r:embed="rId3"/>
          <a:stretch/>
        </p:blipFill>
        <p:spPr>
          <a:xfrm>
            <a:off x="976320" y="3963960"/>
            <a:ext cx="284472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DSC05171"/>
          <p:cNvPicPr/>
          <p:nvPr/>
        </p:nvPicPr>
        <p:blipFill>
          <a:blip r:embed="rId4"/>
          <a:stretch/>
        </p:blipFill>
        <p:spPr>
          <a:xfrm>
            <a:off x="5322960" y="3963960"/>
            <a:ext cx="28447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держание организации образовательного процесс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о-государственные треб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и формы организации образовательного проце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ы реализации проектирования предметно-развивающей ср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ы развития ребёнка в музыкальной деятель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тры музыки в групповых комн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едерально-государственные требова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ы и положения, обязательные при реализации основной общеобразовательной программы в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вокупность образовательных областей, предложенный ФГ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Формы организации образовательного процесс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6" name="Picture 6" descr="DSC02839"/>
          <p:cNvPicPr/>
          <p:nvPr/>
        </p:nvPicPr>
        <p:blipFill>
          <a:blip r:embed="rId1"/>
          <a:stretch/>
        </p:blipFill>
        <p:spPr>
          <a:xfrm>
            <a:off x="4800600" y="3581280"/>
            <a:ext cx="4194000" cy="314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336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групп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микрогрупп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тегрирован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нципы реализации проектирования предметно-развивающей сред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танции , позиции при взаимодейств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сти, самостоятельности,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бильности, динам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ирования и гибкого зон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генности ср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стетической организации ср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 открытости и закрыт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цип половых и возрастных различ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ринципы развития музыкальной деятельности в ДО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музыкальных центров в групповых комнат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общение к мировой национальной куль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ние условий для развития творческой активности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совместной музыкальной деятельности детей и взросл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музыки в различных видах деятельности и режимных проце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узыкальные центры в групповых комнатах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7" descr="DSC05169"/>
          <p:cNvPicPr/>
          <p:nvPr/>
        </p:nvPicPr>
        <p:blipFill>
          <a:blip r:embed="rId1"/>
          <a:stretch/>
        </p:blipFill>
        <p:spPr>
          <a:xfrm>
            <a:off x="4724280" y="3581280"/>
            <a:ext cx="4194360" cy="3146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музыкально-технических сред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зыкальные инструмен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вающие музыкально-дидактические иг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плакатов, фотографий с изображением музыкальных фрагментов из оперы или бал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реты композито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Детские музыкальные инструмент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Picture 6" descr="DSC05171"/>
          <p:cNvPicPr/>
          <p:nvPr/>
        </p:nvPicPr>
        <p:blipFill>
          <a:blip r:embed="rId1"/>
          <a:stretch/>
        </p:blipFill>
        <p:spPr>
          <a:xfrm>
            <a:off x="228600" y="2286000"/>
            <a:ext cx="3657600" cy="3146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офон, ксилофон, музыкальные лесенка, музыкальный треугольник, а также духовые, струнные, ударные и шумов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ухов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дудочка, саксофон, триола, флейта, кларн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трунн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балалайка, гитара, скрипка, арф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лавишн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детское пианино, рояль, электромузыкальные инстру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дарные инструменты: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рещотка, кастаньета, погремушки, маракасы, румба, бубенцы, коробочки, музыкальный молоточек, треугольник, колоту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 озвученные инструмент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лесенка (семиступенчатая и трёхступенчатая), балалайка, гитара, звуковая книж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азвлечения в ДО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7" descr="DSC02711"/>
          <p:cNvPicPr/>
          <p:nvPr/>
        </p:nvPicPr>
        <p:blipFill>
          <a:blip r:embed="rId1"/>
          <a:stretch/>
        </p:blipFill>
        <p:spPr>
          <a:xfrm>
            <a:off x="533520" y="1295280"/>
            <a:ext cx="304776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DSC02718"/>
          <p:cNvPicPr/>
          <p:nvPr/>
        </p:nvPicPr>
        <p:blipFill>
          <a:blip r:embed="rId2"/>
          <a:stretch/>
        </p:blipFill>
        <p:spPr>
          <a:xfrm>
            <a:off x="5257800" y="129528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DSC02778"/>
          <p:cNvPicPr/>
          <p:nvPr/>
        </p:nvPicPr>
        <p:blipFill>
          <a:blip r:embed="rId3"/>
          <a:stretch/>
        </p:blipFill>
        <p:spPr>
          <a:xfrm>
            <a:off x="3505320" y="3886200"/>
            <a:ext cx="1981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rnaeva</dc:creator>
  <dc:description/>
  <dc:language>en-US</dc:language>
  <cp:lastModifiedBy>Serge</cp:lastModifiedBy>
  <dcterms:modified xsi:type="dcterms:W3CDTF">2013-04-08T18:04:4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