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8FC2-D9C5-43AA-8163-938565898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4428-1B21-48A8-B848-B1E5AF5A5C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3D0-512B-4C19-8012-20E5AEFF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5B20-DD74-4F20-B109-CF818B0B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8DF2-6FEA-47C2-BDBD-108ED928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F63B-210A-4CCB-903C-D582D938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0DE-D2AB-40E8-BC7F-49CAE973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6BA-9924-4438-BBFA-8C6D6C50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CF5-5FF6-4005-A79C-12B3BF59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5403-9605-4232-B6D7-2DEE88C7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1ECD-596E-472A-B92F-968ED06C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8B4D-76B3-481A-B4F6-3A0BBBFD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68E7-CDAB-4897-A7BC-864ACE0D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D978-DE78-4430-A62C-1BD9A78D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BF91-A467-47AF-B044-016AFDA49D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Фото\обои\Cosmos\Cosmos (10).jpg"/>
          <p:cNvPicPr/>
          <p:nvPr/>
        </p:nvPicPr>
        <p:blipFill>
          <a:blip r:embed="rId2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1727280" y="1028880"/>
            <a:ext cx="62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000"/>
                </a:solidFill>
                <a:latin typeface="Arial"/>
                <a:ea typeface="Arial"/>
              </a:rPr>
              <a:t>милосерд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477800"/>
          </a:xfrm>
          <a:prstGeom prst="rect">
            <a:avLst/>
          </a:prstGeom>
          <a:solidFill>
            <a:srgbClr val="99ff33"/>
          </a:solidFill>
          <a:ln w="9360">
            <a:solidFill>
              <a:srgbClr val="8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000" spc="-1" strike="noStrike">
                <a:solidFill>
                  <a:srgbClr val="c0504d"/>
                </a:solidFill>
                <a:latin typeface="Calibri"/>
              </a:rPr>
              <a:t>Что нужно  делать, чтобы</a:t>
            </a:r>
            <a:br>
              <a:rPr sz="4000"/>
            </a:br>
            <a:r>
              <a:rPr b="1" i="1" lang="en-US" sz="4000" spc="-1" strike="noStrike">
                <a:solidFill>
                  <a:srgbClr val="c0504d"/>
                </a:solidFill>
                <a:latin typeface="Calibri"/>
              </a:rPr>
              <a:t> стать милосердным?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125000"/>
            <a:ext cx="8534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04920" y="3124080"/>
            <a:ext cx="8534160" cy="231372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хаживать за больными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хаживать за младш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корыстно предлагать свою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ff33"/>
          </a:solidFill>
          <a:ln w="9360">
            <a:solidFill>
              <a:srgbClr val="8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Спросить родителей какие книги о милосердии и сострадании они посоветовали вам прочит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ff33"/>
          </a:solidFill>
          <a:ln w="9360">
            <a:solidFill>
              <a:srgbClr val="8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Calibri"/>
              </a:rPr>
              <a:t>Как необходимо поступи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8e577"/>
          </a:solidFill>
          <a:ln w="9360">
            <a:solidFill>
              <a:srgbClr val="80008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Calibri"/>
              </a:rPr>
              <a:t>Нельзя поступать по принцип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к ты ко мне, так и я к теб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ак тебе и над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лучай по заслуг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525920"/>
          </a:xfrm>
          <a:prstGeom prst="rect">
            <a:avLst/>
          </a:prstGeom>
          <a:solidFill>
            <a:srgbClr val="cfd24a"/>
          </a:solidFill>
          <a:ln w="9360">
            <a:solidFill>
              <a:srgbClr val="80008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Calibri"/>
              </a:rPr>
              <a:t>Как ты  поступиш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80880" y="1522800"/>
            <a:ext cx="777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Добро помни…..          два века жи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Истинное добро…..      добру и 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Доброе дело…...            а зло забыв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Добрый человек ….      всегда про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«Пока живёш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твори добр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лишь путь добр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спасение души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6427800" y="3505320"/>
            <a:ext cx="2448000" cy="32004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97" name="Text Box 6"/>
          <p:cNvSpPr/>
          <p:nvPr/>
        </p:nvSpPr>
        <p:spPr>
          <a:xfrm>
            <a:off x="762120" y="457200"/>
            <a:ext cx="7315200" cy="703440"/>
          </a:xfrm>
          <a:prstGeom prst="rect">
            <a:avLst/>
          </a:prstGeom>
          <a:solidFill>
            <a:srgbClr val="ccff66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            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Пословиц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Блок-схема: узел 2"/>
          <p:cNvSpPr/>
          <p:nvPr/>
        </p:nvSpPr>
        <p:spPr>
          <a:xfrm>
            <a:off x="2038320" y="1295280"/>
            <a:ext cx="4578480" cy="400068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Пожелание друзь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ердце 6"/>
          <p:cNvSpPr/>
          <p:nvPr/>
        </p:nvSpPr>
        <p:spPr>
          <a:xfrm rot="20848800">
            <a:off x="2803680" y="65160"/>
            <a:ext cx="1482480" cy="1279440"/>
          </a:xfrm>
          <a:prstGeom prst="pie">
            <a:avLst/>
          </a:prstGeom>
          <a:solidFill>
            <a:srgbClr val="ff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тепл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ердце 14"/>
          <p:cNvSpPr/>
          <p:nvPr/>
        </p:nvSpPr>
        <p:spPr>
          <a:xfrm rot="1086000">
            <a:off x="4366800" y="210600"/>
            <a:ext cx="1550880" cy="121788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ув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ердце 15"/>
          <p:cNvSpPr/>
          <p:nvPr/>
        </p:nvSpPr>
        <p:spPr>
          <a:xfrm rot="6662400">
            <a:off x="6264720" y="3819960"/>
            <a:ext cx="1482480" cy="1217520"/>
          </a:xfrm>
          <a:prstGeom prst="pi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рад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ердце 16"/>
          <p:cNvSpPr/>
          <p:nvPr/>
        </p:nvSpPr>
        <p:spPr>
          <a:xfrm rot="4940400">
            <a:off x="6443640" y="2391480"/>
            <a:ext cx="1482840" cy="1217880"/>
          </a:xfrm>
          <a:prstGeom prst="pi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помощ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ердце 17"/>
          <p:cNvSpPr/>
          <p:nvPr/>
        </p:nvSpPr>
        <p:spPr>
          <a:xfrm rot="3186600">
            <a:off x="5680800" y="1007280"/>
            <a:ext cx="1778040" cy="1217520"/>
          </a:xfrm>
          <a:prstGeom prst="pie">
            <a:avLst/>
          </a:prstGeom>
          <a:solidFill>
            <a:srgbClr val="00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вним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ердце 18"/>
          <p:cNvSpPr/>
          <p:nvPr/>
        </p:nvSpPr>
        <p:spPr>
          <a:xfrm rot="16200000">
            <a:off x="624600" y="2264040"/>
            <a:ext cx="1644840" cy="1217880"/>
          </a:xfrm>
          <a:prstGeom prst="pie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вер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ердце 19"/>
          <p:cNvSpPr/>
          <p:nvPr/>
        </p:nvSpPr>
        <p:spPr>
          <a:xfrm rot="18882600">
            <a:off x="1407240" y="886680"/>
            <a:ext cx="1482480" cy="121788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улыб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ердце 20"/>
          <p:cNvSpPr/>
          <p:nvPr/>
        </p:nvSpPr>
        <p:spPr>
          <a:xfrm rot="13414200">
            <a:off x="1925280" y="4836240"/>
            <a:ext cx="1606680" cy="121788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счаст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ердце 21"/>
          <p:cNvSpPr/>
          <p:nvPr/>
        </p:nvSpPr>
        <p:spPr>
          <a:xfrm rot="14409000">
            <a:off x="905400" y="3721320"/>
            <a:ext cx="1482840" cy="121752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крас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ердце 22"/>
          <p:cNvSpPr/>
          <p:nvPr/>
        </p:nvSpPr>
        <p:spPr>
          <a:xfrm rot="10800000">
            <a:off x="3327120" y="5295960"/>
            <a:ext cx="1778040" cy="121752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добр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ердце 23"/>
          <p:cNvSpPr/>
          <p:nvPr/>
        </p:nvSpPr>
        <p:spPr>
          <a:xfrm rot="8268000">
            <a:off x="4871520" y="4908240"/>
            <a:ext cx="1895760" cy="1217520"/>
          </a:xfrm>
          <a:prstGeom prst="pi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милосерд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9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Текст 2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229600" cy="5979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ff33"/>
          </a:solidFill>
          <a:ln w="9360">
            <a:solidFill>
              <a:srgbClr val="8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Calibri"/>
              </a:rPr>
              <a:t>Итог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Calibri"/>
              </a:rPr>
              <a:t>«Капелька по капельк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ccffcc"/>
                </a:solidFill>
                <a:latin typeface="Calibri"/>
              </a:rPr>
              <a:t>кирпичик по кирпичи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Calibri"/>
              </a:rPr>
              <a:t>           </a:t>
            </a:r>
            <a:r>
              <a:rPr b="1" lang="en-US" sz="2800" spc="-1" strike="noStrike">
                <a:solidFill>
                  <a:srgbClr val="ccffcc"/>
                </a:solidFill>
                <a:latin typeface="Calibri"/>
              </a:rPr>
              <a:t>строится мир доброты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71600" y="4343400"/>
            <a:ext cx="6477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 за   урок 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pull dir="r"/>
  </p:transition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2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727280" y="1606680"/>
            <a:ext cx="640080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060"/>
                </a:solidFill>
                <a:latin typeface="Arial"/>
                <a:ea typeface="Arial"/>
              </a:rPr>
              <a:t>добро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060"/>
                </a:solidFill>
                <a:latin typeface="Arial"/>
                <a:ea typeface="Arial"/>
              </a:rPr>
              <a:t>милосерд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  <a:ea typeface="Arial"/>
              </a:rPr>
              <a:t>Милосердие- э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15920" y="156204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добр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жал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сопережи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терпим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сочувств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человеч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чутк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уваж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памя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971600" y="165096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равнодуш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жесток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эго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необдуманно-произнесенное сло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680" y="2455920"/>
            <a:ext cx="82296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  <a:ea typeface="Arial"/>
              </a:rPr>
              <a:t>милосердие</a:t>
            </a:r>
            <a:r>
              <a:rPr b="1" lang="en-US" sz="8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есяц 3"/>
          <p:cNvSpPr/>
          <p:nvPr/>
        </p:nvSpPr>
        <p:spPr>
          <a:xfrm flipH="1" rot="16200000">
            <a:off x="3045240" y="2109600"/>
            <a:ext cx="428400" cy="146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есяц 4"/>
          <p:cNvSpPr/>
          <p:nvPr/>
        </p:nvSpPr>
        <p:spPr>
          <a:xfrm flipH="1" rot="16200000">
            <a:off x="4957560" y="2020680"/>
            <a:ext cx="428760" cy="1555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2296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  <a:ea typeface="Arial"/>
              </a:rPr>
              <a:t>милосердие</a:t>
            </a:r>
            <a:r>
              <a:rPr b="1" lang="en-US" sz="8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есяц 3"/>
          <p:cNvSpPr/>
          <p:nvPr/>
        </p:nvSpPr>
        <p:spPr>
          <a:xfrm flipH="1" rot="16200000">
            <a:off x="2912760" y="-112320"/>
            <a:ext cx="428760" cy="146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одержимое 2"/>
          <p:cNvSpPr/>
          <p:nvPr/>
        </p:nvSpPr>
        <p:spPr>
          <a:xfrm>
            <a:off x="793800" y="1917720"/>
            <a:ext cx="320040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ми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ми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Documents and Settings\Ольга\Мои документы\Мои рисунки\радость1.jpg"/>
          <p:cNvPicPr/>
          <p:nvPr/>
        </p:nvPicPr>
        <p:blipFill>
          <a:blip r:embed="rId2"/>
          <a:stretch/>
        </p:blipFill>
        <p:spPr>
          <a:xfrm>
            <a:off x="5986440" y="1335240"/>
            <a:ext cx="1566720" cy="1987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Documents and Settings\Ольга\Мои документы\Мои рисунки\ромашка.jpg"/>
          <p:cNvPicPr/>
          <p:nvPr/>
        </p:nvPicPr>
        <p:blipFill>
          <a:blip r:embed="rId3"/>
          <a:stretch/>
        </p:blipFill>
        <p:spPr>
          <a:xfrm rot="331800">
            <a:off x="7059600" y="2833560"/>
            <a:ext cx="1585800" cy="18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"/>
          <p:cNvPicPr/>
          <p:nvPr/>
        </p:nvPicPr>
        <p:blipFill>
          <a:blip r:embed="rId4"/>
          <a:stretch/>
        </p:blipFill>
        <p:spPr>
          <a:xfrm rot="343800">
            <a:off x="7697520" y="1563480"/>
            <a:ext cx="982440" cy="12366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9"/>
          <p:cNvSpPr/>
          <p:nvPr/>
        </p:nvSpPr>
        <p:spPr>
          <a:xfrm>
            <a:off x="239040" y="3873600"/>
            <a:ext cx="59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милость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-это любовь и жал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0"/>
          <p:cNvSpPr/>
          <p:nvPr/>
        </p:nvSpPr>
        <p:spPr>
          <a:xfrm>
            <a:off x="260280" y="4495680"/>
            <a:ext cx="680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помиловать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- простить, отнестись с любовью и к такому человеку, которого нам простить тру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C:\Documents and Settings\Ольга\Мои документы\Мои рисунки\жалость.jpg"/>
          <p:cNvPicPr/>
          <p:nvPr/>
        </p:nvPicPr>
        <p:blipFill>
          <a:blip r:embed="rId5"/>
          <a:stretch/>
        </p:blipFill>
        <p:spPr>
          <a:xfrm>
            <a:off x="4078440" y="1914480"/>
            <a:ext cx="1822320" cy="2028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Documents and Settings\Ольга\Мои документы\Мои рисунки\старость.jpg"/>
          <p:cNvPicPr/>
          <p:nvPr/>
        </p:nvPicPr>
        <p:blipFill>
          <a:blip r:embed="rId6"/>
          <a:stretch/>
        </p:blipFill>
        <p:spPr>
          <a:xfrm>
            <a:off x="7132680" y="4541760"/>
            <a:ext cx="197496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04640" y="272880"/>
            <a:ext cx="38228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  <a:ea typeface="Arial"/>
              </a:rPr>
              <a:t>милосерд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16600" y="1606320"/>
            <a:ext cx="351144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сердце бол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(душа боли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сердечная б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сердечный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0560" y="1434600"/>
            <a:ext cx="3867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есяц 4"/>
          <p:cNvSpPr/>
          <p:nvPr/>
        </p:nvSpPr>
        <p:spPr>
          <a:xfrm flipH="1" rot="16200000">
            <a:off x="5113080" y="42480"/>
            <a:ext cx="428760" cy="124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Documents and Settings\Ольга\Мои документы\Мои рисунки\bol-web.jpg"/>
          <p:cNvPicPr/>
          <p:nvPr/>
        </p:nvPicPr>
        <p:blipFill>
          <a:blip r:embed="rId2"/>
          <a:stretch/>
        </p:blipFill>
        <p:spPr>
          <a:xfrm>
            <a:off x="1103400" y="1695600"/>
            <a:ext cx="2036520" cy="2071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Ольга\Мои документы\Мои рисунки\сердце болит.jpg"/>
          <p:cNvPicPr/>
          <p:nvPr/>
        </p:nvPicPr>
        <p:blipFill>
          <a:blip r:embed="rId3"/>
          <a:stretch/>
        </p:blipFill>
        <p:spPr>
          <a:xfrm>
            <a:off x="1500120" y="3736800"/>
            <a:ext cx="2554200" cy="2267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Documents and Settings\Ольга\Мои документы\Мои рисунки\сердце.jpg"/>
          <p:cNvPicPr/>
          <p:nvPr/>
        </p:nvPicPr>
        <p:blipFill>
          <a:blip r:embed="rId4"/>
          <a:stretch/>
        </p:blipFill>
        <p:spPr>
          <a:xfrm rot="20941200">
            <a:off x="3213000" y="1843200"/>
            <a:ext cx="1671840" cy="175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15920" y="1917360"/>
            <a:ext cx="284472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мил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мил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помило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483080" y="1917360"/>
            <a:ext cx="4038480" cy="25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сердце бол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(душа боли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сердечная бо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сердечный челов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  <a:ea typeface="Arial"/>
              </a:rPr>
              <a:t>милосердие</a:t>
            </a:r>
            <a:r>
              <a:rPr b="1" lang="en-US" sz="8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есяц 6"/>
          <p:cNvSpPr/>
          <p:nvPr/>
        </p:nvSpPr>
        <p:spPr>
          <a:xfrm flipH="1" rot="16200000">
            <a:off x="2912760" y="-112320"/>
            <a:ext cx="428760" cy="146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есяц 7"/>
          <p:cNvSpPr/>
          <p:nvPr/>
        </p:nvSpPr>
        <p:spPr>
          <a:xfrm flipH="1" rot="16200000">
            <a:off x="4868640" y="-156960"/>
            <a:ext cx="428760" cy="1555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8"/>
          <p:cNvSpPr/>
          <p:nvPr/>
        </p:nvSpPr>
        <p:spPr>
          <a:xfrm>
            <a:off x="615960" y="4896000"/>
            <a:ext cx="7867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доброта      жалость     помощь    про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927000" y="2806560"/>
            <a:ext cx="293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илосерди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готовность помо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кому-нибуд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или прост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кого-нибуд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из сострад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человеколю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5416560" y="2806560"/>
            <a:ext cx="351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илосерди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Готов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из состр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оказать помощь то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кто в ней нужд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Documents and Settings\Ольга\Мои документы\Мои рисунки\160f5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27040" y="2006640"/>
            <a:ext cx="3111480" cy="3822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Ольга\Мои документы\Мои рисунки\словарь уш.jpg"/>
          <p:cNvPicPr/>
          <p:nvPr/>
        </p:nvPicPr>
        <p:blipFill>
          <a:blip r:embed="rId3"/>
          <a:stretch/>
        </p:blipFill>
        <p:spPr>
          <a:xfrm>
            <a:off x="5505480" y="2006640"/>
            <a:ext cx="3111480" cy="38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Ольга\Мои документы\Мои рисунки\забота1.bmp"/>
          <p:cNvPicPr/>
          <p:nvPr/>
        </p:nvPicPr>
        <p:blipFill>
          <a:blip r:embed="rId2"/>
          <a:stretch/>
        </p:blipFill>
        <p:spPr>
          <a:xfrm rot="160800">
            <a:off x="5761080" y="476280"/>
            <a:ext cx="3089160" cy="3373560"/>
          </a:xfrm>
          <a:prstGeom prst="rect">
            <a:avLst/>
          </a:prstGeom>
          <a:ln w="0">
            <a:noFill/>
          </a:ln>
        </p:spPr>
      </p:pic>
      <p:sp>
        <p:nvSpPr>
          <p:cNvPr id="85" name="TextBox 18"/>
          <p:cNvSpPr/>
          <p:nvPr/>
        </p:nvSpPr>
        <p:spPr>
          <a:xfrm>
            <a:off x="904680" y="361800"/>
            <a:ext cx="5316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Милосердие</a:t>
            </a:r>
            <a:r>
              <a:rPr b="1" lang="en-US" sz="12000" spc="-1" strike="noStrike">
                <a:solidFill>
                  <a:srgbClr val="c00000"/>
                </a:solidFill>
                <a:latin typeface="Monotype Corsiva"/>
              </a:rPr>
              <a:t>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0"/>
          <p:cNvSpPr/>
          <p:nvPr/>
        </p:nvSpPr>
        <p:spPr>
          <a:xfrm>
            <a:off x="971640" y="3340080"/>
            <a:ext cx="70675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Истинное милосерди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это желание приносить польз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другим людям, не думая о вознагражд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24:37Z</dcterms:created>
  <dc:creator>Асафьева О.С.</dc:creator>
  <dc:description/>
  <dc:language>en-US</dc:language>
  <cp:lastModifiedBy>shishova</cp:lastModifiedBy>
  <dcterms:modified xsi:type="dcterms:W3CDTF">2013-02-26T01:28:24Z</dcterms:modified>
  <cp:revision>158</cp:revision>
  <dc:subject>презентация к уроку</dc:subject>
  <dc:title>Поговорим о МИЛОСЕРДИИ</dc:title>
</cp:coreProperties>
</file>