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2.jpeg" ContentType="image/jpeg"/>
  <Override PartName="/ppt/media/image7.jpeg" ContentType="image/jpeg"/>
  <Override PartName="/ppt/media/image5.wmf" ContentType="image/x-wmf"/>
  <Override PartName="/ppt/media/image4.jpeg" ContentType="image/jpeg"/>
  <Override PartName="/ppt/media/WHOOSH.WAV" ContentType="audio/x-wav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5.wmf" ContentType="image/x-wmf"/>
  <Override PartName="/ppt/media/image22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7002-436B-4983-9395-BA131D96A6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EA7B-F00C-4D2D-9BD3-23125D327E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0EB-7F6C-4210-AB43-3B0EDBCA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963C-E65F-4FAF-8FD4-BE6CD621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950-B769-4540-8D29-0D8550E2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AC0-C57E-4F48-ADCB-F24BCFDD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0D36-482D-4839-A747-D5758897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24BA-044C-4FE4-9505-4F5B6C81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64E-E1B0-4B04-A86E-FA5846F7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FE3-5736-42ED-90C6-B8D3820A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10A-F32D-4089-82D8-C7652FAF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94E-3783-47C6-BC13-D42B701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DCD-0BDC-45DA-82CC-F1D7EFA3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209-0029-41D0-AEF3-8E137461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CBB8-504D-48D1-B981-D47B7813A4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28600" y="457200"/>
            <a:ext cx="8534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66ffff"/>
                </a:solidFill>
                <a:latin typeface="Sylfaen"/>
              </a:rPr>
              <a:t>Духовный мир человека и деятельность.</a:t>
            </a:r>
            <a:endParaRPr b="1" lang="en-US" sz="2400" spc="1" strike="noStrike">
              <a:ln w="0">
                <a:noFill/>
              </a:ln>
              <a:solidFill>
                <a:srgbClr val="66ffff"/>
              </a:solidFill>
              <a:latin typeface="Sylfaen"/>
              <a:ea typeface="Sylfae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486400" y="6095880"/>
            <a:ext cx="3657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Times New Roman"/>
              </a:rPr>
              <a:t>Пастухов Дмитри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ff"/>
                </a:solidFill>
                <a:latin typeface="Times New Roman"/>
              </a:rPr>
              <a:t>10 клас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99000" y="56959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ff"/>
                </a:solidFill>
                <a:latin typeface="Times New Roman"/>
              </a:rPr>
              <a:t>МКОУ «Звонаревокутская СОШ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Object 8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9">
            <a:hlinkClick r:id="" action="ppaction://hlinkshowjump?jump=nextslide"/>
          </p:cNvPr>
          <p:cNvSpPr/>
          <p:nvPr/>
        </p:nvSpPr>
        <p:spPr>
          <a:xfrm>
            <a:off x="891540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" action="ppaction://hlinkshowjump?jump=previousslide"/>
          </p:cNvPr>
          <p:cNvSpPr/>
          <p:nvPr/>
        </p:nvSpPr>
        <p:spPr>
          <a:xfrm>
            <a:off x="868680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5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75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Важнейшая духовная потребность человека -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в познании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. Об этом говорили философы разных эпох. Аристотель писал: «Все люди от природы стремятся к знанию». А французский мыслитель </a:t>
            </a:r>
            <a:r>
              <a:rPr b="0" lang="en-US" sz="1800" spc="-1" strike="noStrike">
                <a:solidFill>
                  <a:srgbClr val="00ffff"/>
                </a:solidFill>
                <a:latin typeface="Times New Roman"/>
              </a:rPr>
              <a:t>XV 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в. М. Монтель утверждал: «Нет стремления более естественного, чем стремление к знанию».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   Другая важнейшая духовная потребность -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эстетическая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. Стремление осваивать мир по законам красоты, видеть гармонию в природе, в людях, глубоко чувствовать 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музыку, живопись, поэзию, совершенствовать человеческие отношения - все это грани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единой эстетической потребности.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   Еще одна духовная потребность человека - </a:t>
            </a:r>
            <a:r>
              <a:rPr b="1" lang="ru-RU" sz="1800" spc="-1" strike="noStrike">
                <a:solidFill>
                  <a:srgbClr val="ffffcc"/>
                </a:solidFill>
                <a:latin typeface="Times New Roman"/>
              </a:rPr>
              <a:t>в общении</a:t>
            </a: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. Любовь к человеку, дружба,</a:t>
            </a:r>
            <a:br>
              <a:rPr sz="1800"/>
            </a:br>
            <a:r>
              <a:rPr b="0" lang="ru-RU" sz="1800" spc="-1" strike="noStrike">
                <a:solidFill>
                  <a:srgbClr val="00ffff"/>
                </a:solidFill>
                <a:latin typeface="Times New Roman"/>
              </a:rPr>
              <a:t>товарищество - подлинно человеческие потребности. Мораль и психологическая поддержка, внимание друг к другу, сочувствие, сопереживание, обмен идеями, совместное творчество - таковы некоторые проявления потребности в общении.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0"/>
          <a:ext cx="914400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8"/>
          <p:cNvSpPr/>
          <p:nvPr/>
        </p:nvSpPr>
        <p:spPr>
          <a:xfrm>
            <a:off x="0" y="3886200"/>
            <a:ext cx="9144000" cy="281952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ировоззрение, убеждение, в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599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такое мировоззр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Object 4" descr=""/>
          <p:cNvPicPr/>
          <p:nvPr/>
        </p:nvPicPr>
        <p:blipFill>
          <a:blip r:embed="rId2"/>
          <a:stretch/>
        </p:blipFill>
        <p:spPr>
          <a:xfrm>
            <a:off x="7848720" y="1295280"/>
            <a:ext cx="1108080" cy="123696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3"/>
          <a:stretch/>
        </p:blipFill>
        <p:spPr>
          <a:xfrm>
            <a:off x="0" y="1295280"/>
            <a:ext cx="1108080" cy="12369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" descr=""/>
          <p:cNvPicPr/>
          <p:nvPr/>
        </p:nvPicPr>
        <p:blipFill>
          <a:blip r:embed="rId4"/>
          <a:stretch/>
        </p:blipFill>
        <p:spPr>
          <a:xfrm>
            <a:off x="228600" y="2895480"/>
            <a:ext cx="1371600" cy="3505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752480" y="3124080"/>
            <a:ext cx="7086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 наиболее распространенном понимании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мировоззрение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- это совокупность взглядов человека на мир, который его окружает. Но есть и другие, близкие мировоззрению слова: миропонимание, миросозерцание. Все они предполагают, с одной стороны, мир, который окружает человека, а с другой - то, что связанно с деятельностью человека: его ощущение, созерцание, понимание, взгляды на мир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9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28600" y="380880"/>
            <a:ext cx="8686800" cy="825480"/>
          </a:xfrm>
          <a:prstGeom prst="rect">
            <a:avLst/>
          </a:prstGeom>
          <a:noFill/>
          <a:ln cap="rnd" w="666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99"/>
                </a:solidFill>
                <a:latin typeface="Times New Roman"/>
              </a:rPr>
              <a:t>Чем же мировоззрение отличается от других элементов духовного мира человека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0492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Во-первых, мировоззрение представляет собой взгляды человека не на какую-то отдельную сторону мира, а именно на мир в цело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32767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Во-вторых, мировоззрение представляет собой отношения человека к окружающему его миру: боится, страшиться ли человек этого мира, или он живет в ладу, в гармонии с ним? Удовлетворен ли человек окружающим миром или стремится изменить его?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52280" y="5715000"/>
            <a:ext cx="876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66ff66"/>
                </a:solidFill>
                <a:uFillTx/>
                <a:latin typeface="Times New Roman"/>
              </a:rPr>
              <a:t>Таким образом, мировоззрение - сложное явление духовного мира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8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9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ировозз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3657600"/>
            <a:ext cx="2209680" cy="45972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562720" y="3657600"/>
            <a:ext cx="2361960" cy="45972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лигиоз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352680" y="5181480"/>
            <a:ext cx="1905120" cy="45972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2209320" y="1752480"/>
            <a:ext cx="2133720" cy="1752840"/>
          </a:xfrm>
          <a:prstGeom prst="line">
            <a:avLst/>
          </a:prstGeom>
          <a:ln w="442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343400" y="1752480"/>
            <a:ext cx="0" cy="3048120"/>
          </a:xfrm>
          <a:prstGeom prst="line">
            <a:avLst/>
          </a:prstGeom>
          <a:ln w="442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4343400" y="1752480"/>
            <a:ext cx="2133720" cy="1676520"/>
          </a:xfrm>
          <a:prstGeom prst="line">
            <a:avLst/>
          </a:prstGeom>
          <a:ln w="4428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0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533520"/>
            <a:ext cx="8610480" cy="12520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) </a:t>
            </a: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быденное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 (или житейское) </a:t>
            </a: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ировоззрение</a:t>
            </a: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 Оно формируется под влиянием жизненных обстоятельств, опирается на личный опыт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4920" y="2971800"/>
            <a:ext cx="8686800" cy="88632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ffffcc"/>
                </a:solidFill>
                <a:latin typeface="Times New Roman"/>
              </a:rPr>
              <a:t>Религиозное мировоззрение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 его основе лежат религиозные взгляды, представления и убеждения человека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80880" y="5105520"/>
            <a:ext cx="8458200" cy="1252080"/>
          </a:xfrm>
          <a:prstGeom prst="rect">
            <a:avLst/>
          </a:prstGeom>
          <a:solidFill>
            <a:srgbClr val="669900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3)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Научное мировоззрение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Оно формируется на основе достижений современной науки, отражает научную картину мира, результаты современного научного позн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ировоззрение и деятельность челове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-685800" y="1295280"/>
            <a:ext cx="94489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767647"/>
                    </a:gs>
                  </a:gsLst>
                  <a:lin ang="5400000"/>
                </a:gradFill>
                <a:latin typeface="Impact"/>
              </a:rPr>
              <a:t>Какую  роль  играет  мировоззрени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1523880" y="2989440"/>
            <a:ext cx="7010640" cy="34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Impact"/>
              </a:rPr>
              <a:t>в  деятельности  людей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ffff66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8" name="AutoShape 6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52280" y="685800"/>
            <a:ext cx="8839440" cy="137448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e0d2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ae0d2"/>
                </a:solidFill>
                <a:latin typeface="Times New Roman"/>
              </a:rPr>
              <a:t>Во-первых</a:t>
            </a:r>
            <a:r>
              <a:rPr b="1" lang="ru-RU" sz="2000" spc="-1" strike="noStrike">
                <a:solidFill>
                  <a:srgbClr val="4ae0d2"/>
                </a:solidFill>
                <a:latin typeface="Times New Roman"/>
              </a:rPr>
              <a:t>, именно мировоззрение дает человеку ориентиры для всей его практической и теоретической деятельности, позволяет ему сформировать цели, которые он намерен достичь в процессе своей деятельност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52280" y="2666880"/>
            <a:ext cx="8839440" cy="106956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ae0d2"/>
                </a:solidFill>
                <a:latin typeface="Times New Roman"/>
              </a:rPr>
              <a:t>Во-вторых</a:t>
            </a:r>
            <a:r>
              <a:rPr b="1" lang="ru-RU" sz="2000" spc="-1" strike="noStrike">
                <a:solidFill>
                  <a:srgbClr val="4ae0d2"/>
                </a:solidFill>
                <a:latin typeface="Times New Roman"/>
              </a:rPr>
              <a:t>, мировоззрение через свою философскую «сердцевину» дает людям понимание того, как достичь намеченных ориентиров и целей, вооружает людей методами познания и деятельност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52280" y="4648320"/>
            <a:ext cx="8839440" cy="1008720"/>
          </a:xfrm>
          <a:prstGeom prst="rect">
            <a:avLst/>
          </a:prstGeom>
          <a:noFill/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ae0d2"/>
                </a:solidFill>
                <a:latin typeface="Times New Roman"/>
              </a:rPr>
              <a:t>  </a:t>
            </a:r>
            <a:r>
              <a:rPr b="1" i="1" lang="ru-RU" sz="2000" spc="-1" strike="noStrike">
                <a:solidFill>
                  <a:srgbClr val="4ae0d2"/>
                </a:solidFill>
                <a:latin typeface="Times New Roman"/>
              </a:rPr>
              <a:t>В-третьих</a:t>
            </a:r>
            <a:r>
              <a:rPr b="1" lang="ru-RU" sz="2000" spc="-1" strike="noStrike">
                <a:solidFill>
                  <a:srgbClr val="4ae0d2"/>
                </a:solidFill>
                <a:latin typeface="Times New Roman"/>
              </a:rPr>
              <a:t>, в мировоззрении содержится понимание человеком мира и тенденций его развития, возможностей человека и смысла его деятельности, добра и зла, красоты и безобрази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6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5715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ffff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) Духовно-теоретическая и духовно-практическая деятельнос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Духовное производ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Сохранение и распространение духовных цен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Духовное потребл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2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2)</a:t>
            </a:r>
            <a:r>
              <a:rPr b="1" lang="ru-RU" sz="2400" spc="-1" strike="noStrike">
                <a:solidFill>
                  <a:srgbClr val="66ffff"/>
                </a:solidFill>
                <a:latin typeface="Times New Roman"/>
              </a:rPr>
              <a:t> Мировоззрение, убеждение, вер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Что такое мировоззр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Каким бывает мировоззрени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Мировоззрение и деятельность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6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уховный мир человека ученые нередко характеризуют как нерасторжимое единство разума, чувств воли. Мир личности индивидуален и неповторим. Вспомним строки поэта Е. Винокуров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828800" y="1905120"/>
            <a:ext cx="6095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Мир - это лес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в котором нет и дву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одинаковых листочк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Разнообразие - принцип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ccff"/>
                </a:solidFill>
                <a:latin typeface="Arial"/>
              </a:rPr>
              <a:t>лежащий в основе жизн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ject 5" descr=""/>
          <p:cNvPicPr/>
          <p:nvPr/>
        </p:nvPicPr>
        <p:blipFill>
          <a:blip r:embed="rId2"/>
          <a:stretch/>
        </p:blipFill>
        <p:spPr>
          <a:xfrm>
            <a:off x="0" y="533520"/>
            <a:ext cx="347760" cy="511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80880" y="5181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Духовный мир каждого может быть правильно понят лишь с учетом особенностей общности, к которой индивид принадлежит, лишь в тесной связи с духовной жизнью общ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9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0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1880" y="-54320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99"/>
                </a:solidFill>
                <a:latin typeface="Times New Roman"/>
              </a:rPr>
              <a:t>Духовная деятельность делится на два вид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Духовно-теоретическая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(Это производство духовных ценностей. Продуктом духовного производства являются мысли, идеи, теории, нормы, идеалы, образы, которые могут принимать форму научных и художественных произведений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Духовно-практическая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(Это сохранение, воспроизведение, распределение, распространение, а также освоение созданных духовных ценностей, т. е. деятельность, результатом которой является изменение сознания людей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Духовное производ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04920" y="12952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Tempus Sans ITC"/>
              </a:rPr>
              <a:t>  </a:t>
            </a:r>
            <a:r>
              <a:rPr b="1" i="1" lang="ru-RU" sz="2000" spc="-1" strike="noStrike">
                <a:solidFill>
                  <a:srgbClr val="ffffcc"/>
                </a:solidFill>
                <a:latin typeface="Tempus Sans ITC"/>
              </a:rPr>
              <a:t>Духовное производство</a:t>
            </a:r>
            <a:r>
              <a:rPr b="1" i="1" lang="ru-RU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это производство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новых духовных ценностей, чаще всего в форме научных трудов и литературных сочинений, произведений скульптуры и архитектуры, музыки и живописи, кинофильмов и телевизионных передач, которые несут созданные их авторами идеи и взгляды, образы и чувства, оценки и представлени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57200" y="365760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ажной особенностью духовного производства состоит в том, что его продукты создаются не только для уведомления существующей в обществе потребности в тех или иных духовных благах, но и для самореализации мыслителя художника и т. д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57200" y="57150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cc66"/>
                </a:solidFill>
                <a:latin typeface="Times New Roman"/>
              </a:rPr>
              <a:t>Духовное производство осуществляется особыми группами людей, духовная деятельность которых является профессиональной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915840" cy="682560"/>
          </a:xfrm>
          <a:prstGeom prst="rect">
            <a:avLst/>
          </a:prstGeom>
          <a:ln w="0">
            <a:noFill/>
          </a:ln>
        </p:spPr>
      </p:pic>
      <p:pic>
        <p:nvPicPr>
          <p:cNvPr id="78" name="Object 9" descr=""/>
          <p:cNvPicPr/>
          <p:nvPr/>
        </p:nvPicPr>
        <p:blipFill>
          <a:blip r:embed="rId3"/>
          <a:stretch/>
        </p:blipFill>
        <p:spPr>
          <a:xfrm>
            <a:off x="8228160" y="0"/>
            <a:ext cx="915840" cy="6825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12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3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3"/>
          <p:cNvGraphicFramePr/>
          <p:nvPr/>
        </p:nvGraphicFramePr>
        <p:xfrm>
          <a:off x="0" y="228600"/>
          <a:ext cx="9082080" cy="6224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8600"/>
                    <a:ext cx="90820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29"/>
          <p:cNvSpPr/>
          <p:nvPr/>
        </p:nvSpPr>
        <p:spPr>
          <a:xfrm>
            <a:off x="0" y="342900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уховное производство связанно с производством материальным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-первых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бумага, краски, приборы, музыкальные инструменты 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ногое другое - необходимое условие духовного производства.                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-вторых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, некоторые продукты духовного производства являются элемент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го производства: это технические идеи и научные теории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торые становятся производительной сило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2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33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3"/>
          <p:cNvSpPr txBox="1"/>
          <p:nvPr/>
        </p:nvSpPr>
        <p:spPr>
          <a:xfrm>
            <a:off x="380880" y="380880"/>
            <a:ext cx="838224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хранение и распространение духовных ценностей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Times New Roman"/>
              </a:rPr>
              <a:t>Это прежде всего различные учреждения, выполняющие функции собирания, хранения, исследования и популяризации культурно-исторических и естественных цен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04920" y="3809880"/>
            <a:ext cx="838188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0" y="3276720"/>
            <a:ext cx="8915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Таким образом, архивы, библиотеки, музеи - это не тольк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хранилища; древние египтяне называли их «домами жизни»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подчеркивая важную роль этих учреждений в сохранении 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cc"/>
                </a:solidFill>
                <a:latin typeface="Arial"/>
              </a:rPr>
              <a:t>передаче культурного наследия. Музеи, архивы, библиотеки - достояния народа, они должны быть доступны для всех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609480" y="838080"/>
            <a:ext cx="8382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Кто же способствует сохранению и распространению духовных богатств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20600" y="5667480"/>
            <a:ext cx="9023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Самая массовая аудитория, воспринимающая духовные ценности, - это сотни миллионов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читателей газет и журналов, слушателей радио, телезрителей, т. е. те на кого постоянно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оздействуют средства массовой информаци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5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6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228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66"/>
                </a:solidFill>
                <a:uFillTx/>
                <a:latin typeface="Times New Roman"/>
              </a:rPr>
              <a:t>Создание, сохранение и распространени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66"/>
                </a:solidFill>
                <a:uFillTx/>
                <a:latin typeface="Times New Roman"/>
              </a:rPr>
              <a:t>духовных ценносте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495680" y="1600200"/>
            <a:ext cx="0" cy="1143000"/>
          </a:xfrm>
          <a:prstGeom prst="line">
            <a:avLst/>
          </a:prstGeom>
          <a:ln w="57240">
            <a:solidFill>
              <a:srgbClr val="66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981080" y="2819520"/>
            <a:ext cx="529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ff66"/>
                </a:solidFill>
                <a:uFillTx/>
                <a:latin typeface="Times New Roman"/>
              </a:rPr>
              <a:t>Духовные потребности люде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bject 9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4800600" cy="1600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2362320" y="5105520"/>
            <a:ext cx="451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99"/>
                </a:solidFill>
                <a:uFillTx/>
                <a:latin typeface="Times New Roman"/>
              </a:rPr>
              <a:t>Духовное потребление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2">
            <a:hlinkClick r:id="" action="ppaction://hlinkshowjump?jump=nextslide"/>
          </p:cNvPr>
          <p:cNvSpPr/>
          <p:nvPr/>
        </p:nvSpPr>
        <p:spPr>
          <a:xfrm>
            <a:off x="89139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3">
            <a:hlinkClick r:id="" action="ppaction://hlinkshowjump?jump=previousslide"/>
          </p:cNvPr>
          <p:cNvSpPr/>
          <p:nvPr/>
        </p:nvSpPr>
        <p:spPr>
          <a:xfrm>
            <a:off x="8685360" y="65484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3-04-09T10:48:32Z</dcterms:modified>
  <cp:revision>25</cp:revision>
  <dc:subject/>
  <dc:title>Заголовок слайда отсутствует</dc:title>
</cp:coreProperties>
</file>