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180-1299-4C5C-9D49-70597089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429-81DD-45EC-BBDF-78E49EFB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0881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63C-EDC0-42B7-ADA4-5D4AB048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85300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4916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85300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24916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AC7-4D21-4BC0-9044-1104BF90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B644-3FF9-471D-B2BA-EEBB28F1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68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AEDC-E443-442F-B140-C08B3B62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F335-DC64-4BB6-850F-F2E9F008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B623-0D97-4C55-8CAA-360689D0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5AF2-297D-4ACA-95EB-3E0B9ADF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4191120"/>
            <a:ext cx="541008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0AD8-5614-4783-B88E-95CD8CDF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1A3F-D74D-4604-B019-1A535856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22B-6F01-4397-A7EF-38888575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0881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F395-9C86-4C7D-8725-1F1CA619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0C8B-2528-4196-A1F5-FF1E4C62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68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2627-E263-4657-9CF8-BD6D4CD0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0881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2915-C52D-4831-B220-303E7772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85300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4916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684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285300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24916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0DDF-4F46-4C09-A91D-A53D387E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57B-7715-4E0A-83BA-6DA574B7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67B-ED8E-454C-BEBC-055F9196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C3F-0B33-4B11-98D3-984300F6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191120"/>
            <a:ext cx="541008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362-310B-452A-AA9F-A99E1D87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332-B29C-45CD-AAC4-DE142E17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881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E0C-AAD8-4425-8DF4-B456D98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90C-896C-40FD-8913-932F57D9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2600" y="0"/>
            <a:ext cx="915660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33e"/>
              </a:gs>
              <a:gs pos="100000">
                <a:srgbClr val="3684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33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533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533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A671-E9BD-4A8E-BD9D-071DC199A6FD}" type="slidenum">
              <a:rPr b="0" lang="en-US" sz="1400" spc="-1" strike="noStrike">
                <a:solidFill>
                  <a:srgbClr val="33533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9" name="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533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533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5026-3385-453A-A0CB-E319DCED18DE}" type="slidenum">
              <a:rPr b="0" lang="en-US" sz="1200" spc="-1" strike="noStrike">
                <a:solidFill>
                  <a:srgbClr val="33533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50" name="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33e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3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5338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533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533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533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533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26920" y="1052640"/>
            <a:ext cx="777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ВСЁ В ТВОИХ РУКАХ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124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416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ножественный выбор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3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Имя существительное – это …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часть речи, которая отвечает на вопрос что?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часть речи, которая отвечает на вопрос кто?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часть речи, которая отвечает на вопросы что? и кто?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часть речи, которая отвечает на вопросы что?  кто? и обозначает предмет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920" y="209520"/>
            <a:ext cx="7618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становление последовательности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Укажи правильный порядок слов в предложении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1 осенний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2 кружит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3 листья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4 ветер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5 опавшие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1)23451    2)52413    3)14253  4)31254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Я - ДОПОЛНЕН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56764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Вставь нужное слово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Частица </a:t>
            </a:r>
            <a:r>
              <a:rPr b="1" lang="ru-RU" sz="2800" spc="-1" strike="noStrike">
                <a:solidFill>
                  <a:srgbClr val="335338"/>
                </a:solidFill>
                <a:latin typeface="Verdana"/>
              </a:rPr>
              <a:t>не</a:t>
            </a: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 с глаголами пишется ____ 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Дополни предложение словом из словаря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Бабушка набросила на плечи тёплый ____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я свободного изложен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55036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Впиши правильный и точный ответ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Имя прилагательное – это ___________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Окончание – это изменяемая часть слова, стоящая после корня и служащая для ______________________________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11280" y="3141720"/>
            <a:ext cx="48020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8463"/>
                    </a:gs>
                    <a:gs pos="100000">
                      <a:srgbClr val="000066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Спасиб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8463"/>
                  </a:gs>
                  <a:gs pos="100000">
                    <a:srgbClr val="000066"/>
                  </a:gs>
                </a:gsLst>
                <a:lin ang="1080000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87280" y="141300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ВСЁ В ТВОИХ РУКАХ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475920"/>
            <a:ext cx="8355240" cy="187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Verdana"/>
              </a:rPr>
              <a:t>                   </a:t>
            </a:r>
            <a:r>
              <a:rPr b="1" lang="ru-RU" sz="4000" spc="-1" strike="noStrike">
                <a:solidFill>
                  <a:srgbClr val="d60093"/>
                </a:solidFill>
                <a:latin typeface="Verdana"/>
              </a:rPr>
              <a:t>ЕГЭ </a:t>
            </a:r>
            <a:br>
              <a:rPr sz="4000"/>
            </a:br>
            <a:r>
              <a:rPr b="1" lang="ru-RU" sz="4000" spc="-1" strike="noStrike">
                <a:solidFill>
                  <a:srgbClr val="d60093"/>
                </a:solidFill>
                <a:latin typeface="Verdana"/>
              </a:rPr>
              <a:t>        в начальной школе?</a:t>
            </a: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38102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69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05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fd1b5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d7e4be"/>
                </a:solidFill>
                <a:latin typeface="Verdana"/>
              </a:rPr>
              <a:t>Преимущества тестового</a:t>
            </a:r>
            <a:r>
              <a:rPr b="1" lang="ru-RU" sz="2800" spc="-1" strike="noStrike">
                <a:solidFill>
                  <a:srgbClr val="f884a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5338"/>
                </a:solidFill>
                <a:latin typeface="Verdana"/>
              </a:rPr>
              <a:t>контрол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оверность информации об объёме усвоенного материала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дёжность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фференцирующая способность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зация индивидуального подхода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авнимость результатов тестирования для разных групп учащихся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корость проверки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иентированность на современные ТСО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e4be"/>
                </a:solidFill>
                <a:latin typeface="Verdana"/>
              </a:rPr>
              <a:t>Виды тестов</a:t>
            </a:r>
            <a:br>
              <a:rPr sz="2800"/>
            </a:br>
            <a:r>
              <a:rPr b="1" lang="ru-RU" sz="2800" spc="-1" strike="noStrike">
                <a:solidFill>
                  <a:srgbClr val="d7e4be"/>
                </a:solidFill>
                <a:latin typeface="Verdana"/>
              </a:rPr>
              <a:t>по их назначению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5338"/>
                </a:solidFill>
                <a:latin typeface="Verdana"/>
              </a:rPr>
              <a:t>Базовые </a:t>
            </a:r>
            <a:endParaRPr b="0" lang="en-US" sz="4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5338"/>
                </a:solidFill>
                <a:latin typeface="Verdana"/>
              </a:rPr>
              <a:t>Диагностические </a:t>
            </a:r>
            <a:endParaRPr b="0" lang="en-US" sz="4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5338"/>
                </a:solidFill>
                <a:latin typeface="Verdana"/>
              </a:rPr>
              <a:t>Тематические </a:t>
            </a:r>
            <a:endParaRPr b="0" lang="en-US" sz="4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5338"/>
                </a:solidFill>
                <a:latin typeface="Verdana"/>
              </a:rPr>
              <a:t>Итоговые</a:t>
            </a:r>
            <a:endParaRPr b="0" lang="en-US" sz="44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естница деятельности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-18922"/>
          <a:stretch/>
        </p:blipFill>
        <p:spPr>
          <a:xfrm>
            <a:off x="900000" y="1413000"/>
            <a:ext cx="7848720" cy="49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6877080" y="5013360"/>
            <a:ext cx="2266920" cy="863640"/>
          </a:xfrm>
          <a:prstGeom prst="rightArrow">
            <a:avLst>
              <a:gd name="adj1" fmla="val 50000"/>
              <a:gd name="adj2" fmla="val 65621"/>
            </a:avLst>
          </a:prstGeom>
          <a:solidFill>
            <a:srgbClr val="2f86b1"/>
          </a:solidFill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af4"/>
                </a:solidFill>
                <a:latin typeface="Verdana"/>
              </a:rPr>
              <a:t>Методика разработки теста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1. Определение цели тестирования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2. Определение контингента учащихся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3. Определение программы для которой делаем тест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4. Определение время, на которое рассчитан тест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5. Определение длины теста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6. Отбор содержания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345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лассификация тестовых задани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5338"/>
                </a:solidFill>
                <a:latin typeface="Verdana"/>
              </a:rPr>
              <a:t>Закрытого типа</a:t>
            </a: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(с предписанными ответами, когда необходимо выбрать из предложенных вариантов ответа тот или иной вариант)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5338"/>
                </a:solidFill>
                <a:latin typeface="Verdana"/>
              </a:rPr>
              <a:t>Открытого типа 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(со свободными ответами, когда необходимо самостоятельно дописать слово, предложение, знак и т.д.)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7201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льтернативный выбор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Обведи в кружок правильный ответ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Приставка служит для     образования новых слов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5338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5338"/>
                </a:solidFill>
                <a:latin typeface="Verdana"/>
              </a:rPr>
              <a:t>Да      Нет 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5338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Предлоги пишутся с другими словами слитно, а приставки –раздельно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                      </a:t>
            </a:r>
            <a:r>
              <a:rPr b="1" lang="ru-RU" sz="3200" spc="-1" strike="noStrike">
                <a:solidFill>
                  <a:srgbClr val="335338"/>
                </a:solidFill>
                <a:latin typeface="Verdana"/>
              </a:rPr>
              <a:t>Да      Нет</a:t>
            </a: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                      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489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осстановление соответств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5338"/>
                </a:solidFill>
                <a:uFillTx/>
                <a:latin typeface="Verdana"/>
              </a:rPr>
              <a:t>Соедини линиями слова и вопросы, на которые они отвечают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мальчик            что?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улыбался          какой?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дерево             что делал?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светлый           что сделал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заснул             кто?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большая          какая?    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3:03:41Z</dcterms:created>
  <dc:creator>Учитель</dc:creator>
  <dc:description/>
  <dc:language>en-US</dc:language>
  <cp:lastModifiedBy>Учитель</cp:lastModifiedBy>
  <dcterms:modified xsi:type="dcterms:W3CDTF">2010-12-04T03:21:28Z</dcterms:modified>
  <cp:revision>7</cp:revision>
  <dc:subject/>
  <dc:title>                   ЕГЭ          в начальной школе?</dc:title>
</cp:coreProperties>
</file>