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04F-5B50-4F68-BC86-235687EE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A973-8664-4BF1-9DE3-C30401F3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08816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688-39AC-4C6C-A237-39F679C8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85300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4916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85300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24916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57BA-8593-40AD-81D2-2367F51B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827C-60D5-4FC1-9CE9-2B60AE64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684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C030-D4DE-4C01-B3C5-203F77AE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41D4-E1FB-489C-80C0-C4E03E29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A204-940A-41BC-961F-C9374A7B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3D93-8DD7-4421-8871-B2D60201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4191120"/>
            <a:ext cx="541008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B7CE-B3EB-48AB-AFEB-636ACD03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EEC0-4DEC-440D-AAA1-25D00682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053-DFE2-46F1-A3DF-06D4CC1C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08816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9EAD-0AD1-4554-B84B-1BDFABAA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230F-91BF-4BCE-94AD-B12D722A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684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104B-E31B-4361-B00E-C3DEF71E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08816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BA9F-0DF4-42C3-9096-C924C144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285300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24916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684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285300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24916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1313-644B-4190-A62E-001B6B01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F29-F450-49B1-BEE9-D5D46D8B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4486-9FA6-4025-BEBA-CE93E59C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FE47-E009-4387-B427-8A79ED6D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4191120"/>
            <a:ext cx="541008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00CD-F2AE-47D5-AD78-C59C6258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5339-2DE3-4611-B24F-1F8610FD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08816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25C-9B59-4C59-AF19-5D0A8384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881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D8A-5494-4488-8921-0E64D8AF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2600" y="0"/>
            <a:ext cx="9156600" cy="1600200"/>
          </a:xfrm>
          <a:custGeom>
            <a:avLst/>
            <a:gdLst/>
            <a:ahLst/>
            <a:rect l="l" t="t" r="r" b="b"/>
            <a:pathLst>
              <a:path w="5768" h="1008">
                <a:moveTo>
                  <a:pt x="0" y="0"/>
                </a:moveTo>
                <a:lnTo>
                  <a:pt x="0" y="688"/>
                </a:lnTo>
                <a:cubicBezTo>
                  <a:pt x="72" y="682"/>
                  <a:pt x="776" y="535"/>
                  <a:pt x="2008" y="492"/>
                </a:cubicBezTo>
                <a:cubicBezTo>
                  <a:pt x="3240" y="449"/>
                  <a:pt x="4792" y="608"/>
                  <a:pt x="5768" y="1008"/>
                </a:cubicBezTo>
                <a:lnTo>
                  <a:pt x="576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533e"/>
              </a:gs>
              <a:gs pos="100000">
                <a:srgbClr val="3684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2600" y="-12600"/>
            <a:ext cx="9156600" cy="1353960"/>
          </a:xfrm>
          <a:custGeom>
            <a:avLst/>
            <a:gdLst/>
            <a:ahLst/>
            <a:rect l="l" t="t" r="r" b="b"/>
            <a:pathLst>
              <a:path w="5768" h="848">
                <a:moveTo>
                  <a:pt x="0" y="0"/>
                </a:moveTo>
                <a:lnTo>
                  <a:pt x="0" y="767"/>
                </a:lnTo>
                <a:cubicBezTo>
                  <a:pt x="72" y="760"/>
                  <a:pt x="879" y="496"/>
                  <a:pt x="2104" y="448"/>
                </a:cubicBezTo>
                <a:cubicBezTo>
                  <a:pt x="3330" y="401"/>
                  <a:pt x="4792" y="472"/>
                  <a:pt x="5768" y="848"/>
                </a:cubicBezTo>
                <a:lnTo>
                  <a:pt x="5760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22533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533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533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533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533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533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9AAC-AD02-4E7A-9A69-DFA0D4906314}" type="slidenum">
              <a:rPr b="0" lang="en-US" sz="1400" spc="-1" strike="noStrike">
                <a:solidFill>
                  <a:srgbClr val="33533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2240" y="692280"/>
            <a:ext cx="9093600" cy="6165720"/>
            <a:chOff x="12240" y="692280"/>
            <a:chExt cx="9093600" cy="6165720"/>
          </a:xfrm>
        </p:grpSpPr>
        <p:sp>
          <p:nvSpPr>
            <p:cNvPr id="99" name=""/>
            <p:cNvSpPr/>
            <p:nvPr/>
          </p:nvSpPr>
          <p:spPr>
            <a:xfrm flipH="1">
              <a:off x="12600" y="711360"/>
              <a:ext cx="67694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2600" y="711360"/>
              <a:ext cx="67694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61800" y="711360"/>
              <a:ext cx="6420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403640" y="711360"/>
              <a:ext cx="5378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382480" y="711360"/>
              <a:ext cx="4399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368880" y="711360"/>
              <a:ext cx="34131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237200" y="711360"/>
              <a:ext cx="2544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101200" y="711360"/>
              <a:ext cx="1680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970600" y="711360"/>
              <a:ext cx="8114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204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2600" y="711360"/>
              <a:ext cx="67694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2600" y="711360"/>
              <a:ext cx="67694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2600" y="711360"/>
              <a:ext cx="67694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2600" y="711360"/>
              <a:ext cx="67694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2600" y="733320"/>
              <a:ext cx="670140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2600" y="711360"/>
              <a:ext cx="67694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2600" y="711360"/>
              <a:ext cx="67694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2600" y="711360"/>
              <a:ext cx="67694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2600" y="711360"/>
              <a:ext cx="67694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2600" y="711360"/>
              <a:ext cx="67694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2600" y="711360"/>
              <a:ext cx="67694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79160" y="71280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79160" y="692280"/>
              <a:ext cx="232668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99320" y="733320"/>
              <a:ext cx="230652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94640" y="735120"/>
              <a:ext cx="19180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93560" y="749160"/>
              <a:ext cx="12754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85640" y="735120"/>
              <a:ext cx="6375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79160" y="692280"/>
              <a:ext cx="232668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21640" y="739800"/>
              <a:ext cx="228420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79160" y="712800"/>
              <a:ext cx="232668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0360" y="747720"/>
              <a:ext cx="226512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94280" y="735120"/>
              <a:ext cx="231120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79160" y="692280"/>
              <a:ext cx="232668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2600" y="3274920"/>
              <a:ext cx="9092880" cy="1936440"/>
              <a:chOff x="12600" y="3274920"/>
              <a:chExt cx="9092880" cy="1936440"/>
            </a:xfrm>
          </p:grpSpPr>
          <p:sp>
            <p:nvSpPr>
              <p:cNvPr id="133" name=""/>
              <p:cNvSpPr/>
              <p:nvPr/>
            </p:nvSpPr>
            <p:spPr>
              <a:xfrm flipH="1">
                <a:off x="12600" y="5211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12600" y="449640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15840" y="3850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5840" y="3274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 flipH="1">
              <a:off x="12240" y="27828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12240" y="2309400"/>
              <a:ext cx="9093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2240" y="1876320"/>
              <a:ext cx="909324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53640" y="153180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12240" y="1238400"/>
              <a:ext cx="909324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2240" y="1049400"/>
              <a:ext cx="909324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2240" y="885600"/>
              <a:ext cx="909324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2600" y="8269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12240" y="7650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533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5338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746A-1A7E-4E28-A13C-EDDFE89B272E}" type="slidenum">
              <a:rPr b="0" lang="en-US" sz="1200" spc="-1" strike="noStrike">
                <a:solidFill>
                  <a:srgbClr val="33533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50" name=""/>
            <p:cNvSpPr/>
            <p:nvPr/>
          </p:nvSpPr>
          <p:spPr>
            <a:xfrm flipH="1">
              <a:off x="360" y="0"/>
              <a:ext cx="9142560" cy="2158920"/>
            </a:xfrm>
            <a:custGeom>
              <a:avLst/>
              <a:gdLst/>
              <a:ahLst/>
              <a:rect l="l" t="t" r="r" b="b"/>
              <a:pathLst>
                <a:path w="5768" h="1360">
                  <a:moveTo>
                    <a:pt x="0" y="0"/>
                  </a:moveTo>
                  <a:lnTo>
                    <a:pt x="0" y="616"/>
                  </a:lnTo>
                  <a:cubicBezTo>
                    <a:pt x="72" y="608"/>
                    <a:pt x="264" y="510"/>
                    <a:pt x="1496" y="460"/>
                  </a:cubicBezTo>
                  <a:cubicBezTo>
                    <a:pt x="2728" y="411"/>
                    <a:pt x="4632" y="672"/>
                    <a:pt x="5768" y="1360"/>
                  </a:cubicBezTo>
                  <a:lnTo>
                    <a:pt x="57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533e"/>
                </a:gs>
                <a:gs pos="100000">
                  <a:srgbClr val="3684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2240" y="0"/>
              <a:ext cx="9131400" cy="1752480"/>
            </a:xfrm>
            <a:custGeom>
              <a:avLst/>
              <a:gdLst/>
              <a:ahLst/>
              <a:rect l="l" t="t" r="r" b="b"/>
              <a:pathLst>
                <a:path w="5761" h="1104">
                  <a:moveTo>
                    <a:pt x="0" y="0"/>
                  </a:moveTo>
                  <a:lnTo>
                    <a:pt x="0" y="632"/>
                  </a:lnTo>
                  <a:cubicBezTo>
                    <a:pt x="72" y="625"/>
                    <a:pt x="401" y="504"/>
                    <a:pt x="1521" y="448"/>
                  </a:cubicBezTo>
                  <a:cubicBezTo>
                    <a:pt x="2641" y="392"/>
                    <a:pt x="4505" y="504"/>
                    <a:pt x="5761" y="1104"/>
                  </a:cubicBezTo>
                  <a:lnTo>
                    <a:pt x="576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68463"/>
                </a:gs>
                <a:gs pos="100000">
                  <a:srgbClr val="2253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4"/>
          <p:cNvSpPr>
            <a:spLocks noGrp="1"/>
          </p:cNvSpPr>
          <p:nvPr>
            <p:ph type="title"/>
          </p:nvPr>
        </p:nvSpPr>
        <p:spPr>
          <a:xfrm>
            <a:off x="457200" y="4191120"/>
            <a:ext cx="54100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5338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3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533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533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533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33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533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33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33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33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26920" y="1052640"/>
            <a:ext cx="777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ВСЁ В ТВОИХ РУКАХ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411280" y="3213000"/>
            <a:ext cx="3124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416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Множественный выбор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353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5338"/>
                </a:solidFill>
                <a:uFillTx/>
                <a:latin typeface="Verdana"/>
              </a:rPr>
              <a:t>Имя существительное – это …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368463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часть речи, которая отвечает на вопрос что?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368463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часть речи, которая отвечает на вопрос кто?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368463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часть речи, которая отвечает на вопросы что? и кто?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368463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часть речи, которая отвечает на вопросы что?  кто? и обозначает предмет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920" y="209520"/>
            <a:ext cx="7618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Установление последовательности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335338"/>
                </a:solidFill>
                <a:uFillTx/>
                <a:latin typeface="Verdana"/>
              </a:rPr>
              <a:t>Укажи правильный порядок слов в предложении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1 осенний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2 кружит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3 листья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4 ветер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5 опавшие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1)23451    2)52413    3)14253  4)31254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АДАНИЯ - ДОПОЛНЕНИ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56764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5338"/>
                </a:solidFill>
                <a:uFillTx/>
                <a:latin typeface="Verdana"/>
              </a:rPr>
              <a:t>Вставь нужное слово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Частица </a:t>
            </a:r>
            <a:r>
              <a:rPr b="1" lang="ru-RU" sz="2800" spc="-1" strike="noStrike">
                <a:solidFill>
                  <a:srgbClr val="335338"/>
                </a:solidFill>
                <a:latin typeface="Verdana"/>
              </a:rPr>
              <a:t>не</a:t>
            </a: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 с глаголами пишется ____ .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5338"/>
                </a:solidFill>
                <a:uFillTx/>
                <a:latin typeface="Verdana"/>
              </a:rPr>
              <a:t>Дополни предложение словом из словаря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Бабушка набросила на плечи тёплый ____.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адания свободного изложени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55036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5338"/>
                </a:solidFill>
                <a:uFillTx/>
                <a:latin typeface="Verdana"/>
              </a:rPr>
              <a:t>Впиши правильный и точный ответ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36846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Имя прилагательное – это ___________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36846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Окончание – это изменяемая часть слова, стоящая после корня и служащая для ______________________________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11280" y="3141720"/>
            <a:ext cx="480204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68463"/>
                    </a:gs>
                    <a:gs pos="100000">
                      <a:srgbClr val="000066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Спасиб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68463"/>
                  </a:gs>
                  <a:gs pos="100000">
                    <a:srgbClr val="000066"/>
                  </a:gs>
                </a:gsLst>
                <a:lin ang="1080000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87280" y="1413000"/>
            <a:ext cx="727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ВСЁ В ТВОИХ РУКАХ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475920"/>
            <a:ext cx="8355240" cy="187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Verdana"/>
              </a:rPr>
              <a:t>                   </a:t>
            </a:r>
            <a:r>
              <a:rPr b="1" lang="ru-RU" sz="4000" spc="-1" strike="noStrike">
                <a:solidFill>
                  <a:srgbClr val="d60093"/>
                </a:solidFill>
                <a:latin typeface="Verdana"/>
              </a:rPr>
              <a:t>ЕГЭ </a:t>
            </a:r>
            <a:br>
              <a:rPr sz="4000"/>
            </a:br>
            <a:r>
              <a:rPr b="1" lang="ru-RU" sz="4000" spc="-1" strike="noStrike">
                <a:solidFill>
                  <a:srgbClr val="d60093"/>
                </a:solidFill>
                <a:latin typeface="Verdana"/>
              </a:rPr>
              <a:t>        в начальной школе?</a:t>
            </a:r>
            <a:endParaRPr b="1" lang="en-US" sz="4000" spc="-1" strike="noStrike">
              <a:solidFill>
                <a:srgbClr val="335338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38102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16000" y="692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705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fd1b5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d7e4be"/>
                </a:solidFill>
                <a:latin typeface="Verdana"/>
              </a:rPr>
              <a:t>Преимущества тестового</a:t>
            </a:r>
            <a:r>
              <a:rPr b="1" lang="ru-RU" sz="2800" spc="-1" strike="noStrike">
                <a:solidFill>
                  <a:srgbClr val="f884a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335338"/>
                </a:solidFill>
                <a:latin typeface="Verdana"/>
              </a:rPr>
              <a:t>контрол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оверность информации об объёме усвоенного материала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дёжность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фференцирующая способность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зация индивидуального подхода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авнимость результатов тестирования для разных групп учащихся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корость проверки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иентированность на современные ТСО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e4be"/>
                </a:solidFill>
                <a:latin typeface="Verdana"/>
              </a:rPr>
              <a:t>Виды тестов</a:t>
            </a:r>
            <a:br>
              <a:rPr sz="2800"/>
            </a:br>
            <a:r>
              <a:rPr b="1" lang="ru-RU" sz="2800" spc="-1" strike="noStrike">
                <a:solidFill>
                  <a:srgbClr val="d7e4be"/>
                </a:solidFill>
                <a:latin typeface="Verdana"/>
              </a:rPr>
              <a:t>по их назначению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5338"/>
                </a:solidFill>
                <a:latin typeface="Verdana"/>
              </a:rPr>
              <a:t>Базовые </a:t>
            </a:r>
            <a:endParaRPr b="0" lang="en-US" sz="4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5338"/>
                </a:solidFill>
                <a:latin typeface="Verdana"/>
              </a:rPr>
              <a:t>Диагностические </a:t>
            </a:r>
            <a:endParaRPr b="0" lang="en-US" sz="4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5338"/>
                </a:solidFill>
                <a:latin typeface="Verdana"/>
              </a:rPr>
              <a:t>Тематические </a:t>
            </a:r>
            <a:endParaRPr b="0" lang="en-US" sz="4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5338"/>
                </a:solidFill>
                <a:latin typeface="Verdana"/>
              </a:rPr>
              <a:t>Итоговые</a:t>
            </a:r>
            <a:endParaRPr b="0" lang="en-US" sz="44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Лестница деятельности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-18922"/>
          <a:stretch/>
        </p:blipFill>
        <p:spPr>
          <a:xfrm>
            <a:off x="900000" y="1413000"/>
            <a:ext cx="7848720" cy="4967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6877080" y="5013360"/>
            <a:ext cx="2266920" cy="863640"/>
          </a:xfrm>
          <a:prstGeom prst="rightArrow">
            <a:avLst>
              <a:gd name="adj1" fmla="val 50000"/>
              <a:gd name="adj2" fmla="val 65621"/>
            </a:avLst>
          </a:prstGeom>
          <a:solidFill>
            <a:srgbClr val="2f86b1"/>
          </a:solidFill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6769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af4"/>
                </a:solidFill>
                <a:latin typeface="Verdana"/>
              </a:rPr>
              <a:t>Методика разработки теста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1. Определение цели тестирования.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2. Определение контингента учащихся.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3. Определение программы для которой делаем тест.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4. Определение время, на которое рассчитан тест.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5. Определение длины теста.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6. Отбор содержания.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73454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лассификация тестовых заданий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5338"/>
                </a:solidFill>
                <a:latin typeface="Verdana"/>
              </a:rPr>
              <a:t>Закрытого типа</a:t>
            </a: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(с предписанными ответами, когда необходимо выбрать из предложенных вариантов ответа тот или иной вариант)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5338"/>
                </a:solidFill>
                <a:latin typeface="Verdana"/>
              </a:rPr>
              <a:t>Открытого типа 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(со свободными ответами, когда необходимо самостоятельно дописать слово, предложение, знак и т.д.)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47280" y="188640"/>
            <a:ext cx="7201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льтернативный выбор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5338"/>
                </a:solidFill>
                <a:uFillTx/>
                <a:latin typeface="Verdana"/>
              </a:rPr>
              <a:t>Обведи в кружок правильный ответ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Приставка служит для     образования новых слов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5338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335338"/>
                </a:solidFill>
                <a:latin typeface="Verdana"/>
              </a:rPr>
              <a:t>Да      Нет  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5338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Предлоги пишутся с другими словами слитно, а приставки –раздельно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                      </a:t>
            </a:r>
            <a:r>
              <a:rPr b="1" lang="ru-RU" sz="3200" spc="-1" strike="noStrike">
                <a:solidFill>
                  <a:srgbClr val="335338"/>
                </a:solidFill>
                <a:latin typeface="Verdana"/>
              </a:rPr>
              <a:t>Да      Нет</a:t>
            </a: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                      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d7e4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489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осстановление соответстви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5338"/>
                </a:solidFill>
                <a:uFillTx/>
                <a:latin typeface="Verdana"/>
              </a:rPr>
              <a:t>Соедини линиями слова и вопросы, на которые они отвечают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мальчик            что?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улыбался          какой?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дерево             что делал?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светлый           что сделал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заснул             кто?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5338"/>
                </a:solidFill>
                <a:latin typeface="Verdana"/>
              </a:rPr>
              <a:t>большая          какая?    </a:t>
            </a:r>
            <a:endParaRPr b="0" lang="en-US" sz="32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3:03:41Z</dcterms:created>
  <dc:creator>Учитель</dc:creator>
  <dc:description/>
  <dc:language>en-US</dc:language>
  <cp:lastModifiedBy>Учитель</cp:lastModifiedBy>
  <dcterms:modified xsi:type="dcterms:W3CDTF">2010-12-04T03:21:28Z</dcterms:modified>
  <cp:revision>7</cp:revision>
  <dc:subject/>
  <dc:title>                   ЕГЭ          в начальной школе?</dc:title>
</cp:coreProperties>
</file>