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63D-5C83-460F-8DC6-F53EB515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4FB-62A6-4F56-ACD0-38BCAD48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445-1B5C-4AC1-9D8C-A7E02570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EED-AD61-413B-B2A9-933858D3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0E2-3574-42D4-80DB-45B70FD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453-EC80-4EA8-A987-BDBD0197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18E-73F6-433D-B2AF-F3E336EF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4C7-91E5-4D71-B295-E97AE54B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ADD-F15C-4A57-AC05-690A872C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020-4B5E-4354-87A3-27E3FDC9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03B-3554-4899-BE9F-8E3705BC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0DD-EE69-4881-BF70-F55D352B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3906-3F12-4057-8ECA-AE3DB5D6C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835812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642960" y="6429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Arno Pro Caption"/>
              </a:rPr>
              <a:t>НАША ОБЕЗЬЯНКА ПОШЛА ГУЛЯТЬ</a:t>
            </a:r>
            <a:r>
              <a:rPr b="1" i="1" lang="en-US" sz="3200" spc="-1" strike="noStrike">
                <a:solidFill>
                  <a:srgbClr val="953735"/>
                </a:solidFill>
                <a:latin typeface="Arno Pro Caption"/>
              </a:rPr>
              <a:t>.</a:t>
            </a:r>
            <a:r>
              <a:rPr b="1" i="1" lang="ru-RU" sz="3200" spc="-1" strike="noStrike">
                <a:solidFill>
                  <a:srgbClr val="953735"/>
                </a:solidFill>
                <a:latin typeface="Arno Pro Caption"/>
              </a:rPr>
              <a:t> ОНА ПРИГЛАШАЕТ С СОБОЙ  ЛИСИЧ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83560" y="4786200"/>
            <a:ext cx="20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e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512520" y="4786200"/>
            <a:ext cx="20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e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6227280" y="4786200"/>
            <a:ext cx="20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e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\Мои документы\Gif\Животные\Лиса\129.gif"/>
          <p:cNvPicPr/>
          <p:nvPr/>
        </p:nvPicPr>
        <p:blipFill>
          <a:blip r:embed="rId1"/>
          <a:stretch/>
        </p:blipFill>
        <p:spPr>
          <a:xfrm>
            <a:off x="1214280" y="27147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Мои документы\Gif\Животные\Обезьяны\Monkey18.gif"/>
          <p:cNvPicPr/>
          <p:nvPr/>
        </p:nvPicPr>
        <p:blipFill>
          <a:blip r:embed="rId2"/>
          <a:stretch/>
        </p:blipFill>
        <p:spPr>
          <a:xfrm>
            <a:off x="492912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57120" y="4287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Arno Pro Caption"/>
              </a:rPr>
              <a:t>ОБЕЗЬЯНКА И ЛИСИЧКА ДРАЗНЯТ КОМАР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654360" y="4286160"/>
            <a:ext cx="177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6297480" y="4143240"/>
            <a:ext cx="177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797040" y="4214880"/>
            <a:ext cx="177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Мои документы\Gif\Животные\Обезьяны\Monkey18.gif"/>
          <p:cNvPicPr/>
          <p:nvPr/>
        </p:nvPicPr>
        <p:blipFill>
          <a:blip r:embed="rId1"/>
          <a:stretch/>
        </p:blipFill>
        <p:spPr>
          <a:xfrm>
            <a:off x="5500800" y="1857240"/>
            <a:ext cx="2143080" cy="235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Admin\Мои документы\Gif\Животные\Лиса\129.gif"/>
          <p:cNvPicPr/>
          <p:nvPr/>
        </p:nvPicPr>
        <p:blipFill>
          <a:blip r:embed="rId2"/>
          <a:stretch/>
        </p:blipFill>
        <p:spPr>
          <a:xfrm>
            <a:off x="1428840" y="2143080"/>
            <a:ext cx="207144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571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953735"/>
                </a:solidFill>
                <a:latin typeface="Arno Pro Caption"/>
              </a:rPr>
              <a:t>КОМАРИКИ СЕРДЯТСЯ И КУСАЮТ ОБЕЗЬЯНКУ И ОНА КРИЧ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3870360" y="4572000"/>
            <a:ext cx="20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ai</a:t>
            </a:r>
            <a:r>
              <a:rPr b="0" lang="ru-RU" sz="9600" spc="-1" strike="noStrike">
                <a:solidFill>
                  <a:srgbClr val="0d0d0d"/>
                </a:solidFill>
                <a:latin typeface="Calibri"/>
              </a:rPr>
              <a:t>]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6441840" y="4500720"/>
            <a:ext cx="20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a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869760" y="4572000"/>
            <a:ext cx="20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a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Admin\Мои документы\Gif\Животные\Обезьяны\Monkey01.gif"/>
          <p:cNvPicPr/>
          <p:nvPr/>
        </p:nvPicPr>
        <p:blipFill>
          <a:blip r:embed="rId1"/>
          <a:stretch/>
        </p:blipFill>
        <p:spPr>
          <a:xfrm>
            <a:off x="3571920" y="2428920"/>
            <a:ext cx="214308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Больно покусали комарики обезьянку</a:t>
            </a:r>
            <a:r>
              <a:rPr b="1" i="1" lang="en-US" sz="5400" spc="-1" strike="noStrike">
                <a:solidFill>
                  <a:srgbClr val="953735"/>
                </a:solidFill>
                <a:latin typeface="Arno Pro Caption"/>
              </a:rPr>
              <a:t>,</a:t>
            </a: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 она даже говорит с трудом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728880" y="4857840"/>
            <a:ext cx="21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6443280" y="4714920"/>
            <a:ext cx="21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514080" y="4929120"/>
            <a:ext cx="21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Admin\Мои документы\Gif\Животные\Обезьяны\Monkey07.gif"/>
          <p:cNvPicPr/>
          <p:nvPr/>
        </p:nvPicPr>
        <p:blipFill>
          <a:blip r:embed="rId1"/>
          <a:stretch/>
        </p:blipFill>
        <p:spPr>
          <a:xfrm>
            <a:off x="3357720" y="285768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Admin\Мои документы\Gif\Животные\Насекомые\Ins26.gif"/>
          <p:cNvPicPr/>
          <p:nvPr/>
        </p:nvPicPr>
        <p:blipFill>
          <a:blip r:embed="rId2"/>
          <a:stretch/>
        </p:blipFill>
        <p:spPr>
          <a:xfrm>
            <a:off x="1214280" y="29289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Мои документы\Gif\Животные\Насекомые\Ins26.gif"/>
          <p:cNvPicPr/>
          <p:nvPr/>
        </p:nvPicPr>
        <p:blipFill>
          <a:blip r:embed="rId3"/>
          <a:stretch/>
        </p:blipFill>
        <p:spPr>
          <a:xfrm>
            <a:off x="6572160" y="300024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К обезьянке прилетели пчелки и успокаивают е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155600" y="507204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4227480" y="500076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7084800" y="485784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Admin\Мои документы\Gif\Животные\Насекомые\Bee01.gif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31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Admin\Мои документы\Gif\Животные\Насекомые\Bee08.gif"/>
          <p:cNvPicPr/>
          <p:nvPr/>
        </p:nvPicPr>
        <p:blipFill>
          <a:blip r:embed="rId2"/>
          <a:stretch/>
        </p:blipFill>
        <p:spPr>
          <a:xfrm>
            <a:off x="1143000" y="2714760"/>
            <a:ext cx="1185840" cy="110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\Мои документы\Gif\Животные\Насекомые\Bee06.gif"/>
          <p:cNvPicPr/>
          <p:nvPr/>
        </p:nvPicPr>
        <p:blipFill>
          <a:blip r:embed="rId3"/>
          <a:stretch/>
        </p:blipFill>
        <p:spPr>
          <a:xfrm>
            <a:off x="4000680" y="2786040"/>
            <a:ext cx="106668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Обезьянка возвращается домой и греет замерзшие лапк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3584520" y="442908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14240" y="4357800"/>
            <a:ext cx="289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370560" y="421488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Admin\Мои документы\Gif\Животные\Обезьяны\Monkey04.gif"/>
          <p:cNvPicPr/>
          <p:nvPr/>
        </p:nvPicPr>
        <p:blipFill>
          <a:blip r:embed="rId1"/>
          <a:stretch/>
        </p:blipFill>
        <p:spPr>
          <a:xfrm>
            <a:off x="3357720" y="2571840"/>
            <a:ext cx="227160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Обезьянка ложится спать и задувает свечк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Admin\Мои документы\Gif\Огни, лампы,свечи\s4.gif"/>
          <p:cNvPicPr/>
          <p:nvPr/>
        </p:nvPicPr>
        <p:blipFill>
          <a:blip r:embed="rId1"/>
          <a:stretch/>
        </p:blipFill>
        <p:spPr>
          <a:xfrm>
            <a:off x="5500800" y="2428920"/>
            <a:ext cx="981000" cy="133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Admin\Мои документы\Gif\Животные\Обезьяны\monkey_swin.gif"/>
          <p:cNvPicPr/>
          <p:nvPr/>
        </p:nvPicPr>
        <p:blipFill>
          <a:blip r:embed="rId2"/>
          <a:stretch/>
        </p:blipFill>
        <p:spPr>
          <a:xfrm>
            <a:off x="2143080" y="2071800"/>
            <a:ext cx="1714680" cy="1928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655920" y="4857840"/>
            <a:ext cx="22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3727800" y="4786200"/>
            <a:ext cx="22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6656760" y="4857840"/>
            <a:ext cx="22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53735"/>
                </a:solidFill>
                <a:latin typeface="Arial Black"/>
              </a:rPr>
              <a:t>Bye- by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Admin\Мои документы\Gif\Животные\Обезьяны\Monkey28.gif"/>
          <p:cNvPicPr/>
          <p:nvPr/>
        </p:nvPicPr>
        <p:blipFill>
          <a:blip r:embed="rId1"/>
          <a:stretch/>
        </p:blipFill>
        <p:spPr>
          <a:xfrm>
            <a:off x="3071880" y="2900520"/>
            <a:ext cx="2357280" cy="267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5:43:44Z</dcterms:created>
  <dc:creator>Admin</dc:creator>
  <dc:description/>
  <dc:language>en-US</dc:language>
  <cp:lastModifiedBy>Мария</cp:lastModifiedBy>
  <dcterms:modified xsi:type="dcterms:W3CDTF">2009-04-07T10:22:00Z</dcterms:modified>
  <cp:revision>46</cp:revision>
  <dc:subject/>
  <dc:title>Слайд 1</dc:title>
</cp:coreProperties>
</file>