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C54-05F8-434C-B4EE-C9580A64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99A-E587-48CF-AD99-B92548F9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546-411B-46F5-A5B6-F4E209CB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5BE-EFF2-4B0F-B10F-565B1195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296-0B1B-4D1F-AEC2-75A342CE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B7A-187B-479D-A9EF-E9B5B1B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243-B119-4201-AA2E-74B9FA9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08C-79DD-4426-9ACF-44F7D521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EA73-3CEB-494D-9A81-A8B05C71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D71-9282-4619-B251-E31FD6C2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AAD-9121-4E8B-8BAE-B37D51A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69B-08BC-478B-A713-F2BEC0BA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E7C5-D8C9-4F75-8F26-1F605DBE4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642960" y="6429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Arno Pro Caption"/>
              </a:rPr>
              <a:t>НАША ОБЕЗЬЯНКА ПОШЛА ГУЛЯТЬ</a:t>
            </a:r>
            <a:r>
              <a:rPr b="1" i="1" lang="en-US" sz="3200" spc="-1" strike="noStrike">
                <a:solidFill>
                  <a:srgbClr val="953735"/>
                </a:solidFill>
                <a:latin typeface="Arno Pro Caption"/>
              </a:rPr>
              <a:t>.</a:t>
            </a:r>
            <a:r>
              <a:rPr b="1" i="1" lang="ru-RU" sz="3200" spc="-1" strike="noStrike">
                <a:solidFill>
                  <a:srgbClr val="953735"/>
                </a:solidFill>
                <a:latin typeface="Arno Pro Caption"/>
              </a:rPr>
              <a:t> ОНА ПРИГЛАШАЕТ С СОБОЙ  ЛИСИЧ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8356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351252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6227280" y="4786200"/>
            <a:ext cx="20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e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\Мои документы\Gif\Животные\Лиса\129.gif"/>
          <p:cNvPicPr/>
          <p:nvPr/>
        </p:nvPicPr>
        <p:blipFill>
          <a:blip r:embed="rId1"/>
          <a:stretch/>
        </p:blipFill>
        <p:spPr>
          <a:xfrm>
            <a:off x="1214280" y="27147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Admin\Мои документы\Gif\Животные\Обезьяны\Monkey18.gif"/>
          <p:cNvPicPr/>
          <p:nvPr/>
        </p:nvPicPr>
        <p:blipFill>
          <a:blip r:embed="rId2"/>
          <a:stretch/>
        </p:blipFill>
        <p:spPr>
          <a:xfrm>
            <a:off x="4929120" y="2286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57120" y="428760"/>
            <a:ext cx="857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53735"/>
                </a:solidFill>
                <a:latin typeface="Arno Pro Caption"/>
              </a:rPr>
              <a:t>ОБЕЗЬЯНКА И ЛИСИЧКА ДРАЗНЯТ КОМАРИК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654360" y="428616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297480" y="414324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97040" y="4214880"/>
            <a:ext cx="177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Z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dmin\Мои документы\Gif\Животные\Обезьяны\Monkey18.gif"/>
          <p:cNvPicPr/>
          <p:nvPr/>
        </p:nvPicPr>
        <p:blipFill>
          <a:blip r:embed="rId1"/>
          <a:stretch/>
        </p:blipFill>
        <p:spPr>
          <a:xfrm>
            <a:off x="5500800" y="1857240"/>
            <a:ext cx="2143080" cy="235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Admin\Мои документы\Gif\Животные\Лиса\129.gif"/>
          <p:cNvPicPr/>
          <p:nvPr/>
        </p:nvPicPr>
        <p:blipFill>
          <a:blip r:embed="rId2"/>
          <a:stretch/>
        </p:blipFill>
        <p:spPr>
          <a:xfrm>
            <a:off x="1428840" y="2143080"/>
            <a:ext cx="207144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00" y="571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953735"/>
                </a:solidFill>
                <a:latin typeface="Arno Pro Caption"/>
              </a:rPr>
              <a:t>КОМАРИКИ СЕРДЯТСЯ И КУСАЮТ ОБЕЗЬЯНКУ И ОНА КРИЧ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3870360" y="457200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d0d0d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d0d0d"/>
                </a:solidFill>
                <a:latin typeface="Calibri"/>
              </a:rPr>
              <a:t>]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6441840" y="450072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869760" y="4572000"/>
            <a:ext cx="20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ai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Documents and Settings\Admin\Мои документы\Gif\Животные\Обезьяны\Monkey01.gif"/>
          <p:cNvPicPr/>
          <p:nvPr/>
        </p:nvPicPr>
        <p:blipFill>
          <a:blip r:embed="rId1"/>
          <a:stretch/>
        </p:blipFill>
        <p:spPr>
          <a:xfrm>
            <a:off x="3571920" y="2428920"/>
            <a:ext cx="214308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Больно покусали комарики обезьянку</a:t>
            </a:r>
            <a:r>
              <a:rPr b="1" i="1" lang="en-US" sz="5400" spc="-1" strike="noStrike">
                <a:solidFill>
                  <a:srgbClr val="953735"/>
                </a:solidFill>
                <a:latin typeface="Arno Pro Caption"/>
              </a:rPr>
              <a:t>,</a:t>
            </a: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 она даже говорит с трудом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728880" y="485784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6443280" y="471492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514080" y="4929120"/>
            <a:ext cx="21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Мои документы\Gif\Животные\Обезьяны\Monkey07.gif"/>
          <p:cNvPicPr/>
          <p:nvPr/>
        </p:nvPicPr>
        <p:blipFill>
          <a:blip r:embed="rId1"/>
          <a:stretch/>
        </p:blipFill>
        <p:spPr>
          <a:xfrm>
            <a:off x="3357720" y="285768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Admin\Мои документы\Gif\Животные\Насекомые\Ins26.gif"/>
          <p:cNvPicPr/>
          <p:nvPr/>
        </p:nvPicPr>
        <p:blipFill>
          <a:blip r:embed="rId2"/>
          <a:stretch/>
        </p:blipFill>
        <p:spPr>
          <a:xfrm>
            <a:off x="1214280" y="29289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Documents and Settings\Admin\Мои документы\Gif\Животные\Насекомые\Ins26.gif"/>
          <p:cNvPicPr/>
          <p:nvPr/>
        </p:nvPicPr>
        <p:blipFill>
          <a:blip r:embed="rId3"/>
          <a:stretch/>
        </p:blipFill>
        <p:spPr>
          <a:xfrm>
            <a:off x="6572160" y="300024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К обезьянке прилетели пчелки и успокаивают е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1155600" y="507204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4227480" y="500076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7084800" y="485784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Documents and Settings\Admin\Мои документы\Gif\Животные\Насекомые\Bee01.gif"/>
          <p:cNvPicPr/>
          <p:nvPr/>
        </p:nvPicPr>
        <p:blipFill>
          <a:blip r:embed="rId1"/>
          <a:stretch/>
        </p:blipFill>
        <p:spPr>
          <a:xfrm>
            <a:off x="6929280" y="2428920"/>
            <a:ext cx="1428840" cy="1319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Admin\Мои документы\Gif\Животные\Насекомые\Bee08.gif"/>
          <p:cNvPicPr/>
          <p:nvPr/>
        </p:nvPicPr>
        <p:blipFill>
          <a:blip r:embed="rId2"/>
          <a:stretch/>
        </p:blipFill>
        <p:spPr>
          <a:xfrm>
            <a:off x="1143000" y="2714760"/>
            <a:ext cx="1185840" cy="110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Admin\Мои документы\Gif\Животные\Насекомые\Bee06.gif"/>
          <p:cNvPicPr/>
          <p:nvPr/>
        </p:nvPicPr>
        <p:blipFill>
          <a:blip r:embed="rId3"/>
          <a:stretch/>
        </p:blipFill>
        <p:spPr>
          <a:xfrm>
            <a:off x="4000680" y="2786040"/>
            <a:ext cx="106668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Обезьянка возвращается домой и греет замерзшие лапки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3584520" y="442908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14240" y="4357800"/>
            <a:ext cx="28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70560" y="4214880"/>
            <a:ext cx="18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Мои документы\Gif\Животные\Обезьяны\Monkey04.gif"/>
          <p:cNvPicPr/>
          <p:nvPr/>
        </p:nvPicPr>
        <p:blipFill>
          <a:blip r:embed="rId1"/>
          <a:stretch/>
        </p:blipFill>
        <p:spPr>
          <a:xfrm>
            <a:off x="3357720" y="2571840"/>
            <a:ext cx="227160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53735"/>
                </a:solidFill>
                <a:latin typeface="Arno Pro Caption"/>
              </a:rPr>
              <a:t>Обезьянка ложится спать и задувает свечк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Documents and Settings\Admin\Мои документы\Gif\Огни, лампы,свечи\s4.gif"/>
          <p:cNvPicPr/>
          <p:nvPr/>
        </p:nvPicPr>
        <p:blipFill>
          <a:blip r:embed="rId1"/>
          <a:stretch/>
        </p:blipFill>
        <p:spPr>
          <a:xfrm>
            <a:off x="5500800" y="2428920"/>
            <a:ext cx="981000" cy="133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Admin\Мои документы\Gif\Животные\Обезьяны\monkey_swin.gif"/>
          <p:cNvPicPr/>
          <p:nvPr/>
        </p:nvPicPr>
        <p:blipFill>
          <a:blip r:embed="rId2"/>
          <a:stretch/>
        </p:blipFill>
        <p:spPr>
          <a:xfrm>
            <a:off x="2143080" y="2071800"/>
            <a:ext cx="1714680" cy="19288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655920" y="485784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3727800" y="478620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6656760" y="4857840"/>
            <a:ext cx="22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W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53735"/>
                </a:solidFill>
                <a:latin typeface="Arial Black"/>
              </a:rPr>
              <a:t>Bye- bye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Documents and Settings\Admin\Мои документы\Gif\Животные\Обезьяны\Monkey28.gif"/>
          <p:cNvPicPr/>
          <p:nvPr/>
        </p:nvPicPr>
        <p:blipFill>
          <a:blip r:embed="rId1"/>
          <a:stretch/>
        </p:blipFill>
        <p:spPr>
          <a:xfrm>
            <a:off x="3071880" y="2900520"/>
            <a:ext cx="2357280" cy="267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5:43:44Z</dcterms:created>
  <dc:creator>Admin</dc:creator>
  <dc:description/>
  <dc:language>en-US</dc:language>
  <cp:lastModifiedBy>Мария</cp:lastModifiedBy>
  <dcterms:modified xsi:type="dcterms:W3CDTF">2009-04-07T10:22:00Z</dcterms:modified>
  <cp:revision>46</cp:revision>
  <dc:subject/>
  <dc:title>Слайд 1</dc:title>
</cp:coreProperties>
</file>