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04B-C3AF-475A-B801-C73AEA5A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62D-068B-455D-8CD5-3BA92857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CD4-C559-4DEA-83BB-B3B3C385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CA8-6D35-4639-A7A8-FAA04888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728F-E79F-4BE9-9494-CF662B6C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2403-C2AE-42F9-B6A1-5ABC431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E604-5CD2-4D80-911F-C59204C2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A166-E4B7-4F25-AF5A-D40665D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251B-5F0A-443E-A881-6279E6E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FA3-A54F-413E-8C3B-F51A3C4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E407-B157-48B6-914D-9BECABF0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1FB-ACE3-4E89-ACF2-2FBDD68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D44C-9D0B-47E4-8262-DB8BFBFF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416B-CD8C-4CB2-86E3-3B94703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C59C-194A-4D3A-956F-D2A8355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728E-452D-4D25-BA15-339F8C5F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5D54-B7E3-4F88-AB52-BB0F3EF1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52A-0FEF-46F8-A6B5-5A522A5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683-8AAB-4A2C-BCA7-9C575DE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5BE-9037-43B5-99D4-3671080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D44-1B29-4A8D-BB77-23DA918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3B1-B115-4FDE-B8F0-41667AE1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3D6-B665-42B6-AF86-5008B91B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1B9-B35D-4FCB-B3EF-F380AF47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4D6-E702-4BD3-B45C-B434AF667AF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707-9048-490A-926F-4F4D48CDD1C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2007-01.photosight.ru/14/186693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2006-12.photosight.ru/18/1824563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iolakey.narod.ru/Geography02/Images4/Vladivostok0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2.guns.ru/forums/icons/forum_pictures/003073/307370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9/mdima2.0/0_530c_b672d3ca_X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0/gelionsk.8/0_5e39_cab5481f_X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9/evenika.22/0_c14c_a1f45b89_X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rod.tomsk.ru/i/u/7820/Derevnja-na-beregu-reki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22003.rimg.info/icon/190536500093fadd5d70e5467e59b3a11348494d3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/vibpxhgglzd.6d6/0_19ae2_a8668a1e_X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/vibpxhgglzd.96d/0_22685_7b76802b_X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vadroom.ru/i/poselki/448_dop2_1327-medium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76;&#1077;&#1088;&#1077;&#1074;&#1085;&#1103;&amp;img_url=img0.liveinternet.ru%2Fimages%2Fattach%2Fc%2F0%2F37%2F202%2F37202913_imgi4426w640.jpg&amp;p=4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nl=1&amp;ed=1&amp;rpt=simage&amp;text=&#1076;&#1077;&#1088;&#1077;&#1074;&#1085;&#1103;&amp;img_url=www.vvv.ru%2Fphotos%2Fimg%2F2330.jpg&amp;p=37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logs.klerk.ru/images/attach/1666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model.su/blog/wp-content/uploads/2010/09/1272813483_b7c4173c8f6f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660066"/>
                </a:solidFill>
                <a:latin typeface="Times New Roman"/>
              </a:rPr>
              <a:t>ГОРОД </a:t>
            </a:r>
            <a:br>
              <a:rPr sz="9600"/>
            </a:br>
            <a:r>
              <a:rPr b="1" i="1" lang="en-US" sz="9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9600" spc="-1" strike="noStrike">
                <a:solidFill>
                  <a:srgbClr val="660066"/>
                </a:solidFill>
                <a:latin typeface="Times New Roman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cc66"/>
                </a:solidFill>
                <a:latin typeface="Times New Roman"/>
              </a:rPr>
              <a:t>ДЕРЕВНЯ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i-main-pic" descr="Картинка 47 из 64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i-main-pic" descr="Картинка 52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i-main-pic" descr="Картинка 27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i-main-pic" descr="Картинка 30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i-main-pic" descr="Картинка 179 из 598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i-main-pic" descr="Картинка 258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i-main-pic" descr="Картинка 23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i-main-pic" descr="Картинка 155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i-main-pic" descr="Картинка 272 из 59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i-main-pic" descr="Картинка 216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i-main-pic" descr="Картинка 1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i-main-pic" descr="Картинка 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i-main-pic" descr="Картинка 10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i-main-pic" descr="Картинка 225 из 59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i-main-pic" descr="Картинка 311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i-main-pic" descr="Картинка 6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5:53:20Z</dcterms:created>
  <dc:creator>user</dc:creator>
  <dc:description/>
  <dc:language>en-US</dc:language>
  <cp:lastModifiedBy>user</cp:lastModifiedBy>
  <dcterms:modified xsi:type="dcterms:W3CDTF">2010-12-02T16:28:51Z</dcterms:modified>
  <cp:revision>2</cp:revision>
  <dc:subject/>
  <dc:title>ГОРОД  И  ДЕРЕВНЯ</dc:title>
</cp:coreProperties>
</file>