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EC7-7DD0-4F88-BD62-AA3FBAF5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2FB-7EAF-457F-8F57-D5120543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183-0566-4437-9B1F-571DB868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265-4169-4A4F-AF75-D82619D7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4ED2-82B7-45AF-8DA9-568D8888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7E3-088E-40C9-A403-B9355E41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59D8-24FA-44CF-9D0E-AD54F9F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D0E6-312D-4B84-8278-2BAF356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04A2-DC77-43F8-B6B8-6D49776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CCA9-7E21-4950-8519-6814C051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101A-0225-469A-AF29-9148EA0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E52-4DA8-40DD-80FC-6187BFB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7ABF-F05E-45C5-A46A-01B25BC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CF8C-88C1-4DB0-AC12-8CECB4A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8E7-CE33-448B-82D3-A60E8DC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2587-D1AB-4EA8-9E66-10BFC68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1A3C-82ED-4E5F-A7A5-FD72A267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9CD-A548-45AB-90A1-76B80CA3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422-62D8-4BB1-ABCA-CCCEA4C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A42-8FAD-4E38-957A-9AF98D20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EBE-703A-42CF-8C11-B145AC2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AC1-1912-4C3A-A65A-F4D0F5A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039-B927-4674-A04F-76BBFCF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1B1-359F-4B5B-A5E3-90DD9E9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9DA-0EAD-46DB-B0DD-6D2BF90A593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3EB-5AED-45B9-AFBF-8A102005C50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7-01.photosight.ru/14/186693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6-12.photosight.ru/18/182456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olakey.narod.ru/Geography02/Images4/Vladivostok0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2.guns.ru/forums/icons/forum_pictures/003073/307370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/mdima2.0/0_530c_b672d3ca_X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0/gelionsk.8/0_5e39_cab5481f_X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9/evenika.22/0_c14c_a1f45b89_X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rod.tomsk.ru/i/u/7820/Derevnja-na-beregu-reki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22003.rimg.info/icon/190536500093fadd5d70e5467e59b3a11348494d3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vibpxhgglzd.6d6/0_19ae2_a8668a1e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/vibpxhgglzd.96d/0_22685_7b76802b_X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vadroom.ru/i/poselki/448_dop2_1327-medium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76;&#1077;&#1088;&#1077;&#1074;&#1085;&#1103;&amp;img_url=img0.liveinternet.ru%2Fimages%2Fattach%2Fc%2F0%2F37%2F202%2F37202913_imgi4426w640.jpg&amp;p=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76;&#1077;&#1088;&#1077;&#1074;&#1085;&#1103;&amp;img_url=www.vvv.ru%2Fphotos%2Fimg%2F2330.jpg&amp;p=3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logs.klerk.ru/images/attach/1666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model.su/blog/wp-content/uploads/2010/09/1272813483_b7c4173c8f6f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0066"/>
                </a:solidFill>
                <a:latin typeface="Times New Roman"/>
              </a:rPr>
              <a:t>ГОРОД </a:t>
            </a:r>
            <a:br>
              <a:rPr sz="9600"/>
            </a:b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96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cc66"/>
                </a:solidFill>
                <a:latin typeface="Times New Roman"/>
              </a:rPr>
              <a:t>ДЕРЕВНЯ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i-main-pic" descr="Картинка 4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i-main-pic" descr="Картинка 52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i-main-pic" descr="Картинка 27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i-main-pic" descr="Картинка 30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i-main-pic" descr="Картинка 179 из 598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i-main-pic" descr="Картинка 25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i-main-pic" descr="Картинка 23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i-main-pic" descr="Картинка 15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i-main-pic" descr="Картинка 272 из 59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i-main-pic" descr="Картинка 21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i-main-pic" descr="Картинка 1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i-main-pic" descr="Картинка 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i-main-pic" descr="Картинка 10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i-main-pic" descr="Картинка 225 из 59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i-main-pic" descr="Картинка 3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i-main-pic" descr="Картинка 6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5:53:20Z</dcterms:created>
  <dc:creator>user</dc:creator>
  <dc:description/>
  <dc:language>en-US</dc:language>
  <cp:lastModifiedBy>user</cp:lastModifiedBy>
  <dcterms:modified xsi:type="dcterms:W3CDTF">2010-12-02T16:28:51Z</dcterms:modified>
  <cp:revision>2</cp:revision>
  <dc:subject/>
  <dc:title>ГОРОД  И  ДЕРЕВНЯ</dc:title>
</cp:coreProperties>
</file>