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58A-2F40-4F47-98AC-66D98BB7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F4D-AF5D-4F9E-8AA5-31C93D9E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205-44C3-467C-9999-4020330E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968-2067-4F73-840E-09F99DBD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9975-031D-4511-8F79-8BBB5D73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EA726-0A18-4D56-A039-4598BF6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CA929-7C7E-48DE-8C23-F12DECA8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E478-558E-4DB1-83B5-E1E0C35E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D7A27-6206-49C1-BAA0-6066560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C3EE-A495-4FEA-BB0C-2B2F310D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50F7-81F1-4B53-BD1C-F0620FA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5A9-37E2-4A1E-A695-F53D994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E7288-588F-4F4D-AC45-2052032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798CA-774E-492B-9702-8AC9E8D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21D7-0F14-4079-8FA6-82BD0B90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E04A3-4223-4416-B3E5-C4D9EA4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B706B-0C29-44C1-905F-DB4EF9EF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031-FAC7-40C7-AC9A-AF3F8C5E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2EA-7C12-4F6F-B0BF-02CF241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599-61ED-4CCB-839D-19D9313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A20-16CE-4C89-9A48-A21D5D8B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18B-8A6E-4883-81C4-BD77CA4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5B4-AFD0-4D2E-8BAC-37BFF59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536-1953-4542-AC54-68F5483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7FE1-EE1A-4A0D-BF2A-BBD55DDC7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3FBF-5A8E-4895-A9C4-F83830D50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красная книга 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России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7200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Амурский тиг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7345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Леопа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137016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ор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4167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Тюл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1427040"/>
            <a:ext cx="7343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Серый к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2723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у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6000" y="1311120"/>
            <a:ext cx="67690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Северный ол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Снежный бар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3436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Гага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1542960"/>
            <a:ext cx="72010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ан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98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озовый пелик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312920"/>
            <a:ext cx="7632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Белая цап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58920" y="1370160"/>
            <a:ext cx="72007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Чёрный аи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Орлан долгохв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2920" y="1427040"/>
            <a:ext cx="7416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Белая ча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7343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Ошейниковый зиморо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1542960"/>
            <a:ext cx="7489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Белая лазоре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7561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осматый пополз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1486080"/>
            <a:ext cx="734364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Times New Roman"/>
              </a:rPr>
              <a:t>Даурский ё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655640"/>
            <a:ext cx="61196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усская выхух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171612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онгольский с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Чёрношапочный с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712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ечной боб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71294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Гигантский слепы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3701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расный вол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486080"/>
            <a:ext cx="655164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9:18Z</dcterms:created>
  <dc:creator>user</dc:creator>
  <dc:description/>
  <dc:language>en-US</dc:language>
  <cp:lastModifiedBy>user</cp:lastModifiedBy>
  <dcterms:modified xsi:type="dcterms:W3CDTF">2010-11-23T20:07:58Z</dcterms:modified>
  <cp:revision>2</cp:revision>
  <dc:subject/>
  <dc:title>красная книга  России</dc:title>
</cp:coreProperties>
</file>