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B12-637A-44A3-B249-27A6B4A2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D75-5665-47AB-98C8-8C28AFE2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63B-EFDC-4C21-A817-7E5EDED7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069-1753-4DC2-A02B-0CBF0764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4CC6-81B7-41AE-8A7B-18E1F8DD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0AB6F-944A-4309-9907-21C29CB5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2C3A0-9968-42A3-B8AE-119EE7AF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18EA9-A749-4173-AACB-2F743929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117E-907B-4217-A494-F79E7AFE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C863E-4F09-456A-97AB-28FA9626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D44C8-F1B7-4799-813D-1158CFB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5C2-DC97-4762-8672-5722DCDF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5DB9E-6C5E-4778-9C6B-B119FF66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33C9-9E3C-4389-98F1-4B2D84C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4387-439E-4E7A-934F-1074301D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B2359-7710-4263-A4F6-5A9C1E4F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2C62A-C1B6-479A-8866-25A5C514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9C0-FA93-49F9-82F8-5B8F342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A26-6D42-4927-A27A-4FFD9A85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37B-94D7-452C-81A6-C856058F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F26-1B14-454F-A7E7-BCF12BC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396-2AAE-47FE-8ACF-E4A6834F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ECB-E8CC-43F7-918C-1FE4B050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445-DA44-429B-BC29-42903A4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2132-1502-44A3-A850-73B561AA8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AF27-D84C-4DF6-8055-DEE76318C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красная книга </a:t>
            </a:r>
            <a:br>
              <a:rPr sz="9600"/>
            </a:b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России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72007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Амурский тиг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7345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Леопар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137016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ор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4167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Тюл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16000" y="1427040"/>
            <a:ext cx="7343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Серый ки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27236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ул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16000" y="1311120"/>
            <a:ext cx="67690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Северный ол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Снежный бар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16000" y="1370160"/>
            <a:ext cx="734364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Гага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87280" y="1542960"/>
            <a:ext cx="72010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ан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6985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озовый пелика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042920" y="1312920"/>
            <a:ext cx="7632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Белая цап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58920" y="1370160"/>
            <a:ext cx="72007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Чёрный аи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7416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Орлан долгохво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42920" y="1427040"/>
            <a:ext cx="7416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Белая ча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32000" y="1413000"/>
            <a:ext cx="73436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Ошейниковый зимород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042920" y="1542960"/>
            <a:ext cx="74898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Белая лазорев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42920" y="1486080"/>
            <a:ext cx="756144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осматый поползен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16000" y="1486080"/>
            <a:ext cx="734364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660033"/>
                </a:solidFill>
                <a:latin typeface="Times New Roman"/>
              </a:rPr>
              <a:t>Даурский ё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655640"/>
            <a:ext cx="61196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усская выхух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1716120"/>
            <a:ext cx="619308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Монгольский с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6985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Чёрношапочный сур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87280" y="1486080"/>
            <a:ext cx="712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Речной боб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71294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Гигантский слепыш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3701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33"/>
                </a:solidFill>
                <a:latin typeface="Times New Roman"/>
              </a:rPr>
              <a:t>Красный вол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16000" y="1486080"/>
            <a:ext cx="6551640" cy="52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7:59:18Z</dcterms:created>
  <dc:creator>user</dc:creator>
  <dc:description/>
  <dc:language>en-US</dc:language>
  <cp:lastModifiedBy>user</cp:lastModifiedBy>
  <dcterms:modified xsi:type="dcterms:W3CDTF">2010-11-23T20:07:58Z</dcterms:modified>
  <cp:revision>2</cp:revision>
  <dc:subject/>
  <dc:title>красная книга  России</dc:title>
</cp:coreProperties>
</file>