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BC2-306F-44C7-937E-EF81A115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4B1-3C7B-48C6-97C9-D9E1EE9B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A85-D3CF-4B83-A3B8-A9811601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D1E6-A9E9-47A0-82D4-E178114B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C9C1-E9A6-4C60-B2CA-0A2A1639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7DAA-1817-4CEF-B44E-00853FF0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0904-3BE9-424C-8797-31F9DBC0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7630-9245-4A27-8015-2B9AF914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7C05-B9BB-4CAE-9E14-0AF4DCE0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C1AC-A300-4401-8612-2F05CDE9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CCB1-8ED3-478A-B678-1FA58B55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738-A6C7-4649-A93D-007427A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D52-2A97-4A3D-B84A-73893625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5BE8-E469-4980-AC20-7341C46B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8050-600B-4A4F-AA02-3C2D86EC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6BB9-4BEF-42C8-88E7-A62D7E8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5A5A-A759-4D78-AE32-D589D169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219-3105-4C90-9E7A-8A9D7852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56F-BBC4-4FE8-8150-C87EA56C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514-355A-475A-AA96-3689F691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1175-BEDF-44B0-ACE3-E3B0158E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53A-E5AA-4C8E-AEFA-C6D843F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762-77C6-40FB-B429-224EA40C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2F9-8B0C-434D-9206-47A0AF5B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1E4-13FD-448D-B1AC-230942A22E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F8C1-FF61-404E-9FBF-B7C83DB004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рина Цветае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6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знь и творч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foto"/>
          <p:cNvPicPr/>
          <p:nvPr/>
        </p:nvPicPr>
        <p:blipFill>
          <a:blip r:embed="rId1"/>
          <a:stretch/>
        </p:blipFill>
        <p:spPr>
          <a:xfrm>
            <a:off x="5724360" y="3068640"/>
            <a:ext cx="2476800" cy="3333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785880" y="27147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 ученик 11 класса МБОУ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чу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щанов Дмит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410080" cy="122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рина Цветаева за роя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95640" y="0"/>
            <a:ext cx="309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на Цветаева и музыка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, ждущая своего исследователя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ина занималась музыкой лет с шести. С семи уже выступала в школьных концертах в Москве, в частной музыкальной школе в Мерзляковском переулке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смерти матери, пианистки выдающегося таланта, ученицы Рубинштейна, в 1906 году занятия музыкой прекратились. Но знание музыки, ее понимание, создание музыки словесной - сохранились на всю жизнь. Разве мог бы написать такого "Крысолова" поэт, чуждый музыке?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foto"/>
          <p:cNvPicPr/>
          <p:nvPr/>
        </p:nvPicPr>
        <p:blipFill>
          <a:blip r:embed="rId1"/>
          <a:stretch/>
        </p:blipFill>
        <p:spPr>
          <a:xfrm>
            <a:off x="468360" y="1989000"/>
            <a:ext cx="54720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гей Эфрон и Марина Цветаева незадолго до свадьбы. 1911 год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oto"/>
          <p:cNvPicPr/>
          <p:nvPr/>
        </p:nvPicPr>
        <p:blipFill>
          <a:blip r:embed="rId1"/>
          <a:stretch/>
        </p:blipFill>
        <p:spPr>
          <a:xfrm>
            <a:off x="826920" y="1773360"/>
            <a:ext cx="2638440" cy="333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oto"/>
          <p:cNvPicPr/>
          <p:nvPr/>
        </p:nvPicPr>
        <p:blipFill>
          <a:blip r:embed="rId2"/>
          <a:stretch/>
        </p:blipFill>
        <p:spPr>
          <a:xfrm>
            <a:off x="3995640" y="2349360"/>
            <a:ext cx="3905280" cy="3333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43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1912 году 27 января состоялось венчание Марины Цветаевой и Сергея Эфрон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6192720" cy="31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февраля. Новобрачные уехали в свадебное путешествие: Италия, Франция, Герм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foto"/>
          <p:cNvPicPr/>
          <p:nvPr/>
        </p:nvPicPr>
        <p:blipFill>
          <a:blip r:embed="rId1"/>
          <a:stretch/>
        </p:blipFill>
        <p:spPr>
          <a:xfrm>
            <a:off x="6516720" y="2708280"/>
            <a:ext cx="2066760" cy="333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3628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рина и Анастасия Цветаевы с мужьями Сергеем Эфроном и Маврикием Минцем и детьми Алей и Андрюшей. Александ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foto"/>
          <p:cNvPicPr/>
          <p:nvPr/>
        </p:nvPicPr>
        <p:blipFill>
          <a:blip r:embed="rId1"/>
          <a:stretch/>
        </p:blipFill>
        <p:spPr>
          <a:xfrm>
            <a:off x="2195640" y="2708280"/>
            <a:ext cx="2361960" cy="3333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6300720" y="5661000"/>
            <a:ext cx="16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6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ктебеле. В дверях стоят В.Я Эфрон, С.Я. Эфрон, М.И. Цветаева, за столом (крайняя слева) Е.О. Волошин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foto"/>
          <p:cNvPicPr/>
          <p:nvPr/>
        </p:nvPicPr>
        <p:blipFill>
          <a:blip r:embed="rId1"/>
          <a:stretch/>
        </p:blipFill>
        <p:spPr>
          <a:xfrm>
            <a:off x="1258920" y="2060640"/>
            <a:ext cx="5343480" cy="3333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ая война (1917—192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7 году Цветаева родила дочь Ирину, которая умерла в приюте в возрасте 3-х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Гражданской войны оказались для Цветаевой очень тяжелыми. Сергей Эфрон служил в рядах Белой армии. Марина жила в Москве, в Борисоглебском переулке. В эти годы появился цикл стихов «Лебединый стан», проникнутый сочувствием к белому движ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8—1919 годах Цветаева пишет романтические пьесы; созданы поэмы «Егорушка», «Царь-девица», «На красном ко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преле 1920 года Цветаева познакомилась с князем Сергеем Волкон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тоальбом Марины Цветае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foto"/>
          <p:cNvPicPr/>
          <p:nvPr/>
        </p:nvPicPr>
        <p:blipFill>
          <a:blip r:embed="rId1"/>
          <a:stretch/>
        </p:blipFill>
        <p:spPr>
          <a:xfrm>
            <a:off x="6443640" y="1916280"/>
            <a:ext cx="2143080" cy="33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foto"/>
          <p:cNvPicPr/>
          <p:nvPr/>
        </p:nvPicPr>
        <p:blipFill>
          <a:blip r:embed="rId2"/>
          <a:stretch/>
        </p:blipFill>
        <p:spPr>
          <a:xfrm>
            <a:off x="324000" y="1916280"/>
            <a:ext cx="2371680" cy="3333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foto"/>
          <p:cNvPicPr/>
          <p:nvPr/>
        </p:nvPicPr>
        <p:blipFill>
          <a:blip r:embed="rId3"/>
          <a:stretch/>
        </p:blipFill>
        <p:spPr>
          <a:xfrm>
            <a:off x="3203640" y="3068640"/>
            <a:ext cx="274320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foto"/>
          <p:cNvPicPr/>
          <p:nvPr/>
        </p:nvPicPr>
        <p:blipFill>
          <a:blip r:embed="rId1"/>
          <a:stretch/>
        </p:blipFill>
        <p:spPr>
          <a:xfrm>
            <a:off x="539640" y="1197000"/>
            <a:ext cx="2476440" cy="3333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foto"/>
          <p:cNvPicPr/>
          <p:nvPr/>
        </p:nvPicPr>
        <p:blipFill>
          <a:blip r:embed="rId2"/>
          <a:stretch/>
        </p:blipFill>
        <p:spPr>
          <a:xfrm>
            <a:off x="3492360" y="2421000"/>
            <a:ext cx="2086200" cy="333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foto"/>
          <p:cNvPicPr/>
          <p:nvPr/>
        </p:nvPicPr>
        <p:blipFill>
          <a:blip r:embed="rId3"/>
          <a:stretch/>
        </p:blipFill>
        <p:spPr>
          <a:xfrm>
            <a:off x="6156360" y="3141720"/>
            <a:ext cx="223848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3388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47e"/>
                </a:solidFill>
                <a:uFillTx/>
                <a:latin typeface="Arial"/>
              </a:rPr>
              <a:t>Спасибо за внимание!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6 сентября (8 октября) в Москве, в семье профессора Московского университета (позже — основателя Музея изобразительных искусств) Ивана Владимировича Цветаева и его жены, Марии Александровны, урожденной Мейн, родилась дочь Мари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oto"/>
          <p:cNvPicPr/>
          <p:nvPr/>
        </p:nvPicPr>
        <p:blipFill>
          <a:blip r:embed="rId1"/>
          <a:stretch/>
        </p:blipFill>
        <p:spPr>
          <a:xfrm rot="216000">
            <a:off x="5508360" y="3141360"/>
            <a:ext cx="2095560" cy="333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4652640"/>
            <a:ext cx="8388360" cy="16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я Цветаевых во дворе дома в Трехпрудном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т: Андрей, Иван Владимирович, Ольга Иловайская; сидят: Мария Александровна с дочерью Анастасией, Марина, Валер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foto"/>
          <p:cNvPicPr/>
          <p:nvPr/>
        </p:nvPicPr>
        <p:blipFill>
          <a:blip r:embed="rId1"/>
          <a:stretch/>
        </p:blipFill>
        <p:spPr>
          <a:xfrm>
            <a:off x="2124000" y="404640"/>
            <a:ext cx="5540400" cy="394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68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68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6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"Московское детство"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18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ась в московской профессорской семье: отец - И. В. Цветаев, мать - М. А. Мейн (умерла в 1906), пианистка, ученица А. Г. Рубинштейна, дед сводных сестры и брата - историк Д. И. Иловай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тстве из-за болезни матери (чахотка) Цветаева подолгу жила в Италии, Швейцарии, Германии; перерывы в гимназическом образовании восполнялись учебой в пансионах в Лозанне и Фрей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 владела французским и немецким языками. В 1909 слушала курс французской литературы в Сорбон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я Цветаевых в Тарусе (слева направо) : В.И. Цветаева. М.А Цветаева, Андрей, Марина и Анастасия Цветаевы. 1901 год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389880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арусу семейство Цветаевых выезжало каждый год, с мая до сентября. Переезда на дачу и дети, и взрослые ждали, как праздника. Таруса - была землей обетованной, к которой постоянно стремишься, землей, дарящей ощущение счастья. Осенью 1909 года в Тарусе, Марина восклицает: &lt;Ты дал мне детство - лучше сказки &lt;...&gt; !&gt; Последнее стихотворение, посвященное детству в Тарусе, Марина Цветаева написала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1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foto"/>
          <p:cNvPicPr/>
          <p:nvPr/>
        </p:nvPicPr>
        <p:blipFill>
          <a:blip r:embed="rId1"/>
          <a:stretch/>
        </p:blipFill>
        <p:spPr>
          <a:xfrm rot="235800">
            <a:off x="3924360" y="2246400"/>
            <a:ext cx="493704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В. Цветаев с дочерью Мар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6732720" cy="57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Семейная жизнь мне не удалась, зато удалось служение родине...&gt;, - так сказал своей старшей дочери Валерии Иван Владимирович Цветаев в конце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ронив сначала первую горячо любимую жену (Варвару Дмитриевну), а затем вторую (Марию Александровну), он весь ушел в дело своей жизни - строительство Музея изящных искусств, открытие которого состоялось в мае 1913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рочестве, после смерти матери, без строгого контроля неизменно работающего отца, Марина и Ася росли своевольными. Марина часто пропускала гимназию, ради затворничества в своей комнате, ради стихов. В день похорон Льва Николаевича Толстого девочки без спроса уехали в Ясную Поляну. Марина поклонялась Наполеону и его сыну (&lt;Орленку&gt;), несмотря на гнев отца, так и не убрав портрет своего кумира из иконного ки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ихов непосредственно посвященных отцу у Цветаевой нет. Но в 1931 году незадолго до дня памяти Ивана Цветаева (12 сентября) она пишет стихотворение &lt;Дом&gt;, в котором есть упоминание об отцовском Музе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foto"/>
          <p:cNvPicPr/>
          <p:nvPr/>
        </p:nvPicPr>
        <p:blipFill>
          <a:blip r:embed="rId1"/>
          <a:stretch/>
        </p:blipFill>
        <p:spPr>
          <a:xfrm>
            <a:off x="6588000" y="1844640"/>
            <a:ext cx="2387880" cy="3141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6202440" cy="122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будешь ты мой профиль горбоносый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лоб в апофеозе папирос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69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Профиль римского мальчика", "вьющиеся золотистые волосы", "стройность, узкая талия", "легкая летящая походка" - неизменные атрибуты внешнего облика Марины Цветаевой, отмечаемые во многих воспоминан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анней юности ей не нравилась собственная наружность: румянец, полнота, прямые волосы, короткая шея, недостаточно большие глаз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к 1910 в ее облике, как рассказывает Анастасия Цветаева, происходит неожиданная метаморфо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&lt;...&gt; она почти красавица! &lt;...&gt; глаза большие, она похудела, шея стала длинной, румянец легче, а волосы после десятикратного бритья в 1910 году завились крупными золотыми кудрями &lt;...&gt;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собственный образ, созданный в двух стихотворениях, удивительно совпадает с образом Марины, запечатленным неизвестным худож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foto"/>
          <p:cNvPicPr/>
          <p:nvPr/>
        </p:nvPicPr>
        <p:blipFill>
          <a:blip r:embed="rId1"/>
          <a:stretch/>
        </p:blipFill>
        <p:spPr>
          <a:xfrm>
            <a:off x="6896160" y="1341360"/>
            <a:ext cx="2247840" cy="33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орчество Марины Цветаев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оскве выш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ая книга стихов Марины Цветаевой «Вечерний альбом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лучившая одобрительную рецензию М. А. Волошина. С того момента возникла ее дружба с М. Волошиным. Напис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2 Февраль. Выходит в св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торая книга стихов Марины Цветаевой «Волшебный фонар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913 году выходит третий сборник — «Из двух книг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творческой деятельности Цветаевой связано с кругом московских символистов. После знакомства с Брюсовым и поэтом Эллисом (настоящее имя Лев Кобылинский) Цветаева участвует в деятельности кружков и студий при издательстве «Мусаг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ннее творчество Цветаевой значительное влияние оказали Николай Некрасов, Валерий Брюсов и Максимилиан Волошин (поэтесса гостила в доме Волошина в Коктебеле в 1911, 1913, 1915 и 1917 год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11 году Цветаева познакомилась со своим будущим мужем Сергеем Эфроном; в январе 1912 — вышла за него замуж. В этом же году у Марины и Сергея родилась дочь Ариадна (Ал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ало творческ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0:01:41Z</dcterms:created>
  <dc:creator>name</dc:creator>
  <dc:description/>
  <dc:language>en-US</dc:language>
  <cp:lastModifiedBy>User</cp:lastModifiedBy>
  <dcterms:modified xsi:type="dcterms:W3CDTF">2012-12-23T15:32:47Z</dcterms:modified>
  <cp:revision>11</cp:revision>
  <dc:subject/>
  <dc:title>Семья Цветаевых во дворе дома в Трехпрудном. Стоят: Андрей, Иван Владимирович, Ольга Иловайская; сидят: Мария Александровна с дочерью Анастасией, Марина, Валерия. Мос</dc:title>
</cp:coreProperties>
</file>