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5.jpeg" ContentType="image/jpeg"/>
  <Override PartName="/ppt/media/image26.png" ContentType="image/png"/>
  <Override PartName="/ppt/media/image14.png" ContentType="image/png"/>
  <Override PartName="/ppt/media/image22.png" ContentType="image/png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1.gif" ContentType="image/gif"/>
  <Override PartName="/ppt/media/image1.png" ContentType="image/png"/>
  <Override PartName="/ppt/media/image24.jpeg" ContentType="image/jpe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3211-FFF6-431F-B9AC-01E6BA2A83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607B-D2B0-47F7-BF58-66F0449066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967C-7F5A-432F-8B1C-8F0769C7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91E-74C5-46EF-911E-1F0F4245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42A-941A-43B0-A18F-51C0716D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D08-0873-4D20-A67E-15B10BCE7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B132-14B0-44BD-96DF-89C2F7DF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5FA3-3B4A-4E79-8859-3E08373F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AFFD-02B6-4F3D-BFE8-9D23289F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F28E-1834-44B4-BFE7-D14FBCB1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6D1F-F1B5-40CD-93B4-A378D182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EF6E-A6CA-414F-9D92-B56FA0C7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1B43-A77C-48E5-9C69-828C9444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5FE-6F6D-43C0-BEFD-CCF55031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28A3-CD7C-4BA6-A087-45BFEAA0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DC0C-E54A-4186-AE6E-699D6B34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6DE6C-7624-42C6-BC8C-758E97F7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99A1-3463-4F4E-AB47-72D187D4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D55A-21E6-4AEB-B9A2-6E86AE3C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7F85-9BA4-4B0C-86F9-1109655C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D10E3-51FC-4E9F-8D35-9AD8FC7B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45DBA-5F0A-48A0-804C-D38D6885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54B28-CF34-4018-8EE1-CC4C3A4F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64DAC-3E76-49B7-8C75-954F62CB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474-531A-49DE-A2FB-401B0C85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66335-9BCE-47D1-BBB5-D59AC447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D58C1-9E31-4D83-9241-40D31300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60FC1-FCF6-487C-BFEA-D305D63A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09B13-8F4A-4E4F-9865-BC16089F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DA438-D2CD-4CF1-87FB-EE4A15DC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8F3E9-A583-4B7E-AB41-61D3C70A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C47AB-2981-4D79-8DBC-99AA3FD1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DFA-1115-483A-BD0C-C3C5AA52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A111-3F32-4391-9132-89AB092F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A14-8159-4904-8195-B3351B7B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287-3725-4154-A1A7-5F2847CD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C8A-8F21-41A6-9A07-E43B1101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3E7-0DC4-456C-AE50-646591B8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F82B-1BB9-4620-844B-7ED987143D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51B0-2485-40DC-80F1-407EDA9940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7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8ECB-0FB2-4F50-9BEC-E3EAE9EFCFC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voyrebenok.ru/images/english-cards/professions/b/1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tvoyrebenok.ru/images/english-cards/professions/b/2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tvoyrebenok.ru/images/english-cards/professions/b/4.jpg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png"/><Relationship Id="rId12" Type="http://schemas.openxmlformats.org/officeDocument/2006/relationships/image" Target="../media/image21.gif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jpeg"/><Relationship Id="rId16" Type="http://schemas.openxmlformats.org/officeDocument/2006/relationships/image" Target="../media/image25.jpeg"/><Relationship Id="rId17" Type="http://schemas.openxmlformats.org/officeDocument/2006/relationships/image" Target="../media/image26.pn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C:\Users\Альфия\Desktop\фон\Рисунок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981000"/>
            <a:ext cx="5400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WELCOME </a:t>
            </a:r>
            <a:br>
              <a:rPr sz="4000"/>
            </a:b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TO OUR</a:t>
            </a:r>
            <a:r>
              <a:rPr b="1" lang="ru-RU" sz="40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LESSON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r. Hopkins is a farmer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1" name="Picture 14" descr="gallery_223_23912"/>
          <p:cNvPicPr/>
          <p:nvPr/>
        </p:nvPicPr>
        <p:blipFill>
          <a:blip r:embed="rId1"/>
          <a:stretch/>
        </p:blipFill>
        <p:spPr>
          <a:xfrm>
            <a:off x="1116000" y="1628640"/>
            <a:ext cx="71280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ara Clifford is a librarian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3" name="Picture 8" descr="558177"/>
          <p:cNvPicPr/>
          <p:nvPr/>
        </p:nvPicPr>
        <p:blipFill>
          <a:blip r:embed="rId1"/>
          <a:stretch/>
        </p:blipFill>
        <p:spPr>
          <a:xfrm>
            <a:off x="1692360" y="1628640"/>
            <a:ext cx="568944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Listen to the text again and answer the questions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ere is Michael f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en does his working day begi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Does he have childre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kinds of animals does his family ha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Does he like his job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Listen to the text again and answer the questions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ere does Sara liv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Does she work at weekend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Mrs. Clifford works both with books and people, doesn’t sh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are her main characteristic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Does Sara like her job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C:\Users\Альфия\Desktop\фон\Рисунок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71640" y="549000"/>
            <a:ext cx="56880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ke a riddle about any profession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e works in a hospital and wears a special uniform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he  helps a doctor. She should be kind and polite. 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(Nurse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C:\Users\Альфия\Desktop\фон\Рисунок2.png"/>
          <p:cNvPicPr/>
          <p:nvPr/>
        </p:nvPicPr>
        <p:blipFill>
          <a:blip r:embed="rId1"/>
          <a:stretch/>
        </p:blipFill>
        <p:spPr>
          <a:xfrm>
            <a:off x="-25236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42920" y="764640"/>
            <a:ext cx="4895640" cy="29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Thank you 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for the lesson.</a:t>
            </a:r>
            <a:br>
              <a:rPr sz="4800"/>
            </a:b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eople work - Nursery Rhymes &amp; Kids Songs - LearnEnglish Kids British Council_(720p).mp4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35812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9360">
            <a:solidFill>
              <a:srgbClr val="cccccc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e5f72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Содержимое 6" descr="9792.jpg"/>
          <p:cNvPicPr/>
          <p:nvPr/>
        </p:nvPicPr>
        <p:blipFill>
          <a:blip r:embed="rId1"/>
          <a:stretch/>
        </p:blipFill>
        <p:spPr>
          <a:xfrm>
            <a:off x="539640" y="863640"/>
            <a:ext cx="7993080" cy="599436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7"/>
          <p:cNvSpPr/>
          <p:nvPr/>
        </p:nvSpPr>
        <p:spPr>
          <a:xfrm>
            <a:off x="250920" y="11592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99"/>
                </a:solidFill>
                <a:latin typeface="Arial"/>
                <a:ea typeface="Arial"/>
              </a:rPr>
              <a:t>   </a:t>
            </a:r>
            <a:r>
              <a:rPr b="1" i="1" lang="en-US" sz="4800" spc="-1" strike="noStrike">
                <a:solidFill>
                  <a:srgbClr val="003399"/>
                </a:solidFill>
                <a:latin typeface="Arial"/>
                <a:ea typeface="Arial"/>
              </a:rPr>
              <a:t>The World of Profes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71640" y="1125000"/>
            <a:ext cx="7632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We’ll speak about people of different job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We’ll learn to tell what jobs people can have and what characteristics they need for the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6666"/>
                </a:solidFill>
                <a:latin typeface="Times New Roman"/>
              </a:rPr>
              <a:t>We’ll speak about your future job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4" descr="Профессии на английском в обучающих карточках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81360"/>
            <a:ext cx="1563840" cy="2276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Тема профессии на английском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47640" y="4581360"/>
            <a:ext cx="1573560" cy="2276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Английский 5 класс тема професси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00720" y="4581360"/>
            <a:ext cx="1577880" cy="2276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Английский язык тема профессии"/>
          <p:cNvPicPr/>
          <p:nvPr/>
        </p:nvPicPr>
        <p:blipFill>
          <a:blip r:embed="rId7"/>
          <a:stretch/>
        </p:blipFill>
        <p:spPr>
          <a:xfrm>
            <a:off x="7574040" y="4581360"/>
            <a:ext cx="1569960" cy="2276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5"/>
          <p:cNvPicPr/>
          <p:nvPr/>
        </p:nvPicPr>
        <p:blipFill>
          <a:blip r:embed="rId8"/>
          <a:stretch/>
        </p:blipFill>
        <p:spPr>
          <a:xfrm>
            <a:off x="2987640" y="4581360"/>
            <a:ext cx="1569960" cy="2276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Профессии на английском картинки"/>
          <p:cNvPicPr/>
          <p:nvPr/>
        </p:nvPicPr>
        <p:blipFill>
          <a:blip r:embed="rId9"/>
          <a:stretch/>
        </p:blipFill>
        <p:spPr>
          <a:xfrm>
            <a:off x="6012000" y="4581360"/>
            <a:ext cx="1568160" cy="2276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What will we do at the lesson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Users\Альфия\Desktop\фон\Рисунок3.png"/>
          <p:cNvPicPr/>
          <p:nvPr/>
        </p:nvPicPr>
        <p:blipFill>
          <a:blip r:embed="rId1"/>
          <a:stretch/>
        </p:blipFill>
        <p:spPr>
          <a:xfrm>
            <a:off x="1764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3524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honetic drill</a:t>
            </a:r>
            <a:endParaRPr b="0" lang="en-US" sz="4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03280" y="148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tt-RU" sz="3700" spc="-1" strike="noStrike">
                <a:solidFill>
                  <a:srgbClr val="000000"/>
                </a:solidFill>
                <a:latin typeface="Times New Roman"/>
              </a:rPr>
              <a:t>ә: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tt-RU" sz="37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urse, worker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o:] – lawyer, sportsman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a:] – farmer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ai] – driver, librarian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e] – dentist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3700" spc="-1" strike="noStrike">
                <a:solidFill>
                  <a:srgbClr val="000000"/>
                </a:solidFill>
                <a:latin typeface="Times New Roman"/>
              </a:rPr>
              <a:t>əu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] – programmer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[i] – businessman, engineer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Users\Альфия\Desktop\фон\Рисунок3.png"/>
          <p:cNvPicPr/>
          <p:nvPr/>
        </p:nvPicPr>
        <p:blipFill>
          <a:blip r:embed="rId2"/>
          <a:stretch/>
        </p:blipFill>
        <p:spPr>
          <a:xfrm>
            <a:off x="1764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6"/>
          <p:cNvSpPr/>
          <p:nvPr/>
        </p:nvSpPr>
        <p:spPr>
          <a:xfrm>
            <a:off x="6227640" y="1125360"/>
            <a:ext cx="259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http://www.lenagold.ru/fon/clipart/p/povar/povar05.jpg"/>
          <p:cNvPicPr/>
          <p:nvPr/>
        </p:nvPicPr>
        <p:blipFill>
          <a:blip r:embed="rId3"/>
          <a:stretch/>
        </p:blipFill>
        <p:spPr>
          <a:xfrm>
            <a:off x="7261200" y="0"/>
            <a:ext cx="1882800" cy="2016000"/>
          </a:xfrm>
          <a:prstGeom prst="rect">
            <a:avLst/>
          </a:prstGeom>
          <a:ln w="0">
            <a:noFill/>
          </a:ln>
        </p:spPr>
      </p:pic>
      <p:pic>
        <p:nvPicPr>
          <p:cNvPr id="168" name="Содержимое 2" descr="0014-013-Professii-01.jpg"/>
          <p:cNvPicPr/>
          <p:nvPr/>
        </p:nvPicPr>
        <p:blipFill>
          <a:blip r:embed="rId4"/>
          <a:stretch/>
        </p:blipFill>
        <p:spPr>
          <a:xfrm>
            <a:off x="7149960" y="1916280"/>
            <a:ext cx="1994040" cy="1963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5"/>
          <a:stretch/>
        </p:blipFill>
        <p:spPr>
          <a:xfrm>
            <a:off x="1835280" y="0"/>
            <a:ext cx="2036520" cy="2205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000803_1055_6537_vnvv"/>
          <p:cNvPicPr/>
          <p:nvPr/>
        </p:nvPicPr>
        <p:blipFill>
          <a:blip r:embed="rId6"/>
          <a:stretch/>
        </p:blipFill>
        <p:spPr>
          <a:xfrm>
            <a:off x="3851280" y="115920"/>
            <a:ext cx="1609560" cy="180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000803_1059_2248_vnvv"/>
          <p:cNvPicPr/>
          <p:nvPr/>
        </p:nvPicPr>
        <p:blipFill>
          <a:blip r:embed="rId7"/>
          <a:stretch/>
        </p:blipFill>
        <p:spPr>
          <a:xfrm>
            <a:off x="5435640" y="0"/>
            <a:ext cx="1998720" cy="220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000803_1057_9648_vnvv"/>
          <p:cNvPicPr/>
          <p:nvPr/>
        </p:nvPicPr>
        <p:blipFill>
          <a:blip r:embed="rId8"/>
          <a:stretch/>
        </p:blipFill>
        <p:spPr>
          <a:xfrm>
            <a:off x="0" y="0"/>
            <a:ext cx="1900080" cy="2133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5" descr="01labgi0l1255397125"/>
          <p:cNvPicPr/>
          <p:nvPr/>
        </p:nvPicPr>
        <p:blipFill>
          <a:blip r:embed="rId9"/>
          <a:stretch/>
        </p:blipFill>
        <p:spPr>
          <a:xfrm>
            <a:off x="0" y="2133720"/>
            <a:ext cx="1724040" cy="223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7" descr="163224-800-600"/>
          <p:cNvPicPr/>
          <p:nvPr/>
        </p:nvPicPr>
        <p:blipFill>
          <a:blip r:embed="rId10"/>
          <a:stretch/>
        </p:blipFill>
        <p:spPr>
          <a:xfrm>
            <a:off x="1692360" y="2133720"/>
            <a:ext cx="2016000" cy="131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1" descr="0005-005-Konditer"/>
          <p:cNvPicPr/>
          <p:nvPr/>
        </p:nvPicPr>
        <p:blipFill>
          <a:blip r:embed="rId11"/>
          <a:stretch/>
        </p:blipFill>
        <p:spPr>
          <a:xfrm>
            <a:off x="0" y="4365720"/>
            <a:ext cx="2068560" cy="2492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5" descr="314_belopolsry83"/>
          <p:cNvPicPr/>
          <p:nvPr/>
        </p:nvPicPr>
        <p:blipFill>
          <a:blip r:embed="rId12"/>
          <a:stretch/>
        </p:blipFill>
        <p:spPr>
          <a:xfrm>
            <a:off x="7469280" y="3833640"/>
            <a:ext cx="1674720" cy="3024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7" descr="barbar"/>
          <p:cNvPicPr/>
          <p:nvPr/>
        </p:nvPicPr>
        <p:blipFill>
          <a:blip r:embed="rId13"/>
          <a:stretch/>
        </p:blipFill>
        <p:spPr>
          <a:xfrm>
            <a:off x="5796000" y="1916280"/>
            <a:ext cx="1596960" cy="2017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1" descr="maid"/>
          <p:cNvPicPr/>
          <p:nvPr/>
        </p:nvPicPr>
        <p:blipFill>
          <a:blip r:embed="rId14"/>
          <a:stretch/>
        </p:blipFill>
        <p:spPr>
          <a:xfrm>
            <a:off x="6156360" y="4149720"/>
            <a:ext cx="1533600" cy="2708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3" descr="f795ded2c33b"/>
          <p:cNvPicPr/>
          <p:nvPr/>
        </p:nvPicPr>
        <p:blipFill>
          <a:blip r:embed="rId15"/>
          <a:stretch/>
        </p:blipFill>
        <p:spPr>
          <a:xfrm>
            <a:off x="1692360" y="3716280"/>
            <a:ext cx="2517840" cy="3141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9" descr="3346540_professii_9"/>
          <p:cNvPicPr/>
          <p:nvPr/>
        </p:nvPicPr>
        <p:blipFill>
          <a:blip r:embed="rId16"/>
          <a:stretch/>
        </p:blipFill>
        <p:spPr>
          <a:xfrm>
            <a:off x="3706920" y="1916280"/>
            <a:ext cx="1971720" cy="244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9" descr="reporter"/>
          <p:cNvPicPr/>
          <p:nvPr/>
        </p:nvPicPr>
        <p:blipFill>
          <a:blip r:embed="rId17"/>
          <a:stretch/>
        </p:blipFill>
        <p:spPr>
          <a:xfrm>
            <a:off x="4427640" y="4076640"/>
            <a:ext cx="15764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Make up your own dialogues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Times New Roman"/>
              </a:rPr>
              <a:t>using the following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question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are your parent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are you going to b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would you like to be? Why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8080"/>
                </a:solidFill>
                <a:latin typeface="Times New Roman"/>
              </a:rPr>
              <a:t>What characteristics does your job need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7" descr="http://fotoramochki.com/risovannie/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6912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</a:rPr>
              <a:t>The 13</a:t>
            </a:r>
            <a:r>
              <a:rPr b="1" lang="en-US" sz="2600" spc="-1" strike="noStrike" baseline="30000">
                <a:solidFill>
                  <a:srgbClr val="c00000"/>
                </a:solidFill>
                <a:latin typeface="Times New Roman"/>
              </a:rPr>
              <a:t>th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</a:rPr>
              <a:t> of March.</a:t>
            </a:r>
            <a:br>
              <a:rPr sz="2600"/>
            </a:br>
            <a:r>
              <a:rPr b="1" lang="en-US" sz="2600" spc="-1" strike="noStrike">
                <a:solidFill>
                  <a:srgbClr val="c00000"/>
                </a:solidFill>
                <a:latin typeface="Times New Roman"/>
              </a:rPr>
              <a:t>     Classwork.</a:t>
            </a:r>
            <a:br>
              <a:rPr sz="2600"/>
            </a:br>
            <a:r>
              <a:rPr b="1" lang="en-US" sz="2600" spc="-1" strike="noStrike">
                <a:solidFill>
                  <a:srgbClr val="c00000"/>
                </a:solidFill>
                <a:latin typeface="Times New Roman"/>
              </a:rPr>
              <a:t>    Ex.25, p.49.</a:t>
            </a:r>
            <a:endParaRPr b="0" lang="en-US" sz="2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826920" y="220500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Write what kind  of characteristics are necessary for the following jobs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teacher should be intelligent, kind, cre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braria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wy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ngine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usinessma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axi driv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4"/>
          <p:cNvSpPr/>
          <p:nvPr/>
        </p:nvSpPr>
        <p:spPr>
          <a:xfrm>
            <a:off x="1116000" y="3284640"/>
            <a:ext cx="6265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Listen to Mr. Hopkins and Mrs. Clifford talking about their jobs.</a:t>
            </a:r>
            <a:r>
              <a:rPr b="1" lang="ru-RU" sz="2400" spc="-1" strike="noStrike">
                <a:solidFill>
                  <a:srgbClr val="00808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Guess what they d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New wor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out-of-doors – 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на открытом воздух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Bath 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[b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a: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θ]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Бат, город в Англ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magazine 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[‚mægə’zi:n]</a:t>
            </a:r>
            <a:r>
              <a:rPr b="0" lang="ru-RU" sz="29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808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8080"/>
                </a:solidFill>
                <a:latin typeface="Times New Roman"/>
              </a:rPr>
              <a:t>жур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Times New Roman"/>
              </a:rPr>
              <a:t>Listening.</a:t>
            </a:r>
            <a:br>
              <a:rPr sz="3600"/>
            </a:br>
            <a:r>
              <a:rPr b="0" lang="en-US" sz="3600" spc="-1" strike="noStrike">
                <a:solidFill>
                  <a:srgbClr val="008080"/>
                </a:solidFill>
                <a:latin typeface="Times New Roman"/>
              </a:rPr>
              <a:t>Ex.26, p.49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6:49:13Z</dcterms:created>
  <dc:creator>Альфия</dc:creator>
  <dc:description/>
  <dc:language>en-US</dc:language>
  <cp:lastModifiedBy>Гелюса</cp:lastModifiedBy>
  <dcterms:modified xsi:type="dcterms:W3CDTF">2013-03-11T05:29:12Z</dcterms:modified>
  <cp:revision>43</cp:revision>
  <dc:subject/>
  <dc:title>Слайд 1</dc:title>
</cp:coreProperties>
</file>