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BF0-6316-48B8-81F9-1B6FFFF2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F85-03FD-44FF-B0EE-50F49E2B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725-1FF7-437E-AA51-BE233D22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F1B-323D-4509-B400-30F57B5C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30C0-EF61-494F-91A1-3847CF5C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F97-55CF-4C8D-936C-F99326BA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F81D-FE74-43E3-A31E-A891D4EC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ED4-6B6D-4A78-83C9-FD6C934C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521-5F0A-4AF1-889B-B0431893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55E-01D2-4E32-8B5A-6AA7228F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82A-0B97-4CC3-9781-838263EF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68F-C4B3-4DC0-8D4A-91D8B64C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D765-B11C-4367-A3CA-F3EE25086860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ясо и блюда из не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733720"/>
            <a:ext cx="61200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дготовила Югринова В. 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FRANK DUVAL &amp; ORCHESTRA 'KALINAS MELODIE'.MP3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2046[1]"/>
          <p:cNvPicPr/>
          <p:nvPr/>
        </p:nvPicPr>
        <p:blipFill>
          <a:blip r:embed="rId2"/>
          <a:stretch/>
        </p:blipFill>
        <p:spPr>
          <a:xfrm>
            <a:off x="2025720" y="21337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комство с професси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i[11]"/>
          <p:cNvPicPr/>
          <p:nvPr/>
        </p:nvPicPr>
        <p:blipFill>
          <a:blip r:embed="rId1"/>
          <a:stretch/>
        </p:blipFill>
        <p:spPr>
          <a:xfrm>
            <a:off x="2987640" y="2492280"/>
            <a:ext cx="2625840" cy="19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ясные бульо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16000" y="1484280"/>
            <a:ext cx="3970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стный бульо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сной бульо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сокостный бульо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льон из домашней птиц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льон из дич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1098[1]"/>
          <p:cNvPicPr/>
          <p:nvPr/>
        </p:nvPicPr>
        <p:blipFill>
          <a:blip r:embed="rId1"/>
          <a:stretch/>
        </p:blipFill>
        <p:spPr>
          <a:xfrm>
            <a:off x="971640" y="2492280"/>
            <a:ext cx="32925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ые блюда из мя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Щ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рщ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янк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ольни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пы с крупами, макаронными изделиями, грибами, овощами, бобов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2840[1]"/>
          <p:cNvPicPr/>
          <p:nvPr/>
        </p:nvPicPr>
        <p:blipFill>
          <a:blip r:embed="rId1"/>
          <a:stretch/>
        </p:blipFill>
        <p:spPr>
          <a:xfrm>
            <a:off x="4643280" y="2852640"/>
            <a:ext cx="352764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лезные со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тбивные будут нежнее, если перед жареньем их на 1 час положить в воду с добавлением уксу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торые блюда из мя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юда из отварного и жареного мяс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туральные крупнокусковые полуфабрикаты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туральные порционные полуфабрикаты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елкокусковые натуральные полуфабрикаты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Шашлык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тица (гусь, утка, цыплята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юда из тушеного мяс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ясо, тушеное крупным куском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ясо духовое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уляш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гу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лов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зу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юда из запеченного мяс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пеканка картофельная с мясом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вощи, фаршированные мясом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каронные изделия с мясо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юда из рубленного мяс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омштекс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ифштекс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раз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980[1]"/>
          <p:cNvPicPr/>
          <p:nvPr/>
        </p:nvPicPr>
        <p:blipFill>
          <a:blip r:embed="rId1"/>
          <a:stretch/>
        </p:blipFill>
        <p:spPr>
          <a:xfrm>
            <a:off x="5003640" y="2565360"/>
            <a:ext cx="32036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8" descr="t_photo_0127_161[1]"/>
          <p:cNvPicPr/>
          <p:nvPr/>
        </p:nvPicPr>
        <p:blipFill>
          <a:blip r:embed="rId1"/>
          <a:stretch/>
        </p:blipFill>
        <p:spPr>
          <a:xfrm>
            <a:off x="2268360" y="2708280"/>
            <a:ext cx="3816360" cy="2770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1"/>
          <p:cNvSpPr/>
          <p:nvPr/>
        </p:nvSpPr>
        <p:spPr>
          <a:xfrm>
            <a:off x="519120" y="203040"/>
            <a:ext cx="70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ятного аппет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мя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со – один из древнейших продуктов питания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вяд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ин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лят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ан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со д. птиц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со ди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став мяс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энергетическая ценност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ки – 14 - 23%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ры – 2 – 37%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еральные со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тами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сной с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сканирование2"/>
          <p:cNvPicPr/>
          <p:nvPr/>
        </p:nvPicPr>
        <p:blipFill>
          <a:blip r:embed="rId1"/>
          <a:stretch/>
        </p:blipFill>
        <p:spPr>
          <a:xfrm>
            <a:off x="4932360" y="2997360"/>
            <a:ext cx="3286080" cy="1984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знаки доброкачественности мя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а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  мяс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  жировой ткан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истенц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шний ви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рмическое состояние мя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05200" y="1557000"/>
            <a:ext cx="353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ывше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хлажденно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морожен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сканирование шаш"/>
          <p:cNvPicPr/>
          <p:nvPr/>
        </p:nvPicPr>
        <p:blipFill>
          <a:blip r:embed="rId1"/>
          <a:stretch/>
        </p:blipFill>
        <p:spPr>
          <a:xfrm>
            <a:off x="755640" y="1916280"/>
            <a:ext cx="3129120" cy="26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апы обработки мя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3178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та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мы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суш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ел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вал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8" descr="gus"/>
          <p:cNvPicPr/>
          <p:nvPr/>
        </p:nvPicPr>
        <p:blipFill>
          <a:blip r:embed="rId1"/>
          <a:stretch/>
        </p:blipFill>
        <p:spPr>
          <a:xfrm>
            <a:off x="4348080" y="2133720"/>
            <a:ext cx="38577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пловая обработка мя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рень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ека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ше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пускание,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ссерован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анширова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езирова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пч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сканирование 5"/>
          <p:cNvPicPr/>
          <p:nvPr/>
        </p:nvPicPr>
        <p:blipFill>
          <a:blip r:embed="rId1"/>
          <a:stretch/>
        </p:blipFill>
        <p:spPr>
          <a:xfrm>
            <a:off x="4716360" y="2133720"/>
            <a:ext cx="3303720" cy="26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ь терми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резирование – жарка в жаровочном шкафу предварительно припущенных в бульоне проду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ссерование – вид обработки продукта в небольшом количестве жи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пускание – варка мяса в небольшом количестве 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валка – отделение мякоти от к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фштекс - изделие округло-приплюснутой формы непанирован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мштекс – панированное изделие овальной 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итюр – жарка в большом количестве жи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делия из рубленной мас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бленная натуральная мас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Натуральная (мясо, шпик, специи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Котлетная ( хлеб, молоко, мясо, шпик, специи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делия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ифштексы, котлеты, шницели, ромштексы, люля-кебаб, тефтели, зразы, рулеты, бит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сканирование0004"/>
          <p:cNvPicPr/>
          <p:nvPr/>
        </p:nvPicPr>
        <p:blipFill>
          <a:blip r:embed="rId1"/>
          <a:stretch/>
        </p:blipFill>
        <p:spPr>
          <a:xfrm>
            <a:off x="1109520" y="2060640"/>
            <a:ext cx="2816280" cy="24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7T18:58:14Z</dcterms:created>
  <dc:creator>MiXaiL</dc:creator>
  <dc:description/>
  <dc:language>en-US</dc:language>
  <cp:lastModifiedBy>homeuser</cp:lastModifiedBy>
  <dcterms:modified xsi:type="dcterms:W3CDTF">2013-04-09T16:03:32Z</dcterms:modified>
  <cp:revision>47</cp:revision>
  <dc:subject/>
  <dc:title>Интерьер жилого дома.</dc:title>
</cp:coreProperties>
</file>