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CE3-75C3-4244-BCB8-7A4BC304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01D-BF2F-4FEB-8131-6D45095D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587-9F5F-4AC4-A828-2B5F6AA3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DD6-6FCE-41CB-9831-2848D3C2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7D5-7716-4F3B-B724-0647C09A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5E78-2B7E-4A44-923E-91E7D93F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615-C751-4750-8F42-04090078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FF6-0B3B-48CE-8769-CE5AFCC1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B3B-733A-42C5-BCCF-C73CE603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2FB-26EA-4B0B-9F72-FB18EA9C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868-FDF2-4A34-BB2B-588DFDBF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DFE0-32C5-49AE-8295-4799CA33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C607-1EEF-494C-A9B6-1FDEC6ED200F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ясо и блюда из нег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733720"/>
            <a:ext cx="61200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а Югринова В. 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FRANK DUVAL &amp; ORCHESTRA 'KALINAS MELODIE'.MP3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2046[1]"/>
          <p:cNvPicPr/>
          <p:nvPr/>
        </p:nvPicPr>
        <p:blipFill>
          <a:blip r:embed="rId2"/>
          <a:stretch/>
        </p:blipFill>
        <p:spPr>
          <a:xfrm>
            <a:off x="2025720" y="2133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комство с професси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i[11]"/>
          <p:cNvPicPr/>
          <p:nvPr/>
        </p:nvPicPr>
        <p:blipFill>
          <a:blip r:embed="rId1"/>
          <a:stretch/>
        </p:blipFill>
        <p:spPr>
          <a:xfrm>
            <a:off x="2987640" y="24922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ясные бульон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16000" y="1484280"/>
            <a:ext cx="3970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тный буль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ной буль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костный бульо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льон из домашней птиц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льон из дич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1098[1]"/>
          <p:cNvPicPr/>
          <p:nvPr/>
        </p:nvPicPr>
        <p:blipFill>
          <a:blip r:embed="rId1"/>
          <a:stretch/>
        </p:blipFill>
        <p:spPr>
          <a:xfrm>
            <a:off x="971640" y="2492280"/>
            <a:ext cx="32925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ые блюда из мя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щ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ян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ольни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пы с крупами, макаронными изделиями, грибами, овощами, бобов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2840[1]"/>
          <p:cNvPicPr/>
          <p:nvPr/>
        </p:nvPicPr>
        <p:blipFill>
          <a:blip r:embed="rId1"/>
          <a:stretch/>
        </p:blipFill>
        <p:spPr>
          <a:xfrm>
            <a:off x="4643280" y="2852640"/>
            <a:ext cx="352764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лезные со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Отбивные будут нежнее, если перед жареньем их на 1 час положить в воду с добавлением уксу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торые блюда из мя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юда из отварного и жареного мяс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туральные крупнокусковые полуфабрикат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туральные порционные полуфабрикат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елкокусковые натуральные полуфабрикат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Шашлык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тица (гусь, утка, цыплят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юда из тушеного мя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ясо, тушеное крупным куском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ясо духовое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уляш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гу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лов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з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юда из запеченного мя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пеканка картофельная с мясом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вощи, фаршированные мясом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каронные изделия с мясо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юда из рубленного мяс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омштекс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ифштекс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раз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980[1]"/>
          <p:cNvPicPr/>
          <p:nvPr/>
        </p:nvPicPr>
        <p:blipFill>
          <a:blip r:embed="rId1"/>
          <a:stretch/>
        </p:blipFill>
        <p:spPr>
          <a:xfrm>
            <a:off x="5003640" y="2565360"/>
            <a:ext cx="3203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8" descr="t_photo_0127_161[1]"/>
          <p:cNvPicPr/>
          <p:nvPr/>
        </p:nvPicPr>
        <p:blipFill>
          <a:blip r:embed="rId1"/>
          <a:stretch/>
        </p:blipFill>
        <p:spPr>
          <a:xfrm>
            <a:off x="2268360" y="2708280"/>
            <a:ext cx="3816360" cy="2770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1"/>
          <p:cNvSpPr/>
          <p:nvPr/>
        </p:nvSpPr>
        <p:spPr>
          <a:xfrm>
            <a:off x="519120" y="203040"/>
            <a:ext cx="70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ятного аппет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мя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 – один из древнейших продуктов питания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вяд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ин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ят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ан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 д. птиц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 ди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мяс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энергетическая ценност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ки – 14 - 23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ры – 2 – 37%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неральные со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тами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ной с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сканирование2"/>
          <p:cNvPicPr/>
          <p:nvPr/>
        </p:nvPicPr>
        <p:blipFill>
          <a:blip r:embed="rId1"/>
          <a:stretch/>
        </p:blipFill>
        <p:spPr>
          <a:xfrm>
            <a:off x="4932360" y="2997360"/>
            <a:ext cx="3286080" cy="1984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знаки доброкачественности мя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а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  мяс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  жировой ткан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истенц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ий в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рмическое состояние мя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05200" y="155700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ывше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хлажденно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ороже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сканирование шаш"/>
          <p:cNvPicPr/>
          <p:nvPr/>
        </p:nvPicPr>
        <p:blipFill>
          <a:blip r:embed="rId1"/>
          <a:stretch/>
        </p:blipFill>
        <p:spPr>
          <a:xfrm>
            <a:off x="755640" y="1916280"/>
            <a:ext cx="3129120" cy="26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обработки мяс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3178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та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мы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уш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ва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gus"/>
          <p:cNvPicPr/>
          <p:nvPr/>
        </p:nvPicPr>
        <p:blipFill>
          <a:blip r:embed="rId1"/>
          <a:stretch/>
        </p:blipFill>
        <p:spPr>
          <a:xfrm>
            <a:off x="4348080" y="2133720"/>
            <a:ext cx="38577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вая обработка мя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к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ень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ек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ше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пускание,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ссеровани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нширов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езиров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ч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сканирование 5"/>
          <p:cNvPicPr/>
          <p:nvPr/>
        </p:nvPicPr>
        <p:blipFill>
          <a:blip r:embed="rId1"/>
          <a:stretch/>
        </p:blipFill>
        <p:spPr>
          <a:xfrm>
            <a:off x="4716360" y="2133720"/>
            <a:ext cx="330372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езирование – жарка в жаровочном шкафу предварительно припущенных в бульоне проду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ссерование – вид обработки продукта в небольшом количестве ж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пускание – варка мяса в небольшом количестве 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валка – отделение мякоти от к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ифштекс - изделие округло-приплюснутой формы непанирова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мштекс – панированное изделие овальной 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итюр – жарка в большом количестве ж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делия из рубленной мас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бленная натуральная мас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Натуральная (мясо, шпик, специи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Котлетная ( хлеб, молоко, мясо, шпик, специи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елия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ифштексы, котлеты, шницели, ромштексы, люля-кебаб, тефтели, зразы, рулеты, бит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сканирование0004"/>
          <p:cNvPicPr/>
          <p:nvPr/>
        </p:nvPicPr>
        <p:blipFill>
          <a:blip r:embed="rId1"/>
          <a:stretch/>
        </p:blipFill>
        <p:spPr>
          <a:xfrm>
            <a:off x="1109520" y="2060640"/>
            <a:ext cx="2816280" cy="244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7T18:58:14Z</dcterms:created>
  <dc:creator>MiXaiL</dc:creator>
  <dc:description/>
  <dc:language>en-US</dc:language>
  <cp:lastModifiedBy>homeuser</cp:lastModifiedBy>
  <dcterms:modified xsi:type="dcterms:W3CDTF">2013-04-09T16:03:32Z</dcterms:modified>
  <cp:revision>47</cp:revision>
  <dc:subject/>
  <dc:title>Интерьер жилого дома.</dc:title>
</cp:coreProperties>
</file>