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D31B-E24C-4EAD-86CF-9DD7E7C0E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7990-EE68-46FB-8806-30EBB2DD7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A78F-6358-4F7C-9524-EDEB3E2AD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560A-CBFC-48FF-B3F5-D74A31C1A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A143C-F962-49D3-B7CF-E62447FD5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236880"/>
            <a:ext cx="8229600" cy="72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607E0-D65F-4372-8C15-384B19900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A788E-FBA9-4926-97A7-6EAC0F252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BE33C-C950-4889-9CD3-CE5DC7F9D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5F94B-F939-439F-AFC6-C04E60AF9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-671760"/>
            <a:ext cx="8229600" cy="72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CD3FB-4902-4F90-9765-39C13A17B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2E1C6-3996-4F61-9FD7-65CB9D5C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36880"/>
            <a:ext cx="8229600" cy="72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D3DC-4434-48D8-943F-E8BB701B0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5AE30-1B05-43C8-8972-2DC407A2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5F0FE-0FAD-4024-AA5F-487D642F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9E49A-9A25-4005-BF73-AB03D390F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90430-CE5E-45D8-A887-9BECCDA07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D419B-7E5C-45CE-BB57-5FFEC2A4C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6913-BD52-4E93-AD76-C63A5367D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B887-452B-43B7-8FE0-149260510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BB58-E538-418E-B6E7-0568F0FC3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671760"/>
            <a:ext cx="8229600" cy="72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3898-C480-43BA-980D-FE3E15980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AE6F-3C83-4FE8-8DC0-B91D43D4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80AF-0E29-4EEC-A2A9-8CF02CA4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EAD7-A87C-4813-B40E-8BC11FBD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f4a25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103765320">
              <a:spcBef>
                <a:spcPts val="700"/>
              </a:spcBef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lvl="1" marL="557280" indent="-228600">
              <a:spcBef>
                <a:spcPts val="700"/>
              </a:spcBef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lvl="2" marL="812880" indent="-228600">
              <a:spcBef>
                <a:spcPts val="700"/>
              </a:spcBef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lvl="3" marL="1068480" indent="-228600">
              <a:spcBef>
                <a:spcPts val="700"/>
              </a:spcBef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lvl="4" marL="1316160" indent="-228600">
              <a:spcBef>
                <a:spcPts val="700"/>
              </a:spcBef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lvl="5" marL="131616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lvl="6" marL="131616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95339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95339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95339"/>
                </a:solidFill>
                <a:latin typeface="Candar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F40DE-E56D-4792-A905-72DDDFE9EFDC}" type="slidenum">
              <a:rPr b="0" lang="ru-RU" sz="1200" spc="-1" strike="noStrike">
                <a:solidFill>
                  <a:srgbClr val="795339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727200" y="1062000"/>
            <a:ext cx="4600440" cy="3978360"/>
          </a:xfrm>
          <a:prstGeom prst="rect">
            <a:avLst/>
          </a:prstGeom>
          <a:solidFill>
            <a:srgbClr val="2f1e12"/>
          </a:solidFill>
          <a:ln w="0">
            <a:noFill/>
          </a:ln>
          <a:effectLst>
            <a:outerShdw dist="25318" dir="7190755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f4a25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103765320">
              <a:spcBef>
                <a:spcPts val="700"/>
              </a:spcBef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lvl="1" marL="557280" indent="-228600">
              <a:spcBef>
                <a:spcPts val="700"/>
              </a:spcBef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lvl="2" marL="812880" indent="-228600">
              <a:spcBef>
                <a:spcPts val="700"/>
              </a:spcBef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lvl="3" marL="1068480" indent="-228600">
              <a:spcBef>
                <a:spcPts val="700"/>
              </a:spcBef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lvl="4" marL="1316160" indent="-228600">
              <a:spcBef>
                <a:spcPts val="700"/>
              </a:spcBef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lvl="5" marL="131616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lvl="6" marL="131616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95339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95339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95339"/>
                </a:solidFill>
                <a:latin typeface="Candar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DD1CC-DF7A-41DE-92B2-27C4E171E1C3}" type="slidenum">
              <a:rPr b="0" lang="ru-RU" sz="1200" spc="-1" strike="noStrike">
                <a:solidFill>
                  <a:srgbClr val="795339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Заголовок 1" descr=""/>
          <p:cNvPicPr/>
          <p:nvPr/>
        </p:nvPicPr>
        <p:blipFill>
          <a:blip r:embed="rId2"/>
          <a:stretch/>
        </p:blipFill>
        <p:spPr>
          <a:xfrm>
            <a:off x="590400" y="-237960"/>
            <a:ext cx="8077320" cy="38462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96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95339"/>
                </a:solidFill>
                <a:latin typeface="Candara"/>
              </a:rPr>
              <a:t> </a:t>
            </a:r>
            <a:r>
              <a:rPr b="0" lang="ru-RU" sz="3000" spc="-1" strike="noStrike">
                <a:solidFill>
                  <a:srgbClr val="795339"/>
                </a:solidFill>
                <a:latin typeface="Candara"/>
              </a:rPr>
              <a:t>Общая характеристика русской литературы первой половины XIX века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0" y="-360"/>
            <a:ext cx="9144000" cy="642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93000"/>
          </a:bodyPr>
          <a:p>
            <a:pPr indent="96501600"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Литераторы обращаются к общественно-политическим проблемам российской действительности. Развивается </a:t>
            </a:r>
            <a:r>
              <a:rPr b="1" lang="ru-RU" sz="2800" spc="-1" strike="noStrike">
                <a:solidFill>
                  <a:srgbClr val="ff0000"/>
                </a:solidFill>
                <a:latin typeface="Candara"/>
              </a:rPr>
              <a:t>жанр реалистического романа</a:t>
            </a: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. Свои произведения создают И.С. Тургенев, Ф.М. Достоевский, Л.Н. Толстой, И.А. Гончаров. Преобладает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ndara"/>
              </a:rPr>
              <a:t>общественно-политическая, философская проблематика. Литературу отличает особый психологизм.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indent="96501600"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Развитие поэзии несколько затихает. Стоит отметить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Candara"/>
              </a:rPr>
              <a:t>поэтические произведения Некрасова</a:t>
            </a: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, который первым внес в поэзию социальную проблематику. Известна его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Candara"/>
              </a:rPr>
              <a:t>поэма «Кому на Руси жить хорошо?», </a:t>
            </a: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а также множество стихотворений, где осмысляется тяжелая и беспросветная жизнь народа.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indent="96501600"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Содержимое 3" descr="104.jpg"/>
          <p:cNvPicPr/>
          <p:nvPr/>
        </p:nvPicPr>
        <p:blipFill>
          <a:blip r:embed="rId2"/>
          <a:stretch/>
        </p:blipFill>
        <p:spPr>
          <a:xfrm>
            <a:off x="179280" y="189000"/>
            <a:ext cx="2695680" cy="367164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4" descr="105.jpg"/>
          <p:cNvPicPr/>
          <p:nvPr/>
        </p:nvPicPr>
        <p:blipFill>
          <a:blip r:embed="rId3"/>
          <a:stretch/>
        </p:blipFill>
        <p:spPr>
          <a:xfrm>
            <a:off x="1619280" y="2708280"/>
            <a:ext cx="3114720" cy="400032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5" descr="106.jpg"/>
          <p:cNvPicPr/>
          <p:nvPr/>
        </p:nvPicPr>
        <p:blipFill>
          <a:blip r:embed="rId4"/>
          <a:stretch/>
        </p:blipFill>
        <p:spPr>
          <a:xfrm>
            <a:off x="4788000" y="260280"/>
            <a:ext cx="4095720" cy="5229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95280" y="188640"/>
            <a:ext cx="8244000" cy="6669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19 век называют «Золотым веком» русской поэзии и веком русской литературы в мировом масштабе. Не стоит забывать, что литературный скачок, осуществившийся в 19 веке, был подготовлен всем ходом литературного процесса 17-18 веков. 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19 век – это время формирования русского литературного языка, который оформился во многом благодаря А.С. Пушкину.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86" name="Рисунок 3" descr="100.jpg"/>
          <p:cNvPicPr/>
          <p:nvPr/>
        </p:nvPicPr>
        <p:blipFill>
          <a:blip r:embed="rId2"/>
          <a:stretch/>
        </p:blipFill>
        <p:spPr>
          <a:xfrm>
            <a:off x="4067280" y="4149720"/>
            <a:ext cx="4095720" cy="2533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0" y="0"/>
            <a:ext cx="6084720" cy="6858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93000"/>
          </a:bodyPr>
          <a:p>
            <a:pPr indent="96501600"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Но начался </a:t>
            </a:r>
            <a:r>
              <a:rPr b="0" lang="ru-RU" sz="2800" spc="-1" strike="noStrike">
                <a:solidFill>
                  <a:srgbClr val="ff0000"/>
                </a:solidFill>
                <a:latin typeface="Candara"/>
              </a:rPr>
              <a:t>19 век </a:t>
            </a: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с расцвета </a:t>
            </a:r>
            <a:r>
              <a:rPr b="0" lang="ru-RU" sz="2800" spc="-1" strike="noStrike">
                <a:solidFill>
                  <a:srgbClr val="ff0000"/>
                </a:solidFill>
                <a:latin typeface="Candara"/>
              </a:rPr>
              <a:t>сентиментализма </a:t>
            </a: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и становления </a:t>
            </a:r>
            <a:r>
              <a:rPr b="0" lang="ru-RU" sz="2800" spc="-1" strike="noStrike">
                <a:solidFill>
                  <a:srgbClr val="ff0000"/>
                </a:solidFill>
                <a:latin typeface="Candara"/>
              </a:rPr>
              <a:t>романтизма.</a:t>
            </a: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 Указанные литературные направления нашли выражение, прежде всего, в поэзии. На первый план выходят стихотворные произведения поэтов Е.А. Баратынского, К.Н. Батюшкова, В.А. Жуковского, А.А. Фета, Д.В. Давыдова, Н.М. Языкова. Творчеством Ф.И. Тютчева «Золотой век» русской поэзии был завершен. Тем не менее,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ndara"/>
              </a:rPr>
              <a:t>центральной фигурой этого времени был Александр Сергеевич Пушкин</a:t>
            </a: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88" name="Рисунок 3" descr="102.jpg"/>
          <p:cNvPicPr/>
          <p:nvPr/>
        </p:nvPicPr>
        <p:blipFill>
          <a:blip r:embed="rId2"/>
          <a:stretch/>
        </p:blipFill>
        <p:spPr>
          <a:xfrm>
            <a:off x="6159600" y="3159000"/>
            <a:ext cx="2984400" cy="3699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3" descr="103.jpg"/>
          <p:cNvPicPr/>
          <p:nvPr/>
        </p:nvPicPr>
        <p:blipFill>
          <a:blip r:embed="rId2"/>
          <a:stretch/>
        </p:blipFill>
        <p:spPr>
          <a:xfrm>
            <a:off x="5073480" y="1125360"/>
            <a:ext cx="4070520" cy="53564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-360" y="-360"/>
            <a:ext cx="5832360" cy="6669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94000"/>
          </a:bodyPr>
          <a:p>
            <a:pPr indent="97539120">
              <a:lnSpc>
                <a:spcPct val="9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А.С. Пушкин начал свое восхождение на литературный олимп с поэмы «Руслан и Людмила» в 1920 году. А его роман в стихах «Евгений Онегин» был назван энциклопедией русской жизни. Романтические поэмы А.С. Пушкина «Медный всадник» (1833), «Бахчисарайский фонтан», «Цыганы» открыли эпоху русского романтизма. Многие поэты и писатели считали А. С. Пушкина своим учителем и продолжали заложенные им традиции создания литературных произведений. Одним из таких поэтов был </a:t>
            </a:r>
            <a:r>
              <a:rPr b="0" lang="ru-RU" sz="2800" spc="-1" strike="noStrike">
                <a:solidFill>
                  <a:srgbClr val="ff0000"/>
                </a:solidFill>
                <a:latin typeface="Candara"/>
              </a:rPr>
              <a:t>М.Ю. Лермонтов.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3" descr="prorok.jpg"/>
          <p:cNvPicPr/>
          <p:nvPr/>
        </p:nvPicPr>
        <p:blipFill>
          <a:blip r:embed="rId2"/>
          <a:stretch/>
        </p:blipFill>
        <p:spPr>
          <a:xfrm>
            <a:off x="5803920" y="2421000"/>
            <a:ext cx="3340080" cy="42544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250560" y="-360"/>
            <a:ext cx="6049800" cy="6669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91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Известны его романтическая поэма «Мцыри», стихотворная повесть «Демон», множество романтических стихотворений</a:t>
            </a:r>
            <a:r>
              <a:rPr b="0" lang="ru-RU" sz="2600" spc="-1" strike="noStrike">
                <a:solidFill>
                  <a:srgbClr val="ff0000"/>
                </a:solidFill>
                <a:latin typeface="Candara"/>
              </a:rPr>
              <a:t>. Интересно, что русская поэзия 19 века была тесно связана с общественно политической жизнью страны.</a:t>
            </a: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 Поэты пытались осмыслить идею своего особого предназначения. Поэт в России считался проводником божественной истины, пророком. Поэты призывали власть прислушаться к их словам. </a:t>
            </a:r>
            <a:r>
              <a:rPr b="0" lang="ru-RU" sz="2600" spc="-1" strike="noStrike">
                <a:solidFill>
                  <a:srgbClr val="ff0000"/>
                </a:solidFill>
                <a:latin typeface="Candara"/>
              </a:rPr>
              <a:t>Яркими примерами осмысления роли поэта и влияния на политическую жизнь страны являются стихотворения А.С. Пушкина «Пророк», ода «Вольность», «Поэт и толпа», стихотворение М.Ю. Лермонтова «На смерть поэта»</a:t>
            </a: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 и многие другие.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-360" y="188640"/>
            <a:ext cx="5219640" cy="6669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91000"/>
          </a:bodyPr>
          <a:p>
            <a:pPr indent="94426200">
              <a:lnSpc>
                <a:spcPct val="8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Наряду с поэзией начала развиваться проза. Прозаики начала века находились под влиянием английских исторических романов В. Скотта, переводы которых пользовались огромной популярностью. Развитие русской прозы 19 века началось с прозаических произведений А.С. Пушкина и Н.В. Гоголя. Пушкин под влиянием английских </a:t>
            </a:r>
            <a:r>
              <a:rPr b="0" lang="ru-RU" sz="2400" spc="-1" strike="noStrike">
                <a:solidFill>
                  <a:srgbClr val="ff0000"/>
                </a:solidFill>
                <a:latin typeface="Candara"/>
              </a:rPr>
              <a:t>исторических романов создает повесть «Капитанская дочка»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, где действия разворачивается на фоне грандиозных исторических событий: во времена Пугачевского бунта.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indent="94426200">
              <a:lnSpc>
                <a:spcPct val="8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А.С. Пушкин произвел колоссальную работу, исследуя этот исторический период. Это произведение носило во многом политический характер и было направлено к власть имущим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94" name="Рисунок 3" descr="2.jpg"/>
          <p:cNvPicPr/>
          <p:nvPr/>
        </p:nvPicPr>
        <p:blipFill>
          <a:blip r:embed="rId2"/>
          <a:stretch/>
        </p:blipFill>
        <p:spPr>
          <a:xfrm>
            <a:off x="4954680" y="907920"/>
            <a:ext cx="4189320" cy="5516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95280" y="-360"/>
            <a:ext cx="8229600" cy="4149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89000"/>
          </a:bodyPr>
          <a:p>
            <a:pPr indent="92350800"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А.С. Пушкин и Н.В. Гоголь </a:t>
            </a:r>
            <a:r>
              <a:rPr b="0" lang="ru-RU" sz="2800" spc="-1" strike="noStrike">
                <a:solidFill>
                  <a:srgbClr val="ff0000"/>
                </a:solidFill>
                <a:latin typeface="Candara"/>
              </a:rPr>
              <a:t>обозначили основные художественные типы</a:t>
            </a: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, которые будут разрабатываться писателями на всем протяжении 19 века. </a:t>
            </a:r>
            <a:r>
              <a:rPr b="0" lang="ru-RU" sz="2800" spc="-1" strike="noStrike">
                <a:solidFill>
                  <a:srgbClr val="ff0000"/>
                </a:solidFill>
                <a:latin typeface="Candara"/>
              </a:rPr>
              <a:t>Это художественный тип «лишнего человека», </a:t>
            </a: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образцом которого является Евгений Онегин в романе А.С. Пушкина, и так называемый </a:t>
            </a:r>
            <a:r>
              <a:rPr b="0" lang="ru-RU" sz="2800" spc="-1" strike="noStrike">
                <a:solidFill>
                  <a:srgbClr val="ff0000"/>
                </a:solidFill>
                <a:latin typeface="Candara"/>
              </a:rPr>
              <a:t>тип «маленького человека», </a:t>
            </a: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который показан Н.В. Гоголем в его повести «Шинель», а также А.С. Пушкиным в повести «Станционный смотритель».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96" name="Рисунок 4" descr="pushkin.jpg"/>
          <p:cNvPicPr/>
          <p:nvPr/>
        </p:nvPicPr>
        <p:blipFill>
          <a:blip r:embed="rId2"/>
          <a:stretch/>
        </p:blipFill>
        <p:spPr>
          <a:xfrm>
            <a:off x="900000" y="3860640"/>
            <a:ext cx="2303640" cy="28386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5" descr="Moller_74-C3559.jpg"/>
          <p:cNvPicPr/>
          <p:nvPr/>
        </p:nvPicPr>
        <p:blipFill>
          <a:blip r:embed="rId3"/>
          <a:stretch/>
        </p:blipFill>
        <p:spPr>
          <a:xfrm>
            <a:off x="4932360" y="3778200"/>
            <a:ext cx="2232000" cy="3079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6836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92000"/>
          </a:bodyPr>
          <a:p>
            <a:pPr indent="95464080">
              <a:lnSpc>
                <a:spcPct val="9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Литература унаследовала от 18 века свою публицистичность и сатирический характер. В прозаической поэме Н.В. Гоголя «Мертвые души» писатель в острой сатирической манере показывает мошенника, который скупает мертвые души, различные типы помещиков, которые являются воплощением различных человеческих пороков (сказывается влияние классицизма). В этом же плане выдержана комедия «Ревизор». 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indent="95464080">
              <a:lnSpc>
                <a:spcPct val="9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Полны сатирических образов и произведения А. С. Пушкина. Литература продолжает сатирически изображать российскую действительность. </a:t>
            </a:r>
            <a:r>
              <a:rPr b="0" lang="ru-RU" sz="2600" spc="-1" strike="noStrike" u="sng">
                <a:solidFill>
                  <a:srgbClr val="ff0000"/>
                </a:solidFill>
                <a:uFillTx/>
                <a:latin typeface="Candara"/>
              </a:rPr>
              <a:t>Тенденция изображения пороков и недостатков российского общества – характерная черта всей русской классической литературы. Она прослеживается в произведениях практически всех писателей 19 века.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0" y="-360"/>
            <a:ext cx="5796000" cy="6597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89000"/>
          </a:bodyPr>
          <a:p>
            <a:pPr indent="92350800">
              <a:lnSpc>
                <a:spcPct val="9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С середины 19 века происходит </a:t>
            </a:r>
            <a:r>
              <a:rPr b="0" lang="ru-RU" sz="2400" spc="-1" strike="noStrike">
                <a:solidFill>
                  <a:srgbClr val="ff0000"/>
                </a:solidFill>
                <a:latin typeface="Candara"/>
              </a:rPr>
              <a:t>становление русской реалистической литературы, которая создается на фоне напряженной социально-политической обстановки, сложившейся в России во время правления Николая I. 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Назревает кризис крепостнической системы, сильны противоречия между властью и простым народом. Назрела необходимость создания реалистической литературы, остро реагирующей на общественно-политическую ситуацию в стране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indent="92350800">
              <a:lnSpc>
                <a:spcPct val="9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Candara"/>
              </a:rPr>
              <a:t>Литературный критик В.Г. Белинский обозначает новое реалистическое направление в литературе. 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Его позицию развивают Н.А. Добролюбов, Н.Г. Чернышевский. Возникает спор между западниками и славянофилами о путях исторического развития России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00" name="Рисунок 3" descr="131.jpg"/>
          <p:cNvPicPr/>
          <p:nvPr/>
        </p:nvPicPr>
        <p:blipFill>
          <a:blip r:embed="rId2"/>
          <a:stretch/>
        </p:blipFill>
        <p:spPr>
          <a:xfrm>
            <a:off x="5796000" y="1197000"/>
            <a:ext cx="3056040" cy="4394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1T17:09:51Z</dcterms:created>
  <dc:creator/>
  <dc:description/>
  <dc:language>en-US</dc:language>
  <cp:lastModifiedBy>Ivleva</cp:lastModifiedBy>
  <dcterms:modified xsi:type="dcterms:W3CDTF">2013-04-08T16:55:57Z</dcterms:modified>
  <cp:revision>8</cp:revision>
  <dc:subject/>
  <dc:title>"Век девятнадцатый, железный, воистину жестокий век!"</dc:title>
</cp:coreProperties>
</file>