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B07-C425-4F36-AFD4-C5EA2604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113-8834-4F76-B9AF-EB1EE79E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1DF-0521-4CFA-97F6-96CB3CB3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3BB-9D09-4F6E-9EA2-2DDBBCBA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06A8-C10D-4037-A276-8E01F606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2BA0-C4C0-4C0A-8240-C434EF7F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B450-71C1-4C06-8B2A-63445E9C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BE8A-5BA3-437C-A2AA-4B271173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B949-CD03-4665-9B71-56FE9030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328D-4A08-4957-A177-675F5EDE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0AA8-7948-4FAB-97DB-61126C3D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688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8CC7-EA63-4B7D-A85B-0C7CFE5A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1FC2-8D7E-4F5D-B268-ED822F0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1799-E64D-4FF5-B9D3-9376717B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0BDD-9510-4EED-8F2B-2D632C01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38D8-276F-473C-B16B-D6E8F3C7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5646-280C-4B73-92FB-12EB4222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FEC-2647-4091-A5EC-1FD99650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7F0-BD4A-483D-9019-31F9ED31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435-EC54-41AD-85EC-3539DF4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671760"/>
            <a:ext cx="822960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CEC-2D4A-4D0C-A0B7-0A359787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2B4-CB4F-4449-ADD3-CB4CCB60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7AA-A374-41B2-8499-106E318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9B4-7163-4AD0-ADA0-B2653AC0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10376532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33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33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339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C340-FEC0-4002-87F4-24457C294349}" type="slidenum">
              <a:rPr b="0" lang="ru-RU" sz="1200" spc="-1" strike="noStrike">
                <a:solidFill>
                  <a:srgbClr val="79533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727200" y="1062000"/>
            <a:ext cx="4600440" cy="3978360"/>
          </a:xfrm>
          <a:prstGeom prst="rect">
            <a:avLst/>
          </a:prstGeom>
          <a:solidFill>
            <a:srgbClr val="2f1e12"/>
          </a:solidFill>
          <a:ln w="0">
            <a:noFill/>
          </a:ln>
          <a:effectLst>
            <a:outerShdw dist="25318" dir="7190755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f4a25"/>
                </a:solidFill>
                <a:latin typeface="Candara"/>
              </a:rPr>
              <a:t>Click to edit the title text format</a:t>
            </a:r>
            <a:endParaRPr b="1" lang="en-US" sz="4800" spc="-1" strike="noStrike">
              <a:solidFill>
                <a:srgbClr val="7f4a25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103765320">
              <a:spcBef>
                <a:spcPts val="700"/>
              </a:spcBef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1" marL="5572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2" marL="81288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3" marL="1068480" indent="-228600">
              <a:spcBef>
                <a:spcPts val="700"/>
              </a:spcBef>
              <a:buClr>
                <a:srgbClr val="79533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4" marL="1316160" indent="-228600">
              <a:spcBef>
                <a:spcPts val="700"/>
              </a:spcBef>
              <a:buClr>
                <a:srgbClr val="ad2e27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5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lvl="6" marL="131616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339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339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339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CB57-8B9B-4284-8948-4C7AC269564A}" type="slidenum">
              <a:rPr b="0" lang="ru-RU" sz="1200" spc="-1" strike="noStrike">
                <a:solidFill>
                  <a:srgbClr val="79533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590400" y="-237960"/>
            <a:ext cx="8077320" cy="384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9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95339"/>
                </a:solidFill>
                <a:latin typeface="Candara"/>
              </a:rPr>
              <a:t> </a:t>
            </a:r>
            <a:r>
              <a:rPr b="0" lang="ru-RU" sz="3000" spc="-1" strike="noStrike">
                <a:solidFill>
                  <a:srgbClr val="795339"/>
                </a:solidFill>
                <a:latin typeface="Candara"/>
              </a:rPr>
              <a:t>Общая характеристика русской литературы первой половины XIX века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-360"/>
            <a:ext cx="9144000" cy="642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Литераторы обращаются к общественно-политическим проблемам российской действительности. Развивается </a:t>
            </a:r>
            <a:r>
              <a:rPr b="1" lang="ru-RU" sz="2800" spc="-1" strike="noStrike">
                <a:solidFill>
                  <a:srgbClr val="ff0000"/>
                </a:solidFill>
                <a:latin typeface="Candara"/>
              </a:rPr>
              <a:t>жанр реалистического романа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. Свои произведения создают И.С. Тургенев, Ф.М. Достоевский, Л.Н. Толстой, И.А. Гончаров. Преобладае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ndara"/>
              </a:rPr>
              <a:t>общественно-политическая, философская проблематика. Литературу отличает особый психологизм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Развитие поэзии несколько затихает. Стоит отметить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ndara"/>
              </a:rPr>
              <a:t>поэтические произведения Некрасова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, который первым внес в поэзию социальную проблематику. Известна его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andara"/>
              </a:rPr>
              <a:t>поэма «Кому на Руси жить хорошо?»,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 также множество стихотворений, где осмысляется тяжелая и беспросветная жизнь народа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104.jpg"/>
          <p:cNvPicPr/>
          <p:nvPr/>
        </p:nvPicPr>
        <p:blipFill>
          <a:blip r:embed="rId2"/>
          <a:stretch/>
        </p:blipFill>
        <p:spPr>
          <a:xfrm>
            <a:off x="179280" y="189000"/>
            <a:ext cx="2695680" cy="3671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105.jpg"/>
          <p:cNvPicPr/>
          <p:nvPr/>
        </p:nvPicPr>
        <p:blipFill>
          <a:blip r:embed="rId3"/>
          <a:stretch/>
        </p:blipFill>
        <p:spPr>
          <a:xfrm>
            <a:off x="1619280" y="2708280"/>
            <a:ext cx="3114720" cy="4000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5" descr="106.jpg"/>
          <p:cNvPicPr/>
          <p:nvPr/>
        </p:nvPicPr>
        <p:blipFill>
          <a:blip r:embed="rId4"/>
          <a:stretch/>
        </p:blipFill>
        <p:spPr>
          <a:xfrm>
            <a:off x="4788000" y="260280"/>
            <a:ext cx="4095720" cy="522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95280" y="188640"/>
            <a:ext cx="8244000" cy="666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19 век называют «Золотым веком» русской поэзии и веком русской литературы в мировом масштабе. Не стоит забывать, что литературный скачок, осуществившийся в 19 веке, был подготовлен всем ходом литературного процесса 17-18 веков. 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19 век – это время формирования русского литературного языка, который оформился во многом благодаря А.С. Пушкину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6" name="Рисунок 3" descr="100.jpg"/>
          <p:cNvPicPr/>
          <p:nvPr/>
        </p:nvPicPr>
        <p:blipFill>
          <a:blip r:embed="rId2"/>
          <a:stretch/>
        </p:blipFill>
        <p:spPr>
          <a:xfrm>
            <a:off x="4067280" y="4149720"/>
            <a:ext cx="4095720" cy="253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0"/>
            <a:ext cx="608472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indent="965016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о начался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19 век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с расцвета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сентиментализма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 становления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романтизма.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 Указанные литературные направления нашли выражение, прежде всего, в поэзии. На первый план выходят стихотворные произведения поэтов Е.А. Баратынского, К.Н. Батюшкова, В.А. Жуковского, А.А. Фета, Д.В. Давыдова, Н.М. Языкова. Творчеством Ф.И. Тютчева «Золотой век» русской поэзии был завершен. Тем не менее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ndara"/>
              </a:rPr>
              <a:t>центральной фигурой этого времени был Александр Сергеевич Пушкин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88" name="Рисунок 3" descr="102.jpg"/>
          <p:cNvPicPr/>
          <p:nvPr/>
        </p:nvPicPr>
        <p:blipFill>
          <a:blip r:embed="rId2"/>
          <a:stretch/>
        </p:blipFill>
        <p:spPr>
          <a:xfrm>
            <a:off x="6159600" y="3159000"/>
            <a:ext cx="2984400" cy="369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103.jpg"/>
          <p:cNvPicPr/>
          <p:nvPr/>
        </p:nvPicPr>
        <p:blipFill>
          <a:blip r:embed="rId2"/>
          <a:stretch/>
        </p:blipFill>
        <p:spPr>
          <a:xfrm>
            <a:off x="5073480" y="1125360"/>
            <a:ext cx="4070520" cy="5356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-360" y="-360"/>
            <a:ext cx="5832360" cy="666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4000"/>
          </a:bodyPr>
          <a:p>
            <a:pPr indent="9753912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.С. Пушкин начал свое восхождение на литературный олимп с поэмы «Руслан и Людмила» в 1920 году. А его роман в стихах «Евгений Онегин» был назван энциклопедией русской жизни. Романтические поэмы А.С. Пушкина «Медный всадник» (1833), «Бахчисарайский фонтан», «Цыганы» открыли эпоху русского романтизма. Многие поэты и писатели считали А. С. Пушкина своим учителем и продолжали заложенные им традиции создания литературных произведений. Одним из таких поэтов был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М.Ю. Лермонтов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3" descr="prorok.jpg"/>
          <p:cNvPicPr/>
          <p:nvPr/>
        </p:nvPicPr>
        <p:blipFill>
          <a:blip r:embed="rId2"/>
          <a:stretch/>
        </p:blipFill>
        <p:spPr>
          <a:xfrm>
            <a:off x="5803920" y="2421000"/>
            <a:ext cx="3340080" cy="425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50560" y="-360"/>
            <a:ext cx="6049800" cy="666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1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Известны его романтическая поэма «Мцыри», стихотворная повесть «Демон», множество романтических стихотворений</a:t>
            </a:r>
            <a:r>
              <a:rPr b="0" lang="ru-RU" sz="2600" spc="-1" strike="noStrike">
                <a:solidFill>
                  <a:srgbClr val="ff0000"/>
                </a:solidFill>
                <a:latin typeface="Candara"/>
              </a:rPr>
              <a:t>. Интересно, что русская поэзия 19 века была тесно связана с общественно политической жизнью страны.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Поэты пытались осмыслить идею своего особого предназначения. Поэт в России считался проводником божественной истины, пророком. Поэты призывали власть прислушаться к их словам. </a:t>
            </a:r>
            <a:r>
              <a:rPr b="0" lang="ru-RU" sz="2600" spc="-1" strike="noStrike">
                <a:solidFill>
                  <a:srgbClr val="ff0000"/>
                </a:solidFill>
                <a:latin typeface="Candara"/>
              </a:rPr>
              <a:t>Яркими примерами осмысления роли поэта и влияния на политическую жизнь страны являются стихотворения А.С. Пушкина «Пророк», ода «Вольность», «Поэт и толпа», стихотворение М.Ю. Лермонтова «На смерть поэта»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и многие другие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-360" y="188640"/>
            <a:ext cx="5219640" cy="666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1000"/>
          </a:bodyPr>
          <a:p>
            <a:pPr indent="9442620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ряду с поэзией начала развиваться проза. Прозаики начала века находились под влиянием английских исторических романов В. Скотта, переводы которых пользовались огромной популярностью. Развитие русской прозы 19 века началось с прозаических произведений А.С. Пушкина и Н.В. Гоголя. Пушкин под влиянием английских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исторических романов создает повесть «Капитанская дочка»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где действия разворачивается на фоне грандиозных исторических событий: во времена Пугачевского бунта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94426200">
              <a:lnSpc>
                <a:spcPct val="8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А.С. Пушкин произвел колоссальную работу, исследуя этот исторический период. Это произведение носило во многом политический характер и было направлено к власть имущим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4" name="Рисунок 3" descr="2.jpg"/>
          <p:cNvPicPr/>
          <p:nvPr/>
        </p:nvPicPr>
        <p:blipFill>
          <a:blip r:embed="rId2"/>
          <a:stretch/>
        </p:blipFill>
        <p:spPr>
          <a:xfrm>
            <a:off x="4954680" y="907920"/>
            <a:ext cx="4189320" cy="551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95280" y="-36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92350800"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.С. Пушкин и Н.В. Гоголь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обозначили основные художественные типы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, которые будут разрабатываться писателями на всем протяжении 19 века.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Это художественный тип «лишнего человека»,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образцом которого является Евгений Онегин в романе А.С. Пушкина, и так называемый </a:t>
            </a:r>
            <a:r>
              <a:rPr b="0" lang="ru-RU" sz="2800" spc="-1" strike="noStrike">
                <a:solidFill>
                  <a:srgbClr val="ff0000"/>
                </a:solidFill>
                <a:latin typeface="Candara"/>
              </a:rPr>
              <a:t>тип «маленького человека»,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оторый показан Н.В. Гоголем в его повести «Шинель», а также А.С. Пушкиным в повести «Станционный смотритель»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96" name="Рисунок 4" descr="pushkin.jpg"/>
          <p:cNvPicPr/>
          <p:nvPr/>
        </p:nvPicPr>
        <p:blipFill>
          <a:blip r:embed="rId2"/>
          <a:stretch/>
        </p:blipFill>
        <p:spPr>
          <a:xfrm>
            <a:off x="900000" y="3860640"/>
            <a:ext cx="2303640" cy="28386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Moller_74-C3559.jpg"/>
          <p:cNvPicPr/>
          <p:nvPr/>
        </p:nvPicPr>
        <p:blipFill>
          <a:blip r:embed="rId3"/>
          <a:stretch/>
        </p:blipFill>
        <p:spPr>
          <a:xfrm>
            <a:off x="4932360" y="3778200"/>
            <a:ext cx="2232000" cy="3079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2000"/>
          </a:bodyPr>
          <a:p>
            <a:pPr indent="9546408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Литература унаследовала от 18 века свою публицистичность и сатирический характер. В прозаической поэме Н.В. Гоголя «Мертвые души» писатель в острой сатирической манере показывает мошенника, который скупает мертвые души, различные типы помещиков, которые являются воплощением различных человеческих пороков (сказывается влияние классицизма). В этом же плане выдержана комедия «Ревизор».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  <a:p>
            <a:pPr indent="9546408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лны сатирических образов и произведения А. С. Пушкина. Литература продолжает сатирически изображать российскую действительность.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ndara"/>
              </a:rPr>
              <a:t>Тенденция изображения пороков и недостатков российского общества – характерная черта всей русской классической литературы. Она прослеживается в произведениях практически всех писателей 19 века.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-360"/>
            <a:ext cx="5796000" cy="6597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9000"/>
          </a:bodyPr>
          <a:p>
            <a:pPr indent="9235080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 середины 19 века происходит </a:t>
            </a: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становление русской реалистической литературы, которая создается на фоне напряженной социально-политической обстановки, сложившейся в России во время правления Николая I.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зревает кризис крепостнической системы, сильны противоречия между властью и простым народом. Назрела необходимость создания реалистической литературы, остро реагирующей на общественно-политическую ситуацию в стране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indent="92350800">
              <a:lnSpc>
                <a:spcPct val="90000"/>
              </a:lnSpc>
              <a:buClr>
                <a:srgbClr val="ad2e2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andara"/>
              </a:rPr>
              <a:t>Литературный критик В.Г. Белинский обозначает новое реалистическое направление в литературе.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го позицию развивают Н.А. Добролюбов, Н.Г. Чернышевский. Возникает спор между западниками и славянофилами о путях исторического развития России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100" name="Рисунок 3" descr="131.jpg"/>
          <p:cNvPicPr/>
          <p:nvPr/>
        </p:nvPicPr>
        <p:blipFill>
          <a:blip r:embed="rId2"/>
          <a:stretch/>
        </p:blipFill>
        <p:spPr>
          <a:xfrm>
            <a:off x="5796000" y="1197000"/>
            <a:ext cx="3056040" cy="4394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17:09:51Z</dcterms:created>
  <dc:creator/>
  <dc:description/>
  <dc:language>en-US</dc:language>
  <cp:lastModifiedBy>Ivleva</cp:lastModifiedBy>
  <dcterms:modified xsi:type="dcterms:W3CDTF">2013-04-08T16:55:57Z</dcterms:modified>
  <cp:revision>8</cp:revision>
  <dc:subject/>
  <dc:title>"Век девятнадцатый, железный, воистину жестокий век!"</dc:title>
</cp:coreProperties>
</file>