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8F04-3222-4A03-BA3C-70561C1E760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3C93-6328-4E0B-A5D5-7022C44FA6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51E2-CB87-466E-B4B4-1645BE044F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C42E-BAD7-4123-B4CD-203CC87D73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554D-05C4-4D33-967A-24ABD369675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4E0E-23AC-4A23-A31C-045C3E8407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0BC2-EE72-4C92-BD3A-C2AE3A50D3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1A7F-AF4F-4B65-8A28-65C8AB9911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810F-5573-423F-8285-D0A1304ABB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AC59-80B3-48EB-A145-D07145F32B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8AA5-7B09-41C0-9373-001D233C95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4002-7CC6-492B-BF17-640BC7B702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4EBB-636C-4D96-9E3E-E13D00A650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A689-DFB1-4A6D-80F8-3B1C7F657B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32BF-671E-4F99-BDFF-1B285CE24B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87CE-2C64-4496-8AD6-B5F49C49AA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B9B8-C571-4977-A145-092109B85F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409D-DFA9-42FE-8807-CD61FB8A8F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4C1B-09A4-489C-98FE-B6C5A72F7F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32C4-8944-4678-9BDC-A4B1B61E5C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1E25-00D7-4DE4-A9D4-BE726C50B5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E939-2145-4ABE-B477-F6382105BC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16FA-56DE-4AD4-83CC-C2C4B6C1DA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E8DD2-C35A-4A8B-AD52-E09091FA1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3B41-A2DF-430F-A33B-7C42776A9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9F860-1BB0-4004-9AC5-566256DA2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0A972-4A6A-4548-BFE5-F4CAA163D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B77CF-0964-4665-B976-2D5F958BC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14878-9981-499A-B250-E76CE519E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19C4A-D21A-4E19-9290-FF4322423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423E4-533B-4F25-8D86-E9397DD94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A6AF0-A05A-4555-824D-D7114310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09DB8-037F-43B5-9CA3-2E4C9011D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C4A1D-E208-420F-B581-A63D3D672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FA4C-D56A-472B-93E1-6C5AA8F1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18165-C00E-4941-90EF-B3F7E61A9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3076B-270C-4E44-BFBC-13DF67E1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793FD-63A3-4398-9831-FFD1885C9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4CC6D-4C13-4232-B7DF-865738A7E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51437-DEBE-4ECA-ACC8-B79965340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A3F6D-7E55-4A78-9F5B-F2AFC4719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10872-1549-4BB4-ACE8-45B3B4EEB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030E3-1921-4CAB-A541-961BCDD2C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26178-0382-42D6-A794-D34094886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BE5B1-3D74-427E-826F-75B1368F0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ECFA-4B5C-4884-A0BA-0D7A378B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EFF47-CB9C-4399-9B7C-5110243AC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52174-F10C-468E-9B32-77C72A8FC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F5E43-5807-41A2-83A3-8EAC60121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57673-83BE-47AB-8D5C-0CA119357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331F4-FB55-4561-98E2-20F008FEE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763B20-9573-4154-9B0F-06554A880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356E2-855C-4329-B1B4-52101CA97E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FB9DD-6A48-436B-B9B1-1B01470174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466DD-2F64-42B6-9479-49D23BD78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51B2F-524A-4C7C-896F-9E20776C47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AADB-C4CF-4576-AFF8-1A84BFE0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34F50-C36B-46DA-9056-FF31AF911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23884-DAF2-441A-9D12-203EE5912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CF4FA-9580-42DF-85E5-FA518103E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E35BA-7052-4D0C-BC71-ACF171895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2E24C-BB95-4259-A963-E208D0749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926E9-7FDC-4769-8D82-5C43AFD24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DDB8CA-E8A3-4582-A9F3-A2A8FA1C41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F8FC29-EF5A-4139-993C-9982F8DC2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5B84F9-306F-4CAF-92DB-F2512E4ADC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D95D-9BA0-4CF0-B8B9-B013910A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01D1-CEC2-4489-85ED-03B3AE38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6D59-4C3C-4B60-83DA-EA379294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BCBCB-44AC-46A1-B675-EB09734D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718C-E674-4F4C-B269-305D68474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0A6E-B17B-469F-97EE-8BBD84D825B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04FE-950E-46B0-AF36-2CAEEE2AE73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2681-A2FF-4E23-88AE-B13CB681EFF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36A3-6D3A-41CC-9D53-B6DC746C625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AutoShape 2" descr=""/>
          <p:cNvPicPr/>
          <p:nvPr/>
        </p:nvPicPr>
        <p:blipFill>
          <a:blip r:embed="rId1"/>
          <a:stretch/>
        </p:blipFill>
        <p:spPr>
          <a:xfrm>
            <a:off x="3346560" y="1560600"/>
            <a:ext cx="5638680" cy="320040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257400"/>
            <a:ext cx="746784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1" name=""/>
          <p:cNvSpPr txBox="1"/>
          <p:nvPr/>
        </p:nvSpPr>
        <p:spPr>
          <a:xfrm>
            <a:off x="685800" y="106632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риём слияния:</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бразование сложного предложения путем слияния двух простых, повествующих об одном и том же предмете речи.</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3" descr=""/>
          <p:cNvPicPr/>
          <p:nvPr/>
        </p:nvPicPr>
        <p:blipFill>
          <a:blip r:embed="rId1"/>
          <a:stretch/>
        </p:blipFill>
        <p:spPr>
          <a:xfrm>
            <a:off x="530280" y="165240"/>
            <a:ext cx="7864560" cy="1803240"/>
          </a:xfrm>
          <a:prstGeom prst="rect">
            <a:avLst/>
          </a:prstGeom>
          <a:ln w="0">
            <a:noFill/>
          </a:ln>
        </p:spPr>
      </p:pic>
      <p:sp>
        <p:nvSpPr>
          <p:cNvPr id="223" name="PlaceHolder 1"/>
          <p:cNvSpPr>
            <a:spLocks noGrp="1"/>
          </p:cNvSpPr>
          <p:nvPr>
            <p:ph type="subTitle"/>
          </p:nvPr>
        </p:nvSpPr>
        <p:spPr>
          <a:xfrm>
            <a:off x="533160" y="2590560"/>
            <a:ext cx="7854840" cy="29718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1. Сократите текст вдвое.</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2. Сократите текст, передав его содержание в одном-двух предложениях.</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3. Уберите в тексте лишнее  с вашей точки зрения. </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AutoShape 2" descr=""/>
          <p:cNvPicPr/>
          <p:nvPr/>
        </p:nvPicPr>
        <p:blipFill>
          <a:blip r:embed="rId1"/>
          <a:stretch/>
        </p:blipFill>
        <p:spPr>
          <a:xfrm>
            <a:off x="755640" y="530280"/>
            <a:ext cx="7864560" cy="749160"/>
          </a:xfrm>
          <a:prstGeom prst="rect">
            <a:avLst/>
          </a:prstGeom>
          <a:ln w="0">
            <a:noFill/>
          </a:ln>
        </p:spPr>
      </p:pic>
      <p:sp>
        <p:nvSpPr>
          <p:cNvPr id="225" name="PlaceHolder 1"/>
          <p:cNvSpPr>
            <a:spLocks noGrp="1"/>
          </p:cNvSpPr>
          <p:nvPr>
            <p:ph type="subTitle"/>
          </p:nvPr>
        </p:nvSpPr>
        <p:spPr>
          <a:xfrm>
            <a:off x="533160" y="152352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1. Выделите в тексте существенные, важные мысли.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2. Найдите среди них главную мысль.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3. Разбейте текст на части, сгруппировав его вокруг существенных мысле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4. Озаглавьте каждую часть и составьте план.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5. Подумайте, что можно исключить в каждой части, от каких подробностей избавиться.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6. Какие факты можно обобщить в соседних частях текста.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7. Переведите информацию на «свой» язык.</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8. Запишите сокращённый текст на черновике.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Упражнения  по информационной переработке текста.</a:t>
            </a:r>
            <a:endParaRPr b="0" lang="en-US" sz="3600" spc="-1" strike="noStrike">
              <a:solidFill>
                <a:srgbClr val="04617b"/>
              </a:solidFill>
              <a:latin typeface="Calibri"/>
            </a:endParaRPr>
          </a:p>
        </p:txBody>
      </p:sp>
      <p:sp>
        <p:nvSpPr>
          <p:cNvPr id="227" name=""/>
          <p:cNvSpPr txBox="1"/>
          <p:nvPr/>
        </p:nvSpPr>
        <p:spPr>
          <a:xfrm>
            <a:off x="457200" y="167616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1. Сверните предложение.</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Примерно 25 % регулярных курильщиков умрет преждевременно по причине курения, а ведь многие из этого числа смогли бы прожить на 10,15, а то и 20 лет дольше.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a:t>
            </a:r>
            <a:r>
              <a:rPr b="0" lang="ru-RU" sz="2600" spc="-1" strike="noStrike">
                <a:solidFill>
                  <a:srgbClr val="000000"/>
                </a:solidFill>
                <a:latin typeface="Constantia"/>
              </a:rPr>
              <a:t> примерно 25 % курильщиков умрет преждевременно.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404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295280"/>
            <a:ext cx="8229600" cy="5029200"/>
          </a:xfrm>
          <a:prstGeom prst="rect">
            <a:avLst/>
          </a:prstGeom>
          <a:noFill/>
          <a:ln w="0">
            <a:noFill/>
          </a:ln>
        </p:spPr>
        <p:txBody>
          <a:bodyPr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2. Сократите предложение, оставив только главную мысль.</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Самые опытные экскурсоводы советуют знакомиться с Лондоном при помощи собственных ног, так как паломничества туристов расположены в городе компактно, и сели вы в состоянии самостоятельно разобраться со схемой столицы, то никакой гид вам не нужен.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a:t>
            </a:r>
            <a:r>
              <a:rPr b="0" lang="ru-RU" sz="2600" spc="-1" strike="noStrike">
                <a:solidFill>
                  <a:srgbClr val="000000"/>
                </a:solidFill>
                <a:latin typeface="Constantia"/>
              </a:rPr>
              <a:t> лучше всего знакомиться с Лондоном пешком и с карто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457200"/>
            <a:ext cx="8229600" cy="58672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3. Определите, где находится главная мысль текста. </a:t>
            </a:r>
            <a:endParaRPr b="0" lang="en-US" sz="2600" spc="-1" strike="noStrike">
              <a:solidFill>
                <a:srgbClr val="000000"/>
              </a:solidFill>
              <a:latin typeface="Constantia"/>
            </a:endParaRPr>
          </a:p>
          <a:p>
            <a:pPr marL="253440" indent="-253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Если вы нашли в лесу тропинку, определите сперва – не звериная ли. А то есть шанс выйти к водопою вместе с семейством лосей. Если ветки то и дело бьют вам в лицо и грудь, это значит, что дорожка протоптана зверями немедленно сойдите с нее: наши леса не амазонская сельва, но встречаться с лесными обитателями все равно опасно. Если столкнулись нос к носу с кем-нибудь крупнее зайца, стойте спокойно, дайте зверю уйти.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 </a:t>
            </a:r>
            <a:r>
              <a:rPr b="0" lang="ru-RU" sz="2600" spc="-1" strike="noStrike">
                <a:solidFill>
                  <a:srgbClr val="000000"/>
                </a:solidFill>
                <a:latin typeface="Constantia"/>
              </a:rPr>
              <a:t>в конце текста в конце предложения.</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
          <p:cNvSpPr txBox="1"/>
          <p:nvPr/>
        </p:nvSpPr>
        <p:spPr>
          <a:xfrm>
            <a:off x="457200" y="457200"/>
            <a:ext cx="8229600" cy="5867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4. Прочитайте предложения и составьте с ними текст. Докажите, что это текст.</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Язык научной работы должен быть лёгким, незаметным, красивости в нём недопустимы, а красота его – в чувстве меры.</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Б) Бойтесь пустого красноречия.</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Неточности языка происходят прежде всего от неточности мысли.</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 А в целом следует помнить: нет мысли вне её выражения в языке и поиски слова – это, в сущности, поиски мысли.</a:t>
            </a: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твет: БАГВ).</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685440"/>
            <a:ext cx="822960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пражнение № 5. В тексте «перепутаны» абзацы. Запишите текст правильно.</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 Лодка тонула. В отчаянии люди выпустили на волю голубку. Птица не подвела людей. Она принесла на берег записку с координатами терпящих бедствие. Моряки были спасены.</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Б) Люди изобрели телеграф, телефон и другие быстрые средства связи. Но некоторые до сих пор пользуются помощью голубей. Голубиная почта не исчезла совсем.</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В Англии стоит памятник почтовой голубке. Маленькая птичка спасла жизнь морякам подводной лодки.</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
          <p:cNvSpPr txBox="1"/>
          <p:nvPr/>
        </p:nvSpPr>
        <p:spPr>
          <a:xfrm>
            <a:off x="457200" y="685440"/>
            <a:ext cx="8229600" cy="563868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пражнение № 6. Внимательно прочитайте текст. Сколько в нём микротем? Озаглавьте каждую микротему.</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Известное нам слово «цитата» происходит от латинского слова, которое означает «призывать в свидетели». Конечно, сейчас при цитировании никого в свидетели не призывают. Цитирование – это дословная выдержка из какого-либо произведения или чьей-либо речи. Это чужие слова, которые используются для подтверждения или пояснения своей собственной мысли. Это слова, которые не просто тебе понравились, но стали близкими, понятными, почти родными. Однако просто «присвоить» чужие мысли нельзя.  При использовании цитаты необходимо указать автора слов, а сами слова заключить в кавычки.</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85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
          <p:cNvSpPr txBox="1"/>
          <p:nvPr/>
        </p:nvSpPr>
        <p:spPr>
          <a:xfrm>
            <a:off x="456840" y="457200"/>
            <a:ext cx="8077320" cy="6019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7. </a:t>
            </a:r>
            <a:r>
              <a:rPr b="0" lang="ru-RU" sz="2600" spc="-1" strike="noStrike">
                <a:solidFill>
                  <a:srgbClr val="000000"/>
                </a:solidFill>
                <a:latin typeface="Constantia"/>
              </a:rPr>
              <a:t>Прочитайте друг другу небольшие сообщения, перескажите их, проанализируйте степень полноты переданной информации друг другу.</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8. </a:t>
            </a:r>
            <a:r>
              <a:rPr b="0" lang="ru-RU" sz="2600" spc="-1" strike="noStrike">
                <a:solidFill>
                  <a:srgbClr val="000000"/>
                </a:solidFill>
                <a:latin typeface="Constantia"/>
              </a:rPr>
              <a:t>Прослушайте текст, прочитанный товарищем в медленном темпе, перескажите его, а затем запишите по памяти.</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9. </a:t>
            </a:r>
            <a:r>
              <a:rPr b="0" lang="ru-RU" sz="2600" spc="-1" strike="noStrike">
                <a:solidFill>
                  <a:srgbClr val="000000"/>
                </a:solidFill>
                <a:latin typeface="Constantia"/>
              </a:rPr>
              <a:t>Прослушайте текст, прочитанный товарищем в медленном темпе, перескажите его, а затем запишите по памяти.</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530280" y="969840"/>
            <a:ext cx="8150040" cy="1474920"/>
          </a:xfrm>
          <a:prstGeom prst="rect">
            <a:avLst/>
          </a:prstGeom>
          <a:ln w="0">
            <a:noFill/>
          </a:ln>
        </p:spPr>
      </p:pic>
      <p:sp>
        <p:nvSpPr>
          <p:cNvPr id="205" name="PlaceHolder 1"/>
          <p:cNvSpPr>
            <a:spLocks noGrp="1"/>
          </p:cNvSpPr>
          <p:nvPr>
            <p:ph type="subTitle"/>
          </p:nvPr>
        </p:nvSpPr>
        <p:spPr>
          <a:xfrm>
            <a:off x="533520" y="609120"/>
            <a:ext cx="8153280" cy="4372200"/>
          </a:xfrm>
          <a:prstGeom prst="rect">
            <a:avLst/>
          </a:prstGeom>
          <a:noFill/>
          <a:ln w="0">
            <a:noFill/>
          </a:ln>
        </p:spPr>
        <p:txBody>
          <a:bodyPr lIns="0" rIns="1836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Цель:</a:t>
            </a:r>
            <a:endParaRPr b="0" lang="en-US" sz="4800" spc="-1" strike="noStrike">
              <a:solidFill>
                <a:srgbClr val="ffffff"/>
              </a:solidFill>
              <a:latin typeface="Constanti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 </a:t>
            </a:r>
            <a:r>
              <a:rPr b="0" lang="ru-RU" sz="4800" spc="-1" strike="noStrike">
                <a:solidFill>
                  <a:srgbClr val="ffc000"/>
                </a:solidFill>
                <a:latin typeface="Calibri"/>
              </a:rPr>
              <a:t>научить учащихся 8 - 9 классов осуществлять компрессию (сжатие) воспринятой информации</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60"/>
            <a:ext cx="7851600" cy="1219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41" name="PlaceHolder 2"/>
          <p:cNvSpPr>
            <a:spLocks noGrp="1"/>
          </p:cNvSpPr>
          <p:nvPr>
            <p:ph type="subTitle"/>
          </p:nvPr>
        </p:nvSpPr>
        <p:spPr>
          <a:xfrm>
            <a:off x="533160" y="990720"/>
            <a:ext cx="7854840" cy="399096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graphicFrame>
        <p:nvGraphicFramePr>
          <p:cNvPr id="242" name=""/>
          <p:cNvGraphicFramePr/>
          <p:nvPr/>
        </p:nvGraphicFramePr>
        <p:xfrm>
          <a:off x="457200" y="152280"/>
          <a:ext cx="8229600" cy="6429600"/>
        </p:xfrm>
        <a:graphic>
          <a:graphicData uri="http://schemas.openxmlformats.org/drawingml/2006/table">
            <a:tbl>
              <a:tblPr/>
              <a:tblGrid>
                <a:gridCol w="457200"/>
                <a:gridCol w="2286000"/>
                <a:gridCol w="1371600"/>
                <a:gridCol w="1371600"/>
                <a:gridCol w="1371600"/>
                <a:gridCol w="1371600"/>
              </a:tblGrid>
              <a:tr h="143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Фамилия, им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Начало года, кол-во балла по сжатому излож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октябрь)</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Процент написания учащимися сжатого изложения на макс. балл.-</a:t>
                      </a:r>
                      <a:r>
                        <a:rPr b="1" lang="ru-RU" sz="1600" spc="-1" strike="noStrike">
                          <a:solidFill>
                            <a:srgbClr val="ffffff"/>
                          </a:solidFill>
                          <a:latin typeface="Constantia"/>
                        </a:rPr>
                        <a:t>7</a:t>
                      </a:r>
                      <a:r>
                        <a:rPr b="1" lang="ru-RU" sz="1200" spc="-1" strike="noStrike">
                          <a:solidFill>
                            <a:srgbClr val="ffffff"/>
                          </a:solidFill>
                          <a:latin typeface="Constantia"/>
                        </a:rPr>
                        <a:t>б.</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Конец года, кол-во балла по сжатому излож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ГИ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Процент написания учащимися сжатого изложения на макс. балл.-</a:t>
                      </a:r>
                      <a:r>
                        <a:rPr b="1" lang="ru-RU" sz="1400" spc="-1" strike="noStrike">
                          <a:solidFill>
                            <a:srgbClr val="ffffff"/>
                          </a:solidFill>
                          <a:latin typeface="Constantia"/>
                        </a:rPr>
                        <a:t>7</a:t>
                      </a:r>
                      <a:r>
                        <a:rPr b="1" lang="ru-RU" sz="1200" spc="-1" strike="noStrike">
                          <a:solidFill>
                            <a:srgbClr val="ffffff"/>
                          </a:solidFill>
                          <a:latin typeface="Constantia"/>
                        </a:rPr>
                        <a:t>б.</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1146240"/>
                          <a:tab algn="l" pos="2292480"/>
                          <a:tab algn="l" pos="3438360"/>
                          <a:tab algn="l" pos="4584600"/>
                          <a:tab algn="l" pos="5730840"/>
                          <a:tab algn="l" pos="6877080"/>
                          <a:tab algn="l" pos="8023320"/>
                          <a:tab algn="l" pos="9169560"/>
                          <a:tab algn="l" pos="10315440"/>
                        </a:tabLst>
                      </a:pPr>
                      <a:r>
                        <a:rPr b="0" lang="ru-RU" sz="1400" spc="-1" strike="noStrike">
                          <a:solidFill>
                            <a:srgbClr val="000000"/>
                          </a:solidFill>
                          <a:latin typeface="Times New Roman"/>
                          <a:ea typeface="Times New Roman"/>
                        </a:rPr>
                        <a:t>Большакова Сахамил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абышева Саи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ерасимова Ле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амятина Кат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такинова Туя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ирова Айталы</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стантинова Намыы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арков Арту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ратов Айтал</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иколаева Айыы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етров Русла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топопов Вале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аввинова Саи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Федоров Алеш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44" name="Диаграмма 4" descr=""/>
          <p:cNvPicPr/>
          <p:nvPr/>
        </p:nvPicPr>
        <p:blipFill>
          <a:blip r:embed="rId1"/>
          <a:stretch/>
        </p:blipFill>
        <p:spPr>
          <a:xfrm>
            <a:off x="406440" y="550800"/>
            <a:ext cx="8636040" cy="575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46" name="PlaceHolder 2"/>
          <p:cNvSpPr>
            <a:spLocks noGrp="1"/>
          </p:cNvSpPr>
          <p:nvPr>
            <p:ph type="subTitle"/>
          </p:nvPr>
        </p:nvSpPr>
        <p:spPr>
          <a:xfrm>
            <a:off x="609480" y="2362320"/>
            <a:ext cx="7855200" cy="1752480"/>
          </a:xfrm>
          <a:prstGeom prst="rect">
            <a:avLst/>
          </a:prstGeom>
          <a:noFill/>
          <a:ln w="0">
            <a:noFill/>
          </a:ln>
        </p:spPr>
        <p:txBody>
          <a:bodyPr lIns="0" rIns="1836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9079f"/>
                </a:solidFill>
                <a:latin typeface="Constantia"/>
              </a:rPr>
              <a:t>Спасибо за внимание!</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07" name="PlaceHolder 2"/>
          <p:cNvSpPr>
            <a:spLocks noGrp="1"/>
          </p:cNvSpPr>
          <p:nvPr>
            <p:ph type="subTitle"/>
          </p:nvPr>
        </p:nvSpPr>
        <p:spPr>
          <a:xfrm>
            <a:off x="533160" y="837720"/>
            <a:ext cx="7854840" cy="4953240"/>
          </a:xfrm>
          <a:prstGeom prst="rect">
            <a:avLst/>
          </a:prstGeom>
          <a:noFill/>
          <a:ln w="0">
            <a:noFill/>
          </a:ln>
        </p:spPr>
        <p:txBody>
          <a:bodyPr lIns="0" rIns="1836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alibri"/>
              </a:rPr>
              <a:t>Задачи:</a:t>
            </a:r>
            <a:endParaRPr b="0" lang="en-US" sz="3200" spc="-1" strike="noStrike">
              <a:solidFill>
                <a:srgbClr val="ffffff"/>
              </a:solidFill>
              <a:latin typeface="Constantia"/>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1</a:t>
            </a:r>
            <a:r>
              <a:rPr b="0" lang="ru-RU" sz="2400" spc="-1" strike="noStrike">
                <a:solidFill>
                  <a:srgbClr val="ffc000"/>
                </a:solidFill>
                <a:latin typeface="Calibri"/>
              </a:rPr>
              <a:t>. </a:t>
            </a:r>
            <a:r>
              <a:rPr b="0" lang="ru-RU" sz="2400" spc="-1" strike="noStrike">
                <a:solidFill>
                  <a:srgbClr val="ffc000"/>
                </a:solidFill>
                <a:latin typeface="Constantia"/>
              </a:rPr>
              <a:t>формировать у учащихся коммуникативно-речевые умения:</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научить детей понимать текст и анализировать его;</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овладеть способами и приемами компрессии текста;</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2. опытно – экспериментальным путем показать, что приемы и способы компрессии текста помогают учащимся правильно воспроизводить содержание исходного текста в сжатом виде. </a:t>
            </a:r>
            <a:endParaRPr b="0" lang="en-US" sz="24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c000"/>
                </a:solidFill>
                <a:latin typeface="Calibri"/>
              </a:rPr>
              <a:t> </a:t>
            </a:r>
            <a:endParaRPr b="0" lang="en-US" sz="26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33160" y="1066320"/>
            <a:ext cx="7854840" cy="4953240"/>
          </a:xfrm>
          <a:prstGeom prst="rect">
            <a:avLst/>
          </a:prstGeom>
          <a:noFill/>
          <a:ln w="0">
            <a:noFill/>
          </a:ln>
        </p:spPr>
        <p:txBody>
          <a:bodyPr lIns="0" rIns="1836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onstantia"/>
              </a:rPr>
              <a:t>Гипотеза работы</a:t>
            </a:r>
            <a:r>
              <a:rPr b="0" lang="ru-RU" sz="2400" spc="-1" strike="noStrike">
                <a:solidFill>
                  <a:srgbClr val="ffc000"/>
                </a:solidFill>
                <a:latin typeface="Constantia"/>
              </a:rPr>
              <a:t>: </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если научить учащихся использовать приемы и способы компрессии текста на уроках русского языка то:</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ученик научится уметь воспринимать, понимать и интерпретировать текст;</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дифференцировать информацию, отделяя главное от второстепенного;</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логично аргументировать свою позицию.</a:t>
            </a:r>
            <a:endParaRPr b="0" lang="en-US" sz="2400" spc="-1" strike="noStrike">
              <a:solidFill>
                <a:srgbClr val="ffffff"/>
              </a:solidFill>
              <a:latin typeface="Constantia"/>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09" name="PlaceHolder 2"/>
          <p:cNvSpPr>
            <a:spLocks noGrp="1"/>
          </p:cNvSpPr>
          <p:nvPr>
            <p:ph type="title"/>
          </p:nvPr>
        </p:nvSpPr>
        <p:spPr>
          <a:xfrm>
            <a:off x="533520" y="-199800"/>
            <a:ext cx="7851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000" spc="-1" strike="noStrike">
              <a:solidFill>
                <a:srgbClr val="4de1ea"/>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AutoShape 2" descr=""/>
          <p:cNvPicPr/>
          <p:nvPr/>
        </p:nvPicPr>
        <p:blipFill>
          <a:blip r:embed="rId1"/>
          <a:stretch/>
        </p:blipFill>
        <p:spPr>
          <a:xfrm>
            <a:off x="396720" y="12600"/>
            <a:ext cx="8393400" cy="1803600"/>
          </a:xfrm>
          <a:prstGeom prst="rect">
            <a:avLst/>
          </a:prstGeom>
          <a:ln w="0">
            <a:noFill/>
          </a:ln>
        </p:spPr>
      </p:pic>
      <p:sp>
        <p:nvSpPr>
          <p:cNvPr id="211" name="PlaceHolder 1"/>
          <p:cNvSpPr>
            <a:spLocks noGrp="1"/>
          </p:cNvSpPr>
          <p:nvPr>
            <p:ph type="subTitle"/>
          </p:nvPr>
        </p:nvSpPr>
        <p:spPr>
          <a:xfrm>
            <a:off x="533160" y="1752120"/>
            <a:ext cx="8305560" cy="495324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1.</a:t>
            </a:r>
            <a:r>
              <a:rPr b="1" lang="ru-RU" sz="2600" spc="-1" strike="noStrike">
                <a:solidFill>
                  <a:srgbClr val="ffffff"/>
                </a:solidFill>
                <a:latin typeface="Constantia"/>
              </a:rPr>
              <a:t> </a:t>
            </a:r>
            <a:r>
              <a:rPr b="1" lang="ru-RU" sz="2600" spc="-1" strike="noStrike">
                <a:solidFill>
                  <a:srgbClr val="c9079f"/>
                </a:solidFill>
                <a:latin typeface="Constantia"/>
              </a:rPr>
              <a:t>Исключение</a:t>
            </a:r>
            <a:r>
              <a:rPr b="1" lang="ru-RU" sz="2600" spc="-1" strike="noStrike">
                <a:solidFill>
                  <a:srgbClr val="ffffff"/>
                </a:solidFill>
                <a:latin typeface="Constantia"/>
              </a:rPr>
              <a:t> </a:t>
            </a:r>
            <a:r>
              <a:rPr b="0" lang="ru-RU" sz="2600" spc="-1" strike="noStrike">
                <a:solidFill>
                  <a:srgbClr val="ffffff"/>
                </a:solidFill>
                <a:latin typeface="Constantia"/>
              </a:rPr>
              <a:t>второстепенной информации(подробностей,деталей,уточнений и пр.).</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исключении сначала выделяем главное, а затем убираем детали (подробности). Например: </a:t>
            </a:r>
            <a:r>
              <a:rPr b="0" i="1" lang="ru-RU" sz="2600" spc="-1" strike="noStrike">
                <a:solidFill>
                  <a:srgbClr val="ffffff"/>
                </a:solidFill>
                <a:latin typeface="Constantia"/>
              </a:rPr>
              <a:t>Среди </a:t>
            </a:r>
            <a:r>
              <a:rPr b="0" i="1" lang="ru-RU" sz="2600" spc="-1" strike="noStrike" u="sng">
                <a:solidFill>
                  <a:srgbClr val="ffffff"/>
                </a:solidFill>
                <a:uFillTx/>
                <a:latin typeface="Constantia"/>
              </a:rPr>
              <a:t>десятков и сотен</a:t>
            </a:r>
            <a:r>
              <a:rPr b="0" i="1" lang="ru-RU" sz="2600" spc="-1" strike="noStrike">
                <a:solidFill>
                  <a:srgbClr val="ffffff"/>
                </a:solidFill>
                <a:latin typeface="Constantia"/>
              </a:rPr>
              <a:t> принимаемых человеком решений ни одно не может сравниться по значению, </a:t>
            </a:r>
            <a:r>
              <a:rPr b="0" i="1" lang="ru-RU" sz="2600" spc="-1" strike="noStrike" u="sng">
                <a:solidFill>
                  <a:srgbClr val="ffffff"/>
                </a:solidFill>
                <a:uFillTx/>
                <a:latin typeface="Constantia"/>
              </a:rPr>
              <a:t>по роли, по влиянию на судьбу </a:t>
            </a:r>
            <a:r>
              <a:rPr b="0" i="1" lang="ru-RU" sz="2600" spc="-1" strike="noStrike">
                <a:solidFill>
                  <a:srgbClr val="ffffff"/>
                </a:solidFill>
                <a:latin typeface="Constantia"/>
              </a:rPr>
              <a:t>с решением о том, по какому пути пойти</a:t>
            </a:r>
            <a:r>
              <a:rPr b="0" i="1" lang="ru-RU" sz="2600" spc="-1" strike="noStrike" u="sng">
                <a:solidFill>
                  <a:srgbClr val="ffffff"/>
                </a:solidFill>
                <a:uFillTx/>
                <a:latin typeface="Constantia"/>
              </a:rPr>
              <a:t>, какое поприще выбрать</a:t>
            </a:r>
            <a:r>
              <a:rPr b="0" i="1" lang="ru-RU" sz="2600" spc="-1" strike="noStrike">
                <a:solidFill>
                  <a:srgbClr val="ffffff"/>
                </a:solidFill>
                <a:latin typeface="Constantia"/>
              </a:rPr>
              <a:t>. – Среди принимаемых человеком решений ни одно не может сравниться по значению с решением о том, по какому пути пойти.</a:t>
            </a:r>
            <a:r>
              <a:rPr b="0" lang="ru-RU" sz="2600" spc="-1" strike="noStrike">
                <a:solidFill>
                  <a:srgbClr val="ffffff"/>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13" name="PlaceHolder 2"/>
          <p:cNvSpPr>
            <a:spLocks noGrp="1"/>
          </p:cNvSpPr>
          <p:nvPr>
            <p:ph type="subTitle"/>
          </p:nvPr>
        </p:nvSpPr>
        <p:spPr>
          <a:xfrm>
            <a:off x="533520" y="990360"/>
            <a:ext cx="8229600" cy="5181480"/>
          </a:xfrm>
          <a:prstGeom prst="rect">
            <a:avLst/>
          </a:prstGeom>
          <a:noFill/>
          <a:ln w="0">
            <a:noFill/>
          </a:ln>
        </p:spPr>
        <p:txBody>
          <a:bodyPr lIns="0" rIns="1836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2. </a:t>
            </a:r>
            <a:r>
              <a:rPr b="1" lang="ru-RU" sz="2600" spc="-1" strike="noStrike">
                <a:solidFill>
                  <a:srgbClr val="c9079f"/>
                </a:solidFill>
                <a:latin typeface="Constantia"/>
              </a:rPr>
              <a:t>Обобщение</a:t>
            </a:r>
            <a:r>
              <a:rPr b="0" lang="ru-RU" sz="2600" spc="-1" strike="noStrike">
                <a:solidFill>
                  <a:srgbClr val="ffffff"/>
                </a:solidFill>
                <a:latin typeface="Constantia"/>
              </a:rPr>
              <a:t> единичных явлений и фактов, перевод частного в общее.</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обобщении сначала вычленяем единичные существенные факты и объединяем их в одно целое. Например: </a:t>
            </a:r>
            <a:r>
              <a:rPr b="0" i="1" lang="ru-RU" sz="2600" spc="-1" strike="noStrike">
                <a:solidFill>
                  <a:srgbClr val="ffffff"/>
                </a:solidFill>
                <a:latin typeface="Constantia"/>
              </a:rPr>
              <a:t>Мастерская Саврасова резко отличалась от других. В тех работали по необходимости и по обязанности. Иногда зевали и скучали. Здесь не думали о наградах и отличиях. Здесь горячо любили искусство и работу, увлекались до самозабвения. – </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В мастерской Саврасова не скучали, не думали о наградах и отличиях, здесь горячо любили искусство и работу.</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15" name="PlaceHolder 2"/>
          <p:cNvSpPr>
            <a:spLocks noGrp="1"/>
          </p:cNvSpPr>
          <p:nvPr>
            <p:ph type="subTitle"/>
          </p:nvPr>
        </p:nvSpPr>
        <p:spPr>
          <a:xfrm>
            <a:off x="533160" y="533520"/>
            <a:ext cx="8381880" cy="4448160"/>
          </a:xfrm>
          <a:prstGeom prst="rect">
            <a:avLst/>
          </a:prstGeom>
          <a:noFill/>
          <a:ln w="0">
            <a:noFill/>
          </a:ln>
        </p:spPr>
        <p:txBody>
          <a:bodyPr lIns="0" rIns="1836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3. </a:t>
            </a:r>
            <a:r>
              <a:rPr b="1" lang="ru-RU" sz="2600" spc="-1" strike="noStrike">
                <a:solidFill>
                  <a:srgbClr val="c9079f"/>
                </a:solidFill>
                <a:latin typeface="Constantia"/>
              </a:rPr>
              <a:t>Упрощение</a:t>
            </a:r>
            <a:r>
              <a:rPr b="0" lang="ru-RU" sz="2600" spc="-1" strike="noStrike">
                <a:solidFill>
                  <a:srgbClr val="ffffff"/>
                </a:solidFill>
                <a:latin typeface="Constantia"/>
              </a:rPr>
              <a:t> синтаксических конструкций.</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упрощении заменяем конкретные видовые факты родовыми. Например: </a:t>
            </a:r>
            <a:r>
              <a:rPr b="0" i="1" lang="ru-RU" sz="2600" spc="-1" strike="noStrike" u="sng">
                <a:solidFill>
                  <a:srgbClr val="ffffff"/>
                </a:solidFill>
                <a:uFillTx/>
                <a:latin typeface="Constantia"/>
              </a:rPr>
              <a:t>Цветущие поля, сосновые рощи, лесные дали </a:t>
            </a:r>
            <a:r>
              <a:rPr b="0" i="1" lang="ru-RU" sz="2600" spc="-1" strike="noStrike">
                <a:solidFill>
                  <a:srgbClr val="ffffff"/>
                </a:solidFill>
                <a:latin typeface="Constantia"/>
              </a:rPr>
              <a:t>– всё это дорого сердцу художника. – Родная природа дорога сердцу художника.</a:t>
            </a:r>
            <a:endParaRPr b="0" lang="en-US" sz="2600" spc="-1" strike="noStrike">
              <a:solidFill>
                <a:srgbClr val="ffffff"/>
              </a:solidFill>
              <a:latin typeface="Constantia"/>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62012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Языковые приемы </a:t>
            </a:r>
            <a:endParaRPr b="0" lang="en-US" sz="4500" spc="-1" strike="noStrike">
              <a:solidFill>
                <a:srgbClr val="04617b"/>
              </a:solidFill>
              <a:latin typeface="Calibri"/>
            </a:endParaRPr>
          </a:p>
        </p:txBody>
      </p:sp>
      <p:sp>
        <p:nvSpPr>
          <p:cNvPr id="217" name=""/>
          <p:cNvSpPr txBox="1"/>
          <p:nvPr/>
        </p:nvSpPr>
        <p:spPr>
          <a:xfrm>
            <a:off x="457200" y="1142640"/>
            <a:ext cx="8229600" cy="5181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риём замены</a:t>
            </a:r>
            <a:r>
              <a:rPr b="0" lang="ru-RU"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однородных членов обобщающим наименова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фрагмента предложения синонимичным выраж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едложения или его части указательным местоим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едложения или его части определительным или отрицательным местоимением с обобщающим знач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сложноподчиненного предложения просты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ямой речи косвенной</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33720"/>
            <a:ext cx="746748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19" name=""/>
          <p:cNvSpPr txBox="1"/>
          <p:nvPr/>
        </p:nvSpPr>
        <p:spPr>
          <a:xfrm>
            <a:off x="457200" y="990360"/>
            <a:ext cx="8229600" cy="43894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риём исключени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отдельных членов предложения, некоторых однородных член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повтор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фрагмента предложения, имеющее менее существенное значение;</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одного или нескольких синоним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предложений, содержащих описания или рассуждения, представленные слишком широко и полно.</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лена</dc:creator>
  <dc:description/>
  <dc:language>en-US</dc:language>
  <cp:lastModifiedBy>User</cp:lastModifiedBy>
  <dcterms:modified xsi:type="dcterms:W3CDTF">2013-03-13T11:06:4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