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1.png" ContentType="image/png"/>
  <Override PartName="/ppt/media/image19.jpeg" ContentType="image/jpeg"/>
  <Override PartName="/ppt/media/image4.jpeg" ContentType="image/jpeg"/>
  <Override PartName="/ppt/media/image17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FFD-BE4B-44F6-A455-5E8FC698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3EC-DEAF-4A87-B62C-5D62479F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AE-528F-4D0A-A820-92D62E25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768-8930-4BAB-AAC4-CEF64BE8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A6BE-2879-40FF-B643-0094A800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0BF-B9CF-477A-8079-1F8C4C9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E3F9-FEAD-4327-BA47-209EDC8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C8FF-F7C0-4D35-BC9A-8C35F3D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64C-A301-4AB2-8043-F6B0244B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15E-0144-4284-84B9-2DA2DE6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8F7-8BD6-4318-AC8F-B5A8180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23B-DE61-44E2-9242-6C5BE90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E86-7066-44FA-A398-96C3AE9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C87F-B14E-4794-81A3-96D40E59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6E0C-531F-4BDF-99AB-FCF5F6E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BD8A-7F44-4569-A528-5878CFD2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9AE-4333-41E8-B8FF-3245F3DA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46BB-CEB5-4DE1-8D45-2593D6E1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2F34-9652-4D8B-A5A0-91733341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5869-F716-488D-94F5-F56C52F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6646-00B1-4967-84A1-E11007D2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61EC-CC9C-43DF-B831-A94D1583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D1A-6F73-47FA-95D2-580F6368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EF9F-1D5C-412F-93DE-68C761C5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DBB0-6D50-42F1-B2B6-3021AA82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0ADF-C709-4E6C-A987-5725DC2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FE84-9BEC-4CDA-B213-DFCFD69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15D2-C99D-41A2-A64B-D1EEA36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F0E4-7E72-44AF-AAA7-A9A1F6C6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9661-A9EA-4024-BC59-53395189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2DE-36AA-4241-8F2F-8F697A10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878-0F7B-4A8F-B8C6-AB7EBC8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CB0-5E42-4E8C-BFD5-A0DC1853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C8C-189A-4B5D-8E1A-CD0873F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73B-4934-4CF8-94D4-AC45C43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B15-EC5C-4E88-989D-406606D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5821-0779-4C06-9D02-814BB6994B3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B02-C5EC-4FCD-9EB3-14F0B7432C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139-E652-4045-A3BA-5CBA5DE9494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Урок русского язы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3 – 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0920" y="2498400"/>
            <a:ext cx="511164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Tahoma"/>
              </a:rPr>
              <a:t>« Тёмная лошадка»</a:t>
            </a:r>
            <a:endParaRPr b="0" lang="en-US" sz="6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9" descr="loshad"/>
          <p:cNvPicPr/>
          <p:nvPr/>
        </p:nvPicPr>
        <p:blipFill>
          <a:blip r:embed="rId1"/>
          <a:stretch/>
        </p:blipFill>
        <p:spPr>
          <a:xfrm>
            <a:off x="1187280" y="3141720"/>
            <a:ext cx="273528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597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Здорово, ребятиш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Девчонки и мальчишки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Леший  книжку  мне чит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 загадку загад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могите отгада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то это и как писа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от загадочка мо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ы послушайте мен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3"/>
          <p:cNvPicPr/>
          <p:nvPr/>
        </p:nvPicPr>
        <p:blipFill>
          <a:blip r:embed="rId1"/>
          <a:stretch/>
        </p:blipFill>
        <p:spPr>
          <a:xfrm>
            <a:off x="6084720" y="3141720"/>
            <a:ext cx="235440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«Я антоним шума, стук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Без меня вам ночью м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Я для отдыха, для с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Да и в школе я нуж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Называюсь   … 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о не знаю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ил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писать мне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ы скорее подскажит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 ошибки напишит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Мне старухе, объясни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3"/>
          <p:cNvPicPr/>
          <p:nvPr/>
        </p:nvPicPr>
        <p:blipFill>
          <a:blip r:embed="rId1"/>
          <a:stretch/>
        </p:blipFill>
        <p:spPr>
          <a:xfrm>
            <a:off x="6084720" y="3141720"/>
            <a:ext cx="235440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186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63640" y="242100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554040" y="2205000"/>
            <a:ext cx="820728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539640" y="2205000"/>
            <a:ext cx="820764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3779640" y="2492280"/>
            <a:ext cx="21564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1692000" y="422100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4 –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« Спешите видеть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Рисунок 3" descr="school05-14.gif"/>
          <p:cNvPicPr/>
          <p:nvPr/>
        </p:nvPicPr>
        <p:blipFill>
          <a:blip r:embed="rId1"/>
          <a:stretch/>
        </p:blipFill>
        <p:spPr>
          <a:xfrm>
            <a:off x="2987640" y="3284640"/>
            <a:ext cx="3529080" cy="216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Сова – ночная птица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Днём совы спят на стволах деревьев. От врагов их охраняют  тёмные перья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По ночам  совы  слетают  на  землю и ведут охоту на мышей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Documents and Settings\User\Рабочий стол\Мама\Смешарики\smeshariki_2\Совунья 4.png"/>
          <p:cNvPicPr/>
          <p:nvPr/>
        </p:nvPicPr>
        <p:blipFill>
          <a:blip r:embed="rId1"/>
          <a:stretch/>
        </p:blipFill>
        <p:spPr>
          <a:xfrm>
            <a:off x="6732720" y="4724280"/>
            <a:ext cx="1807920" cy="1844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250920" y="333360"/>
            <a:ext cx="88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Аукцион: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Побеждает тот, кто называет последнее слово. Повторять слова нельзя. Команда получает 4 оч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ва – н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чная птица. 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Днём совы спят на ств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лах д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ревьев. От вр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гов их охр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няют  тёмные перья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По н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чам  совы  сл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тают  на  землю и в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дут </a:t>
            </a:r>
            <a:r>
              <a:rPr b="0" lang="ru-RU" sz="3500" spc="-1" strike="noStrike" u="sng">
                <a:solidFill>
                  <a:srgbClr val="00ff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хоту на мышей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4" descr="C:\Documents and Settings\User\Рабочий стол\Мама\Смешарики\smeshariki_2\Совунья 4.png"/>
          <p:cNvPicPr/>
          <p:nvPr/>
        </p:nvPicPr>
        <p:blipFill>
          <a:blip r:embed="rId1"/>
          <a:stretch/>
        </p:blipFill>
        <p:spPr>
          <a:xfrm>
            <a:off x="6732720" y="4724280"/>
            <a:ext cx="1807920" cy="1844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50920" y="333360"/>
            <a:ext cx="88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Аукцион: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Побеждает тот, кто называет последнее слово. Повторять слова нельзя. Команда получает 4 оч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5 – й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ahoma"/>
              </a:rPr>
              <a:t>«Гонка за лидером»</a:t>
            </a:r>
            <a:endParaRPr b="0" lang="en-US" sz="6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gonki-2"/>
          <p:cNvPicPr/>
          <p:nvPr/>
        </p:nvPicPr>
        <p:blipFill>
          <a:blip r:embed="rId1"/>
          <a:stretch/>
        </p:blipFill>
        <p:spPr>
          <a:xfrm>
            <a:off x="2700360" y="3357720"/>
            <a:ext cx="3886200" cy="29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19640" y="201780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Tahoma"/>
              </a:rPr>
              <a:t>Упр. 239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Tahoma"/>
              </a:rPr>
              <a:t>с.103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Рисунок 3" descr="school02-04.gif"/>
          <p:cNvPicPr/>
          <p:nvPr/>
        </p:nvPicPr>
        <p:blipFill>
          <a:blip r:embed="rId1"/>
          <a:stretch/>
        </p:blipFill>
        <p:spPr>
          <a:xfrm>
            <a:off x="1476360" y="2637000"/>
            <a:ext cx="2874960" cy="34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оверь себ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04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ст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ину на р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скве   ч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о  случ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ь  п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ки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ногда 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ной п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ки  превращ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ь в н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нения.  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а смывала д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, м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ы. Наб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жные станови-лись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ёрам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284360" y="5157720"/>
            <a:ext cx="45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 ошибок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-2 ошибки –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-4 ошибки –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 и более ошибок – 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f0"/>
                </a:solidFill>
                <a:latin typeface="Garamond"/>
              </a:rPr>
              <a:t>РЕФЛЕКС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7" name="Picture 4" descr="C:\Documents and Settings\User\Рабочий стол\Мама\Смешарики\Новая папка (2)\MCj04338160000[1].png"/>
          <p:cNvPicPr/>
          <p:nvPr/>
        </p:nvPicPr>
        <p:blipFill>
          <a:blip r:embed="rId1"/>
          <a:stretch/>
        </p:blipFill>
        <p:spPr>
          <a:xfrm>
            <a:off x="-142920" y="15001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User\Рабочий стол\Мама\Смешарики\Новая папка (2)\MCj04280850000[1].wmf"/>
          <p:cNvPicPr/>
          <p:nvPr/>
        </p:nvPicPr>
        <p:blipFill>
          <a:blip r:embed="rId2"/>
          <a:stretch/>
        </p:blipFill>
        <p:spPr>
          <a:xfrm>
            <a:off x="2857680" y="3214800"/>
            <a:ext cx="293364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User\Рабочий стол\Мама\Смешарики\Новая папка (2)\MCj04280750000[1].wmf"/>
          <p:cNvPicPr/>
          <p:nvPr/>
        </p:nvPicPr>
        <p:blipFill>
          <a:blip r:embed="rId3"/>
          <a:stretch/>
        </p:blipFill>
        <p:spPr>
          <a:xfrm>
            <a:off x="5653080" y="1571760"/>
            <a:ext cx="3490920" cy="321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50920" y="2349360"/>
            <a:ext cx="8393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Рисунок 2" descr="1acbfac431d009018b53ff8218c2b9a3.gif"/>
          <p:cNvPicPr/>
          <p:nvPr/>
        </p:nvPicPr>
        <p:blipFill>
          <a:blip r:embed="rId1"/>
          <a:stretch/>
        </p:blipFill>
        <p:spPr>
          <a:xfrm>
            <a:off x="3851280" y="40766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Здравствуйте рибята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т из Улан-Удэ! Пишут вам пирвоклассники. Уже пришла висна, но на зимле еще много снега. Прилители птицы, они пают висёлые песни. На диревьях распускаются лесточки. Красат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576320" y="4500720"/>
            <a:ext cx="45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 ошибок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-2 ошибки –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-4 ошибки –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 и более ошибок – 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P1030387"/>
          <p:cNvPicPr/>
          <p:nvPr/>
        </p:nvPicPr>
        <p:blipFill>
          <a:blip r:embed="rId1"/>
          <a:stretch/>
        </p:blipFill>
        <p:spPr>
          <a:xfrm>
            <a:off x="500040" y="428616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Тема: «Безударная гласная 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 корне слова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554040" y="2205000"/>
            <a:ext cx="820728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а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89080" y="5084640"/>
            <a:ext cx="73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Желаю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частья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и удачи на уро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3564000" y="5013360"/>
            <a:ext cx="7128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1763280" y="422100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3779640" y="2492280"/>
            <a:ext cx="21564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ить и закрепить умения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находить в словах буквы, обозначающие безударные гласные звук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ить и закрепить умения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находить проверочные слова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с помощью подбора слов-родственников или изменения формы сло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читься работать в группе (в команд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Тема: «Безударная гласная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 корне слов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15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 –й 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 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Заморочки  из  бочки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200701101615532i"/>
          <p:cNvPicPr/>
          <p:nvPr/>
        </p:nvPicPr>
        <p:blipFill>
          <a:blip r:embed="rId1"/>
          <a:stretch/>
        </p:blipFill>
        <p:spPr>
          <a:xfrm>
            <a:off x="5940360" y="3860640"/>
            <a:ext cx="2879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Запишите проверочные слова. Обозначьте орфограмму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п . ля              гр . за              ст . 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з . мля            в . сна              л. с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т . гровый      гр . бной         м . 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пр . мой          ств . лы           р . 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гр . чи             с . ды               в .рен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4296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0216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78944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310160" y="38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81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47780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30404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28616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477800" y="38606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502160" y="38606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35744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693800" y="5811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731016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765800" y="4797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382160" y="48038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 – 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« Ты  - мне,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я  - тебе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39:57Z</dcterms:created>
  <dc:creator>users</dc:creator>
  <dc:description/>
  <dc:language>en-US</dc:language>
  <cp:lastModifiedBy>Admin</cp:lastModifiedBy>
  <dcterms:modified xsi:type="dcterms:W3CDTF">2013-04-05T12:33:41Z</dcterms:modified>
  <cp:revision>70</cp:revision>
  <dc:subject/>
  <dc:title>Обобщение по  теме: «Безударные гласные в корне слова».(в форме  игры «Счастливый случай».)  Урок для  учащихся 2 класса по образовательной системе «Школа 2100»                                        Абрамова М.П., учитель начальных классов МОУ «СОШ с.Тёпловка»</dc:title>
</cp:coreProperties>
</file>