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gif" ContentType="image/gif"/>
  <Override PartName="/ppt/media/image9.gif" ContentType="image/gif"/>
  <Override PartName="/ppt/media/image22.wmf" ContentType="image/x-wmf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1.png" ContentType="image/png"/>
  <Override PartName="/ppt/media/image19.jpeg" ContentType="image/jpeg"/>
  <Override PartName="/ppt/media/image4.jpeg" ContentType="image/jpeg"/>
  <Override PartName="/ppt/media/image17.png" ContentType="image/png"/>
  <Override PartName="/ppt/media/image14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2F1-C424-4722-8FA2-BDCF4E03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E9E-4D2A-4EC4-904D-BFFD115F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B45-A3D5-40C9-B949-0DC60950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13D-45AB-48D1-AF14-B78223B6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F414-2209-43E4-BBA6-61280057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5F2-EB9F-4A78-83DF-BFE8CBDD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4ED2-A633-4FA2-9B2C-A2968600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1BD9-99AD-4185-B813-A9106B5B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4FB0-7FE9-4C43-B7E4-D1DF7C8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1E23-2BBF-4FE5-80CA-8317864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4655-7689-465D-A151-CA18111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826-AA0A-41C5-8A84-40AA283C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6F6F-58DC-4D71-A023-78CD914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2C1E-F3AA-4E14-96A7-4CAC3384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C9B6-3B78-401A-AE3D-A484CB9C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2CE9-D45F-46BB-A6F9-71F791DC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517B-FB8E-4561-8AA3-BC6AD99F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350A-B9A3-4D07-A7D2-4D11496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4858B-37A4-47A7-9912-6D538CD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866F-3C7D-49B5-A0D8-C7F7851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E513-B414-40D7-836F-B675645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E01A-D096-4C24-B026-684E291E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1A7-BDD9-4A2C-9A46-134C57C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A0565-2241-401C-B5C3-4156E42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9063-6234-44C0-9D31-449DA5F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FBA7-CC5D-4ED7-A33F-C1D59B0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FE66-0A23-46FC-B803-A4A6329B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BC53-0392-4D33-A652-4A1D328D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F55F-3121-40BB-AA8B-6D585243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ACBB9-815B-4EFC-A69D-9E871323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D44-950C-46A9-AE5A-2B88708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E38-84FC-417A-8CE2-452ADA26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585-2E9F-4510-9673-86175C51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A59-384B-4BA7-BBE4-2209015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4BA8-8436-4C70-B7A7-818B388B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FD1-D9B3-43C8-87FA-4E682E85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7999-5916-4BFB-A1A1-2DF7B1B437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FDB-D7B1-4410-839D-A0719E9C01E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3D34-9179-4EAE-A2C6-848E48E3AE1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Урок русского язы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3 – 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50920" y="2498400"/>
            <a:ext cx="511164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Tahoma"/>
              </a:rPr>
              <a:t>« Тёмная лошадка»</a:t>
            </a:r>
            <a:endParaRPr b="0" lang="en-US" sz="6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9" descr="loshad"/>
          <p:cNvPicPr/>
          <p:nvPr/>
        </p:nvPicPr>
        <p:blipFill>
          <a:blip r:embed="rId1"/>
          <a:stretch/>
        </p:blipFill>
        <p:spPr>
          <a:xfrm>
            <a:off x="1187280" y="3141720"/>
            <a:ext cx="2735280" cy="246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483920"/>
            <a:ext cx="597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Здорово, ребятиш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Девчонки и мальчишки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Леший  книжку  мне чит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 загадку загад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Помогите отгада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то это и как писа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от загадочка мо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     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ы послушайте мен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3"/>
          <p:cNvPicPr/>
          <p:nvPr/>
        </p:nvPicPr>
        <p:blipFill>
          <a:blip r:embed="rId1"/>
          <a:stretch/>
        </p:blipFill>
        <p:spPr>
          <a:xfrm>
            <a:off x="6084720" y="3141720"/>
            <a:ext cx="235440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«Я антоним шума, стук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Без меня вам ночью му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Я для отдыха, для сна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Да и в школе я нуж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Arial"/>
              </a:rPr>
              <a:t>Называюсь   … 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о не знаю,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 иль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Написать мне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Вы скорее подскажит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Без  ошибки напишит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Мне старухе, объясни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3"/>
          <p:cNvPicPr/>
          <p:nvPr/>
        </p:nvPicPr>
        <p:blipFill>
          <a:blip r:embed="rId1"/>
          <a:stretch/>
        </p:blipFill>
        <p:spPr>
          <a:xfrm>
            <a:off x="6084720" y="3141720"/>
            <a:ext cx="2354400" cy="30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2928960" y="1571760"/>
            <a:ext cx="400680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786120" y="4857840"/>
            <a:ext cx="2497320" cy="241200"/>
          </a:xfrm>
          <a:prstGeom prst="rect">
            <a:avLst/>
          </a:prstGeom>
          <a:ln w="0">
            <a:noFill/>
          </a:ln>
        </p:spPr>
      </p:pic>
      <p:pic>
        <p:nvPicPr>
          <p:cNvPr id="186" name="10 - Друзья.mp3" descr=""/>
          <p:cNvPicPr/>
          <p:nvPr/>
        </p:nvPicPr>
        <p:blipFill>
          <a:blip r:embed="rId4"/>
          <a:stretch/>
        </p:blipFill>
        <p:spPr>
          <a:xfrm>
            <a:off x="1071720" y="1571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3" descr="de5f47ccb8027c7056a74d5a109564b7.gif"/>
          <p:cNvPicPr/>
          <p:nvPr/>
        </p:nvPicPr>
        <p:blipFill>
          <a:blip r:embed="rId5"/>
          <a:stretch/>
        </p:blipFill>
        <p:spPr>
          <a:xfrm>
            <a:off x="4071960" y="2357280"/>
            <a:ext cx="2928960" cy="25783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4" descr="de5f47ccb8027c7056a74d5a109564b7.gif"/>
          <p:cNvPicPr/>
          <p:nvPr/>
        </p:nvPicPr>
        <p:blipFill>
          <a:blip r:embed="rId6"/>
          <a:stretch/>
        </p:blipFill>
        <p:spPr>
          <a:xfrm flipH="1">
            <a:off x="1763640" y="2421000"/>
            <a:ext cx="2928960" cy="25779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" descr="2п6.gif"/>
          <p:cNvPicPr/>
          <p:nvPr/>
        </p:nvPicPr>
        <p:blipFill>
          <a:blip r:embed="rId2"/>
          <a:stretch/>
        </p:blipFill>
        <p:spPr>
          <a:xfrm>
            <a:off x="2071800" y="2143080"/>
            <a:ext cx="5118120" cy="22147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2" descr="4rr.gif"/>
          <p:cNvPicPr/>
          <p:nvPr/>
        </p:nvPicPr>
        <p:blipFill>
          <a:blip r:embed="rId2"/>
          <a:stretch/>
        </p:blipFill>
        <p:spPr>
          <a:xfrm>
            <a:off x="2500200" y="13716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3" descr="4rr.gif"/>
          <p:cNvPicPr/>
          <p:nvPr/>
        </p:nvPicPr>
        <p:blipFill>
          <a:blip r:embed="rId3"/>
          <a:stretch/>
        </p:blipFill>
        <p:spPr>
          <a:xfrm flipH="1">
            <a:off x="5857560" y="1357200"/>
            <a:ext cx="1785960" cy="214308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4rr.gif"/>
          <p:cNvPicPr/>
          <p:nvPr/>
        </p:nvPicPr>
        <p:blipFill>
          <a:blip r:embed="rId4"/>
          <a:stretch/>
        </p:blipFill>
        <p:spPr>
          <a:xfrm flipH="1">
            <a:off x="5357880" y="3357720"/>
            <a:ext cx="1798560" cy="215712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6" descr="4rr.gif"/>
          <p:cNvPicPr/>
          <p:nvPr/>
        </p:nvPicPr>
        <p:blipFill>
          <a:blip r:embed="rId5"/>
          <a:stretch/>
        </p:blipFill>
        <p:spPr>
          <a:xfrm>
            <a:off x="1928880" y="3143160"/>
            <a:ext cx="1904760" cy="22860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98п.gif"/>
          <p:cNvPicPr/>
          <p:nvPr/>
        </p:nvPicPr>
        <p:blipFill>
          <a:blip r:embed="rId2"/>
          <a:stretch/>
        </p:blipFill>
        <p:spPr>
          <a:xfrm>
            <a:off x="4572000" y="1643040"/>
            <a:ext cx="2543040" cy="2384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3" descr="98п.gif"/>
          <p:cNvPicPr/>
          <p:nvPr/>
        </p:nvPicPr>
        <p:blipFill>
          <a:blip r:embed="rId3"/>
          <a:stretch/>
        </p:blipFill>
        <p:spPr>
          <a:xfrm>
            <a:off x="1857240" y="2571840"/>
            <a:ext cx="2543400" cy="238428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4r.gif"/>
          <p:cNvPicPr/>
          <p:nvPr/>
        </p:nvPicPr>
        <p:blipFill>
          <a:blip r:embed="rId2"/>
          <a:stretch/>
        </p:blipFill>
        <p:spPr>
          <a:xfrm>
            <a:off x="4643280" y="150012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4r.gif"/>
          <p:cNvPicPr/>
          <p:nvPr/>
        </p:nvPicPr>
        <p:blipFill>
          <a:blip r:embed="rId3"/>
          <a:stretch/>
        </p:blipFill>
        <p:spPr>
          <a:xfrm>
            <a:off x="3786120" y="3500280"/>
            <a:ext cx="2563920" cy="15987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5" descr="4r.gif"/>
          <p:cNvPicPr/>
          <p:nvPr/>
        </p:nvPicPr>
        <p:blipFill>
          <a:blip r:embed="rId4"/>
          <a:stretch/>
        </p:blipFill>
        <p:spPr>
          <a:xfrm>
            <a:off x="1285920" y="2214720"/>
            <a:ext cx="2563920" cy="159840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7" descr="80f1be34d513ebd6d6d1770b1117f355.gif"/>
          <p:cNvPicPr/>
          <p:nvPr/>
        </p:nvPicPr>
        <p:blipFill>
          <a:blip r:embed="rId2"/>
          <a:stretch/>
        </p:blipFill>
        <p:spPr>
          <a:xfrm flipH="1">
            <a:off x="535752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8" descr="80f1be34d513ebd6d6d1770b1117f355.gif"/>
          <p:cNvPicPr/>
          <p:nvPr/>
        </p:nvPicPr>
        <p:blipFill>
          <a:blip r:embed="rId3"/>
          <a:stretch/>
        </p:blipFill>
        <p:spPr>
          <a:xfrm>
            <a:off x="6286680" y="242892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9" descr="80f1be34d513ebd6d6d1770b1117f355.gif"/>
          <p:cNvPicPr/>
          <p:nvPr/>
        </p:nvPicPr>
        <p:blipFill>
          <a:blip r:embed="rId4"/>
          <a:stretch/>
        </p:blipFill>
        <p:spPr>
          <a:xfrm flipH="1">
            <a:off x="2571480" y="1857240"/>
            <a:ext cx="1166760" cy="11671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0" descr="80f1be34d513ebd6d6d1770b1117f355.gif"/>
          <p:cNvPicPr/>
          <p:nvPr/>
        </p:nvPicPr>
        <p:blipFill>
          <a:blip r:embed="rId5"/>
          <a:stretch/>
        </p:blipFill>
        <p:spPr>
          <a:xfrm>
            <a:off x="3500280" y="1857240"/>
            <a:ext cx="1167120" cy="116712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1" descr="80f1be34d513ebd6d6d1770b1117f355.gif"/>
          <p:cNvPicPr/>
          <p:nvPr/>
        </p:nvPicPr>
        <p:blipFill>
          <a:blip r:embed="rId6"/>
          <a:stretch/>
        </p:blipFill>
        <p:spPr>
          <a:xfrm flipH="1">
            <a:off x="1428480" y="342900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2" descr="80f1be34d513ebd6d6d1770b1117f355.gif"/>
          <p:cNvPicPr/>
          <p:nvPr/>
        </p:nvPicPr>
        <p:blipFill>
          <a:blip r:embed="rId7"/>
          <a:stretch/>
        </p:blipFill>
        <p:spPr>
          <a:xfrm>
            <a:off x="2357280" y="3429000"/>
            <a:ext cx="1167120" cy="116676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3" descr="80f1be34d513ebd6d6d1770b1117f355.gif"/>
          <p:cNvPicPr/>
          <p:nvPr/>
        </p:nvPicPr>
        <p:blipFill>
          <a:blip r:embed="rId8"/>
          <a:stretch/>
        </p:blipFill>
        <p:spPr>
          <a:xfrm flipH="1">
            <a:off x="3857400" y="4000680"/>
            <a:ext cx="1166760" cy="11667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4" descr="80f1be34d513ebd6d6d1770b1117f355.gif"/>
          <p:cNvPicPr/>
          <p:nvPr/>
        </p:nvPicPr>
        <p:blipFill>
          <a:blip r:embed="rId9"/>
          <a:stretch/>
        </p:blipFill>
        <p:spPr>
          <a:xfrm>
            <a:off x="4786200" y="4000680"/>
            <a:ext cx="1166760" cy="11667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5844" t="0" r="4575" b="-1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1acbfac431d009018b53ff8218c2b9a3.gif"/>
          <p:cNvPicPr/>
          <p:nvPr/>
        </p:nvPicPr>
        <p:blipFill>
          <a:blip r:embed="rId2"/>
          <a:stretch/>
        </p:blipFill>
        <p:spPr>
          <a:xfrm>
            <a:off x="1571760" y="314316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3" descr="1acbfac431d009018b53ff8218c2b9a3.gif"/>
          <p:cNvPicPr/>
          <p:nvPr/>
        </p:nvPicPr>
        <p:blipFill>
          <a:blip r:embed="rId3"/>
          <a:stretch/>
        </p:blipFill>
        <p:spPr>
          <a:xfrm>
            <a:off x="3357720" y="3357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1acbfac431d009018b53ff8218c2b9a3.gif"/>
          <p:cNvPicPr/>
          <p:nvPr/>
        </p:nvPicPr>
        <p:blipFill>
          <a:blip r:embed="rId4"/>
          <a:stretch/>
        </p:blipFill>
        <p:spPr>
          <a:xfrm>
            <a:off x="5286240" y="314316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5"/>
          <a:stretch/>
        </p:blipFill>
        <p:spPr>
          <a:xfrm>
            <a:off x="2214720" y="2286000"/>
            <a:ext cx="5329080" cy="714240"/>
          </a:xfrm>
          <a:prstGeom prst="rect">
            <a:avLst/>
          </a:prstGeom>
          <a:ln w="0">
            <a:noFill/>
          </a:ln>
        </p:spPr>
      </p:pic>
    </p:spTree>
  </p:cSld>
  <p:transition advTm="1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554040" y="2205000"/>
            <a:ext cx="820728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539640" y="2205000"/>
            <a:ext cx="820764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и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3779640" y="2492280"/>
            <a:ext cx="21564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1692000" y="4221000"/>
            <a:ext cx="431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4 –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« Спешите видеть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Рисунок 3" descr="school05-14.gif"/>
          <p:cNvPicPr/>
          <p:nvPr/>
        </p:nvPicPr>
        <p:blipFill>
          <a:blip r:embed="rId1"/>
          <a:stretch/>
        </p:blipFill>
        <p:spPr>
          <a:xfrm>
            <a:off x="2987640" y="3284640"/>
            <a:ext cx="3529080" cy="216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Сова – ночная птица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Днём совы спят на стволах деревьев. От врагов их охраняют  тёмные перья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300" spc="-1" strike="noStrike">
                <a:solidFill>
                  <a:srgbClr val="0000cc"/>
                </a:solidFill>
                <a:latin typeface="Arial"/>
              </a:rPr>
              <a:t>По ночам  совы  слетают  на  землю и ведут охоту на мышей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Documents and Settings\User\Рабочий стол\Мама\Смешарики\smeshariki_2\Совунья 4.png"/>
          <p:cNvPicPr/>
          <p:nvPr/>
        </p:nvPicPr>
        <p:blipFill>
          <a:blip r:embed="rId1"/>
          <a:stretch/>
        </p:blipFill>
        <p:spPr>
          <a:xfrm>
            <a:off x="6732720" y="4724280"/>
            <a:ext cx="1807920" cy="18446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250920" y="333360"/>
            <a:ext cx="88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Аукцион: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Побеждает тот, кто называет последнее слово. Повторять слова нельзя. Команда получает 4 оч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С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ва – н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чная птица. 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Днём совы спят на ств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лах д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ревьев. От вр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гов их охр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а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няют  тёмные перья.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По н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чам  совы  сл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тают  на  землю и в</a:t>
            </a:r>
            <a:r>
              <a:rPr b="0" lang="ru-RU" sz="3500" spc="-1" strike="noStrike" u="sng">
                <a:solidFill>
                  <a:srgbClr val="ff0000"/>
                </a:solidFill>
                <a:uFillTx/>
                <a:latin typeface="Tahoma"/>
              </a:rPr>
              <a:t>е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дут </a:t>
            </a:r>
            <a:r>
              <a:rPr b="0" lang="ru-RU" sz="3500" spc="-1" strike="noStrike" u="sng">
                <a:solidFill>
                  <a:srgbClr val="00ff00"/>
                </a:solidFill>
                <a:uFillTx/>
                <a:latin typeface="Tahoma"/>
              </a:rPr>
              <a:t>о</a:t>
            </a: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хоту на мышей.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99"/>
                </a:solidFill>
                <a:latin typeface="Tahoma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4" descr="C:\Documents and Settings\User\Рабочий стол\Мама\Смешарики\smeshariki_2\Совунья 4.png"/>
          <p:cNvPicPr/>
          <p:nvPr/>
        </p:nvPicPr>
        <p:blipFill>
          <a:blip r:embed="rId1"/>
          <a:stretch/>
        </p:blipFill>
        <p:spPr>
          <a:xfrm>
            <a:off x="6732720" y="4724280"/>
            <a:ext cx="1807920" cy="1844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50920" y="333360"/>
            <a:ext cx="8893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00"/>
                </a:solidFill>
                <a:uFillTx/>
                <a:latin typeface="Arial"/>
              </a:rPr>
              <a:t>Аукцион:</a:t>
            </a:r>
            <a:r>
              <a:rPr b="0" lang="ru-RU" sz="3000" spc="-1" strike="noStrike">
                <a:solidFill>
                  <a:srgbClr val="cc0000"/>
                </a:solidFill>
                <a:latin typeface="Arial"/>
              </a:rPr>
              <a:t> Побеждает тот, кто называет последнее слово. Повторять слова нельзя. Команда получает 4 оч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5 – й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ff0000"/>
                </a:solidFill>
                <a:latin typeface="Tahoma"/>
              </a:rPr>
              <a:t>«Гонка за лидером»</a:t>
            </a:r>
            <a:endParaRPr b="0" lang="en-US" sz="6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gonki-2"/>
          <p:cNvPicPr/>
          <p:nvPr/>
        </p:nvPicPr>
        <p:blipFill>
          <a:blip r:embed="rId1"/>
          <a:stretch/>
        </p:blipFill>
        <p:spPr>
          <a:xfrm>
            <a:off x="2700360" y="3357720"/>
            <a:ext cx="3886200" cy="291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19640" y="201780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Tahoma"/>
              </a:rPr>
              <a:t>Упр. 239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f0"/>
                </a:solidFill>
                <a:latin typeface="Tahoma"/>
              </a:rPr>
              <a:t>с.103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Рисунок 3" descr="school02-04.gif"/>
          <p:cNvPicPr/>
          <p:nvPr/>
        </p:nvPicPr>
        <p:blipFill>
          <a:blip r:embed="rId1"/>
          <a:stretch/>
        </p:blipFill>
        <p:spPr>
          <a:xfrm>
            <a:off x="1476360" y="2637000"/>
            <a:ext cx="2874960" cy="34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Проверь себя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04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 ст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ину на р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е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скве   ч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о  случ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ь  п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ки.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ногда 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ной п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ки  превращ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лись в на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нения.  В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а смывала д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а, м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ты. Наб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жные станови-лись  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зёрами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284360" y="5157720"/>
            <a:ext cx="45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 ошибок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-2 ошибки –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-4 ошибки –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 и более ошибок – 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f0"/>
                </a:solidFill>
                <a:latin typeface="Garamond"/>
              </a:rPr>
              <a:t>РЕФЛЕКС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7" name="Picture 4" descr="C:\Documents and Settings\User\Рабочий стол\Мама\Смешарики\Новая папка (2)\MCj04338160000[1].png"/>
          <p:cNvPicPr/>
          <p:nvPr/>
        </p:nvPicPr>
        <p:blipFill>
          <a:blip r:embed="rId1"/>
          <a:stretch/>
        </p:blipFill>
        <p:spPr>
          <a:xfrm>
            <a:off x="-142920" y="150012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User\Рабочий стол\Мама\Смешарики\Новая папка (2)\MCj04280850000[1].wmf"/>
          <p:cNvPicPr/>
          <p:nvPr/>
        </p:nvPicPr>
        <p:blipFill>
          <a:blip r:embed="rId2"/>
          <a:stretch/>
        </p:blipFill>
        <p:spPr>
          <a:xfrm>
            <a:off x="2857680" y="3214800"/>
            <a:ext cx="293364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User\Рабочий стол\Мама\Смешарики\Новая папка (2)\MCj04280750000[1].wmf"/>
          <p:cNvPicPr/>
          <p:nvPr/>
        </p:nvPicPr>
        <p:blipFill>
          <a:blip r:embed="rId3"/>
          <a:stretch/>
        </p:blipFill>
        <p:spPr>
          <a:xfrm>
            <a:off x="5653080" y="1571760"/>
            <a:ext cx="3490920" cy="321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50920" y="2349360"/>
            <a:ext cx="8393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5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Рисунок 2" descr="1acbfac431d009018b53ff8218c2b9a3.gif"/>
          <p:cNvPicPr/>
          <p:nvPr/>
        </p:nvPicPr>
        <p:blipFill>
          <a:blip r:embed="rId1"/>
          <a:stretch/>
        </p:blipFill>
        <p:spPr>
          <a:xfrm>
            <a:off x="3851280" y="407664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ff0000"/>
                </a:solidFill>
                <a:latin typeface="Garamond"/>
              </a:rPr>
              <a:t>Здравствуйте рибята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т из Улан-Удэ! Пишут вам пирвоклассники. Уже пришла висна, но на зимле еще много снега. Прилители птицы, они пают висёлые песни. На диревьях распускаются лесточки. Красата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576320" y="4500720"/>
            <a:ext cx="456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 ошибок – 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-2 ошибки – 2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-4 ошибки – 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5 и более ошибок – 0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P1030387"/>
          <p:cNvPicPr/>
          <p:nvPr/>
        </p:nvPicPr>
        <p:blipFill>
          <a:blip r:embed="rId1"/>
          <a:stretch/>
        </p:blipFill>
        <p:spPr>
          <a:xfrm>
            <a:off x="500040" y="428616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Тема: «Безударная гласная 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Tahoma"/>
              </a:rPr>
              <a:t>в корне слова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554040" y="2205000"/>
            <a:ext cx="8207280" cy="287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7889"/>
                <a:gd name="adj2" fmla="val -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частливый случай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89080" y="5084640"/>
            <a:ext cx="73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Желаю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частья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и удачи на уро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H="1">
            <a:off x="3564000" y="5013360"/>
            <a:ext cx="7128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1763280" y="4221000"/>
            <a:ext cx="360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3779640" y="2492280"/>
            <a:ext cx="215640" cy="43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ить и закрепить умения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находить в словах буквы, обозначающие безударные гласные звук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ить и закрепить умения 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находить проверочные слова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с помощью подбора слов-родственников или изменения формы сло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учиться работать в группе (в команд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Тема: «Безударная гласная </a:t>
            </a:r>
            <a:br>
              <a:rPr sz="4400"/>
            </a:br>
            <a:r>
              <a:rPr b="0" lang="ru-RU" sz="4400" spc="-1" strike="noStrike">
                <a:solidFill>
                  <a:srgbClr val="cc0000"/>
                </a:solidFill>
                <a:latin typeface="Tahoma"/>
              </a:rPr>
              <a:t>в корне слов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15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 –й 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 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Заморочки  из  бочки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200701101615532i"/>
          <p:cNvPicPr/>
          <p:nvPr/>
        </p:nvPicPr>
        <p:blipFill>
          <a:blip r:embed="rId1"/>
          <a:stretch/>
        </p:blipFill>
        <p:spPr>
          <a:xfrm>
            <a:off x="5940360" y="3860640"/>
            <a:ext cx="2879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Запишите проверочные слова. Обозначьте орфограмму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п . ля              гр . за              ст . 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з . мля            в . сна              л. сно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т . гровый      гр . бной         м . р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пр . мой          ств . лы           р . 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ahoma"/>
              </a:rPr>
              <a:t>гр . чи             с . ды               в .рень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54296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0216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78944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310160" y="386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81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47780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730404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286160" y="2852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477800" y="38606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502160" y="38606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35744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1693800" y="5811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7310160" y="58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1765800" y="4797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7382160" y="480384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2 – й  гей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« Ты  - мне,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я  - тебе</a:t>
            </a:r>
            <a:r>
              <a:rPr b="0" lang="ru-RU" sz="6000" spc="-1" strike="noStrike">
                <a:solidFill>
                  <a:srgbClr val="ff0000"/>
                </a:solidFill>
                <a:latin typeface="Tahoma"/>
              </a:rPr>
              <a:t>»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4:39:57Z</dcterms:created>
  <dc:creator>users</dc:creator>
  <dc:description/>
  <dc:language>en-US</dc:language>
  <cp:lastModifiedBy>Admin</cp:lastModifiedBy>
  <dcterms:modified xsi:type="dcterms:W3CDTF">2013-04-05T12:33:41Z</dcterms:modified>
  <cp:revision>70</cp:revision>
  <dc:subject/>
  <dc:title>Обобщение по  теме: «Безударные гласные в корне слова».(в форме  игры «Счастливый случай».)  Урок для  учащихся 2 класса по образовательной системе «Школа 2100»                                        Абрамова М.П., учитель начальных классов МОУ «СОШ с.Тёпловка»</dc:title>
</cp:coreProperties>
</file>