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E3B-DDB3-4201-A915-3E382F9D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8BE-8306-4394-99B9-80D03B1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72C8C-7AD1-47FE-A004-241CA566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F58CDB-CC6E-4692-A6DC-855EBCAD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539B05-86D2-4DB9-8AED-D51360BD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B1A0F7-0626-469E-96FA-1453D09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FA902-FE73-47CD-B7A8-F750F559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940DF-7956-4F2C-9597-1A6AD7B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678B4F-111D-40B9-8575-BCDB25A2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1B29B-76DC-4547-8A2A-892FB9FA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D4A13E-4D99-4105-815D-D06BA56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BEF39-B271-4006-A8D7-A865EE37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758-6266-4A41-8B95-EF862542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49FDD-7FA0-45C7-9969-DFA9E338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55984-6389-4748-BA3F-37C671AD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26691-7F17-4E16-962F-6E0CDCB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B2255-C72D-45E2-9187-E8666B2F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5DE73-546E-4649-B153-81A67C0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67C4A-792A-43E1-A78B-7E51808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1D656-C616-4547-BB2D-8754E4A2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8E2ED-9E58-40B9-ADFB-BF918281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6F2A7-B4D4-4861-89C5-67F9C15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BB758-093A-457C-A31A-9AFCB60C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C32-5C56-4134-BD76-62F6B75B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79C44-E648-4107-8B92-02E5471A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230414-3D0F-4E89-9BC3-1C18CDFF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B7532-5762-48BA-BDBE-D6BDB7C2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2FCDE9-76B1-4A59-9EF4-199BFC27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829170-DF94-47E0-AE09-E754853D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44F494-E6EB-4AE2-B9F8-276FB71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BC9FF5-D97F-4EC8-B502-34FA406F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611EED-4CBA-4C46-8EB3-7E2AC3D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4F3B7D-CF0C-41A0-9331-78E9B778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995396-E7BC-454F-862F-E09C642A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54B-3282-46FF-9809-69DF1892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2A3D5F-070A-474C-A883-2B24D262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8CA7A5-0A45-4E90-9DD9-F80E2C6B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011CAC-C3D7-44D9-BA26-7A505282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A350E-F522-4B5A-8B94-2EBF136E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C3C4A-8995-488F-BBA0-29E90AD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06443-D291-4379-A22D-1EFAEDF1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BA9B6-4FBA-48DB-B90D-69C9D24F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609EA-FFF8-4768-8C72-F63D508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6A942-9390-451A-B8EF-83B6C88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C1A4B-022D-43BD-A38D-2A227C7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EAD-94E8-4C1D-B817-905B6F2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41A72-7728-4C14-A9A0-F142332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88C1F-5753-4AFA-8347-7464AFE7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F4C3B-0C29-4918-9C64-38911C1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BEAE8-0BE5-4F71-A0BC-97F84351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15BB3-520B-4E3D-B582-B5B2A4DA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4D6C2-22FE-49A0-8A73-806D5755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09103-558A-416B-9852-1DE7E608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854D0-E53E-4D10-92DD-283B8124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3D85F-59F7-4F82-8F31-64AB5A9B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2790B-A200-4C4F-B9BE-8EFADF14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E3A-6F4E-40FA-B13A-3421F2F8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665F3-7B30-4100-8032-46816CB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A3086-D4B7-41F5-80C3-7602B4F2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B0B4D-3AD4-42F9-AD4B-C5B118C4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20DCD-CD23-4549-B3EF-8906DF72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D3609-B0A6-4CB5-ADAA-BE07CE28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0F8E6-FB13-41E9-B5A4-A2BAF2CC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58192-7147-4094-9307-B3C32224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2E202-3517-48B3-9A8C-3E91C5D7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2205A-C884-4E0D-8800-5E9F6993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8F7E2F-B47C-4612-AA6E-1F3E90BC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2A4B-E9D8-4005-B55B-BB2CF18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1FAE6-18A4-4E8D-B7BC-A9B0223F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B50E0-BF8E-4E2C-9B40-5F455D37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6C2A3-00E1-4D3A-8512-E928987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D6D22-D507-4034-953A-12CBF61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E51EC-238B-490B-B20F-6183FB1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27C91-DFDB-44BD-8D93-A000EB9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F6F65-DCF8-4709-BF63-2CA4E02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1A30F-EA52-44E1-967F-762D1602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A2070-5506-4853-B17A-9AAE21E4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554048-4392-43D2-80DF-7E850F1B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E9D5-731B-4D96-9626-353EC39F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ABAE5B-2ECB-45C9-8C45-58BD5D14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21B6BD-FF16-4CF4-B819-928AD178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A3AA60-86E9-40D8-AB34-0A282F84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6CF331-AAC9-4E3D-A342-C32D642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744DC4-A20F-4206-BF58-0FD88F5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60BEBC-0820-43D9-9FF2-B61D2A9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6B0487-CF97-4402-B1E5-B34D0B5B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E9FDD6-71C9-42D2-A127-C5D0291B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065D3E-86F0-4E81-A122-A00ACEAF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C565F5-885D-4F28-B4F0-1EFE390D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A4C-2CB3-46A4-B831-3EA26971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8BEE0B-F3B9-4464-A73D-1A56D313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0CA6E5F-8107-47F7-BB2D-682F4B5C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3305A6-E131-4C3D-A38A-98B2CEA7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D46B45-26C9-4D40-B779-CB3EA059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FB495E-41D2-41A7-BC16-BB838AE5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91010C-D106-4608-BCCE-23BA6E10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385FA8-3C88-407F-A048-65C79F80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64AD8B-2F92-474A-AB2D-7814474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3709E6-B600-4F68-853F-3411C42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5E8D5A-C038-4A74-9074-6110152D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F5F4-3E21-478A-AA34-9D31F3D1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505235-3106-4660-9F4D-086A130B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F49734D-64A0-4998-9526-6B3D9F62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055B17-F573-4A08-828C-E8459056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11F71D-D890-482B-9177-C9E1BB8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21B9D5-7B13-4C2D-9E42-25EBBB0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BA9E58-EF49-4401-B185-D25B3325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EF6BB1-2FA9-4EE6-AB37-F204320F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D83E7C6-6B65-4810-9DCC-02E1850C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5864B3-35C1-4550-94B4-91629AC6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DDA6E9-97DE-42D0-B496-5E4C67B4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915-AC4E-4675-8C8E-4F2CF5DD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9CA9-E2EB-4F83-9325-4675169B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498EE9-8964-4330-9342-C0B43DBD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155343-5335-41E3-A43D-E4B869D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4C136E-D371-4429-BAFE-889B48F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1C696D-3CC3-446E-A0E8-7566277A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724B68-3600-4AD8-B722-BB72EFEF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2FB100-57A6-4B76-9DF3-FDA8D2F9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E4E7D-CF28-48CA-8FA0-D6912D1A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409CD-F5E6-434A-AB7E-39A2FA0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4C9EF3-6DFD-4CC5-87B7-9C6AE281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A32E4-83CE-4191-AEDA-8C24CDF1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6172-A63F-45A9-9FAE-41A7B11C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2FBDCC-0B3D-4BDA-B241-FFA81CDB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FE9EF-390C-48D7-B87B-1C2FCCC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87A4EA-DA79-4200-B16C-26F16E7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8454D-665D-46D2-95A3-6BD9C796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0812D5-4EDE-4C99-89D5-40B36B3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10C85-F709-4724-B862-D0CA1A90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E244E-ABA2-42FF-8157-944E71E4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3DC5E6B-6690-4BB4-A63C-FBF2AA0C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023BE1-7682-4400-B427-ACF70A0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8C8E9C-C106-4DD4-9BE3-1C7B8A1A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B77E-0ED6-4750-A4D0-87DD964C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BBE601-5D34-4693-9B39-7874255D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9BEE7E-12CE-4864-8857-7AD65135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8603134-960E-4D8E-BB78-4AEE2FE4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F923D9-612D-4974-A3D3-65191A6D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EB7F23B-C1F0-42AC-B907-82A1D27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B392D39-B643-4283-ABBE-7E398DD0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C8D20B-4980-41F4-9EDD-3B1EE5AE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B7355FD-1D53-4D81-A3BB-13B474C08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B12AD2-0F7F-4DE9-BAC4-61892483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BC9D9B-1630-418B-BAA6-7B6788FF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6F3D-3291-460B-8EB7-00A1DF49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C0F80-44F5-4B04-AD3D-9F4A088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B657C-3C86-40AF-86B9-E3AF3E5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E7F48-B025-4C80-9ECC-0BB1EE9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0D4F69-02D0-4B54-9C65-ACDC2285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7C2E60-8DA6-40D4-8F2C-933A14E6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6B2F1-9D79-4B93-96EB-36B94177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3A331B-9030-4EBA-92B1-620C6C6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2B68F6-5F8D-456B-9034-CF82D40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FCC8F-9769-4E42-867E-CE7FFFC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B61829-3DFC-4E33-B1F3-F2C99289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52D8-C917-4309-907A-81C9885D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2049F-B49B-4424-9B32-F56231D0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CCA5B4-1821-41EB-B4F3-C77D2ECE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748C3-BD97-48AE-9A43-78E7CF05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43646-B559-47B9-B629-1B2551DD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49E9B-F89B-4090-BB16-96BFB6A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E6F99-566B-44C4-A6EF-D3079D29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7C9D2-B5FE-447B-B1E9-A7FDFE08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AFACC-0FBD-45A3-8AF1-F785E17C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61C2C-C385-409C-B185-B11C3CA7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C8D5F-951F-4A8E-BB6F-FB0FC2C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5529-D6B7-4E17-ABB0-5963EBF1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290E5-30C7-41C1-94CE-5068600E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F65F5-BB11-4E4D-92CA-2889DF1B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D94ED-32F2-4D55-B65B-B1392E9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7443E8-191F-4D0A-B929-B2671855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340CC6-186F-4434-ADD4-301DF96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FB7D9-586C-411F-8F8F-361560D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23C64-5CA7-427F-81F3-BD71C0E8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FC88A3-6B49-4260-86C1-42320D0F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91A786-C606-457F-B04F-51BF6C94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942EC-0D0D-4816-ACB1-C8B512C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F202-0758-48BE-A852-0473B5F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DA191-DA66-4C5E-9B0E-7266346F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3D0084-32D1-4C91-9515-46AD76EF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E7ACB6-CF61-4959-96DE-660B8F61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EAFBA-89E6-4B59-8F8A-5D9F8CF1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D8B2CA-50EE-44BE-AB4A-A9D25FB7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185EEA1-B73F-4294-A993-F25F51BF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CD60F7-6B45-44A8-B0D5-E6618C73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A89F19B-B120-4782-8A58-26135E33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045B9D-CED8-4177-864B-FE86755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3ED8FDB-38D0-491A-B10E-9240BED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91B0F-D29C-4203-8AA6-DCB29905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7841D96-7B6B-4A90-BBA6-93D7A19D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BA6C283-3E00-46E0-BCC8-59048874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98E85F6-D0AD-48B8-9714-7D7DD62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5678FFD-0C39-43F5-8C99-50D235F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F2214EE-F86B-44D5-91AD-EA8FDF2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0D18A40-9D0C-4ABE-8323-65C6E99F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8B9516C-A2AF-4639-A8F1-ECBFAC0D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437E9A3-DB0B-4828-9C25-8EE48F3C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E537115-AAC3-4293-B1F4-1D359CC2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62C6626-0D62-47C0-BCF7-36F47DE7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79E87-A661-4CDC-86FA-1FCE065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83D0B16-F719-4ABE-BA19-CF18F8B7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6798F35-9A9C-4FCE-BFB4-574DA420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7C8E31B-E8ED-4387-8EBA-3FD82F3F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F1C517-3707-4122-8E4C-A67F295A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3A3BCEC-BD25-47E9-B6E5-0AC4237F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154A676-0A40-45B3-B966-9985459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45161E-1493-4986-AFDC-F20E0A63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14B9C17-39FD-49F7-9197-5F8B12E8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634B240-F22D-49EB-9D62-8DD666ED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8A70E1-87B5-48F2-9EBF-9C8B2AD8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33851-2008-457B-AF8C-E224D27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2B1E67-A49C-430B-B6F9-0B658B0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ED129BB-70DA-4E84-A281-CFC27F4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BD47C3F-4553-47E0-9866-B04A326D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A00A5F1-C441-4CB7-90FB-336656F0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FAF307-5453-43F2-8C4D-400AA0B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98E292E-FF17-4B5E-A07F-7CC5ADD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969390F-C834-450C-8C48-E7D0FA1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2AD4766-32D6-4072-AA75-494D0E2F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2955C0-3BD5-49DB-80C4-D7C92EF4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AFD5F45-A44B-4890-B796-1461E4AB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517-4A55-471F-9DD7-35D32A2E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6D0B-24A5-42D8-B95D-D20397AA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3DEA45-7C51-4FF3-BA94-5E6F78CA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B296F2-D965-4985-A84F-A5B3F1FF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792A9F-38A6-4552-8A9A-153EF0E3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26EAC9-CE6B-4AB2-A144-23CC61A9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66D9E9-9EDA-4A88-ABE5-5B304186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B9CD2E-06AA-4DA8-A29C-6023F030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7188C8-631A-4F23-834A-FD466EDC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9356F-0280-4FEE-9FEB-5E9E6FE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C2C5C0-5A0F-4643-B364-30275CB2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3C29B8-F647-416C-A665-A2CD4BB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2595-FB8C-4861-A598-38D84D5A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15EB01-707B-48E7-94C8-CE436915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4CECD0-CBFA-400B-95CB-577676EA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9B5C97-89AE-4475-8236-58633F88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CDA3229-AD04-4427-BA8F-0FF3D80F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044930D-F507-44AA-9D7E-2A279E63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01B124A-EF9C-4943-A7E8-474CDB3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1C9AB6A-A1C6-4F6C-9D72-8D891B8A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17CC16-07A3-4DE0-B10A-65717FC5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270127E-CA66-433F-A59F-3AAE82B1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6A2377-7B7C-4572-8BE3-2B44E96D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BE39-9833-413D-A47A-72085C66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A4968A-0CE6-42E6-9C21-F6FE4017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3778FA-9F78-4560-B0D3-DA7684D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E8EA1C-E5F2-40D2-A5E2-16608F0F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8D1F7A9-E5CE-42F7-A1E5-F1C1B82F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2530D9-1CE8-430C-9E26-EAB335A4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E2EC0E-8325-4D00-9618-8235D5DD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CD5598-05A5-4FFC-B20C-21EA0CD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48B600-5424-4874-8109-A2B11189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824802-56F5-4452-B158-98B4CC1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7C9633-0DDA-4296-8CF9-3E9598A0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1849-B9B5-4695-8EE4-D57CFE9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D8CDBF-E5C9-4488-9B40-80EFA880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C57903-CE41-447C-B383-CB9E5A4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D0AB94-085C-4D03-9D02-B39EF73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26BDDC-4B84-4695-A9EE-3AB8E4F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F2031C-BC1D-4050-9D3A-4E40DDD5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94F2FE-27E6-48F8-9CF2-FCFBFA1D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797C9F-5CB3-4393-A905-83D7A42F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BACF47-F1FF-4A9D-B3D9-EF5E8A97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532B9D-24E2-4A9E-8AB3-2286E20D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04BC15-FF1C-491F-B631-134FDCF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F390E-BCFA-4A3A-9E88-C53EC8C4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7C14F8-BF97-4D53-A8A7-409A485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E5D798-FAB9-45F2-B812-678ADE7E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F49E9F-7DCE-47F4-99A8-F05222EA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FE9710-E00C-4368-974E-1B110F82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5C9F52-738A-4E15-AA68-CEE289D5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750CAA-61B5-4783-87A1-A6D4381B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E3E178-635F-45DE-A5E9-D16AF8B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BFB018-5ACC-428C-895E-C4B6DF90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452499-25FE-4E63-9241-549ADFBA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FEE665-F8AA-4C83-B15C-6E728593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6017-B943-4821-865E-924DA8EB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12B153-12CA-4E26-BA12-DBC1C3C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8143EC-FF64-4743-A0D5-E9E2C8BD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FD938F-75AB-48AF-9D6C-18787036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DBA82C-9FB6-4561-813A-FAE4599E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BCE654-F87C-4B91-94B5-3A698886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C04DB1-28E8-44DD-9C7A-B5BA5BD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E18114-C3D6-408C-BF5B-9D49CB0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15AF0E-B678-4801-9985-294EA2B6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3A91BF-65F6-42CB-880B-0E777AA3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B86D9F-55A9-4711-AD41-29CABFD1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86A4-0C44-4B6F-806C-A106F15D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FC688F-2C34-4D87-8A8C-0966DE0A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5DE7820-F386-4C4E-B40A-ED57C041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600C673-1CA9-413C-91D0-BB73ECB2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DFBC674-25D6-4792-A21C-B25E045E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16E718-2EDD-41EC-83AB-EE0BF835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2CD22FE-CA89-4776-8443-4557219B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580E7FF-4AE2-44F0-A9CA-CDAF8090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24AF960-672B-4DBF-BAAC-FFDF071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A083BD-9698-4790-BD74-CED05CCF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4BA9CDC-DF63-4B65-8C3C-5191329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AE27-90ED-4FF6-A6B0-EBDBF418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0877793-F84E-454E-8EE4-2B2726EE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2FDC9BF-A2A4-4F68-B298-EBB538A3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34132FD-216D-40D4-AC4E-14AC638A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EDC4C7E-4020-49DD-BDB5-4F29F910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80C1C21-614A-4195-BC5D-68C0D44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084EA4D-8BCC-43CD-BA68-C964B18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FBF72A8-B8F2-4AD2-B5AA-135E4198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29E18FF-DE42-4FBC-9DB6-9552FBA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605673F-6FFB-43F3-B685-B238D9F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21AA301-9C3B-4713-8740-C5CB664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35A7-AB9E-4805-9B7A-EAC77871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5C1F602-AF3C-49FA-8229-12AEDE49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DEF0377-8D98-4530-AD49-B9B712F1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6AD6225-B39A-4EDE-91AC-229A1F80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DEBC480-C497-4414-84BF-EBF2E754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C607563-D320-449A-A5A4-B737C040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7C909-89A7-4E79-9608-C91E9482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7CD-CE43-4F1C-B38F-482BF26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4269-A0CC-4982-A9C6-9F5CCC7E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1F54-02D7-479A-8F60-4E79477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A00F-CD05-4CA4-AA19-1898C78E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DE7D-76D6-4729-8B16-7A967FF8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D777F-6E77-4DA2-BD03-C0546E0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D7AB-360A-4C94-BF24-1BEBA91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176E-627B-4744-A3C2-C38426C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B103-29A2-40C4-B98F-D2E82C2A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0E54-8BB0-4258-952F-BF2445BB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CC466-AB2A-40A1-B8A8-11FFADA8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41D-B500-4823-856A-66D983FF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4BFCA-C7BC-41CE-AACF-CF98807B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CDC15-C440-4CF1-8E3B-25A40912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477F-F600-4EC4-826D-3890E3CF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7321-1FBB-4D7A-AB51-A0A122BD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D15E-DCAE-4DBD-9399-38E78B2E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BDEB7-A5CA-46ED-9E7A-CABEF44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2C70-3FC3-48F0-B3CE-CE91F5C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C6EE2-B5E2-47A9-9F02-2BEBFF27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E276-64C0-42BB-8BBA-60D87BA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CB3FE-7963-4E25-AF7C-63B8A60C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529-2DA6-43B7-B66D-079F8E7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2695-7B35-45A7-8471-CACDDFC2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05F3B-1AA5-437F-8E07-6DE26F4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5FE0C-2415-48AA-B891-F44A724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223CE-4DC4-4647-880E-8101F32C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3ECC-2B7C-4B33-A2BD-2215806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676CC-8F6A-433A-861E-EECF9FE2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E2E4-089E-46EF-9CA6-4E645B8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4B29-B088-4733-B203-76F50F4C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E6F8D-244E-4251-9071-FD87570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4EEA-44B9-4778-BB79-FD6F76F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789-C647-46E6-8F26-5ED899D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6FD7-457D-45F1-AFC1-16003977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FEC2-A684-420D-B6F1-831D5EA3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E5732-3067-4248-95EB-72A00A68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D952-1E7E-4AB1-9F01-7F71A2A2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ECF93-4FA6-4CAC-B605-D8B97149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B16E5-B6C0-4C78-A191-E68CF1FD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68E50-7F3E-4FE5-9D63-8D01452D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500EB-AA1A-4757-9759-0276CD7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CAF7B-C768-4052-AF88-A7311840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DA21F-A664-4300-88F7-B87630E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207-FF0B-4773-9B90-F547CD64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86632-94CE-4A3C-AFA0-48D44CB6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9535F-49DB-459F-92D7-48813B15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98367-24D4-4EE7-B7F1-5E098F74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09282-FE48-4AA7-9714-8B6D9765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534F7-EB33-44C8-9B0B-13E1521E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D5784-0D71-4814-A1D3-4353147E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B0374-727C-4499-B6EB-3484F9B9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3640D-9C4A-41A3-96D3-1AE3294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B51AF-088B-4216-87E4-FD1A0DFA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47D80-A9CD-4CDC-A65B-ED2EA672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09D-71B7-44E6-BDCB-C13EF03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FF37-5078-4ECA-B889-1184C880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1DE7A-BDA7-46A2-84A2-0D682CA6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685B-3551-45F0-8899-5D3C0F7A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C5E65-72A6-4DEB-A7A4-EC1F4183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7365F-7E60-4D57-93A6-8B601044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4B316-D1C9-4C41-B77F-B2D52F5F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5CC7-CF1C-4983-86AE-0B81155B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2F8C6-A777-48C5-87F9-24E89FF3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3DEF1-29DA-4877-9250-FE57B37E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6D2287-E35F-4588-9CCB-4E03D1B6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BDB4-205D-46B5-8B2C-663F6559F1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0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726-8A79-4911-BB6D-B86387CE3234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6D11-07B1-4216-A7B3-2E3EB61E83EF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D4B9-DBFF-456E-AFC6-9193065BE751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F4C5-217B-48B4-93AF-E60072C7A30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58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326A-8509-4955-BCFE-950587B5F3F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3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44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3C11-DDE1-4326-A86E-6D53806A341F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45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4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2731-9CF3-4A84-997F-84C65B4A5E22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ftr" idx="4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71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013-67D7-4678-B0CD-94BA63BE2156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75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2482-18B7-480A-9250-A15D5F381C8F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DF0F-35B1-49C6-8C47-7B3052465CAF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4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FEF7-D2E6-4577-BE6D-EE5D238201D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9F4-AA79-44CA-B3AB-502352D52DE2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F537-486D-4A84-8305-B0F897F5342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9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CD40-8601-4129-860E-24FA081A01A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7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sldNum" idx="68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9170-8F7B-41CE-9E14-3B37658F656F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ftr" idx="69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 type="dt" idx="70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 type="sldNum" idx="71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A368-DABC-4DAC-8915-86A44E98079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 type="ftr" idx="72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106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FC93-C19C-47EF-8DF2-C7C86575323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0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A37A-B1FC-4B93-98A2-24C4943787F2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79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80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D703-ED5E-43A3-AA72-DF5C60B0E243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ftr" idx="81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1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dt" idx="8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ftr" idx="8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sldNum" idx="84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3572-C99B-4DFE-AA0C-3273BE41E5E6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8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8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8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488B-F29E-4586-B4F9-64211E59167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ftr" idx="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2B74-4DC6-408D-A649-F0C5ED556F1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2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28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dt" idx="8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ftr" idx="8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 type="sldNum" idx="9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783-98EE-4437-B35D-43E820DF6A8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1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92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2B3-5964-4437-BE5D-FF7D4D29319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ftr" idx="93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9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sldNum" idx="9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68BB-91E8-4045-A633-F9DD8A28821B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ftr" idx="9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3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7A65-3DD5-4A75-A706-FCFAC3C81C73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8C2-371F-4741-A16A-01B74C0129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2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2685-DF55-4AD3-B223-D0E861A559F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945E-5962-4CB4-B96D-282D792928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DEF-6CC7-4C1A-89FD-25FE47E8FDD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361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8A2E-A7C8-4677-960C-3F18D46C46D5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TextBox 1"/>
          <p:cNvSpPr/>
          <p:nvPr/>
        </p:nvSpPr>
        <p:spPr>
          <a:xfrm>
            <a:off x="2377440" y="328608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Arial"/>
              </a:rPr>
              <a:t>Презентация «Д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Прямоугольник 3" descr=""/>
          <p:cNvPicPr/>
          <p:nvPr/>
        </p:nvPicPr>
        <p:blipFill>
          <a:blip r:embed="rId1"/>
          <a:stretch/>
        </p:blipFill>
        <p:spPr>
          <a:xfrm>
            <a:off x="5772240" y="219240"/>
            <a:ext cx="3279600" cy="1523880"/>
          </a:xfrm>
          <a:prstGeom prst="rect">
            <a:avLst/>
          </a:prstGeom>
          <a:ln w="0">
            <a:noFill/>
          </a:ln>
        </p:spPr>
      </p:pic>
      <p:pic>
        <p:nvPicPr>
          <p:cNvPr id="1412" name="Прямоугольник 6" descr=""/>
          <p:cNvPicPr/>
          <p:nvPr/>
        </p:nvPicPr>
        <p:blipFill>
          <a:blip r:embed="rId2"/>
          <a:stretch/>
        </p:blipFill>
        <p:spPr>
          <a:xfrm>
            <a:off x="1938240" y="1432080"/>
            <a:ext cx="5127840" cy="1523880"/>
          </a:xfrm>
          <a:prstGeom prst="rect">
            <a:avLst/>
          </a:prstGeom>
          <a:ln w="0">
            <a:noFill/>
          </a:ln>
        </p:spPr>
      </p:pic>
      <p:pic>
        <p:nvPicPr>
          <p:cNvPr id="1413" name="Прямоугольник 8" descr=""/>
          <p:cNvPicPr/>
          <p:nvPr/>
        </p:nvPicPr>
        <p:blipFill>
          <a:blip r:embed="rId3"/>
          <a:stretch/>
        </p:blipFill>
        <p:spPr>
          <a:xfrm>
            <a:off x="208080" y="219240"/>
            <a:ext cx="4192560" cy="1523880"/>
          </a:xfrm>
          <a:prstGeom prst="rect">
            <a:avLst/>
          </a:prstGeom>
          <a:ln w="0">
            <a:noFill/>
          </a:ln>
        </p:spPr>
      </p:pic>
      <p:sp>
        <p:nvSpPr>
          <p:cNvPr id="1414" name="TextBox 9"/>
          <p:cNvSpPr/>
          <p:nvPr/>
        </p:nvSpPr>
        <p:spPr>
          <a:xfrm>
            <a:off x="1017720" y="4857840"/>
            <a:ext cx="70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2d1f"/>
                </a:solidFill>
                <a:latin typeface="Arial"/>
              </a:rPr>
              <a:t>Автор – Щеголева Л.М. ( школа №596  Примор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AutoShape 5"/>
          <p:cNvSpPr/>
          <p:nvPr/>
        </p:nvSpPr>
        <p:spPr>
          <a:xfrm>
            <a:off x="874872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TextBox 5" descr=""/>
          <p:cNvPicPr/>
          <p:nvPr/>
        </p:nvPicPr>
        <p:blipFill>
          <a:blip r:embed="rId1"/>
          <a:stretch/>
        </p:blipFill>
        <p:spPr>
          <a:xfrm>
            <a:off x="165240" y="407880"/>
            <a:ext cx="9039240" cy="81756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5" descr="D:\терасса.jpg"/>
          <p:cNvPicPr/>
          <p:nvPr/>
        </p:nvPicPr>
        <p:blipFill>
          <a:blip r:embed="rId2"/>
          <a:stretch/>
        </p:blipFill>
        <p:spPr>
          <a:xfrm>
            <a:off x="928800" y="1428840"/>
            <a:ext cx="72864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AutoShape 5"/>
          <p:cNvSpPr/>
          <p:nvPr/>
        </p:nvSpPr>
        <p:spPr>
          <a:xfrm>
            <a:off x="8748720" y="6524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Text Box 6" descr=""/>
          <p:cNvPicPr/>
          <p:nvPr/>
        </p:nvPicPr>
        <p:blipFill>
          <a:blip r:embed="rId1"/>
          <a:stretch/>
        </p:blipFill>
        <p:spPr>
          <a:xfrm>
            <a:off x="1152360" y="281160"/>
            <a:ext cx="4930920" cy="81576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" descr="D:\подвал.jpg"/>
          <p:cNvPicPr/>
          <p:nvPr/>
        </p:nvPicPr>
        <p:blipFill>
          <a:blip r:embed="rId2"/>
          <a:stretch/>
        </p:blipFill>
        <p:spPr>
          <a:xfrm>
            <a:off x="642960" y="1143000"/>
            <a:ext cx="8062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TextBox 1"/>
          <p:cNvSpPr/>
          <p:nvPr/>
        </p:nvSpPr>
        <p:spPr>
          <a:xfrm>
            <a:off x="1392120" y="785880"/>
            <a:ext cx="6359760" cy="4667760"/>
          </a:xfrm>
          <a:prstGeom prst="rect">
            <a:avLst/>
          </a:prstGeom>
          <a:solidFill>
            <a:srgbClr val="ffff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ажаемые коллеги! Если у вас возникнет желание воспользоваться моей презентацией «Дом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елось бы  провести маленький инструктаж. Кадры презентации с 4 по 11 взаимосвязаны, т.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р 4 является центральным, на который  сделаны ссылки с 5,6,7,8,9,10 и 11 кадров. 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те дом в разрезе и каждый раз имеете возможность, щёлкнув на маленькую коричнев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опку, оказаться в соответствующем помещении, поработать с этим кадром и опять верну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 дому в разрезе. Далее вы найдете разные упражнения  - лексические, грамматическ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ение информации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еюсь, что мое объяснение  было понятным. Желаю успех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19"/>
          <p:cNvSpPr/>
          <p:nvPr/>
        </p:nvSpPr>
        <p:spPr>
          <a:xfrm>
            <a:off x="5508720" y="1628640"/>
            <a:ext cx="3384360" cy="18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179280" y="1484280"/>
            <a:ext cx="4824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17"/>
          <p:cNvSpPr/>
          <p:nvPr/>
        </p:nvSpPr>
        <p:spPr>
          <a:xfrm>
            <a:off x="5364000" y="4149720"/>
            <a:ext cx="3600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16"/>
          <p:cNvSpPr/>
          <p:nvPr/>
        </p:nvSpPr>
        <p:spPr>
          <a:xfrm>
            <a:off x="285840" y="4429080"/>
            <a:ext cx="48243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WordArt 5"/>
          <p:cNvSpPr txBox="1"/>
          <p:nvPr/>
        </p:nvSpPr>
        <p:spPr>
          <a:xfrm>
            <a:off x="755640" y="189000"/>
            <a:ext cx="748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Pour parler d’un logement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1" name="Text Box 6"/>
          <p:cNvSpPr/>
          <p:nvPr/>
        </p:nvSpPr>
        <p:spPr>
          <a:xfrm>
            <a:off x="324000" y="1484280"/>
            <a:ext cx="482436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es lo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un appartement ( un studio, un deux-pièces) – une maison – une villa – un immeuble de trois ét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le rez-de-chaussée – le premier é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- le deuxième étage – un ascen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AutoShape 7"/>
          <p:cNvSpPr/>
          <p:nvPr/>
        </p:nvSpPr>
        <p:spPr>
          <a:xfrm>
            <a:off x="179280" y="1557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8"/>
          <p:cNvSpPr/>
          <p:nvPr/>
        </p:nvSpPr>
        <p:spPr>
          <a:xfrm>
            <a:off x="5992920" y="1600200"/>
            <a:ext cx="28270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es piè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b2d1f"/>
                </a:solidFill>
                <a:latin typeface="Arial"/>
              </a:rPr>
              <a:t>une cuisine – une salle à manger – un salon – une chambre – une salle de bains – les toilettes – l’entrée – le couloir – le garage – la cave – la terr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AutoShape 9"/>
          <p:cNvSpPr/>
          <p:nvPr/>
        </p:nvSpPr>
        <p:spPr>
          <a:xfrm>
            <a:off x="5796000" y="162864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0"/>
          <p:cNvSpPr/>
          <p:nvPr/>
        </p:nvSpPr>
        <p:spPr>
          <a:xfrm>
            <a:off x="250920" y="4437000"/>
            <a:ext cx="48448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ouer – acheter – ve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0066"/>
                </a:solidFill>
                <a:latin typeface="Arial"/>
              </a:rPr>
              <a:t>Il loue un deux-pièces à Lyon 400 euros par mo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0066"/>
                </a:solidFill>
                <a:latin typeface="Arial"/>
              </a:rPr>
              <a:t>Cet appartement est à vend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0066"/>
                </a:solidFill>
                <a:latin typeface="Arial"/>
              </a:rPr>
              <a:t>Elle voudrait acheter un 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11"/>
          <p:cNvSpPr/>
          <p:nvPr/>
        </p:nvSpPr>
        <p:spPr>
          <a:xfrm>
            <a:off x="5364000" y="436572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2"/>
          <p:cNvSpPr/>
          <p:nvPr/>
        </p:nvSpPr>
        <p:spPr>
          <a:xfrm>
            <a:off x="5559480" y="4264200"/>
            <a:ext cx="34052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cc3300"/>
                </a:solidFill>
                <a:latin typeface="Arial"/>
              </a:rPr>
              <a:t>Les caractér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un appartement ancien/ moderne/ ne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- ensoleillé - cal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AutoShape 15"/>
          <p:cNvSpPr/>
          <p:nvPr/>
        </p:nvSpPr>
        <p:spPr>
          <a:xfrm>
            <a:off x="0" y="4508640"/>
            <a:ext cx="216000" cy="21564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5640"/>
              <a:gd name="textAreaBottom" fmla="*/ 12672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Picture 4" descr="maison"/>
          <p:cNvPicPr/>
          <p:nvPr/>
        </p:nvPicPr>
        <p:blipFill>
          <a:blip r:embed="rId1"/>
          <a:stretch/>
        </p:blipFill>
        <p:spPr>
          <a:xfrm>
            <a:off x="1619280" y="836640"/>
            <a:ext cx="5896080" cy="5238720"/>
          </a:xfrm>
          <a:prstGeom prst="rect">
            <a:avLst/>
          </a:prstGeom>
          <a:ln w="9360">
            <a:solidFill>
              <a:srgbClr val="644646"/>
            </a:solidFill>
            <a:miter/>
          </a:ln>
        </p:spPr>
      </p:pic>
      <p:sp>
        <p:nvSpPr>
          <p:cNvPr id="1430" name="AutoShape 5"/>
          <p:cNvSpPr/>
          <p:nvPr/>
        </p:nvSpPr>
        <p:spPr>
          <a:xfrm>
            <a:off x="3419640" y="335772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AutoShape 6"/>
          <p:cNvSpPr/>
          <p:nvPr/>
        </p:nvSpPr>
        <p:spPr>
          <a:xfrm>
            <a:off x="4284720" y="4508640"/>
            <a:ext cx="142920" cy="2156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5640"/>
              <a:gd name="textAreaBottom" fmla="*/ 206640 h 215640"/>
            </a:gdLst>
            <a:ahLst/>
            <a:rect l="textAreaLeft" t="textAreaTop" r="textAreaRight" b="textAreaBottom"/>
            <a:pathLst>
              <a:path w="21600" h="32563">
                <a:moveTo>
                  <a:pt x="0" y="0"/>
                </a:moveTo>
                <a:lnTo>
                  <a:pt x="21600" y="0"/>
                </a:lnTo>
                <a:lnTo>
                  <a:pt x="21600" y="32563"/>
                </a:lnTo>
                <a:lnTo>
                  <a:pt x="0" y="32563"/>
                </a:lnTo>
                <a:close/>
              </a:path>
              <a:path fill="lightenLess" w="21600" h="325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563">
                <a:moveTo>
                  <a:pt x="21600" y="0"/>
                </a:moveTo>
                <a:lnTo>
                  <a:pt x="21600" y="32563"/>
                </a:lnTo>
                <a:lnTo>
                  <a:pt x="20200" y="31163"/>
                </a:lnTo>
                <a:lnTo>
                  <a:pt x="20200" y="1400"/>
                </a:lnTo>
                <a:close/>
              </a:path>
              <a:path fill="darkenLess" w="21600" h="32563">
                <a:moveTo>
                  <a:pt x="21600" y="32563"/>
                </a:moveTo>
                <a:lnTo>
                  <a:pt x="0" y="32563"/>
                </a:lnTo>
                <a:lnTo>
                  <a:pt x="1400" y="31163"/>
                </a:lnTo>
                <a:lnTo>
                  <a:pt x="20200" y="31163"/>
                </a:lnTo>
                <a:close/>
              </a:path>
              <a:path fill="lighten" w="21600" h="32563">
                <a:moveTo>
                  <a:pt x="0" y="3256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163"/>
                </a:lnTo>
                <a:close/>
              </a:path>
              <a:path fill="darken" w="21600" h="32563">
                <a:moveTo>
                  <a:pt x="3794" y="16281"/>
                </a:moveTo>
                <a:lnTo>
                  <a:pt x="17806" y="9275"/>
                </a:lnTo>
                <a:lnTo>
                  <a:pt x="17806" y="23288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AutoShape 7"/>
          <p:cNvSpPr/>
          <p:nvPr/>
        </p:nvSpPr>
        <p:spPr>
          <a:xfrm>
            <a:off x="3492360" y="4437000"/>
            <a:ext cx="73080" cy="14436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144360"/>
              <a:gd name="textAreaBottom" fmla="*/ 139680 h 144360"/>
            </a:gdLst>
            <a:ahLst/>
            <a:rect l="textAreaLeft" t="textAreaTop" r="textAreaRight" b="textAreaBottom"/>
            <a:pathLst>
              <a:path w="21600" h="42565">
                <a:moveTo>
                  <a:pt x="0" y="0"/>
                </a:moveTo>
                <a:lnTo>
                  <a:pt x="21600" y="0"/>
                </a:lnTo>
                <a:lnTo>
                  <a:pt x="21600" y="42565"/>
                </a:lnTo>
                <a:lnTo>
                  <a:pt x="0" y="42565"/>
                </a:lnTo>
                <a:close/>
              </a:path>
              <a:path fill="lightenLess" w="21600" h="425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565">
                <a:moveTo>
                  <a:pt x="21600" y="0"/>
                </a:moveTo>
                <a:lnTo>
                  <a:pt x="21600" y="42565"/>
                </a:lnTo>
                <a:lnTo>
                  <a:pt x="20200" y="41165"/>
                </a:lnTo>
                <a:lnTo>
                  <a:pt x="20200" y="1400"/>
                </a:lnTo>
                <a:close/>
              </a:path>
              <a:path fill="darkenLess" w="21600" h="42565">
                <a:moveTo>
                  <a:pt x="21600" y="42565"/>
                </a:moveTo>
                <a:lnTo>
                  <a:pt x="0" y="42565"/>
                </a:lnTo>
                <a:lnTo>
                  <a:pt x="1400" y="41165"/>
                </a:lnTo>
                <a:lnTo>
                  <a:pt x="20200" y="41165"/>
                </a:lnTo>
                <a:close/>
              </a:path>
              <a:path fill="lighten" w="21600" h="42565">
                <a:moveTo>
                  <a:pt x="0" y="42565"/>
                </a:moveTo>
                <a:lnTo>
                  <a:pt x="0" y="0"/>
                </a:lnTo>
                <a:lnTo>
                  <a:pt x="1400" y="1400"/>
                </a:lnTo>
                <a:lnTo>
                  <a:pt x="1400" y="41165"/>
                </a:lnTo>
                <a:close/>
              </a:path>
              <a:path fill="darken" w="21600" h="42565">
                <a:moveTo>
                  <a:pt x="3794" y="21282"/>
                </a:moveTo>
                <a:lnTo>
                  <a:pt x="17806" y="14276"/>
                </a:lnTo>
                <a:lnTo>
                  <a:pt x="17806" y="28289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AutoShape 9"/>
          <p:cNvSpPr/>
          <p:nvPr/>
        </p:nvSpPr>
        <p:spPr>
          <a:xfrm>
            <a:off x="3492360" y="5157720"/>
            <a:ext cx="73080" cy="144360"/>
          </a:xfrm>
          <a:custGeom>
            <a:avLst/>
            <a:gdLst>
              <a:gd name="textAreaLeft" fmla="*/ 4680 w 73080"/>
              <a:gd name="textAreaRight" fmla="*/ 68400 w 73080"/>
              <a:gd name="textAreaTop" fmla="*/ 4680 h 144360"/>
              <a:gd name="textAreaBottom" fmla="*/ 139680 h 144360"/>
            </a:gdLst>
            <a:ahLst/>
            <a:rect l="textAreaLeft" t="textAreaTop" r="textAreaRight" b="textAreaBottom"/>
            <a:pathLst>
              <a:path w="21600" h="42565">
                <a:moveTo>
                  <a:pt x="0" y="0"/>
                </a:moveTo>
                <a:lnTo>
                  <a:pt x="21600" y="0"/>
                </a:lnTo>
                <a:lnTo>
                  <a:pt x="21600" y="42565"/>
                </a:lnTo>
                <a:lnTo>
                  <a:pt x="0" y="42565"/>
                </a:lnTo>
                <a:close/>
              </a:path>
              <a:path fill="lightenLess" w="21600" h="425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565">
                <a:moveTo>
                  <a:pt x="21600" y="0"/>
                </a:moveTo>
                <a:lnTo>
                  <a:pt x="21600" y="42565"/>
                </a:lnTo>
                <a:lnTo>
                  <a:pt x="20200" y="41165"/>
                </a:lnTo>
                <a:lnTo>
                  <a:pt x="20200" y="1400"/>
                </a:lnTo>
                <a:close/>
              </a:path>
              <a:path fill="darkenLess" w="21600" h="42565">
                <a:moveTo>
                  <a:pt x="21600" y="42565"/>
                </a:moveTo>
                <a:lnTo>
                  <a:pt x="0" y="42565"/>
                </a:lnTo>
                <a:lnTo>
                  <a:pt x="1400" y="41165"/>
                </a:lnTo>
                <a:lnTo>
                  <a:pt x="20200" y="41165"/>
                </a:lnTo>
                <a:close/>
              </a:path>
              <a:path fill="lighten" w="21600" h="42565">
                <a:moveTo>
                  <a:pt x="0" y="42565"/>
                </a:moveTo>
                <a:lnTo>
                  <a:pt x="0" y="0"/>
                </a:lnTo>
                <a:lnTo>
                  <a:pt x="1400" y="1400"/>
                </a:lnTo>
                <a:lnTo>
                  <a:pt x="1400" y="41165"/>
                </a:lnTo>
                <a:close/>
              </a:path>
              <a:path fill="darken" w="21600" h="42565">
                <a:moveTo>
                  <a:pt x="3794" y="21282"/>
                </a:moveTo>
                <a:lnTo>
                  <a:pt x="17806" y="14276"/>
                </a:lnTo>
                <a:lnTo>
                  <a:pt x="17806" y="28289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AutoShape 10"/>
          <p:cNvSpPr/>
          <p:nvPr/>
        </p:nvSpPr>
        <p:spPr>
          <a:xfrm>
            <a:off x="3492360" y="2276640"/>
            <a:ext cx="142920" cy="14256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10800"/>
                </a:moveTo>
                <a:lnTo>
                  <a:pt x="17834" y="3794"/>
                </a:lnTo>
                <a:lnTo>
                  <a:pt x="17834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AutoShape 11"/>
          <p:cNvSpPr/>
          <p:nvPr/>
        </p:nvSpPr>
        <p:spPr>
          <a:xfrm>
            <a:off x="4140360" y="3429000"/>
            <a:ext cx="215640" cy="144360"/>
          </a:xfrm>
          <a:custGeom>
            <a:avLst/>
            <a:gdLst>
              <a:gd name="textAreaLeft" fmla="*/ 9360 w 215640"/>
              <a:gd name="textAreaRight" fmla="*/ 206280 w 215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AutoShape 12"/>
          <p:cNvSpPr/>
          <p:nvPr/>
        </p:nvSpPr>
        <p:spPr>
          <a:xfrm>
            <a:off x="3780000" y="2276640"/>
            <a:ext cx="144360" cy="144360"/>
          </a:xfrm>
          <a:custGeom>
            <a:avLst/>
            <a:gdLst>
              <a:gd name="textAreaLeft" fmla="*/ 9360 w 144360"/>
              <a:gd name="textAreaRight" fmla="*/ 135000 w 144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WordArt 15"/>
          <p:cNvSpPr txBox="1"/>
          <p:nvPr/>
        </p:nvSpPr>
        <p:spPr>
          <a:xfrm>
            <a:off x="1258920" y="115920"/>
            <a:ext cx="4448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s pièces de la maison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8" name="Text Box 16"/>
          <p:cNvSpPr/>
          <p:nvPr/>
        </p:nvSpPr>
        <p:spPr>
          <a:xfrm>
            <a:off x="5091120" y="1906560"/>
            <a:ext cx="14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a terr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17"/>
          <p:cNvSpPr/>
          <p:nvPr/>
        </p:nvSpPr>
        <p:spPr>
          <a:xfrm>
            <a:off x="5127480" y="287352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ne cha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 Box 18"/>
          <p:cNvSpPr/>
          <p:nvPr/>
        </p:nvSpPr>
        <p:spPr>
          <a:xfrm>
            <a:off x="1547640" y="19162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e bur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 Box 19"/>
          <p:cNvSpPr/>
          <p:nvPr/>
        </p:nvSpPr>
        <p:spPr>
          <a:xfrm>
            <a:off x="971640" y="285264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96464"/>
                </a:solidFill>
                <a:latin typeface="Arial"/>
              </a:rPr>
              <a:t>La salle de b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 Box 20"/>
          <p:cNvSpPr/>
          <p:nvPr/>
        </p:nvSpPr>
        <p:spPr>
          <a:xfrm>
            <a:off x="1403280" y="4005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a cui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21"/>
          <p:cNvSpPr/>
          <p:nvPr/>
        </p:nvSpPr>
        <p:spPr>
          <a:xfrm>
            <a:off x="2103480" y="5392800"/>
            <a:ext cx="1604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a ca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le sous-so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22"/>
          <p:cNvSpPr/>
          <p:nvPr/>
        </p:nvSpPr>
        <p:spPr>
          <a:xfrm>
            <a:off x="4335480" y="5681520"/>
            <a:ext cx="21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e sa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23"/>
          <p:cNvSpPr/>
          <p:nvPr/>
        </p:nvSpPr>
        <p:spPr>
          <a:xfrm flipH="1" flipV="1">
            <a:off x="4716360" y="4508640"/>
            <a:ext cx="21600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24"/>
          <p:cNvSpPr/>
          <p:nvPr/>
        </p:nvSpPr>
        <p:spPr>
          <a:xfrm>
            <a:off x="6424560" y="352116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Le ga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5"/>
          <p:cNvSpPr/>
          <p:nvPr/>
        </p:nvSpPr>
        <p:spPr>
          <a:xfrm flipH="1">
            <a:off x="6012000" y="378936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Picture 4" descr="cuisine1"/>
          <p:cNvPicPr/>
          <p:nvPr/>
        </p:nvPicPr>
        <p:blipFill>
          <a:blip r:embed="rId1"/>
          <a:stretch/>
        </p:blipFill>
        <p:spPr>
          <a:xfrm>
            <a:off x="250920" y="1052640"/>
            <a:ext cx="6913440" cy="5189400"/>
          </a:xfrm>
          <a:prstGeom prst="rect">
            <a:avLst/>
          </a:prstGeom>
          <a:ln w="9360">
            <a:solidFill>
              <a:srgbClr val="9b2d1f"/>
            </a:solidFill>
            <a:miter/>
          </a:ln>
        </p:spPr>
      </p:pic>
      <p:sp>
        <p:nvSpPr>
          <p:cNvPr id="1449" name="AutoShape 5"/>
          <p:cNvSpPr/>
          <p:nvPr/>
        </p:nvSpPr>
        <p:spPr>
          <a:xfrm>
            <a:off x="8748720" y="652464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44" h="21600">
                <a:moveTo>
                  <a:pt x="3865" y="10800"/>
                </a:moveTo>
                <a:lnTo>
                  <a:pt x="17878" y="3794"/>
                </a:lnTo>
                <a:lnTo>
                  <a:pt x="17878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WordArt 29"/>
          <p:cNvSpPr txBox="1"/>
          <p:nvPr/>
        </p:nvSpPr>
        <p:spPr>
          <a:xfrm>
            <a:off x="1332000" y="189000"/>
            <a:ext cx="58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Découvre dans cette cuisine… (clique!)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451" name="Text Box 31"/>
          <p:cNvSpPr/>
          <p:nvPr/>
        </p:nvSpPr>
        <p:spPr>
          <a:xfrm>
            <a:off x="7216560" y="97956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Arial"/>
              </a:rPr>
              <a:t>Une poê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33"/>
          <p:cNvSpPr/>
          <p:nvPr/>
        </p:nvSpPr>
        <p:spPr>
          <a:xfrm>
            <a:off x="7235640" y="12682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 fri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34"/>
          <p:cNvSpPr/>
          <p:nvPr/>
        </p:nvSpPr>
        <p:spPr>
          <a:xfrm>
            <a:off x="7234920" y="191628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00"/>
                </a:solidFill>
                <a:latin typeface="Arial"/>
              </a:rPr>
              <a:t>Une poube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35"/>
          <p:cNvSpPr/>
          <p:nvPr/>
        </p:nvSpPr>
        <p:spPr>
          <a:xfrm>
            <a:off x="7234560" y="22766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Une théiè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36"/>
          <p:cNvSpPr/>
          <p:nvPr/>
        </p:nvSpPr>
        <p:spPr>
          <a:xfrm>
            <a:off x="7308720" y="29242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37"/>
          <p:cNvSpPr/>
          <p:nvPr/>
        </p:nvSpPr>
        <p:spPr>
          <a:xfrm>
            <a:off x="7235640" y="256536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 f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38"/>
          <p:cNvSpPr/>
          <p:nvPr/>
        </p:nvSpPr>
        <p:spPr>
          <a:xfrm>
            <a:off x="7233840" y="28526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e casse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39"/>
          <p:cNvSpPr/>
          <p:nvPr/>
        </p:nvSpPr>
        <p:spPr>
          <a:xfrm>
            <a:off x="7234200" y="32130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66"/>
                </a:solidFill>
                <a:latin typeface="Arial"/>
              </a:rPr>
              <a:t>Un tabou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40"/>
          <p:cNvSpPr/>
          <p:nvPr/>
        </p:nvSpPr>
        <p:spPr>
          <a:xfrm>
            <a:off x="7234920" y="350028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00"/>
                </a:solidFill>
                <a:latin typeface="Arial"/>
              </a:rPr>
              <a:t>Un grille-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41"/>
          <p:cNvSpPr/>
          <p:nvPr/>
        </p:nvSpPr>
        <p:spPr>
          <a:xfrm>
            <a:off x="7236000" y="38606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6600"/>
                </a:solidFill>
                <a:latin typeface="Arial"/>
              </a:rPr>
              <a:t>Un bal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42"/>
          <p:cNvSpPr/>
          <p:nvPr/>
        </p:nvSpPr>
        <p:spPr>
          <a:xfrm>
            <a:off x="7232040" y="4149720"/>
            <a:ext cx="18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3300"/>
                </a:solidFill>
                <a:latin typeface="Arial"/>
              </a:rPr>
              <a:t>Une machine à la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43"/>
          <p:cNvSpPr/>
          <p:nvPr/>
        </p:nvSpPr>
        <p:spPr>
          <a:xfrm>
            <a:off x="7235640" y="472428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66"/>
                </a:solidFill>
                <a:latin typeface="Arial"/>
              </a:rPr>
              <a:t>Un év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44"/>
          <p:cNvSpPr/>
          <p:nvPr/>
        </p:nvSpPr>
        <p:spPr>
          <a:xfrm>
            <a:off x="7234560" y="508464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Une ho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45"/>
          <p:cNvSpPr/>
          <p:nvPr/>
        </p:nvSpPr>
        <p:spPr>
          <a:xfrm>
            <a:off x="7233120" y="1557360"/>
            <a:ext cx="125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66"/>
                </a:solidFill>
                <a:latin typeface="Arial"/>
              </a:rPr>
              <a:t>Des assiet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46"/>
          <p:cNvSpPr/>
          <p:nvPr/>
        </p:nvSpPr>
        <p:spPr>
          <a:xfrm>
            <a:off x="7234200" y="443700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Arial"/>
              </a:rPr>
              <a:t>Des ver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AutoShape 47"/>
          <p:cNvSpPr/>
          <p:nvPr/>
        </p:nvSpPr>
        <p:spPr>
          <a:xfrm>
            <a:off x="2556000" y="2997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AutoShape 48"/>
          <p:cNvSpPr/>
          <p:nvPr/>
        </p:nvSpPr>
        <p:spPr>
          <a:xfrm>
            <a:off x="5580000" y="328464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49"/>
          <p:cNvSpPr/>
          <p:nvPr/>
        </p:nvSpPr>
        <p:spPr>
          <a:xfrm>
            <a:off x="3780000" y="1700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AutoShape 50"/>
          <p:cNvSpPr/>
          <p:nvPr/>
        </p:nvSpPr>
        <p:spPr>
          <a:xfrm>
            <a:off x="1979640" y="3645000"/>
            <a:ext cx="360360" cy="33336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AutoShape 51"/>
          <p:cNvSpPr/>
          <p:nvPr/>
        </p:nvSpPr>
        <p:spPr>
          <a:xfrm>
            <a:off x="6300720" y="1341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AutoShape 52"/>
          <p:cNvSpPr/>
          <p:nvPr/>
        </p:nvSpPr>
        <p:spPr>
          <a:xfrm>
            <a:off x="2700360" y="364500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AutoShape 53"/>
          <p:cNvSpPr/>
          <p:nvPr/>
        </p:nvSpPr>
        <p:spPr>
          <a:xfrm>
            <a:off x="2987640" y="2924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AutoShape 55"/>
          <p:cNvSpPr/>
          <p:nvPr/>
        </p:nvSpPr>
        <p:spPr>
          <a:xfrm>
            <a:off x="2484360" y="5516640"/>
            <a:ext cx="360360" cy="333360"/>
          </a:xfrm>
          <a:prstGeom prst="irregularSeal2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56"/>
          <p:cNvSpPr/>
          <p:nvPr/>
        </p:nvSpPr>
        <p:spPr>
          <a:xfrm>
            <a:off x="5003640" y="285264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AutoShape 57"/>
          <p:cNvSpPr/>
          <p:nvPr/>
        </p:nvSpPr>
        <p:spPr>
          <a:xfrm>
            <a:off x="1042920" y="3573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AutoShape 58"/>
          <p:cNvSpPr/>
          <p:nvPr/>
        </p:nvSpPr>
        <p:spPr>
          <a:xfrm>
            <a:off x="4716360" y="364500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AutoShape 59"/>
          <p:cNvSpPr/>
          <p:nvPr/>
        </p:nvSpPr>
        <p:spPr>
          <a:xfrm>
            <a:off x="4572000" y="1700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60"/>
          <p:cNvSpPr/>
          <p:nvPr/>
        </p:nvSpPr>
        <p:spPr>
          <a:xfrm>
            <a:off x="4211640" y="299736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AutoShape 61"/>
          <p:cNvSpPr/>
          <p:nvPr/>
        </p:nvSpPr>
        <p:spPr>
          <a:xfrm>
            <a:off x="2843280" y="1916280"/>
            <a:ext cx="360360" cy="3333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AutoShape 6"/>
          <p:cNvSpPr/>
          <p:nvPr/>
        </p:nvSpPr>
        <p:spPr>
          <a:xfrm>
            <a:off x="8820000" y="6524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1" name="TextBox 5" descr=""/>
          <p:cNvPicPr/>
          <p:nvPr/>
        </p:nvPicPr>
        <p:blipFill>
          <a:blip r:embed="rId1"/>
          <a:stretch/>
        </p:blipFill>
        <p:spPr>
          <a:xfrm>
            <a:off x="2762280" y="171360"/>
            <a:ext cx="2693880" cy="6462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5" descr="salon"/>
          <p:cNvPicPr/>
          <p:nvPr/>
        </p:nvPicPr>
        <p:blipFill>
          <a:blip r:embed="rId2"/>
          <a:stretch/>
        </p:blipFill>
        <p:spPr>
          <a:xfrm>
            <a:off x="928800" y="768240"/>
            <a:ext cx="7215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4" descr="salledebain"/>
          <p:cNvPicPr/>
          <p:nvPr/>
        </p:nvPicPr>
        <p:blipFill>
          <a:blip r:embed="rId1"/>
          <a:stretch/>
        </p:blipFill>
        <p:spPr>
          <a:xfrm>
            <a:off x="250920" y="189000"/>
            <a:ext cx="5943600" cy="4452840"/>
          </a:xfrm>
          <a:prstGeom prst="rect">
            <a:avLst/>
          </a:prstGeom>
          <a:ln w="9360">
            <a:solidFill>
              <a:srgbClr val="644646"/>
            </a:solidFill>
            <a:miter/>
          </a:ln>
        </p:spPr>
      </p:pic>
      <p:sp>
        <p:nvSpPr>
          <p:cNvPr id="1484" name="AutoShape 5"/>
          <p:cNvSpPr/>
          <p:nvPr/>
        </p:nvSpPr>
        <p:spPr>
          <a:xfrm>
            <a:off x="8675640" y="6524640"/>
            <a:ext cx="289080" cy="21600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896" h="21600">
                <a:moveTo>
                  <a:pt x="0" y="0"/>
                </a:moveTo>
                <a:lnTo>
                  <a:pt x="28896" y="0"/>
                </a:lnTo>
                <a:lnTo>
                  <a:pt x="28896" y="21600"/>
                </a:lnTo>
                <a:lnTo>
                  <a:pt x="0" y="21600"/>
                </a:lnTo>
                <a:close/>
              </a:path>
              <a:path fill="lightenLess" w="28896" h="21600">
                <a:moveTo>
                  <a:pt x="0" y="0"/>
                </a:moveTo>
                <a:lnTo>
                  <a:pt x="28896" y="0"/>
                </a:lnTo>
                <a:lnTo>
                  <a:pt x="27496" y="1400"/>
                </a:lnTo>
                <a:lnTo>
                  <a:pt x="1400" y="1400"/>
                </a:lnTo>
                <a:close/>
              </a:path>
              <a:path fill="darken" w="28896" h="21600">
                <a:moveTo>
                  <a:pt x="28896" y="0"/>
                </a:moveTo>
                <a:lnTo>
                  <a:pt x="28896" y="21600"/>
                </a:lnTo>
                <a:lnTo>
                  <a:pt x="27496" y="20200"/>
                </a:lnTo>
                <a:lnTo>
                  <a:pt x="27496" y="1400"/>
                </a:lnTo>
                <a:close/>
              </a:path>
              <a:path fill="darkenLess" w="28896" h="21600">
                <a:moveTo>
                  <a:pt x="288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96" y="20200"/>
                </a:lnTo>
                <a:close/>
              </a:path>
              <a:path fill="lighten" w="288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96" h="21600">
                <a:moveTo>
                  <a:pt x="7441" y="10800"/>
                </a:moveTo>
                <a:lnTo>
                  <a:pt x="21454" y="3794"/>
                </a:lnTo>
                <a:lnTo>
                  <a:pt x="21454" y="17806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 Box 6"/>
          <p:cNvSpPr/>
          <p:nvPr/>
        </p:nvSpPr>
        <p:spPr>
          <a:xfrm>
            <a:off x="6516720" y="1773360"/>
            <a:ext cx="22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baign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 Box 9"/>
          <p:cNvSpPr/>
          <p:nvPr/>
        </p:nvSpPr>
        <p:spPr>
          <a:xfrm>
            <a:off x="6443640" y="2781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cc"/>
                </a:solidFill>
                <a:latin typeface="Arial"/>
              </a:rPr>
              <a:t>Une 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 Box 11"/>
          <p:cNvSpPr/>
          <p:nvPr/>
        </p:nvSpPr>
        <p:spPr>
          <a:xfrm>
            <a:off x="6877080" y="350028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0066"/>
                </a:solidFill>
                <a:latin typeface="Arial"/>
              </a:rPr>
              <a:t>Une servi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 Box 13"/>
          <p:cNvSpPr/>
          <p:nvPr/>
        </p:nvSpPr>
        <p:spPr>
          <a:xfrm>
            <a:off x="6424560" y="4005360"/>
            <a:ext cx="27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0066"/>
                </a:solidFill>
                <a:latin typeface="Arial"/>
              </a:rPr>
              <a:t>Un ro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 Box 19"/>
          <p:cNvSpPr/>
          <p:nvPr/>
        </p:nvSpPr>
        <p:spPr>
          <a:xfrm>
            <a:off x="6300720" y="45813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rid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 Box 20"/>
          <p:cNvSpPr/>
          <p:nvPr/>
        </p:nvSpPr>
        <p:spPr>
          <a:xfrm>
            <a:off x="5724360" y="56610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e cuv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21"/>
          <p:cNvSpPr/>
          <p:nvPr/>
        </p:nvSpPr>
        <p:spPr>
          <a:xfrm>
            <a:off x="3059280" y="501336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sèche-chev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 Box 22"/>
          <p:cNvSpPr/>
          <p:nvPr/>
        </p:nvSpPr>
        <p:spPr>
          <a:xfrm>
            <a:off x="1258920" y="5013360"/>
            <a:ext cx="21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car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3"/>
          <p:cNvSpPr/>
          <p:nvPr/>
        </p:nvSpPr>
        <p:spPr>
          <a:xfrm>
            <a:off x="179280" y="53006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lava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4"/>
          <p:cNvSpPr/>
          <p:nvPr/>
        </p:nvSpPr>
        <p:spPr>
          <a:xfrm>
            <a:off x="6227640" y="6308640"/>
            <a:ext cx="18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0066"/>
                </a:solidFill>
                <a:latin typeface="Arial"/>
              </a:rPr>
              <a:t>Une savon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5"/>
          <p:cNvSpPr/>
          <p:nvPr/>
        </p:nvSpPr>
        <p:spPr>
          <a:xfrm>
            <a:off x="4284720" y="6021360"/>
            <a:ext cx="18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e épo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 Box 26"/>
          <p:cNvSpPr/>
          <p:nvPr/>
        </p:nvSpPr>
        <p:spPr>
          <a:xfrm>
            <a:off x="2195640" y="5589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66"/>
                </a:solidFill>
                <a:latin typeface="Arial"/>
              </a:rPr>
              <a:t>Une balay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 Box 27"/>
          <p:cNvSpPr/>
          <p:nvPr/>
        </p:nvSpPr>
        <p:spPr>
          <a:xfrm>
            <a:off x="395280" y="6093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66"/>
                </a:solidFill>
                <a:latin typeface="Arial"/>
              </a:rPr>
              <a:t>Une armoire à pharm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AutoShape 30"/>
          <p:cNvSpPr/>
          <p:nvPr/>
        </p:nvSpPr>
        <p:spPr>
          <a:xfrm>
            <a:off x="5148360" y="2997360"/>
            <a:ext cx="43164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31"/>
          <p:cNvSpPr/>
          <p:nvPr/>
        </p:nvSpPr>
        <p:spPr>
          <a:xfrm>
            <a:off x="3492360" y="227664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32"/>
          <p:cNvSpPr/>
          <p:nvPr/>
        </p:nvSpPr>
        <p:spPr>
          <a:xfrm>
            <a:off x="1042920" y="69228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33"/>
          <p:cNvSpPr/>
          <p:nvPr/>
        </p:nvSpPr>
        <p:spPr>
          <a:xfrm>
            <a:off x="971640" y="184464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34"/>
          <p:cNvSpPr/>
          <p:nvPr/>
        </p:nvSpPr>
        <p:spPr>
          <a:xfrm>
            <a:off x="1116000" y="126828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35"/>
          <p:cNvSpPr/>
          <p:nvPr/>
        </p:nvSpPr>
        <p:spPr>
          <a:xfrm>
            <a:off x="0" y="83664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36"/>
          <p:cNvSpPr/>
          <p:nvPr/>
        </p:nvSpPr>
        <p:spPr>
          <a:xfrm>
            <a:off x="1619280" y="112536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AutoShape 37"/>
          <p:cNvSpPr/>
          <p:nvPr/>
        </p:nvSpPr>
        <p:spPr>
          <a:xfrm>
            <a:off x="4572000" y="549360"/>
            <a:ext cx="43164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38"/>
          <p:cNvSpPr/>
          <p:nvPr/>
        </p:nvSpPr>
        <p:spPr>
          <a:xfrm>
            <a:off x="3851280" y="321300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AutoShape 39"/>
          <p:cNvSpPr/>
          <p:nvPr/>
        </p:nvSpPr>
        <p:spPr>
          <a:xfrm>
            <a:off x="4788000" y="1916280"/>
            <a:ext cx="43164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AutoShape 40"/>
          <p:cNvSpPr/>
          <p:nvPr/>
        </p:nvSpPr>
        <p:spPr>
          <a:xfrm>
            <a:off x="3851280" y="2349360"/>
            <a:ext cx="43164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AutoShape 41"/>
          <p:cNvSpPr/>
          <p:nvPr/>
        </p:nvSpPr>
        <p:spPr>
          <a:xfrm>
            <a:off x="3132000" y="476280"/>
            <a:ext cx="432000" cy="35892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AutoShape 42"/>
          <p:cNvSpPr/>
          <p:nvPr/>
        </p:nvSpPr>
        <p:spPr>
          <a:xfrm>
            <a:off x="1763640" y="170028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WordArt 45"/>
          <p:cNvSpPr txBox="1"/>
          <p:nvPr/>
        </p:nvSpPr>
        <p:spPr>
          <a:xfrm>
            <a:off x="5580000" y="260280"/>
            <a:ext cx="338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9b2d1f"/>
                </a:solidFill>
                <a:latin typeface="Arial"/>
              </a:rPr>
              <a:t>Qu’est-ce qu’il y a dans la salle de bains?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solidFill>
                <a:srgbClr val="9b2d1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696464"/>
                  </a:solidFill>
                  <a:miter/>
                </a:ln>
                <a:solidFill>
                  <a:srgbClr val="9b2d1f"/>
                </a:solidFill>
                <a:latin typeface="Arial"/>
              </a:rPr>
              <a:t>(clique!)</a:t>
            </a:r>
            <a:endParaRPr b="0" lang="en-US" sz="1400" spc="1" strike="noStrike">
              <a:ln w="9360">
                <a:solidFill>
                  <a:srgbClr val="696464"/>
                </a:solidFill>
                <a:miter/>
              </a:ln>
              <a:solidFill>
                <a:srgbClr val="9b2d1f"/>
              </a:solidFill>
              <a:latin typeface="Arial"/>
              <a:ea typeface="Arial"/>
            </a:endParaRPr>
          </a:p>
        </p:txBody>
      </p:sp>
      <p:sp>
        <p:nvSpPr>
          <p:cNvPr id="1512" name="Text Box 46"/>
          <p:cNvSpPr/>
          <p:nvPr/>
        </p:nvSpPr>
        <p:spPr>
          <a:xfrm>
            <a:off x="6372360" y="530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b2d1f"/>
                </a:solidFill>
                <a:latin typeface="Arial"/>
              </a:rPr>
              <a:t>Un rouleau de pa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AutoShape 47"/>
          <p:cNvSpPr/>
          <p:nvPr/>
        </p:nvSpPr>
        <p:spPr>
          <a:xfrm>
            <a:off x="2987640" y="1916280"/>
            <a:ext cx="432000" cy="358560"/>
          </a:xfrm>
          <a:prstGeom prst="lightningBol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55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5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AutoShape 5"/>
          <p:cNvSpPr/>
          <p:nvPr/>
        </p:nvSpPr>
        <p:spPr>
          <a:xfrm>
            <a:off x="867564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Box 5"/>
          <p:cNvSpPr/>
          <p:nvPr/>
        </p:nvSpPr>
        <p:spPr>
          <a:xfrm>
            <a:off x="2593440" y="50004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2060"/>
                </a:solidFill>
                <a:latin typeface="Arial"/>
              </a:rPr>
              <a:t>Décris cette cha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6" name="Picture 5" descr="D:\комната.jpg"/>
          <p:cNvPicPr/>
          <p:nvPr/>
        </p:nvPicPr>
        <p:blipFill>
          <a:blip r:embed="rId1"/>
          <a:stretch/>
        </p:blipFill>
        <p:spPr>
          <a:xfrm>
            <a:off x="1071720" y="1143000"/>
            <a:ext cx="714348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AutoShape 5"/>
          <p:cNvSpPr/>
          <p:nvPr/>
        </p:nvSpPr>
        <p:spPr>
          <a:xfrm>
            <a:off x="8820000" y="652464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TextBox 5" descr=""/>
          <p:cNvPicPr/>
          <p:nvPr/>
        </p:nvPicPr>
        <p:blipFill>
          <a:blip r:embed="rId1"/>
          <a:stretch/>
        </p:blipFill>
        <p:spPr>
          <a:xfrm>
            <a:off x="841320" y="549360"/>
            <a:ext cx="7150320" cy="81576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5" descr="D:\bureau.jpg"/>
          <p:cNvPicPr/>
          <p:nvPr/>
        </p:nvPicPr>
        <p:blipFill>
          <a:blip r:embed="rId2"/>
          <a:stretch/>
        </p:blipFill>
        <p:spPr>
          <a:xfrm>
            <a:off x="1214280" y="1320840"/>
            <a:ext cx="6858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4:47:57Z</dcterms:created>
  <dc:creator>Roman</dc:creator>
  <dc:description/>
  <dc:language>en-US</dc:language>
  <cp:lastModifiedBy>uchitel596</cp:lastModifiedBy>
  <dcterms:modified xsi:type="dcterms:W3CDTF">2013-04-09T08:35:15Z</dcterms:modified>
  <cp:revision>70</cp:revision>
  <dc:subject/>
  <dc:title>Слайд 1</dc:title>
</cp:coreProperties>
</file>