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080-E396-46D4-8B19-9A865990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5D0-B4D2-4BB1-842C-8654F074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A4650A-7596-495A-A19C-3323B977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BD03A0-508B-4F3B-8B50-7BDBB6EC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EF25D5-B6DA-4EA3-88FF-1658B82E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3719FB-2644-47FE-BFD4-862C5503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5FBE4D-ACEF-44BB-A5D4-AD82ACD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3CF05A-BB7E-4F11-B137-A104A54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D2597-76E3-414A-8AC0-0D5BF465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5DB069-1E3E-48B7-8AD7-CC349676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23CA01-0E9C-4942-A0E9-C79F68D1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B4201-8635-4584-B108-EC5D26AF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A14-79C6-4840-9C33-FC256246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2988A-9957-46EB-ACA8-9835DA19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BD0DA-92C3-4E2C-8575-3331F86D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78E48-048B-43B6-A46F-5D00B4AE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C244B-270B-406D-8C73-AFFD8AB8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69C75-7FE4-43E7-81A1-42E4CCD8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A0CD0-DA68-4BF8-8F96-68EE6E08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C4584-150A-4457-A8E9-ED4113ED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57D9C-A57E-4878-A982-A974E6F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38548-CC65-45FB-88DB-7326183A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5F834-15E4-43CC-80A2-5D87D240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047-F3AB-4736-9A91-8BEC086D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F058A-C63C-40B4-B446-566ACA24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66BD01-E4AF-4737-B1AD-1BA2F36D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1242FA-84F0-40E6-933C-B84B81C1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70BAC9-B767-4373-B0DC-8A9F87D6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3A0A3D-A573-4A21-A78C-6B9E4DE6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3FCF5F-530E-45D7-A43B-631A2DF6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BC6B26-A09E-4679-9EEA-4B77F5C4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5AE363-117B-4E07-B254-AE558C0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C37E03-A635-4CED-BD05-A1702B93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343827-F2F7-405C-9015-1D084C8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184E-F5A1-4CE5-BF26-9C1EF6BB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347408-FFDD-4AD1-A1F4-51612CDB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D629F4-6BFA-40B9-B37F-88AE15E1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1F2342-C141-4011-8BDC-8DFBB8F0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A6B4B-A94C-4D80-9408-E22F55DC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32EB6-A793-4429-B1B2-6039103E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7687B-D5AE-4B96-A1CA-E4264E37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58138-10AB-4486-8445-61436D64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0555B-4633-458D-AAE2-73840342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1C85C-C137-496B-9739-6FEB6CE8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DFCF1-FABA-4EFB-93FC-675F2318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C918-4418-4D78-A3D1-C69537DD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41170-165F-4F95-BC91-FF8E2DC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24E59-1BFD-49AD-A688-E7B9EA2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6F68F-C920-48A3-8D95-D9C2CE72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44FAD-1145-40AA-ACC1-18C86D18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6352D-3670-40B6-BB1D-6F4B4A41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C2918-C58C-4DB6-9958-5607B38C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BA04B-69CB-4DCB-A63D-E33C20B3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0EB6D-BF41-4D0A-9AD5-CA23A23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AE7AD-E47E-4036-BD6C-01F36D9F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81D92-6F21-4C26-B367-DD738B77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60D8-4CF9-47F9-9544-42D6514C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D3FF3-FC3C-48FB-A1DC-2C3B53B1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31BE6-D65A-4E3D-BF4A-88F3EABC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DBB52-988E-4577-9CCB-6C6C7693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B3026-3041-4B63-BD7C-CD4FE791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86419-D55F-41BF-98B9-46096F65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1231F-50CB-4D6F-AFE9-4BE87517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88F95-E569-4CFB-8847-A5C52BCF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B5F99-FD06-4F14-923B-DEA26E2F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5AD20-2D33-4BC6-9288-56FEB3E3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F041F-C278-46F7-86D2-8FA24396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91D5-37AE-40E0-8A1A-C5D8E073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B782D-8A19-4A78-B579-7B7856A3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E46CA-150A-4FF4-9DC4-A82B6240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F9BF5-E32B-4F79-B89B-61BBC7AE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23918-1A5D-4673-A9D4-02BE653E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FDD2E-71A3-41D4-AD23-0910149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45A38-9821-4BAF-A402-2C8EA09A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3D07C7-D7F1-4384-A7A7-B7FB2BDE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587AC-05D1-4752-82D8-ACEB1125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3F42F-B8FA-45ED-8FE6-0B176994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8D3008-1423-4FD8-B2D7-4B9C4726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C822-34DF-48C9-91F4-1307DA19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F1EB8D-909E-44F4-8546-56A1E54D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5657A4-80B0-4DB1-AE9B-8B8CFECC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BF8FCD-50C1-4ED4-9AD5-E74E6FB4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B9D030-4CC2-4B71-A240-410430A2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705DB7-D6E9-4A8D-BFAD-071164E1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C5F29D-D439-45B6-8833-29A11BF5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DD197A-1E0A-4E66-A44C-056EA72D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52E0FC-B58A-4328-A2EB-82839010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B75D22-FAC5-43BB-83A8-69EC50AE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04B7B1-FF2D-4146-94EB-45C15912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5A4E-51E0-4BAC-BF9E-5964FC9B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96D52F-2ED0-412F-A119-FA628A7A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8DDCBB-05E3-43B0-9F86-00FFA738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FA751D-D7F4-4525-8918-F1E29902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FAD131-E24A-4D1F-9D0A-E5CF94E2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164AA9-2BD3-4D7B-99F9-488538B8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B6D4D6-AEF4-4EE4-9778-643697AC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F3069F-A4F1-4223-A4DA-B3AFF1ED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18AD1E-F70D-48E8-9BFA-99FFDF1B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42612F-B1C3-4BC2-B545-C4302A68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7033C5-5A5C-4E56-BB7D-2845DDF3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C5B9-9679-4EAF-AA55-40802CCC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B9DAF7-1DF1-4712-BD55-40C3320F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ADBAAD-E8CD-48F7-9251-9D5027EE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E310DE-FA46-4809-B2BE-D2712695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E7EF38-D12C-4099-B06A-D68AC9E4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397E27-FC03-4B39-805A-2A907AE2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43B5E2-8B9D-4563-A24D-A6A1A141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91FC2F-CD86-49EF-A28C-39C38113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995DA5-C42B-4B10-AFF1-5BAE375E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C9B47C-334A-4F88-AB7E-17D27640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BD9C7E-280E-47A3-8BE9-E630A16A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7EB-A6B6-4941-B9B5-4BF20E3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469C-30AD-4493-813D-43707B63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3B27C7-BE4E-4458-845B-B9A4D24B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E150DC-C07E-4B60-BF56-61BAB2C8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F1E0EF-4855-4E61-8099-F8C0F791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0E625B-4258-4798-A3A5-1A01A289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462A4D-F653-470E-AEA9-407BD55E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27368-170E-499E-8EB2-50D6BFE5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D979BC-064D-49AE-A91E-DB8ACAC3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5D6976-2DF9-4268-BE00-3E0879D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C3EDE-722B-46DE-860F-65792AA0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0A43FF-29DB-4CF7-BF31-2F2A71D7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237A-1E91-4D0D-97ED-C6D54C8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7EB3D-9EEB-4F5C-8445-7EC2B4FE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6B530-056C-4364-9BEB-9B5D8EE3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0C5B7-C538-482A-B0B7-352C2EFC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B61FBD-E027-4ECD-BCF2-BD4A6BA3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7B86E-BAD7-4E2A-A272-15F19452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5D5D3-A4D8-4681-ACB0-B3CA7F6C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5FEE11-CF71-40F4-B7CF-72CE7671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A144F2-A590-4481-A159-426EE302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18F21A-4E1E-4B11-BDEB-5AA384B2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3E233C-6C4D-43A4-8BEE-1B6E2933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19F4-00A4-4771-BFCD-2EE5617F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CCA374A-E274-47A0-813E-43DADEE1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49CBF8-9627-4A4B-8B06-47120DB4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D94C85-FB5F-4F87-8732-52927611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B16F66-EBDE-4218-8E0B-40AA07E0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3AF796-D186-4E3D-A324-CE99998C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455FC7-B2E6-4C5A-B06A-77E094B5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BDD384-15B8-472F-9CCD-78B089DD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056664-6F26-4722-AFF6-A93ED777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2DE4FC-C0A6-4B30-858E-FA599781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A052F2-2E5F-4F17-82AC-E7D5C97C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952E-7F07-4615-8E42-80F39829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74A537-E851-43FE-8D2E-F04699F3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50D2E8-9DC2-46E0-9F54-5604EBB1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E08CC9-E796-4B1B-B93F-C9E2D015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F56F8B-E7C7-4A18-8904-6343E42D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1C0E6-F530-4F7D-8FB9-E3852544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B0EF49-7043-4381-82B5-5BD48408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4DF32C-2BAF-4665-AB0F-96C032FA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46A95-68CE-4955-9054-481E6C6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368D6A-1D81-49C1-8E51-37E6F262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16B344-9B07-4FC2-BBCD-8A942E6B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3873-5071-43EE-AC13-AE4A8F6B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08BB34-963C-4DA6-8DC5-21E84E24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76989-781C-4F54-9DA8-7CDD8626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C1F52E-9AC0-4AE1-B1B9-5654E63E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6645F7-A2B4-4A15-98C2-C3B65B04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17F80F-E88A-407D-8466-4D558100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CA12C-9246-48E0-A138-CD064B8A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19BB48-90B4-46AE-903D-05FB1824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F43213-8C0C-4777-A15C-EEB9DF15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D5417-505E-47B7-8FAE-35AAD121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E6E726-022D-4736-80EE-90F8892C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316B3-6EC4-487C-A126-AD689CC6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A1664B-7A27-49E9-92A9-6D91401F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4941A5-C96A-456A-A777-7BD23E52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9A451-08B0-4416-A870-8F8C63C1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3E64C7-4D2F-4B0C-89E9-8DF57467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25E074-0219-43D5-88C5-648F622A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182FE8-9174-4B76-8943-9E520081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91B1E8-FDF3-49F5-B6C0-0F491E7C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50647B-0314-45FB-82C0-7BF0159E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E40731-AF6B-4CFE-A7DF-3FBF6BEE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17E811-1915-49C1-89C9-A0E02CE1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F66D9-C0B6-4F72-82D1-3DFE4DCE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9CCE85-ECEB-4EEE-A806-90A1F492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787B5B-08C5-4E43-A67E-594DC3C6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3C7C22-5C0E-4CB9-BF75-C6AB9016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C6F46-3929-4864-97D3-73C26F79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15E839-E479-4481-A6EA-D3EB3EB2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FF0B530-23A9-4B27-9900-D2C6CECB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5C8D87-AD62-469B-A715-89E4DBFD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CF3A8C-2021-4562-9A53-E49D0CE0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C2DED43-0DB2-434A-BCA3-17B0272E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FBC6EC1-A215-47C5-A85C-128A9CBC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B9E7-3BA3-4690-B83B-4E57D8D5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524BCAB-C1F0-4EA7-B2B9-8205F55A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6FFF36D-9BAE-4521-917F-C76827F1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A9DC48-49DB-443F-B4F2-3D1F5D79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54F4227-77AA-4757-8AD3-83F7D791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9004E1C-7F13-4947-99C7-214701D1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21F4B4-ED00-4DF6-9B1F-42C7E5B9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4F0D8FF-0D0C-4DBB-A6BF-D4AA7FD1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830960C-B248-43F1-BCE9-DCAD49CF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C97273-39D1-4C8A-98E6-E07748EB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AD9A5A8-94B8-49A4-9211-0729C7D6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6772-C7CC-412A-BE4C-CCE37C87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B29411D-BCE5-4438-AE8F-D6F848B7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063474-CAA5-4C86-A298-31A574B3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3AC2604-7169-4BC6-8727-0EB0F2D7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0852533-FDF2-44E6-86D8-19F7586A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65531C-144C-4C04-B624-8FF3A75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8BC3AD9-972C-4183-B4BC-F2C94408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9A64C32-34C9-4BA7-8E60-FBBC9497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0BC74CB-5803-4099-B200-B000E7E6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F80FA33-A291-407F-989A-CCB48D20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07D0C02-DE41-4122-A146-4B908AF5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8E2A-77AD-450E-A8EC-3209CACF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2D93B79-8E97-4023-BC8D-0BF8CB0E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88273E3-FE4E-4C74-8789-18AF94A5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5CCFE4F-90B3-4847-BF9F-2AAF2F7A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B4F8859-5FA1-43A5-8309-E3CD143D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5C7A7C0-513A-44C5-BD4A-B2CD566A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3D4E306-7C60-47FF-BA69-CC7A90B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C52C2CF-9333-4E3A-9A98-2249F8F7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7DBC16C-1B98-439E-9FD0-104022F6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A387CD9-EE46-49CB-9DF6-75A27D50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DFCF82F-4156-478A-9289-84D89738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A4C-7DF2-4C31-BA11-9B73B1B3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B3FD-EE64-4742-8C90-D142DBA1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D78E91-1F72-43CA-92E0-D779927D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FA6E54-EFCE-45ED-9E30-B9C848D2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FBD32C-1E90-417B-AA31-6C236558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3D6B57-95C9-405D-BF43-D56CDC8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70B816-3B0E-4990-A28A-E21F0CB5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566DC6-09D9-4389-A2FE-7F1B04ED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287BAD-08AF-4D58-9ACF-11A7CCFA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17A4BD-70E5-4814-8A70-962AE17F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ACA48A-5349-4C6D-89E7-A5485899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BEBCFA-8F08-4479-A646-35F52C05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D64F-8644-464E-B466-9CD7484C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509C14-3EAE-4364-BE84-3049EB8E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CFA7EA-F451-459D-B564-26CD0B1F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878E2F-C9AC-43F6-8D01-018ECB4A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0BF9BD1-1BF0-4F45-99C1-606F45E6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0A39870-24B9-422A-AFAB-986BC3B7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1476206-08E9-483D-AF2A-F40C0D79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5C72536-6398-424E-83FA-20477526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C3F9479-8D07-4100-A03A-EE846E7C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730EAC7-8858-4F94-8923-654922C8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F1E85D3-97A5-4774-9ACC-14BF22A4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A336-B21D-41B3-8537-DCC603C8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9D68683-E2CC-4F1D-8582-54372955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100DB11-199F-421B-B495-38B867E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6E07CCF-99A3-4130-A3C7-AD3665EC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B78F347-72B3-420C-B037-03D5F287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BA24488-95BB-43B6-A624-4855A8F9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9B1A8F-D460-4552-B191-40B8AD24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61A89D-080B-4DC6-9FFA-905B23F8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1F9B1D-F50A-4D5B-9AB7-1709AA14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BA5BA3-A54E-4273-B7A7-F5B20F17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868567-C5CF-4096-9B1C-AE95BCDD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D931-D4C2-4FAE-8E99-373C1B4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11B1B3-3356-48EC-84B7-811C561B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BB5354-FA17-4F74-ADE1-FD075024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F2D344-86F6-4F41-8558-634AB42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0FDADF-873A-42C1-A0F0-98B3A9F4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D52D7F-C0A7-474C-8B1C-F75EE7D1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846A7C-7592-4C5B-8604-30DF8B2D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D208EC-B676-4AB4-A4ED-AECFF03C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9C0187-B3E9-466A-A27A-FE8A283A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BFA834-EBCD-49AA-B53E-8F26AC1B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A2BCE5-3501-475B-9590-0205EE3D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9A08-7B0D-4CC8-AA0A-BDF757E1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FFBD6E-72CB-4DBF-A55B-196F9368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8C81BD-8095-46F0-8D99-3C8811D7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11181C-8766-4AAA-BC0B-108849E4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04079C-46A2-47F7-B462-254D0F9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F69E12-F1BB-43DB-A040-6117FEC2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547EEE-2135-4957-B640-A48C1EC6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54B574-663E-43CC-9C37-F5CEC313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FB107D-9791-444F-8683-D385D8CD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24186A-2836-42A5-B1A8-3E0C15F5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818715-244C-4288-B8E0-0295319A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B561-D1CF-4C4B-8669-7079CB65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B97D21-1646-4E02-A1DE-ADA5C4B2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4D23D6-CC47-4C19-8260-4EFCF210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63AB5E-22FD-4A7D-AD8F-CBE442BC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66DA89-A924-4914-92CE-EF22E77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87DFFF-C148-42B7-A4E8-6C055743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3B400F-9DF3-410C-9801-8FF51269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B12842-D14E-4683-AB36-C0228105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C36A07-592A-410E-B641-42EBE45B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C5A1C1-3063-47DB-8727-84702F10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D4C165-8EF2-4FFA-8DDD-35EA6C12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C160-3707-4DA2-8913-4037C833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BE6C26-6153-4A50-A039-C43B8A2E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754B6A8-1A3A-4A11-AA1B-79185479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10353F5-D088-4574-9A62-5424FFE4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87751A3-0C22-4135-A641-4E083A73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A8D89EA-97EE-4F4F-8ACA-C2BB2252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0AB7682-A8B7-4F4C-B86C-725C10BA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0AA011E-6B27-4526-89FC-75CA6B26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5FAE532-E5DC-4671-957A-EB083D4B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E039F6E-CD12-4E72-91C6-A3D00430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35237DB-90C9-4C81-BBF7-997CE835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A2EC-9195-4946-B978-7AA6F499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52B4666-279B-4388-8E46-951303FF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D152583-DBC8-490E-953E-594BBBA6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33340CB-7D81-4538-97E2-14E1E14B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D4A9D1A-30ED-44B9-ADBD-6D51D786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BAE0E68-25A0-4596-B454-04251AB2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8430BED-6B40-45DF-8201-63416866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632D8D6-4891-46B9-9018-B977E7AF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8C56EE5-3995-4884-9253-73448B28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F3C8144-21F4-4B1B-A19C-1C1D4A6D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3422D50-B5B6-49F4-8871-37282FF0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6DF5B-0D06-4BBA-8B4C-A14BCEBD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0C31FF3-817F-450C-8824-913E5AB7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BB8F78B-1F22-4A21-A390-833FE139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51FC382-CC3B-4809-B878-535CFD3E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00BAFF1-350B-4188-A7A4-CCC70E16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2E1637F-904E-45DA-B539-205D5D6E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7B99-F694-431E-BE8D-B6F09F84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BC9-AF13-4D31-8F01-E3B7421C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0ACA2-093A-42DE-A020-1251F7F2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1A55-04D0-453D-8E43-BCBC784D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B35F9-4C42-40D7-B6A4-F0DAB77E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3B624-992F-441B-A22D-33E6D1F0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A4AE2-57F3-44D8-BB6B-D44690A2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FA8A-19DE-44C3-9CF6-CD296822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0FCC-B798-48A4-8ED3-B2E75600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F4BE3-9D29-44A1-8EC4-9A7CF940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1D646-0A42-4C8F-934F-F9FF7AF5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1B0E8-E102-4511-9A66-AFAF8810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D49-65E6-4911-910F-1F8D845A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D59B5-A00A-4D42-8491-2F744333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6D10F-FCDB-44C4-A405-69C19080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3DAD2-FC12-4DD8-AF24-BD82E0B7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A549-D39D-486F-81F7-4DB2719C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10E24-B261-45C8-B477-3DEE6F03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11A04-ACA2-484A-A90B-8562A60B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852E-E948-4998-993D-067F0887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555DC-BAF1-43DC-8D7A-785EFB0A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DD4EA-B01C-48A5-96DC-BF4C4EEC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EC7E7-C17B-451A-B314-F08E53F6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045-A798-4772-B1BA-771E6E80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5BC49-468D-4F1B-A3BF-4A105A5F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E29AF-8BBF-4BEF-9C7A-1FF5AC5D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580D0-135B-46DE-86C6-E21378D2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B66FC-D29F-48B8-A12F-75A85D7B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48F6-C5F5-4AF2-970E-8E0B4A08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7D6D-4E56-425A-8B4A-DBF23AA1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0B312-2498-419C-A8B1-182C9A5C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9DE07-74B3-481F-9D25-FB4B715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FEA46-D4E4-48FB-98F6-92750657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CC49-9D26-4237-B44A-CEFD5663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8F6-4723-4227-BEE1-E2CD439B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A64AB-F00F-437C-81CB-B6D47B7E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739FD-260E-4A63-9702-B5AD9572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318C7-9896-42A3-8011-5B3A67A4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689D8-92AF-4476-A481-48CD3656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A738A-F557-47DD-93D3-A4E73EF9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10200-F610-4A8F-B1B0-99F4E9AD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3D0DA-F5A5-4F0C-8FEA-9374D700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E0FDE-5561-473D-A20F-C0EB845D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27FEE-F088-43DF-BE52-269F7BA4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7D439-B393-4760-90BF-9841E9D2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C75-59EA-46D9-8652-EAE3F8C2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3877D-D2A6-4130-AB1A-59083470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E60EA-B673-4BC3-82AA-703DE4B1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DA852-DBA0-4C7F-B46F-DEE36B0A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D3763-E1C4-4E08-9048-80C0AB8B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66759-1D01-4B52-A0F8-0E1F127C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26125-9837-4290-95F2-1FC4FA7C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BBDDC-FC5C-4A14-8E52-49492BB0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9797F-131F-49CF-8900-80515D54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5A479-5007-43DF-A693-42CA6C53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CC660-28E3-4597-B9F7-03577E26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A7C-8BE3-4A88-8552-E016D4DD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1F911-F715-46DE-8388-ABCA6152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4AD44-96B7-4E27-803E-763D395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6B3DA-700B-499B-8843-111D5D72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6E30D-5103-4C64-A08B-7552CA60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C68D3-CCEB-480D-B277-068A8E38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1741E-3E5B-4338-8CCB-6DAB6663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8300F-26B5-47DE-B3B6-1FA20C9E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66BEFF-FF5F-4D15-80E7-04F10C2A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45B76B-E762-41F0-A3D7-37C01EBE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81F191-A868-471D-B53E-72F1CBBE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25D0-0D14-4FC7-A914-854C06CF9BD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0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B4D4-6628-42D1-BEDB-34A7EF3BDB83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FB2F-24AB-4D55-87E4-0401C1A43AA7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E53D-F311-49C3-AE81-0C980AAF8C25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9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434D-6280-4C36-8EE3-9AC9C77A3EB9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8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86BF-5A7D-4C52-A8C5-5E27D9F24761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4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2F9F-6025-4C1E-8D2E-3833E7D62156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4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4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6BE6-9CE3-45AA-A53A-3F88C15D53DB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4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711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E516-34B0-4EBF-BA15-1E0845D9EDCE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5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0FE7-15FE-46AC-B488-EAC67900AFCA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6BDF-0C0D-4B33-8F5D-A3F9AE899C55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4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443A-01A0-43C7-BD81-614E8CEC5E5B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06A6-5FE3-43EC-A0EC-CD891FB94E3B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5608-89BA-4055-A198-6C9620EE8336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3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5DD3-71FC-415D-8009-7BD57A274047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sldNum" idx="6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74C9-0126-4D75-8E46-342763D9CC13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ftr" idx="6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70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sldNum" idx="71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8A02-D724-465C-8046-538CF2864AA0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ftr" idx="72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1061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FEBA-FE06-4FE7-BB53-0C1ADCF4A51E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0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4561-B5D3-4AEA-BC73-46A9D3CB9906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7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8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50FF-A9F9-4C6B-91C9-587E10846FA2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ftr" idx="8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8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8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84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E73B-8743-4BEF-B9D5-6615039C005B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8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8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87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7F7A-DCA2-492D-9960-99EE218ED177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ftr" idx="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E872-41E3-4404-BF6E-A0D3B7900B21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8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8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ftr" idx="8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 type="sldNum" idx="9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10E8-E59E-4082-B493-66E44FAAB070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9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9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AC3F-1CF1-4D9B-B310-DC3336CE1524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ftr" idx="9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9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sldNum" idx="9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BDFB-7F95-49BF-86E1-98508995FDE7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ftr" idx="9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A4EE-7483-4D59-837A-53658BE17920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CC20-DB3B-41EA-ABF2-A19FC27AD57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2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64CC-8C84-4A83-B4DB-EACB09237D0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B351-1033-4C68-ADDD-1A979F94CCF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73B3-68A3-4310-A221-53976EE842E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361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19CE-F866-47D6-828E-9C96AF692277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TextBox 1"/>
          <p:cNvSpPr/>
          <p:nvPr/>
        </p:nvSpPr>
        <p:spPr>
          <a:xfrm>
            <a:off x="2377440" y="328608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Arial"/>
              </a:rPr>
              <a:t>Презентация «Д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Прямоугольник 3" descr=""/>
          <p:cNvPicPr/>
          <p:nvPr/>
        </p:nvPicPr>
        <p:blipFill>
          <a:blip r:embed="rId1"/>
          <a:stretch/>
        </p:blipFill>
        <p:spPr>
          <a:xfrm>
            <a:off x="5772240" y="219240"/>
            <a:ext cx="3279600" cy="1523880"/>
          </a:xfrm>
          <a:prstGeom prst="rect">
            <a:avLst/>
          </a:prstGeom>
          <a:ln w="0">
            <a:noFill/>
          </a:ln>
        </p:spPr>
      </p:pic>
      <p:pic>
        <p:nvPicPr>
          <p:cNvPr id="1412" name="Прямоугольник 6" descr=""/>
          <p:cNvPicPr/>
          <p:nvPr/>
        </p:nvPicPr>
        <p:blipFill>
          <a:blip r:embed="rId2"/>
          <a:stretch/>
        </p:blipFill>
        <p:spPr>
          <a:xfrm>
            <a:off x="1938240" y="1432080"/>
            <a:ext cx="5127840" cy="1523880"/>
          </a:xfrm>
          <a:prstGeom prst="rect">
            <a:avLst/>
          </a:prstGeom>
          <a:ln w="0">
            <a:noFill/>
          </a:ln>
        </p:spPr>
      </p:pic>
      <p:pic>
        <p:nvPicPr>
          <p:cNvPr id="1413" name="Прямоугольник 8" descr=""/>
          <p:cNvPicPr/>
          <p:nvPr/>
        </p:nvPicPr>
        <p:blipFill>
          <a:blip r:embed="rId3"/>
          <a:stretch/>
        </p:blipFill>
        <p:spPr>
          <a:xfrm>
            <a:off x="208080" y="219240"/>
            <a:ext cx="4192560" cy="1523880"/>
          </a:xfrm>
          <a:prstGeom prst="rect">
            <a:avLst/>
          </a:prstGeom>
          <a:ln w="0">
            <a:noFill/>
          </a:ln>
        </p:spPr>
      </p:pic>
      <p:sp>
        <p:nvSpPr>
          <p:cNvPr id="1414" name="TextBox 9"/>
          <p:cNvSpPr/>
          <p:nvPr/>
        </p:nvSpPr>
        <p:spPr>
          <a:xfrm>
            <a:off x="1017720" y="4857840"/>
            <a:ext cx="70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b2d1f"/>
                </a:solidFill>
                <a:latin typeface="Arial"/>
              </a:rPr>
              <a:t>Автор – Щеголева Л.М. ( школа №596  Приморского рай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AutoShape 5"/>
          <p:cNvSpPr/>
          <p:nvPr/>
        </p:nvSpPr>
        <p:spPr>
          <a:xfrm>
            <a:off x="874872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1" name="TextBox 5" descr=""/>
          <p:cNvPicPr/>
          <p:nvPr/>
        </p:nvPicPr>
        <p:blipFill>
          <a:blip r:embed="rId1"/>
          <a:stretch/>
        </p:blipFill>
        <p:spPr>
          <a:xfrm>
            <a:off x="165240" y="407880"/>
            <a:ext cx="9039240" cy="81756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5" descr="D:\терасса.jpg"/>
          <p:cNvPicPr/>
          <p:nvPr/>
        </p:nvPicPr>
        <p:blipFill>
          <a:blip r:embed="rId2"/>
          <a:stretch/>
        </p:blipFill>
        <p:spPr>
          <a:xfrm>
            <a:off x="928800" y="1428840"/>
            <a:ext cx="72864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AutoShape 5"/>
          <p:cNvSpPr/>
          <p:nvPr/>
        </p:nvSpPr>
        <p:spPr>
          <a:xfrm>
            <a:off x="8748720" y="6524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Text Box 6" descr=""/>
          <p:cNvPicPr/>
          <p:nvPr/>
        </p:nvPicPr>
        <p:blipFill>
          <a:blip r:embed="rId1"/>
          <a:stretch/>
        </p:blipFill>
        <p:spPr>
          <a:xfrm>
            <a:off x="1152360" y="281160"/>
            <a:ext cx="4930920" cy="81576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5" descr="D:\подвал.jpg"/>
          <p:cNvPicPr/>
          <p:nvPr/>
        </p:nvPicPr>
        <p:blipFill>
          <a:blip r:embed="rId2"/>
          <a:stretch/>
        </p:blipFill>
        <p:spPr>
          <a:xfrm>
            <a:off x="642960" y="1143000"/>
            <a:ext cx="80629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TextBox 1"/>
          <p:cNvSpPr/>
          <p:nvPr/>
        </p:nvSpPr>
        <p:spPr>
          <a:xfrm>
            <a:off x="1392120" y="785880"/>
            <a:ext cx="6359760" cy="4667760"/>
          </a:xfrm>
          <a:prstGeom prst="rect">
            <a:avLst/>
          </a:prstGeom>
          <a:solidFill>
            <a:srgbClr val="ffff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ажаемые коллеги! Если у вас возникнет желание воспользоваться моей презентацией «Дом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ось бы  провести маленький инструктаж. Кадры презентации с 4 по 11 взаимосвязаны, т.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р 4 является центральным, на который  сделаны ссылки с 5,6,7,8,9,10 и 11 кадров. 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ете дом в разрезе и каждый раз имеете возможность, щёлкнув на маленькую коричнев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опку, оказаться в соответствующем помещении, поработать с этим кадром и опять верну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 дому в разрезе. Далее вы найдете разные упражнения  - лексические, грамматическ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лечение информаци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еюсь, что мое объяснение  было понятным. Желаю успех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19"/>
          <p:cNvSpPr/>
          <p:nvPr/>
        </p:nvSpPr>
        <p:spPr>
          <a:xfrm>
            <a:off x="5508720" y="1628640"/>
            <a:ext cx="338436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18"/>
          <p:cNvSpPr/>
          <p:nvPr/>
        </p:nvSpPr>
        <p:spPr>
          <a:xfrm>
            <a:off x="179280" y="1484280"/>
            <a:ext cx="4824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17"/>
          <p:cNvSpPr/>
          <p:nvPr/>
        </p:nvSpPr>
        <p:spPr>
          <a:xfrm>
            <a:off x="5364000" y="4149720"/>
            <a:ext cx="3600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16"/>
          <p:cNvSpPr/>
          <p:nvPr/>
        </p:nvSpPr>
        <p:spPr>
          <a:xfrm>
            <a:off x="285840" y="4429080"/>
            <a:ext cx="4824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WordArt 5"/>
          <p:cNvSpPr txBox="1"/>
          <p:nvPr/>
        </p:nvSpPr>
        <p:spPr>
          <a:xfrm>
            <a:off x="755640" y="189000"/>
            <a:ext cx="748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696464"/>
                  </a:solidFill>
                  <a:miter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Pour parler d’un logement</a:t>
            </a:r>
            <a:endParaRPr b="0" lang="en-US" sz="1400" spc="1" strike="noStrike">
              <a:ln w="9360">
                <a:solidFill>
                  <a:srgbClr val="696464"/>
                </a:solidFill>
                <a:miter/>
              </a:ln>
              <a:solidFill>
                <a:srgbClr val="cc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1" name="Text Box 6"/>
          <p:cNvSpPr/>
          <p:nvPr/>
        </p:nvSpPr>
        <p:spPr>
          <a:xfrm>
            <a:off x="324000" y="1484280"/>
            <a:ext cx="4824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c3300"/>
                </a:solidFill>
                <a:latin typeface="Arial"/>
              </a:rPr>
              <a:t>Les lo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b2d1f"/>
                </a:solidFill>
                <a:latin typeface="Arial"/>
              </a:rPr>
              <a:t>un appartement ( un studio, un deux-pièces) – une maison – une villa – un immeuble de trois ét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b2d1f"/>
                </a:solidFill>
                <a:latin typeface="Arial"/>
              </a:rPr>
              <a:t>le rez-de-chaussée – le premier é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b2d1f"/>
                </a:solidFill>
                <a:latin typeface="Arial"/>
              </a:rPr>
              <a:t>- le deuxième étage – un ascen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AutoShape 7"/>
          <p:cNvSpPr/>
          <p:nvPr/>
        </p:nvSpPr>
        <p:spPr>
          <a:xfrm>
            <a:off x="179280" y="1557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8"/>
          <p:cNvSpPr/>
          <p:nvPr/>
        </p:nvSpPr>
        <p:spPr>
          <a:xfrm>
            <a:off x="5992920" y="1600200"/>
            <a:ext cx="28270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c3300"/>
                </a:solidFill>
                <a:latin typeface="Arial"/>
              </a:rPr>
              <a:t>Les piè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b2d1f"/>
                </a:solidFill>
                <a:latin typeface="Arial"/>
              </a:rPr>
              <a:t>une cuisine – une salle à manger – un salon – une chambre – une salle de bains – les toilettes – l’entrée – le couloir – le garage – la cave – la terr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AutoShape 9"/>
          <p:cNvSpPr/>
          <p:nvPr/>
        </p:nvSpPr>
        <p:spPr>
          <a:xfrm>
            <a:off x="5796000" y="1628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10"/>
          <p:cNvSpPr/>
          <p:nvPr/>
        </p:nvSpPr>
        <p:spPr>
          <a:xfrm>
            <a:off x="250920" y="4437000"/>
            <a:ext cx="48448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c3300"/>
                </a:solidFill>
                <a:latin typeface="Arial"/>
              </a:rPr>
              <a:t>Louer – acheter – ve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60066"/>
                </a:solidFill>
                <a:latin typeface="Arial"/>
              </a:rPr>
              <a:t>Il loue un deux-pièces à Lyon 400 euros par mo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60066"/>
                </a:solidFill>
                <a:latin typeface="Arial"/>
              </a:rPr>
              <a:t>Cet appartement est à vend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60066"/>
                </a:solidFill>
                <a:latin typeface="Arial"/>
              </a:rPr>
              <a:t>Elle voudrait acheter un 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AutoShape 11"/>
          <p:cNvSpPr/>
          <p:nvPr/>
        </p:nvSpPr>
        <p:spPr>
          <a:xfrm>
            <a:off x="5364000" y="436572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12"/>
          <p:cNvSpPr/>
          <p:nvPr/>
        </p:nvSpPr>
        <p:spPr>
          <a:xfrm>
            <a:off x="5559480" y="4264200"/>
            <a:ext cx="34052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c3300"/>
                </a:solidFill>
                <a:latin typeface="Arial"/>
              </a:rPr>
              <a:t>Les caractér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Arial"/>
              </a:rPr>
              <a:t>un appartement ancien/ moderne/ ne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Arial"/>
              </a:rPr>
              <a:t>- ensoleillé - cal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AutoShape 15"/>
          <p:cNvSpPr/>
          <p:nvPr/>
        </p:nvSpPr>
        <p:spPr>
          <a:xfrm>
            <a:off x="0" y="450864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Picture 4" descr="maison"/>
          <p:cNvPicPr/>
          <p:nvPr/>
        </p:nvPicPr>
        <p:blipFill>
          <a:blip r:embed="rId1"/>
          <a:stretch/>
        </p:blipFill>
        <p:spPr>
          <a:xfrm>
            <a:off x="1619280" y="836640"/>
            <a:ext cx="5896080" cy="5238720"/>
          </a:xfrm>
          <a:prstGeom prst="rect">
            <a:avLst/>
          </a:prstGeom>
          <a:ln w="9360">
            <a:solidFill>
              <a:srgbClr val="644646"/>
            </a:solidFill>
            <a:miter/>
          </a:ln>
        </p:spPr>
      </p:pic>
      <p:sp>
        <p:nvSpPr>
          <p:cNvPr id="1430" name="AutoShape 5"/>
          <p:cNvSpPr/>
          <p:nvPr/>
        </p:nvSpPr>
        <p:spPr>
          <a:xfrm>
            <a:off x="3419640" y="335772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AutoShape 6"/>
          <p:cNvSpPr/>
          <p:nvPr/>
        </p:nvSpPr>
        <p:spPr>
          <a:xfrm>
            <a:off x="4284720" y="4508640"/>
            <a:ext cx="142920" cy="2156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5640"/>
              <a:gd name="textAreaBottom" fmla="*/ 206640 h 215640"/>
            </a:gdLst>
            <a:ahLst/>
            <a:rect l="textAreaLeft" t="textAreaTop" r="textAreaRight" b="textAreaBottom"/>
            <a:pathLst>
              <a:path w="21600" h="32563">
                <a:moveTo>
                  <a:pt x="0" y="0"/>
                </a:moveTo>
                <a:lnTo>
                  <a:pt x="21600" y="0"/>
                </a:lnTo>
                <a:lnTo>
                  <a:pt x="21600" y="32563"/>
                </a:lnTo>
                <a:lnTo>
                  <a:pt x="0" y="32563"/>
                </a:lnTo>
                <a:close/>
              </a:path>
              <a:path fill="lightenLess" w="21600" h="325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563">
                <a:moveTo>
                  <a:pt x="21600" y="0"/>
                </a:moveTo>
                <a:lnTo>
                  <a:pt x="21600" y="32563"/>
                </a:lnTo>
                <a:lnTo>
                  <a:pt x="20200" y="31163"/>
                </a:lnTo>
                <a:lnTo>
                  <a:pt x="20200" y="1400"/>
                </a:lnTo>
                <a:close/>
              </a:path>
              <a:path fill="darkenLess" w="21600" h="32563">
                <a:moveTo>
                  <a:pt x="21600" y="32563"/>
                </a:moveTo>
                <a:lnTo>
                  <a:pt x="0" y="32563"/>
                </a:lnTo>
                <a:lnTo>
                  <a:pt x="1400" y="31163"/>
                </a:lnTo>
                <a:lnTo>
                  <a:pt x="20200" y="31163"/>
                </a:lnTo>
                <a:close/>
              </a:path>
              <a:path fill="lighten" w="21600" h="32563">
                <a:moveTo>
                  <a:pt x="0" y="3256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163"/>
                </a:lnTo>
                <a:close/>
              </a:path>
              <a:path fill="darken" w="21600" h="32563">
                <a:moveTo>
                  <a:pt x="3794" y="16281"/>
                </a:moveTo>
                <a:lnTo>
                  <a:pt x="17806" y="9275"/>
                </a:lnTo>
                <a:lnTo>
                  <a:pt x="17806" y="23288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AutoShape 7"/>
          <p:cNvSpPr/>
          <p:nvPr/>
        </p:nvSpPr>
        <p:spPr>
          <a:xfrm>
            <a:off x="3492360" y="4437000"/>
            <a:ext cx="73080" cy="144360"/>
          </a:xfrm>
          <a:custGeom>
            <a:avLst/>
            <a:gdLst>
              <a:gd name="textAreaLeft" fmla="*/ 4680 w 73080"/>
              <a:gd name="textAreaRight" fmla="*/ 68400 w 73080"/>
              <a:gd name="textAreaTop" fmla="*/ 4680 h 144360"/>
              <a:gd name="textAreaBottom" fmla="*/ 139680 h 144360"/>
            </a:gdLst>
            <a:ahLst/>
            <a:rect l="textAreaLeft" t="textAreaTop" r="textAreaRight" b="textAreaBottom"/>
            <a:pathLst>
              <a:path w="21600" h="42565">
                <a:moveTo>
                  <a:pt x="0" y="0"/>
                </a:moveTo>
                <a:lnTo>
                  <a:pt x="21600" y="0"/>
                </a:lnTo>
                <a:lnTo>
                  <a:pt x="21600" y="42565"/>
                </a:lnTo>
                <a:lnTo>
                  <a:pt x="0" y="42565"/>
                </a:lnTo>
                <a:close/>
              </a:path>
              <a:path fill="lightenLess" w="21600" h="425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565">
                <a:moveTo>
                  <a:pt x="21600" y="0"/>
                </a:moveTo>
                <a:lnTo>
                  <a:pt x="21600" y="42565"/>
                </a:lnTo>
                <a:lnTo>
                  <a:pt x="20200" y="41165"/>
                </a:lnTo>
                <a:lnTo>
                  <a:pt x="20200" y="1400"/>
                </a:lnTo>
                <a:close/>
              </a:path>
              <a:path fill="darkenLess" w="21600" h="42565">
                <a:moveTo>
                  <a:pt x="21600" y="42565"/>
                </a:moveTo>
                <a:lnTo>
                  <a:pt x="0" y="42565"/>
                </a:lnTo>
                <a:lnTo>
                  <a:pt x="1400" y="41165"/>
                </a:lnTo>
                <a:lnTo>
                  <a:pt x="20200" y="41165"/>
                </a:lnTo>
                <a:close/>
              </a:path>
              <a:path fill="lighten" w="21600" h="42565">
                <a:moveTo>
                  <a:pt x="0" y="42565"/>
                </a:moveTo>
                <a:lnTo>
                  <a:pt x="0" y="0"/>
                </a:lnTo>
                <a:lnTo>
                  <a:pt x="1400" y="1400"/>
                </a:lnTo>
                <a:lnTo>
                  <a:pt x="1400" y="41165"/>
                </a:lnTo>
                <a:close/>
              </a:path>
              <a:path fill="darken" w="21600" h="42565">
                <a:moveTo>
                  <a:pt x="3794" y="21282"/>
                </a:moveTo>
                <a:lnTo>
                  <a:pt x="17806" y="14276"/>
                </a:lnTo>
                <a:lnTo>
                  <a:pt x="17806" y="28289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AutoShape 9"/>
          <p:cNvSpPr/>
          <p:nvPr/>
        </p:nvSpPr>
        <p:spPr>
          <a:xfrm>
            <a:off x="3492360" y="5157720"/>
            <a:ext cx="73080" cy="144360"/>
          </a:xfrm>
          <a:custGeom>
            <a:avLst/>
            <a:gdLst>
              <a:gd name="textAreaLeft" fmla="*/ 4680 w 73080"/>
              <a:gd name="textAreaRight" fmla="*/ 68400 w 73080"/>
              <a:gd name="textAreaTop" fmla="*/ 4680 h 144360"/>
              <a:gd name="textAreaBottom" fmla="*/ 139680 h 144360"/>
            </a:gdLst>
            <a:ahLst/>
            <a:rect l="textAreaLeft" t="textAreaTop" r="textAreaRight" b="textAreaBottom"/>
            <a:pathLst>
              <a:path w="21600" h="42565">
                <a:moveTo>
                  <a:pt x="0" y="0"/>
                </a:moveTo>
                <a:lnTo>
                  <a:pt x="21600" y="0"/>
                </a:lnTo>
                <a:lnTo>
                  <a:pt x="21600" y="42565"/>
                </a:lnTo>
                <a:lnTo>
                  <a:pt x="0" y="42565"/>
                </a:lnTo>
                <a:close/>
              </a:path>
              <a:path fill="lightenLess" w="21600" h="425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565">
                <a:moveTo>
                  <a:pt x="21600" y="0"/>
                </a:moveTo>
                <a:lnTo>
                  <a:pt x="21600" y="42565"/>
                </a:lnTo>
                <a:lnTo>
                  <a:pt x="20200" y="41165"/>
                </a:lnTo>
                <a:lnTo>
                  <a:pt x="20200" y="1400"/>
                </a:lnTo>
                <a:close/>
              </a:path>
              <a:path fill="darkenLess" w="21600" h="42565">
                <a:moveTo>
                  <a:pt x="21600" y="42565"/>
                </a:moveTo>
                <a:lnTo>
                  <a:pt x="0" y="42565"/>
                </a:lnTo>
                <a:lnTo>
                  <a:pt x="1400" y="41165"/>
                </a:lnTo>
                <a:lnTo>
                  <a:pt x="20200" y="41165"/>
                </a:lnTo>
                <a:close/>
              </a:path>
              <a:path fill="lighten" w="21600" h="42565">
                <a:moveTo>
                  <a:pt x="0" y="42565"/>
                </a:moveTo>
                <a:lnTo>
                  <a:pt x="0" y="0"/>
                </a:lnTo>
                <a:lnTo>
                  <a:pt x="1400" y="1400"/>
                </a:lnTo>
                <a:lnTo>
                  <a:pt x="1400" y="41165"/>
                </a:lnTo>
                <a:close/>
              </a:path>
              <a:path fill="darken" w="21600" h="42565">
                <a:moveTo>
                  <a:pt x="3794" y="21282"/>
                </a:moveTo>
                <a:lnTo>
                  <a:pt x="17806" y="14276"/>
                </a:lnTo>
                <a:lnTo>
                  <a:pt x="17806" y="28289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AutoShape 10"/>
          <p:cNvSpPr/>
          <p:nvPr/>
        </p:nvSpPr>
        <p:spPr>
          <a:xfrm>
            <a:off x="3492360" y="2276640"/>
            <a:ext cx="142920" cy="14256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560"/>
              <a:gd name="textAreaBottom" fmla="*/ 133560 h 1425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10800"/>
                </a:moveTo>
                <a:lnTo>
                  <a:pt x="17834" y="3794"/>
                </a:lnTo>
                <a:lnTo>
                  <a:pt x="17834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AutoShape 11"/>
          <p:cNvSpPr/>
          <p:nvPr/>
        </p:nvSpPr>
        <p:spPr>
          <a:xfrm>
            <a:off x="4140360" y="3429000"/>
            <a:ext cx="215640" cy="144360"/>
          </a:xfrm>
          <a:custGeom>
            <a:avLst/>
            <a:gdLst>
              <a:gd name="textAreaLeft" fmla="*/ 9360 w 215640"/>
              <a:gd name="textAreaRight" fmla="*/ 206280 w 21564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AutoShape 12"/>
          <p:cNvSpPr/>
          <p:nvPr/>
        </p:nvSpPr>
        <p:spPr>
          <a:xfrm>
            <a:off x="3780000" y="2276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WordArt 15"/>
          <p:cNvSpPr txBox="1"/>
          <p:nvPr/>
        </p:nvSpPr>
        <p:spPr>
          <a:xfrm>
            <a:off x="1258920" y="115920"/>
            <a:ext cx="444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696464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s pièces de la maison</a:t>
            </a:r>
            <a:endParaRPr b="0" lang="en-US" sz="1400" spc="1" strike="noStrike">
              <a:ln w="9360">
                <a:solidFill>
                  <a:srgbClr val="696464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8" name="Text Box 16"/>
          <p:cNvSpPr/>
          <p:nvPr/>
        </p:nvSpPr>
        <p:spPr>
          <a:xfrm>
            <a:off x="5091120" y="1906560"/>
            <a:ext cx="14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a terr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17"/>
          <p:cNvSpPr/>
          <p:nvPr/>
        </p:nvSpPr>
        <p:spPr>
          <a:xfrm>
            <a:off x="5127480" y="2873520"/>
            <a:ext cx="18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ne cha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18"/>
          <p:cNvSpPr/>
          <p:nvPr/>
        </p:nvSpPr>
        <p:spPr>
          <a:xfrm>
            <a:off x="1547640" y="191628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e bu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19"/>
          <p:cNvSpPr/>
          <p:nvPr/>
        </p:nvSpPr>
        <p:spPr>
          <a:xfrm>
            <a:off x="971640" y="285264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696464"/>
                </a:solidFill>
                <a:latin typeface="Arial"/>
              </a:rPr>
              <a:t>La salle de b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 Box 20"/>
          <p:cNvSpPr/>
          <p:nvPr/>
        </p:nvSpPr>
        <p:spPr>
          <a:xfrm>
            <a:off x="1403280" y="4005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a cuis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21"/>
          <p:cNvSpPr/>
          <p:nvPr/>
        </p:nvSpPr>
        <p:spPr>
          <a:xfrm>
            <a:off x="2103480" y="5392800"/>
            <a:ext cx="1604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a ca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le sous-so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22"/>
          <p:cNvSpPr/>
          <p:nvPr/>
        </p:nvSpPr>
        <p:spPr>
          <a:xfrm>
            <a:off x="4335480" y="5681520"/>
            <a:ext cx="21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e sa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23"/>
          <p:cNvSpPr/>
          <p:nvPr/>
        </p:nvSpPr>
        <p:spPr>
          <a:xfrm flipH="1" flipV="1">
            <a:off x="4716360" y="4508640"/>
            <a:ext cx="21600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24"/>
          <p:cNvSpPr/>
          <p:nvPr/>
        </p:nvSpPr>
        <p:spPr>
          <a:xfrm>
            <a:off x="6424560" y="352116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e ga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25"/>
          <p:cNvSpPr/>
          <p:nvPr/>
        </p:nvSpPr>
        <p:spPr>
          <a:xfrm flipH="1">
            <a:off x="6012000" y="378936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Picture 4" descr="cuisine1"/>
          <p:cNvPicPr/>
          <p:nvPr/>
        </p:nvPicPr>
        <p:blipFill>
          <a:blip r:embed="rId1"/>
          <a:stretch/>
        </p:blipFill>
        <p:spPr>
          <a:xfrm>
            <a:off x="250920" y="1052640"/>
            <a:ext cx="6913440" cy="5189400"/>
          </a:xfrm>
          <a:prstGeom prst="rect">
            <a:avLst/>
          </a:prstGeom>
          <a:ln w="9360">
            <a:solidFill>
              <a:srgbClr val="9b2d1f"/>
            </a:solidFill>
            <a:miter/>
          </a:ln>
        </p:spPr>
      </p:pic>
      <p:sp>
        <p:nvSpPr>
          <p:cNvPr id="1449" name="AutoShape 5"/>
          <p:cNvSpPr/>
          <p:nvPr/>
        </p:nvSpPr>
        <p:spPr>
          <a:xfrm>
            <a:off x="8748720" y="652464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10800"/>
                </a:moveTo>
                <a:lnTo>
                  <a:pt x="17878" y="3794"/>
                </a:lnTo>
                <a:lnTo>
                  <a:pt x="17878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WordArt 29"/>
          <p:cNvSpPr txBox="1"/>
          <p:nvPr/>
        </p:nvSpPr>
        <p:spPr>
          <a:xfrm>
            <a:off x="1332000" y="189000"/>
            <a:ext cx="58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Découvre dans cette cuisine… (clique!)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451" name="Text Box 31"/>
          <p:cNvSpPr/>
          <p:nvPr/>
        </p:nvSpPr>
        <p:spPr>
          <a:xfrm>
            <a:off x="7216560" y="9795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66"/>
                </a:solidFill>
                <a:latin typeface="Arial"/>
              </a:rPr>
              <a:t>Une poê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33"/>
          <p:cNvSpPr/>
          <p:nvPr/>
        </p:nvSpPr>
        <p:spPr>
          <a:xfrm>
            <a:off x="7235640" y="12682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Un fri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34"/>
          <p:cNvSpPr/>
          <p:nvPr/>
        </p:nvSpPr>
        <p:spPr>
          <a:xfrm>
            <a:off x="7234920" y="191628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00"/>
                </a:solidFill>
                <a:latin typeface="Arial"/>
              </a:rPr>
              <a:t>Une poub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35"/>
          <p:cNvSpPr/>
          <p:nvPr/>
        </p:nvSpPr>
        <p:spPr>
          <a:xfrm>
            <a:off x="7234560" y="227664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Une thé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36"/>
          <p:cNvSpPr/>
          <p:nvPr/>
        </p:nvSpPr>
        <p:spPr>
          <a:xfrm>
            <a:off x="7308720" y="29242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37"/>
          <p:cNvSpPr/>
          <p:nvPr/>
        </p:nvSpPr>
        <p:spPr>
          <a:xfrm>
            <a:off x="7235640" y="256536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Un f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38"/>
          <p:cNvSpPr/>
          <p:nvPr/>
        </p:nvSpPr>
        <p:spPr>
          <a:xfrm>
            <a:off x="7233840" y="285264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Une casse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39"/>
          <p:cNvSpPr/>
          <p:nvPr/>
        </p:nvSpPr>
        <p:spPr>
          <a:xfrm>
            <a:off x="7234200" y="32130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66"/>
                </a:solidFill>
                <a:latin typeface="Arial"/>
              </a:rPr>
              <a:t>Un tabou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40"/>
          <p:cNvSpPr/>
          <p:nvPr/>
        </p:nvSpPr>
        <p:spPr>
          <a:xfrm>
            <a:off x="7234920" y="350028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00"/>
                </a:solidFill>
                <a:latin typeface="Arial"/>
              </a:rPr>
              <a:t>Un grille-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1"/>
          <p:cNvSpPr/>
          <p:nvPr/>
        </p:nvSpPr>
        <p:spPr>
          <a:xfrm>
            <a:off x="7236000" y="3860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00"/>
                </a:solidFill>
                <a:latin typeface="Arial"/>
              </a:rPr>
              <a:t>Un bal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42"/>
          <p:cNvSpPr/>
          <p:nvPr/>
        </p:nvSpPr>
        <p:spPr>
          <a:xfrm>
            <a:off x="7232040" y="4149720"/>
            <a:ext cx="18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Une machine à la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43"/>
          <p:cNvSpPr/>
          <p:nvPr/>
        </p:nvSpPr>
        <p:spPr>
          <a:xfrm>
            <a:off x="7235640" y="472428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66"/>
                </a:solidFill>
                <a:latin typeface="Arial"/>
              </a:rPr>
              <a:t>Un év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44"/>
          <p:cNvSpPr/>
          <p:nvPr/>
        </p:nvSpPr>
        <p:spPr>
          <a:xfrm>
            <a:off x="7234560" y="508464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Une ho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45"/>
          <p:cNvSpPr/>
          <p:nvPr/>
        </p:nvSpPr>
        <p:spPr>
          <a:xfrm>
            <a:off x="7233120" y="1557360"/>
            <a:ext cx="12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66"/>
                </a:solidFill>
                <a:latin typeface="Arial"/>
              </a:rPr>
              <a:t>Des assiet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46"/>
          <p:cNvSpPr/>
          <p:nvPr/>
        </p:nvSpPr>
        <p:spPr>
          <a:xfrm>
            <a:off x="7234200" y="443700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Des ver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AutoShape 47"/>
          <p:cNvSpPr/>
          <p:nvPr/>
        </p:nvSpPr>
        <p:spPr>
          <a:xfrm>
            <a:off x="2556000" y="299736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AutoShape 48"/>
          <p:cNvSpPr/>
          <p:nvPr/>
        </p:nvSpPr>
        <p:spPr>
          <a:xfrm>
            <a:off x="5580000" y="328464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AutoShape 49"/>
          <p:cNvSpPr/>
          <p:nvPr/>
        </p:nvSpPr>
        <p:spPr>
          <a:xfrm>
            <a:off x="3780000" y="170028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AutoShape 50"/>
          <p:cNvSpPr/>
          <p:nvPr/>
        </p:nvSpPr>
        <p:spPr>
          <a:xfrm>
            <a:off x="1979640" y="3645000"/>
            <a:ext cx="360360" cy="33336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AutoShape 51"/>
          <p:cNvSpPr/>
          <p:nvPr/>
        </p:nvSpPr>
        <p:spPr>
          <a:xfrm>
            <a:off x="6300720" y="134136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AutoShape 52"/>
          <p:cNvSpPr/>
          <p:nvPr/>
        </p:nvSpPr>
        <p:spPr>
          <a:xfrm>
            <a:off x="2700360" y="364500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AutoShape 53"/>
          <p:cNvSpPr/>
          <p:nvPr/>
        </p:nvSpPr>
        <p:spPr>
          <a:xfrm>
            <a:off x="2987640" y="292428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55"/>
          <p:cNvSpPr/>
          <p:nvPr/>
        </p:nvSpPr>
        <p:spPr>
          <a:xfrm>
            <a:off x="2484360" y="5516640"/>
            <a:ext cx="360360" cy="33336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56"/>
          <p:cNvSpPr/>
          <p:nvPr/>
        </p:nvSpPr>
        <p:spPr>
          <a:xfrm>
            <a:off x="5003640" y="285264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57"/>
          <p:cNvSpPr/>
          <p:nvPr/>
        </p:nvSpPr>
        <p:spPr>
          <a:xfrm>
            <a:off x="1042920" y="357336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AutoShape 58"/>
          <p:cNvSpPr/>
          <p:nvPr/>
        </p:nvSpPr>
        <p:spPr>
          <a:xfrm>
            <a:off x="4716360" y="364500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AutoShape 59"/>
          <p:cNvSpPr/>
          <p:nvPr/>
        </p:nvSpPr>
        <p:spPr>
          <a:xfrm>
            <a:off x="4572000" y="170028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AutoShape 60"/>
          <p:cNvSpPr/>
          <p:nvPr/>
        </p:nvSpPr>
        <p:spPr>
          <a:xfrm>
            <a:off x="4211640" y="299736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AutoShape 61"/>
          <p:cNvSpPr/>
          <p:nvPr/>
        </p:nvSpPr>
        <p:spPr>
          <a:xfrm>
            <a:off x="2843280" y="191628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AutoShape 6"/>
          <p:cNvSpPr/>
          <p:nvPr/>
        </p:nvSpPr>
        <p:spPr>
          <a:xfrm>
            <a:off x="8820000" y="6524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1" name="TextBox 5" descr=""/>
          <p:cNvPicPr/>
          <p:nvPr/>
        </p:nvPicPr>
        <p:blipFill>
          <a:blip r:embed="rId1"/>
          <a:stretch/>
        </p:blipFill>
        <p:spPr>
          <a:xfrm>
            <a:off x="2762280" y="171360"/>
            <a:ext cx="2693880" cy="6462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5" descr="salon"/>
          <p:cNvPicPr/>
          <p:nvPr/>
        </p:nvPicPr>
        <p:blipFill>
          <a:blip r:embed="rId2"/>
          <a:stretch/>
        </p:blipFill>
        <p:spPr>
          <a:xfrm>
            <a:off x="928800" y="768240"/>
            <a:ext cx="72151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4" descr="salledebain"/>
          <p:cNvPicPr/>
          <p:nvPr/>
        </p:nvPicPr>
        <p:blipFill>
          <a:blip r:embed="rId1"/>
          <a:stretch/>
        </p:blipFill>
        <p:spPr>
          <a:xfrm>
            <a:off x="250920" y="189000"/>
            <a:ext cx="5943600" cy="4452840"/>
          </a:xfrm>
          <a:prstGeom prst="rect">
            <a:avLst/>
          </a:prstGeom>
          <a:ln w="9360">
            <a:solidFill>
              <a:srgbClr val="644646"/>
            </a:solidFill>
            <a:miter/>
          </a:ln>
        </p:spPr>
      </p:pic>
      <p:sp>
        <p:nvSpPr>
          <p:cNvPr id="1484" name="AutoShape 5"/>
          <p:cNvSpPr/>
          <p:nvPr/>
        </p:nvSpPr>
        <p:spPr>
          <a:xfrm>
            <a:off x="8675640" y="652464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10800"/>
                </a:moveTo>
                <a:lnTo>
                  <a:pt x="21454" y="3794"/>
                </a:lnTo>
                <a:lnTo>
                  <a:pt x="21454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6"/>
          <p:cNvSpPr/>
          <p:nvPr/>
        </p:nvSpPr>
        <p:spPr>
          <a:xfrm>
            <a:off x="6516720" y="1773360"/>
            <a:ext cx="22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baign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9"/>
          <p:cNvSpPr/>
          <p:nvPr/>
        </p:nvSpPr>
        <p:spPr>
          <a:xfrm>
            <a:off x="6443640" y="2781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cc"/>
                </a:solidFill>
                <a:latin typeface="Arial"/>
              </a:rPr>
              <a:t>Une g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11"/>
          <p:cNvSpPr/>
          <p:nvPr/>
        </p:nvSpPr>
        <p:spPr>
          <a:xfrm>
            <a:off x="6877080" y="3500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0066"/>
                </a:solidFill>
                <a:latin typeface="Arial"/>
              </a:rPr>
              <a:t>Une servi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13"/>
          <p:cNvSpPr/>
          <p:nvPr/>
        </p:nvSpPr>
        <p:spPr>
          <a:xfrm>
            <a:off x="6424560" y="400536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0066"/>
                </a:solidFill>
                <a:latin typeface="Arial"/>
              </a:rPr>
              <a:t>Un ro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19"/>
          <p:cNvSpPr/>
          <p:nvPr/>
        </p:nvSpPr>
        <p:spPr>
          <a:xfrm>
            <a:off x="6300720" y="4581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 rid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 Box 20"/>
          <p:cNvSpPr/>
          <p:nvPr/>
        </p:nvSpPr>
        <p:spPr>
          <a:xfrm>
            <a:off x="5724360" y="56610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e cuv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21"/>
          <p:cNvSpPr/>
          <p:nvPr/>
        </p:nvSpPr>
        <p:spPr>
          <a:xfrm>
            <a:off x="3059280" y="5013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 sèche-chev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22"/>
          <p:cNvSpPr/>
          <p:nvPr/>
        </p:nvSpPr>
        <p:spPr>
          <a:xfrm>
            <a:off x="1258920" y="5013360"/>
            <a:ext cx="21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carp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23"/>
          <p:cNvSpPr/>
          <p:nvPr/>
        </p:nvSpPr>
        <p:spPr>
          <a:xfrm>
            <a:off x="179280" y="53006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 lav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24"/>
          <p:cNvSpPr/>
          <p:nvPr/>
        </p:nvSpPr>
        <p:spPr>
          <a:xfrm>
            <a:off x="6227640" y="6308640"/>
            <a:ext cx="18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0066"/>
                </a:solidFill>
                <a:latin typeface="Arial"/>
              </a:rPr>
              <a:t>Une savon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5"/>
          <p:cNvSpPr/>
          <p:nvPr/>
        </p:nvSpPr>
        <p:spPr>
          <a:xfrm>
            <a:off x="4284720" y="6021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e épo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26"/>
          <p:cNvSpPr/>
          <p:nvPr/>
        </p:nvSpPr>
        <p:spPr>
          <a:xfrm>
            <a:off x="2195640" y="5589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66"/>
                </a:solidFill>
                <a:latin typeface="Arial"/>
              </a:rPr>
              <a:t>Une balay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27"/>
          <p:cNvSpPr/>
          <p:nvPr/>
        </p:nvSpPr>
        <p:spPr>
          <a:xfrm>
            <a:off x="395280" y="6093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Une armoire à pharm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AutoShape 30"/>
          <p:cNvSpPr/>
          <p:nvPr/>
        </p:nvSpPr>
        <p:spPr>
          <a:xfrm>
            <a:off x="5148360" y="2997360"/>
            <a:ext cx="43164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AutoShape 31"/>
          <p:cNvSpPr/>
          <p:nvPr/>
        </p:nvSpPr>
        <p:spPr>
          <a:xfrm>
            <a:off x="3492360" y="2276640"/>
            <a:ext cx="43200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AutoShape 32"/>
          <p:cNvSpPr/>
          <p:nvPr/>
        </p:nvSpPr>
        <p:spPr>
          <a:xfrm>
            <a:off x="1042920" y="692280"/>
            <a:ext cx="43200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AutoShape 33"/>
          <p:cNvSpPr/>
          <p:nvPr/>
        </p:nvSpPr>
        <p:spPr>
          <a:xfrm>
            <a:off x="971640" y="184464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AutoShape 34"/>
          <p:cNvSpPr/>
          <p:nvPr/>
        </p:nvSpPr>
        <p:spPr>
          <a:xfrm>
            <a:off x="1116000" y="126828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35"/>
          <p:cNvSpPr/>
          <p:nvPr/>
        </p:nvSpPr>
        <p:spPr>
          <a:xfrm>
            <a:off x="0" y="83664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AutoShape 36"/>
          <p:cNvSpPr/>
          <p:nvPr/>
        </p:nvSpPr>
        <p:spPr>
          <a:xfrm>
            <a:off x="1619280" y="112536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AutoShape 37"/>
          <p:cNvSpPr/>
          <p:nvPr/>
        </p:nvSpPr>
        <p:spPr>
          <a:xfrm>
            <a:off x="4572000" y="549360"/>
            <a:ext cx="43164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AutoShape 38"/>
          <p:cNvSpPr/>
          <p:nvPr/>
        </p:nvSpPr>
        <p:spPr>
          <a:xfrm>
            <a:off x="3851280" y="321300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AutoShape 39"/>
          <p:cNvSpPr/>
          <p:nvPr/>
        </p:nvSpPr>
        <p:spPr>
          <a:xfrm>
            <a:off x="4788000" y="1916280"/>
            <a:ext cx="43164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AutoShape 40"/>
          <p:cNvSpPr/>
          <p:nvPr/>
        </p:nvSpPr>
        <p:spPr>
          <a:xfrm>
            <a:off x="3851280" y="234936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AutoShape 41"/>
          <p:cNvSpPr/>
          <p:nvPr/>
        </p:nvSpPr>
        <p:spPr>
          <a:xfrm>
            <a:off x="3132000" y="476280"/>
            <a:ext cx="43200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AutoShape 42"/>
          <p:cNvSpPr/>
          <p:nvPr/>
        </p:nvSpPr>
        <p:spPr>
          <a:xfrm>
            <a:off x="1763640" y="1700280"/>
            <a:ext cx="43200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WordArt 45"/>
          <p:cNvSpPr txBox="1"/>
          <p:nvPr/>
        </p:nvSpPr>
        <p:spPr>
          <a:xfrm>
            <a:off x="5580000" y="260280"/>
            <a:ext cx="338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696464"/>
                  </a:solidFill>
                  <a:miter/>
                </a:ln>
                <a:solidFill>
                  <a:srgbClr val="9b2d1f"/>
                </a:solidFill>
                <a:latin typeface="Arial"/>
              </a:rPr>
              <a:t>Qu’est-ce qu’il y a dans la salle de bains?</a:t>
            </a:r>
            <a:endParaRPr b="0" lang="en-US" sz="1400" spc="1" strike="noStrike">
              <a:ln w="9360">
                <a:solidFill>
                  <a:srgbClr val="696464"/>
                </a:solidFill>
                <a:miter/>
              </a:ln>
              <a:solidFill>
                <a:srgbClr val="9b2d1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696464"/>
                  </a:solidFill>
                  <a:miter/>
                </a:ln>
                <a:solidFill>
                  <a:srgbClr val="9b2d1f"/>
                </a:solidFill>
                <a:latin typeface="Arial"/>
              </a:rPr>
              <a:t>(clique!)</a:t>
            </a:r>
            <a:endParaRPr b="0" lang="en-US" sz="1400" spc="1" strike="noStrike">
              <a:ln w="9360">
                <a:solidFill>
                  <a:srgbClr val="696464"/>
                </a:solidFill>
                <a:miter/>
              </a:ln>
              <a:solidFill>
                <a:srgbClr val="9b2d1f"/>
              </a:solidFill>
              <a:latin typeface="Arial"/>
              <a:ea typeface="Arial"/>
            </a:endParaRPr>
          </a:p>
        </p:txBody>
      </p:sp>
      <p:sp>
        <p:nvSpPr>
          <p:cNvPr id="1512" name="Text Box 46"/>
          <p:cNvSpPr/>
          <p:nvPr/>
        </p:nvSpPr>
        <p:spPr>
          <a:xfrm>
            <a:off x="6372360" y="5300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 rouleau de pa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AutoShape 47"/>
          <p:cNvSpPr/>
          <p:nvPr/>
        </p:nvSpPr>
        <p:spPr>
          <a:xfrm>
            <a:off x="2987640" y="1916280"/>
            <a:ext cx="43200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55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AutoShape 5"/>
          <p:cNvSpPr/>
          <p:nvPr/>
        </p:nvSpPr>
        <p:spPr>
          <a:xfrm>
            <a:off x="867564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5"/>
          <p:cNvSpPr/>
          <p:nvPr/>
        </p:nvSpPr>
        <p:spPr>
          <a:xfrm>
            <a:off x="2593440" y="50004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2060"/>
                </a:solidFill>
                <a:latin typeface="Arial"/>
              </a:rPr>
              <a:t>Décris cette cha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6" name="Picture 5" descr="D:\комната.jpg"/>
          <p:cNvPicPr/>
          <p:nvPr/>
        </p:nvPicPr>
        <p:blipFill>
          <a:blip r:embed="rId1"/>
          <a:stretch/>
        </p:blipFill>
        <p:spPr>
          <a:xfrm>
            <a:off x="1071720" y="1143000"/>
            <a:ext cx="714348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AutoShape 5"/>
          <p:cNvSpPr/>
          <p:nvPr/>
        </p:nvSpPr>
        <p:spPr>
          <a:xfrm>
            <a:off x="8820000" y="6524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TextBox 5" descr=""/>
          <p:cNvPicPr/>
          <p:nvPr/>
        </p:nvPicPr>
        <p:blipFill>
          <a:blip r:embed="rId1"/>
          <a:stretch/>
        </p:blipFill>
        <p:spPr>
          <a:xfrm>
            <a:off x="841320" y="549360"/>
            <a:ext cx="7150320" cy="81576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5" descr="D:\bureau.jpg"/>
          <p:cNvPicPr/>
          <p:nvPr/>
        </p:nvPicPr>
        <p:blipFill>
          <a:blip r:embed="rId2"/>
          <a:stretch/>
        </p:blipFill>
        <p:spPr>
          <a:xfrm>
            <a:off x="1214280" y="1320840"/>
            <a:ext cx="6858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4:47:57Z</dcterms:created>
  <dc:creator>Roman</dc:creator>
  <dc:description/>
  <dc:language>en-US</dc:language>
  <cp:lastModifiedBy>uchitel596</cp:lastModifiedBy>
  <dcterms:modified xsi:type="dcterms:W3CDTF">2013-04-09T08:35:15Z</dcterms:modified>
  <cp:revision>70</cp:revision>
  <dc:subject/>
  <dc:title>Слайд 1</dc:title>
</cp:coreProperties>
</file>