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23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26.jpeg" ContentType="image/jpeg"/>
  <Override PartName="/ppt/media/image18.wmf" ContentType="image/x-wmf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E912-26B4-4A20-B4F8-2DE87F4E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4A3-85C6-4F85-A75E-5083B51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AA7-ADDB-4DCD-A526-1CE25FF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462-BF40-4BA3-BA7E-AB07D9AB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FD62-887C-4AEF-8551-FA90EB1C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3284-CBDC-49AE-8FDE-20FE17DF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7BEB-DC0D-49EF-93D4-9E6DBB71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000D-E168-4497-904D-7AF45030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E773-E016-4F2B-91E7-CE61346A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9DD2-4AD9-45EC-9A90-1CF672E8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7452-341F-4883-AAE8-7737853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A03-B677-421E-B006-CE1D928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9342-7D07-42E5-870A-AF04288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9EC-1E0B-4FF2-B459-B456BD81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F19-2BAA-4F79-8D15-4DA14A0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70F-0B6F-4E0B-82F3-3D5D8FE9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DB86-3BC1-43CA-9596-D2B5301C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644D-011A-4878-8B6B-0E363F88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F753-7809-4F88-AC1A-FF9B1BD9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075D-7185-4FDB-9847-C707A93F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A7D1-E370-442A-A325-8BC8DCA9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B50E-1A79-47F0-8305-4F4CE140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73D-2B0F-45CD-A88C-5AFCD48E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E6E37-AF7B-45FB-A09F-7EC6DCBF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81B9-46A4-4F2F-A274-B66C528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3793-3372-4692-B8B8-1EC8079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9B1A-8B5A-4AD1-BF5A-703F902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48FE-A4F5-4730-AF09-C9B93A29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365C-46D3-4556-82E1-95B9C1FC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028D-660B-4AD6-B15E-4B5BA961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D8586-C446-43ED-803C-B0055EAC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A4F9D-6B04-4850-BFE3-41990416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91A0-9844-4293-8FC7-A67F93BB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CB5-13AD-4961-89E0-FC8A48EE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28B3-BA7D-4692-83B9-521B7F7D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C62A-1B1B-47F8-ACFF-1E7849D8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418AB-A5AA-4170-A801-049798C3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B850F-83B9-49E4-A3B7-6D71F08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4CE1-4832-4913-9F52-DF4D1EC5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EA107-0225-4A8F-ABAF-1DD6AFA1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518C-9068-4409-9290-4053C1B7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28FAD-4F7A-4042-A547-09EE2D33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1626-64D7-4D89-97A2-12FC692E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FC205-BB82-49BB-84A2-19F9F30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CB74-C89D-4E7B-8633-2825653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BE85-8CAA-405E-A2A0-60B3AAE4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2123-9D13-4EDA-895D-12C4A861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265CA-B3A4-4080-8A6B-C262405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0434B-E163-453F-893D-4A9BD2B2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E264-7CAB-4FA0-B716-891FEE87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86046-0E75-439A-97E1-B1ED26E3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8D67-72CD-4EF9-B598-AB7127BC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AE598-C5BA-47C3-87B6-8074FF3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648F-32A5-4CCA-B8D9-C7E00F9E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4931B-AC00-4E18-9870-609AC913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DBE-5FCF-4724-A039-D1F6203A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82875-2648-4509-A83F-53EB1E06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677-0F30-46A0-95B6-C98A4DED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D89-9651-4150-B3DA-ACABA40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6FE-646E-4C87-B816-1AF5EF4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C26-E1C0-4893-9F69-2FE6E5EB95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E775-02B4-4280-AD3F-6F55E933C9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841-A353-4B1E-A6A7-E08CAE3749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F714-6E05-4B48-8A9B-778DAA515F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184E-81D9-4081-9615-CF8D3318B14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iz.progtech.ru/bord/images/5079_1024ESPCKDyPZSEI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nvest.tcm.by/i1/Rose.files/image001.jpg" TargetMode="External"/><Relationship Id="rId4" Type="http://schemas.openxmlformats.org/officeDocument/2006/relationships/image" Target="../media/image26.jpeg"/><Relationship Id="rId5" Type="http://schemas.openxmlformats.org/officeDocument/2006/relationships/hyperlink" Target="http://s46.radikal.ru/i112/0811/6a/57ecba99fdc6.jpg" TargetMode="External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1792800" y="3357720"/>
            <a:ext cx="66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b2d1f"/>
                </a:solidFill>
                <a:latin typeface="Arial"/>
              </a:rPr>
              <a:t>Презентация «Дом»(2 ча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5772240" y="219240"/>
            <a:ext cx="3279600" cy="1523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6" descr=""/>
          <p:cNvPicPr/>
          <p:nvPr/>
        </p:nvPicPr>
        <p:blipFill>
          <a:blip r:embed="rId2"/>
          <a:stretch/>
        </p:blipFill>
        <p:spPr>
          <a:xfrm>
            <a:off x="1938240" y="1432080"/>
            <a:ext cx="5127840" cy="1523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8" descr=""/>
          <p:cNvPicPr/>
          <p:nvPr/>
        </p:nvPicPr>
        <p:blipFill>
          <a:blip r:embed="rId3"/>
          <a:stretch/>
        </p:blipFill>
        <p:spPr>
          <a:xfrm>
            <a:off x="208080" y="219240"/>
            <a:ext cx="4192560" cy="15238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1017720" y="4857840"/>
            <a:ext cx="70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b2d1f"/>
                </a:solidFill>
                <a:latin typeface="Arial"/>
              </a:rPr>
              <a:t>Автор – Щеголева Л.М. ( школа №596  Приморского рай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405000" y="765000"/>
            <a:ext cx="75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notre chambre (ma petite soeur et moi, on partage une chambre) il y a de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lit"/>
          <p:cNvPicPr/>
          <p:nvPr/>
        </p:nvPicPr>
        <p:blipFill>
          <a:blip r:embed="rId1"/>
          <a:stretch/>
        </p:blipFill>
        <p:spPr>
          <a:xfrm>
            <a:off x="7885080" y="692280"/>
            <a:ext cx="1101600" cy="6206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468360" y="1773360"/>
            <a:ext cx="33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2" descr="письм"/>
          <p:cNvPicPr/>
          <p:nvPr/>
        </p:nvPicPr>
        <p:blipFill>
          <a:blip r:embed="rId2"/>
          <a:stretch/>
        </p:blipFill>
        <p:spPr>
          <a:xfrm>
            <a:off x="971640" y="1268280"/>
            <a:ext cx="866520" cy="714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3"/>
          <p:cNvSpPr/>
          <p:nvPr/>
        </p:nvSpPr>
        <p:spPr>
          <a:xfrm>
            <a:off x="2050920" y="1700280"/>
            <a:ext cx="59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et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4" descr="chair-vt"/>
          <p:cNvPicPr/>
          <p:nvPr/>
        </p:nvPicPr>
        <p:blipFill>
          <a:blip r:embed="rId3"/>
          <a:stretch/>
        </p:blipFill>
        <p:spPr>
          <a:xfrm>
            <a:off x="2987640" y="1125360"/>
            <a:ext cx="514440" cy="952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5"/>
          <p:cNvSpPr/>
          <p:nvPr/>
        </p:nvSpPr>
        <p:spPr>
          <a:xfrm>
            <a:off x="3492360" y="1700280"/>
            <a:ext cx="31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et u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6" descr="armoire"/>
          <p:cNvPicPr/>
          <p:nvPr/>
        </p:nvPicPr>
        <p:blipFill>
          <a:blip r:embed="rId4"/>
          <a:stretch/>
        </p:blipFill>
        <p:spPr>
          <a:xfrm>
            <a:off x="4572000" y="1341360"/>
            <a:ext cx="952560" cy="819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7"/>
          <p:cNvSpPr/>
          <p:nvPr/>
        </p:nvSpPr>
        <p:spPr>
          <a:xfrm>
            <a:off x="5580000" y="170028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ur nos vêtements. Il y a ,b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395280" y="270828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ûr,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9" descr="porte"/>
          <p:cNvPicPr/>
          <p:nvPr/>
        </p:nvPicPr>
        <p:blipFill>
          <a:blip r:embed="rId5"/>
          <a:stretch/>
        </p:blipFill>
        <p:spPr>
          <a:xfrm>
            <a:off x="1258920" y="2133720"/>
            <a:ext cx="57312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1908000" y="2708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tr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1" descr="fenetre"/>
          <p:cNvPicPr/>
          <p:nvPr/>
        </p:nvPicPr>
        <p:blipFill>
          <a:blip r:embed="rId6"/>
          <a:stretch/>
        </p:blipFill>
        <p:spPr>
          <a:xfrm>
            <a:off x="2916360" y="2276640"/>
            <a:ext cx="876240" cy="9522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3"/>
          <p:cNvSpPr/>
          <p:nvPr/>
        </p:nvSpPr>
        <p:spPr>
          <a:xfrm>
            <a:off x="3851280" y="2708280"/>
            <a:ext cx="35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Sur le bureau il y a beaucoup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5" descr="MCj04326450000[1]"/>
          <p:cNvPicPr/>
          <p:nvPr/>
        </p:nvPicPr>
        <p:blipFill>
          <a:blip r:embed="rId7"/>
          <a:stretch/>
        </p:blipFill>
        <p:spPr>
          <a:xfrm>
            <a:off x="7093080" y="242100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6"/>
          <p:cNvSpPr/>
          <p:nvPr/>
        </p:nvSpPr>
        <p:spPr>
          <a:xfrm>
            <a:off x="7814520" y="27082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7" descr="MCj01993670000[1]"/>
          <p:cNvPicPr/>
          <p:nvPr/>
        </p:nvPicPr>
        <p:blipFill>
          <a:blip r:embed="rId8"/>
          <a:stretch/>
        </p:blipFill>
        <p:spPr>
          <a:xfrm>
            <a:off x="8364600" y="2276640"/>
            <a:ext cx="779400" cy="904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8" descr="MCj04041210000[1]"/>
          <p:cNvPicPr/>
          <p:nvPr/>
        </p:nvPicPr>
        <p:blipFill>
          <a:blip r:embed="rId9"/>
          <a:stretch/>
        </p:blipFill>
        <p:spPr>
          <a:xfrm>
            <a:off x="1116000" y="3213000"/>
            <a:ext cx="649440" cy="649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9"/>
          <p:cNvSpPr/>
          <p:nvPr/>
        </p:nvSpPr>
        <p:spPr>
          <a:xfrm>
            <a:off x="324000" y="342900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1835280" y="350028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 Il y a aussi une chaîne hi-fi et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1" descr="j0285750"/>
          <p:cNvPicPr/>
          <p:nvPr/>
        </p:nvPicPr>
        <p:blipFill>
          <a:blip r:embed="rId10"/>
          <a:stretch/>
        </p:blipFill>
        <p:spPr>
          <a:xfrm>
            <a:off x="5003640" y="3429000"/>
            <a:ext cx="648000" cy="396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2"/>
          <p:cNvSpPr/>
          <p:nvPr/>
        </p:nvSpPr>
        <p:spPr>
          <a:xfrm>
            <a:off x="5435640" y="3500280"/>
            <a:ext cx="39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Nous n’avons pa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5" descr="telephone"/>
          <p:cNvPicPr/>
          <p:nvPr/>
        </p:nvPicPr>
        <p:blipFill>
          <a:blip r:embed="rId11"/>
          <a:stretch/>
        </p:blipFill>
        <p:spPr>
          <a:xfrm>
            <a:off x="7740720" y="3429000"/>
            <a:ext cx="576360" cy="4316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6"/>
          <p:cNvSpPr/>
          <p:nvPr/>
        </p:nvSpPr>
        <p:spPr>
          <a:xfrm>
            <a:off x="8296200" y="3500280"/>
            <a:ext cx="8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ni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7" descr="television-vt"/>
          <p:cNvPicPr/>
          <p:nvPr/>
        </p:nvPicPr>
        <p:blipFill>
          <a:blip r:embed="rId12"/>
          <a:stretch/>
        </p:blipFill>
        <p:spPr>
          <a:xfrm>
            <a:off x="324000" y="4076640"/>
            <a:ext cx="655560" cy="72072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8"/>
          <p:cNvSpPr/>
          <p:nvPr/>
        </p:nvSpPr>
        <p:spPr>
          <a:xfrm>
            <a:off x="1042920" y="4437000"/>
            <a:ext cx="722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ans notre chambre. Sur les murs il y a  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9" descr="tableau"/>
          <p:cNvPicPr/>
          <p:nvPr/>
        </p:nvPicPr>
        <p:blipFill>
          <a:blip r:embed="rId13"/>
          <a:stretch/>
        </p:blipFill>
        <p:spPr>
          <a:xfrm>
            <a:off x="5148360" y="4076640"/>
            <a:ext cx="792000" cy="68904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0"/>
          <p:cNvSpPr/>
          <p:nvPr/>
        </p:nvSpPr>
        <p:spPr>
          <a:xfrm>
            <a:off x="5992920" y="4437000"/>
            <a:ext cx="31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des photos de notre fami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324000" y="5516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t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2" descr="MCj04381670000[1]"/>
          <p:cNvPicPr/>
          <p:nvPr/>
        </p:nvPicPr>
        <p:blipFill>
          <a:blip r:embed="rId14"/>
          <a:stretch/>
        </p:blipFill>
        <p:spPr>
          <a:xfrm>
            <a:off x="971640" y="5013360"/>
            <a:ext cx="739800" cy="934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3"/>
          <p:cNvSpPr/>
          <p:nvPr/>
        </p:nvSpPr>
        <p:spPr>
          <a:xfrm>
            <a:off x="1743120" y="5516640"/>
            <a:ext cx="74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mi dort sous mon lit  avec ma raquette de tennis et ma guitare. La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250920" y="6381720"/>
            <a:ext cx="31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5"/>
          <p:cNvSpPr/>
          <p:nvPr/>
        </p:nvSpPr>
        <p:spPr>
          <a:xfrm>
            <a:off x="755640" y="6237360"/>
            <a:ext cx="43164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>
            <a:off x="1187280" y="6381720"/>
            <a:ext cx="5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7"/>
          <p:cNvSpPr/>
          <p:nvPr/>
        </p:nvSpPr>
        <p:spPr>
          <a:xfrm>
            <a:off x="1476360" y="6237360"/>
            <a:ext cx="431640" cy="504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1908000" y="6381720"/>
            <a:ext cx="61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e que moi, j’aime le bleu,  et  ma soeur, elle aime le ve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50"/>
          <p:cNvSpPr txBox="1"/>
          <p:nvPr/>
        </p:nvSpPr>
        <p:spPr>
          <a:xfrm>
            <a:off x="684360" y="115920"/>
            <a:ext cx="72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élie parle de sa chambre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13"/>
          <p:cNvSpPr/>
          <p:nvPr/>
        </p:nvSpPr>
        <p:spPr>
          <a:xfrm>
            <a:off x="6516720" y="50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303120" y="808200"/>
            <a:ext cx="33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tableau est ... 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376200" y="1168560"/>
            <a:ext cx="16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5"/>
          <p:cNvSpPr/>
          <p:nvPr/>
        </p:nvSpPr>
        <p:spPr>
          <a:xfrm>
            <a:off x="179280" y="119700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6"/>
          <p:cNvSpPr/>
          <p:nvPr/>
        </p:nvSpPr>
        <p:spPr>
          <a:xfrm>
            <a:off x="376200" y="109692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8"/>
          <p:cNvSpPr/>
          <p:nvPr/>
        </p:nvSpPr>
        <p:spPr>
          <a:xfrm>
            <a:off x="179280" y="148428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9"/>
          <p:cNvSpPr/>
          <p:nvPr/>
        </p:nvSpPr>
        <p:spPr>
          <a:xfrm>
            <a:off x="179280" y="1773360"/>
            <a:ext cx="1447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0"/>
          <p:cNvSpPr/>
          <p:nvPr/>
        </p:nvSpPr>
        <p:spPr>
          <a:xfrm>
            <a:off x="395280" y="134136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auche d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2"/>
          <p:cNvSpPr/>
          <p:nvPr/>
        </p:nvSpPr>
        <p:spPr>
          <a:xfrm>
            <a:off x="395280" y="1628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3"/>
          <p:cNvSpPr/>
          <p:nvPr/>
        </p:nvSpPr>
        <p:spPr>
          <a:xfrm>
            <a:off x="158760" y="2392200"/>
            <a:ext cx="34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a table est ... le m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6"/>
          <p:cNvSpPr/>
          <p:nvPr/>
        </p:nvSpPr>
        <p:spPr>
          <a:xfrm>
            <a:off x="447840" y="282420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7"/>
          <p:cNvSpPr/>
          <p:nvPr/>
        </p:nvSpPr>
        <p:spPr>
          <a:xfrm>
            <a:off x="447840" y="31129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8"/>
          <p:cNvSpPr/>
          <p:nvPr/>
        </p:nvSpPr>
        <p:spPr>
          <a:xfrm>
            <a:off x="447840" y="340056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3"/>
          <p:cNvSpPr/>
          <p:nvPr/>
        </p:nvSpPr>
        <p:spPr>
          <a:xfrm>
            <a:off x="250920" y="2924280"/>
            <a:ext cx="14436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8"/>
          <p:cNvSpPr/>
          <p:nvPr/>
        </p:nvSpPr>
        <p:spPr>
          <a:xfrm>
            <a:off x="250920" y="3213000"/>
            <a:ext cx="14436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9"/>
          <p:cNvSpPr/>
          <p:nvPr/>
        </p:nvSpPr>
        <p:spPr>
          <a:xfrm>
            <a:off x="250920" y="3500280"/>
            <a:ext cx="14436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0"/>
          <p:cNvSpPr/>
          <p:nvPr/>
        </p:nvSpPr>
        <p:spPr>
          <a:xfrm>
            <a:off x="158760" y="4121280"/>
            <a:ext cx="22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lit est... la 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2"/>
          <p:cNvSpPr/>
          <p:nvPr/>
        </p:nvSpPr>
        <p:spPr>
          <a:xfrm>
            <a:off x="468360" y="4508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3"/>
          <p:cNvSpPr/>
          <p:nvPr/>
        </p:nvSpPr>
        <p:spPr>
          <a:xfrm>
            <a:off x="468360" y="479736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fon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4"/>
          <p:cNvSpPr/>
          <p:nvPr/>
        </p:nvSpPr>
        <p:spPr>
          <a:xfrm>
            <a:off x="468360" y="508464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8"/>
          <p:cNvSpPr/>
          <p:nvPr/>
        </p:nvSpPr>
        <p:spPr>
          <a:xfrm>
            <a:off x="250920" y="458136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9"/>
          <p:cNvSpPr/>
          <p:nvPr/>
        </p:nvSpPr>
        <p:spPr>
          <a:xfrm>
            <a:off x="250920" y="4869000"/>
            <a:ext cx="14436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0"/>
          <p:cNvSpPr/>
          <p:nvPr/>
        </p:nvSpPr>
        <p:spPr>
          <a:xfrm>
            <a:off x="250920" y="5157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1"/>
          <p:cNvSpPr/>
          <p:nvPr/>
        </p:nvSpPr>
        <p:spPr>
          <a:xfrm>
            <a:off x="0" y="5445000"/>
            <a:ext cx="34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Il y a une chaise ... la table et le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2"/>
          <p:cNvSpPr/>
          <p:nvPr/>
        </p:nvSpPr>
        <p:spPr>
          <a:xfrm>
            <a:off x="395280" y="573408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3"/>
          <p:cNvSpPr/>
          <p:nvPr/>
        </p:nvSpPr>
        <p:spPr>
          <a:xfrm>
            <a:off x="395280" y="60930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côté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4"/>
          <p:cNvSpPr/>
          <p:nvPr/>
        </p:nvSpPr>
        <p:spPr>
          <a:xfrm>
            <a:off x="376200" y="635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5"/>
          <p:cNvSpPr/>
          <p:nvPr/>
        </p:nvSpPr>
        <p:spPr>
          <a:xfrm>
            <a:off x="250920" y="580536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96"/>
          <p:cNvSpPr/>
          <p:nvPr/>
        </p:nvSpPr>
        <p:spPr>
          <a:xfrm>
            <a:off x="250920" y="616572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97"/>
          <p:cNvSpPr/>
          <p:nvPr/>
        </p:nvSpPr>
        <p:spPr>
          <a:xfrm>
            <a:off x="250920" y="645336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98"/>
          <p:cNvSpPr txBox="1"/>
          <p:nvPr/>
        </p:nvSpPr>
        <p:spPr>
          <a:xfrm>
            <a:off x="179280" y="115920"/>
            <a:ext cx="3384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chambre de Van Gogh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Text Box 99"/>
          <p:cNvSpPr/>
          <p:nvPr/>
        </p:nvSpPr>
        <p:spPr>
          <a:xfrm>
            <a:off x="3564000" y="35733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porte-manteaux est... le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0"/>
          <p:cNvSpPr/>
          <p:nvPr/>
        </p:nvSpPr>
        <p:spPr>
          <a:xfrm>
            <a:off x="3492360" y="620640"/>
            <a:ext cx="0" cy="623736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2"/>
          <p:cNvSpPr/>
          <p:nvPr/>
        </p:nvSpPr>
        <p:spPr>
          <a:xfrm>
            <a:off x="3975120" y="3905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3"/>
          <p:cNvSpPr/>
          <p:nvPr/>
        </p:nvSpPr>
        <p:spPr>
          <a:xfrm>
            <a:off x="3924360" y="4221000"/>
            <a:ext cx="102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rr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4"/>
          <p:cNvSpPr/>
          <p:nvPr/>
        </p:nvSpPr>
        <p:spPr>
          <a:xfrm>
            <a:off x="3975120" y="4479840"/>
            <a:ext cx="11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05"/>
          <p:cNvSpPr/>
          <p:nvPr/>
        </p:nvSpPr>
        <p:spPr>
          <a:xfrm>
            <a:off x="3708360" y="400536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6"/>
          <p:cNvSpPr/>
          <p:nvPr/>
        </p:nvSpPr>
        <p:spPr>
          <a:xfrm>
            <a:off x="3708360" y="4292640"/>
            <a:ext cx="142920" cy="1443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7"/>
          <p:cNvSpPr/>
          <p:nvPr/>
        </p:nvSpPr>
        <p:spPr>
          <a:xfrm>
            <a:off x="3708360" y="4581360"/>
            <a:ext cx="142920" cy="1447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08"/>
          <p:cNvSpPr/>
          <p:nvPr/>
        </p:nvSpPr>
        <p:spPr>
          <a:xfrm>
            <a:off x="0" y="220500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09"/>
          <p:cNvSpPr/>
          <p:nvPr/>
        </p:nvSpPr>
        <p:spPr>
          <a:xfrm>
            <a:off x="0" y="400536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0"/>
          <p:cNvSpPr/>
          <p:nvPr/>
        </p:nvSpPr>
        <p:spPr>
          <a:xfrm>
            <a:off x="0" y="544500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11"/>
          <p:cNvSpPr/>
          <p:nvPr/>
        </p:nvSpPr>
        <p:spPr>
          <a:xfrm flipH="1">
            <a:off x="-360" y="620640"/>
            <a:ext cx="3492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12"/>
          <p:cNvSpPr/>
          <p:nvPr/>
        </p:nvSpPr>
        <p:spPr>
          <a:xfrm>
            <a:off x="6516720" y="3573360"/>
            <a:ext cx="0" cy="328464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3"/>
          <p:cNvSpPr/>
          <p:nvPr/>
        </p:nvSpPr>
        <p:spPr>
          <a:xfrm>
            <a:off x="3492360" y="5445000"/>
            <a:ext cx="3024360" cy="0"/>
          </a:xfrm>
          <a:prstGeom prst="line">
            <a:avLst/>
          </a:prstGeom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4"/>
          <p:cNvSpPr/>
          <p:nvPr/>
        </p:nvSpPr>
        <p:spPr>
          <a:xfrm>
            <a:off x="3687840" y="541656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e miroir est...  la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15"/>
          <p:cNvSpPr/>
          <p:nvPr/>
        </p:nvSpPr>
        <p:spPr>
          <a:xfrm>
            <a:off x="3759120" y="5705640"/>
            <a:ext cx="26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essou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6"/>
          <p:cNvSpPr/>
          <p:nvPr/>
        </p:nvSpPr>
        <p:spPr>
          <a:xfrm>
            <a:off x="3759120" y="5992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7"/>
          <p:cNvSpPr/>
          <p:nvPr/>
        </p:nvSpPr>
        <p:spPr>
          <a:xfrm>
            <a:off x="3759120" y="635328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dessu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8"/>
          <p:cNvSpPr/>
          <p:nvPr/>
        </p:nvSpPr>
        <p:spPr>
          <a:xfrm>
            <a:off x="3635280" y="5805360"/>
            <a:ext cx="14472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19"/>
          <p:cNvSpPr/>
          <p:nvPr/>
        </p:nvSpPr>
        <p:spPr>
          <a:xfrm>
            <a:off x="3635280" y="6093000"/>
            <a:ext cx="14472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20"/>
          <p:cNvSpPr/>
          <p:nvPr/>
        </p:nvSpPr>
        <p:spPr>
          <a:xfrm>
            <a:off x="3635280" y="6453360"/>
            <a:ext cx="144720" cy="14256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1"/>
          <p:cNvSpPr/>
          <p:nvPr/>
        </p:nvSpPr>
        <p:spPr>
          <a:xfrm>
            <a:off x="6784920" y="3544920"/>
            <a:ext cx="23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Il y a une fenêtre...  la cham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2"/>
          <p:cNvSpPr/>
          <p:nvPr/>
        </p:nvSpPr>
        <p:spPr>
          <a:xfrm>
            <a:off x="7000920" y="4264200"/>
            <a:ext cx="174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côté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3"/>
          <p:cNvSpPr/>
          <p:nvPr/>
        </p:nvSpPr>
        <p:spPr>
          <a:xfrm>
            <a:off x="7020000" y="458136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droit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24"/>
          <p:cNvSpPr/>
          <p:nvPr/>
        </p:nvSpPr>
        <p:spPr>
          <a:xfrm>
            <a:off x="7000920" y="484020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u fon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25"/>
          <p:cNvSpPr/>
          <p:nvPr/>
        </p:nvSpPr>
        <p:spPr>
          <a:xfrm>
            <a:off x="6877080" y="4365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6"/>
          <p:cNvSpPr/>
          <p:nvPr/>
        </p:nvSpPr>
        <p:spPr>
          <a:xfrm>
            <a:off x="6877080" y="465300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7"/>
          <p:cNvSpPr/>
          <p:nvPr/>
        </p:nvSpPr>
        <p:spPr>
          <a:xfrm>
            <a:off x="6877080" y="4941720"/>
            <a:ext cx="144360" cy="142920"/>
          </a:xfrm>
          <a:prstGeom prst="smileyFace">
            <a:avLst>
              <a:gd name="adj" fmla="val 9282"/>
            </a:avLst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2" descr="D:\вангог.jpg"/>
          <p:cNvPicPr/>
          <p:nvPr/>
        </p:nvPicPr>
        <p:blipFill>
          <a:blip r:embed="rId1"/>
          <a:stretch/>
        </p:blipFill>
        <p:spPr>
          <a:xfrm>
            <a:off x="4000680" y="214200"/>
            <a:ext cx="41400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2d1f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5"/>
          <p:cNvSpPr txBox="1"/>
          <p:nvPr/>
        </p:nvSpPr>
        <p:spPr>
          <a:xfrm>
            <a:off x="539640" y="189000"/>
            <a:ext cx="82296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Placez les mots suivants dans le tableau</a:t>
            </a:r>
            <a:endParaRPr b="0" i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524720" y="1773360"/>
            <a:ext cx="88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9900"/>
                </a:solidFill>
                <a:latin typeface="Arial"/>
              </a:rPr>
              <a:t>Un l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250920" y="9079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Une baign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519120" y="14558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Une casse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50920" y="18446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Un év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2247840" y="736560"/>
            <a:ext cx="153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lava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3132000" y="11970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ff"/>
                </a:solidFill>
                <a:latin typeface="Arial"/>
              </a:rPr>
              <a:t>Une arm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268360" y="14842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Une chemin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340000" y="1341360"/>
            <a:ext cx="146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3132000" y="184464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réfrigir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4716360" y="7650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3300"/>
                </a:solidFill>
                <a:latin typeface="Arial"/>
              </a:rPr>
              <a:t>Un grille-p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4716360" y="126828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Un canap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531120" y="126828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66"/>
                </a:solidFill>
                <a:latin typeface="Arial"/>
              </a:rPr>
              <a:t>Une cuisin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5580000" y="177336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Une hot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6659640" y="765000"/>
            <a:ext cx="27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Une table de chev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000" y="3429000"/>
          <a:ext cx="8928000" cy="324000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  <a:gridCol w="223200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salle d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séjour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cha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cuis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ans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de b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41"/>
          <p:cNvSpPr/>
          <p:nvPr/>
        </p:nvSpPr>
        <p:spPr>
          <a:xfrm>
            <a:off x="195120" y="377820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2"/>
          <p:cNvSpPr/>
          <p:nvPr/>
        </p:nvSpPr>
        <p:spPr>
          <a:xfrm>
            <a:off x="2535120" y="3544920"/>
            <a:ext cx="1749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9115 0.03866 C 0.09531 0.05579 0.08958 0.07616 0.09948 0.08936 C 0.10052 0.09468 0.10538 0.10371 0.10538 0.10394 C 0.10556 0.10463 0.10712 0.11343 0.10781 0.11482 C 0.10868 0.11667 0.11024 0.11783 0.11128 0.11945 C 0.11684 0.12871 0.12049 0.13959 0.12795 0.14653 C 0.13194 0.15417 0.13872 0.1595 0.14462 0.16389 C 0.15087 0.16875 0.15781 0.17431 0.16372 0.17987 C 0.16806 0.1838 0.17448 0.18311 0.17917 0.18612 C 0.18767 0.19167 0.1776 0.1875 0.1875 0.19098 C 0.19757 0.20093 0.18628 0.19121 0.19826 0.19723 C 0.19965 0.19792 0.20052 0.19954 0.20174 0.20047 C 0.20538 0.20301 0.2099 0.20371 0.21372 0.20533 C 0.22031 0.21227 0.22569 0.21412 0.23385 0.21644 C 0.23872 0.22037 0.24271 0.22084 0.24826 0.22269 C 0.25434 0.22477 0.2599 0.22848 0.26615 0.23056 C 0.27257 0.23496 0.28056 0.2375 0.2875 0.24005 C 0.29149 0.24144 0.29948 0.24329 0.29948 0.24352 C 0.31319 0.2507 0.30712 0.24885 0.31719 0.25116 C 0.32361 0.25463 0.32969 0.25672 0.33628 0.25926 C 0.3401 0.26065 0.34323 0.26459 0.34705 0.26551 C 0.35208 0.26667 0.35729 0.26667 0.3625 0.26713 C 0.4342 0.29167 0.54965 0.27454 0.59583 0.275 C 0.60417 0.28241 0.6191 0.28311 0.62917 0.28774 C 0.63628 0.29098 0.62934 0.28774 0.63628 0.29098 C 0.63941 0.29237 0.64583 0.29422 0.64583 0.29445 C 0.64965 0.29746 0.65347 0.29885 0.65781 0.30047 C 0.66094 0.30162 0.66719 0.30371 0.66719 0.30394 C 0.67153 0.30718 0.67569 0.30787 0.68038 0.30996 C 0.68437 0.31366 0.69653 0.32848 0.69826 0.33218 C 0.70052 0.33704 0.70538 0.34653 0.70538 0.34676 C 0.70955 0.36783 0.70434 0.39051 0.70885 0.41158 C 0.71042 0.44908 0.7125 0.48496 0.7125 0.52269 E">
                                      <p:cBhvr>
                                        <p:cTn id="45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122 0.03217 C 0.0073 0.03495 0.01389 0.03657 0.02032 0.03842 C 0.02553 0.0456 0.03212 0.05023 0.0382 0.05601 C 0.04098 0.05856 0.04323 0.0625 0.04653 0.06388 C 0.0533 0.06689 0.0599 0.06898 0.06667 0.07175 C 0.06667 0.07199 0.06441 0.07083 0.0632 0.07037 C 0.06198 0.0699 0.06077 0.06944 0.05955 0.06875 C 0.04809 0.06296 0.05834 0.06759 0.05 0.06388 C 0.0448 0.05902 0.04584 0.05694 0.03941 0.05439 C 0.03698 0.05347 0.03455 0.05231 0.03212 0.05115 C 0.03091 0.05069 0.02865 0.04953 0.02865 0.04976 C 0.02414 0.04375 0.02518 0.03888 0.0191 0.04166 C 0.02032 0.05162 0.02257 0.06088 0.025 0.07037 C 0.02587 0.0824 0.02761 0.09189 0.02865 0.1037 C 0.02917 0.10949 0.02622 0.11782 0.02987 0.12106 C 0.03542 0.12592 0.04323 0.12222 0.05 0.12268 C 0.08125 0.13935 0.10782 0.13449 0.1441 0.13541 C 0.15591 0.13819 0.1665 0.13912 0.17865 0.14004 C 0.21441 0.15393 0.19445 0.1449 0.27153 0.14652 C 0.28889 0.14722 0.3066 0.14583 0.32379 0.14953 C 0.34063 0.15324 0.35608 0.16435 0.37275 0.16875 C 0.38108 0.17523 0.3908 0.17754 0.4 0.18148 C 0.40643 0.18425 0.41268 0.18796 0.4191 0.19097 C 0.42431 0.19328 0.43108 0.19305 0.43577 0.19722 C 0.44028 0.20115 0.44497 0.203 0.45 0.20509 C 0.45313 0.20625 0.45643 0.20717 0.45955 0.20833 C 0.46112 0.20879 0.46441 0.20995 0.46441 0.21018 C 0.46563 0.21527 0.46771 0.21898 0.4691 0.2243 C 0.47309 0.29282 0.4691 0.3618 0.4691 0.43055 E">
                                      <p:cBhvr>
                                        <p:cTn id="463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0.01759 C 0.00243 0.0287 0.00573 0.03935 0.00712 0.05092 C 0.00886 0.06528 0.00903 0.07963 0.01181 0.09375 C 0.01216 0.10069 0.01163 0.10787 0.01302 0.11458 C 0.0132 0.11504 0.02969 0.1206 0.03091 0.12083 C 0.05747 0.12639 0.0849 0.12616 0.11181 0.12708 C 0.15313 0.14583 0.1165 0.13032 0.22726 0.13194 C 0.23577 0.13264 0.24966 0.13287 0.25938 0.13518 C 0.26997 0.13773 0.27778 0.14167 0.28924 0.14305 C 0.33056 0.15717 0.36077 0.15324 0.40938 0.15417 C 0.41962 0.15602 0.41893 0.15787 0.42726 0.16042 C 0.42882 0.16157 0.43038 0.16273 0.43212 0.16366 C 0.43438 0.16481 0.43924 0.1669 0.43924 0.16713 C 0.4415 0.16898 0.44462 0.17014 0.44636 0.17315 C 0.44913 0.17754 0.45052 0.19514 0.45104 0.19861 C 0.45295 0.21065 0.4566 0.22199 0.45938 0.23356 C 0.46198 0.24444 0.46268 0.25486 0.46667 0.26528 C 0.46788 0.29028 0.4691 0.31551 0.47379 0.33981 C 0.47413 0.34629 0.47448 0.35254 0.475 0.35903 C 0.47552 0.36481 0.47726 0.37639 0.47726 0.37662 C 0.47761 0.38495 0.47535 0.39444 0.47847 0.40185 C 0.48021 0.40602 0.48924 0.40486 0.48924 0.40509 C 0.4974 0.41227 0.49983 0.41597 0.50938 0.41597 E">
                                      <p:cBhvr>
                                        <p:cTn id="471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29 0.02153 C 0.02969 0.03912 0.02882 0.05371 0.03004 0.07061 C 0.03039 0.09075 0.03056 0.11088 0.03125 0.13102 C 0.03143 0.13357 0.03612 0.15973 0.03837 0.16274 C 0.04584 0.17269 0.05625 0.17848 0.06459 0.18658 C 0.06858 0.19051 0.06719 0.1919 0.07171 0.19445 C 0.08785 0.20348 0.12049 0.20186 0.1349 0.20255 C 0.1408 0.20348 0.14705 0.20301 0.15278 0.20556 C 0.16164 0.20973 0.17084 0.21412 0.18004 0.21667 C 0.18612 0.222 0.19671 0.22593 0.204 0.22778 C 0.21355 0.23311 0.22362 0.23774 0.23368 0.24051 C 0.24167 0.24746 0.2507 0.24908 0.2599 0.25162 C 0.26875 0.25764 0.27605 0.25973 0.28612 0.26112 C 0.29983 0.2676 0.31875 0.26528 0.33368 0.2676 C 0.34792 0.27246 0.36146 0.27153 0.37657 0.27223 C 0.38577 0.27408 0.39462 0.27709 0.404 0.27871 C 0.41233 0.28172 0.42084 0.2845 0.429 0.2882 C 0.43351 0.29746 0.43716 0.30741 0.44202 0.31667 C 0.44375 0.33264 0.44827 0.347 0.45035 0.36274 C 0.45122 0.43357 0.45243 0.50463 0.454 0.57547 C 0.45417 0.58056 0.45539 0.58125 0.45868 0.58334 C 0.4783 0.59584 0.50226 0.58496 0.52414 0.58496 E">
                                      <p:cBhvr>
                                        <p:cTn id="479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208 0.01737 C -0.0092 0.04537 -0.00556 0.07917 -0.00677 0.10787 C -0.00712 0.11482 -0.0125 0.12014 -0.01406 0.12686 C -0.01528 0.13172 -0.01753 0.14121 -0.01753 0.14144 C -0.01806 0.16019 -0.01979 0.1794 -0.01997 0.19838 C -0.01997 0.19885 -0.00104 0.34954 -0.0283 0.40139 C -0.03125 0.41297 -0.02934 0.40834 -0.03299 0.41574 C -0.0349 0.42547 -0.03976 0.43588 -0.0401 0.44584 C -0.04045 0.45371 -0.0401 0.46181 -0.0401 0.46968 E">
                                      <p:cBhvr>
                                        <p:cTn id="487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559 0.03102 C -0.04253 0.02801 -0.03611 0.0294 -0.0427 0.03264 C -0.04583 0.03426 -0.05225 0.03588 -0.05225 0.03611 C -0.0585 0.04097 -0.06128 0.05093 -0.06649 0.0581 C -0.06927 0.06898 -0.06527 0.05579 -0.07135 0.06759 C -0.07413 0.07292 -0.07465 0.07685 -0.07847 0.08172 C -0.08055 0.08982 -0.09357 0.11297 -0.09757 0.11991 C -0.09878 0.12199 -0.09982 0.12408 -0.10104 0.12616 C -0.10277 0.1294 -0.1059 0.13588 -0.1059 0.13611 C -0.10729 0.14236 -0.10937 0.14537 -0.11302 0.15 C -0.11562 0.16065 -0.12135 0.16852 -0.12482 0.17871 C -0.1302 0.19468 -0.12448 0.18287 -0.12968 0.19283 C -0.1309 0.19931 -0.13159 0.20324 -0.13437 0.2088 C -0.13663 0.2206 -0.14149 0.23172 -0.14635 0.24213 C -0.15052 0.26297 -0.15659 0.28241 -0.1618 0.30255 C -0.16545 0.3169 -0.16736 0.33172 -0.17257 0.34537 C -0.17378 0.35394 -0.17517 0.36389 -0.17725 0.37222 C -0.17847 0.37732 -0.18177 0.38264 -0.18194 0.3882 C -0.18229 0.40625 -0.18194 0.42408 -0.18194 0.44213 E">
                                      <p:cBhvr>
                                        <p:cTn id="495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0278 0.01759 C 0.00434 0.02546 0.00521 0.02963 0.00764 0.0368 C 0.00868 0.03981 0.01007 0.04629 0.01007 0.04653 C 0.01112 0.05926 0.01025 0.07361 0.01355 0.08588 C 0.0165 0.10856 0.02552 0.11782 0.03143 0.13819 C 0.03264 0.14259 0.03438 0.15 0.03612 0.15417 C 0.0375 0.15764 0.04098 0.16366 0.04098 0.16389 C 0.04289 0.17129 0.0441 0.1787 0.04688 0.18588 C 0.04896 0.19699 0.05243 0.2081 0.05521 0.21921 C 0.05834 0.23125 0.06007 0.24236 0.06598 0.25254 C 0.06806 0.26042 0.06875 0.26852 0.07066 0.27639 C 0.07309 0.2868 0.07674 0.29606 0.079 0.30648 C 0.08143 0.31759 0.08351 0.3294 0.08733 0.33981 C 0.08907 0.35 0.09011 0.35787 0.09341 0.3669 C 0.09653 0.38588 0.09184 0.35972 0.09688 0.37963 C 0.09879 0.38727 0.09966 0.3956 0.10174 0.40347 C 0.10365 0.41065 0.10695 0.4169 0.10886 0.42407 C 0.10973 0.42731 0.10973 0.43079 0.11112 0.43356 C 0.11198 0.43542 0.11372 0.43634 0.11476 0.43819 C 0.11893 0.44537 0.12084 0.45116 0.12674 0.45579 C 0.13403 0.46157 0.15556 0.46018 0.16007 0.46042 C 0.16997 0.46273 0.16476 0.46204 0.17552 0.46204 E">
                                      <p:cBhvr>
                                        <p:cTn id="50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03368 0.00695 C 0.03819 0.01551 0.03802 0.02361 0.03958 0.0338 C 0.04253 0.05301 0.04792 0.07153 0.05035 0.09097 C 0.05122 0.1125 0.05139 0.13009 0.05625 0.14977 C 0.05781 0.16482 0.06128 0.17408 0.06458 0.18773 C 0.06771 0.20046 0.06875 0.21366 0.07292 0.22593 C 0.07413 0.23704 0.07569 0.24607 0.07656 0.25764 C 0.07708 0.28102 0.07639 0.32431 0.08125 0.34977 C 0.08264 0.43958 0.08438 0.52963 0.08611 0.61945 C 0.08576 0.63056 0.08594 0.64167 0.0849 0.65278 C 0.0842 0.66088 0.06736 0.6669 0.06233 0.66713 C 0.04288 0.66759 0.02344 0.66713 0.00399 0.66713 E">
                                      <p:cBhvr>
                                        <p:cTn id="511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1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562 0.03171 C -0.02378 0.02801 -0.02882 0.0331 -0.03593 0.03634 C -0.03802 0.03935 -0.03958 0.04306 -0.04184 0.04583 C -0.05208 0.05903 -0.07656 0.07477 -0.09062 0.07755 C -0.10191 0.08264 -0.11215 0.08958 -0.12395 0.09352 C -0.12864 0.09514 -0.14201 0.10695 -0.14652 0.11088 C -0.15086 0.11458 -0.16007 0.11505 -0.16441 0.11574 C -0.17118 0.12176 -0.17586 0.12662 -0.1835 0.13009 C -0.18593 0.13125 -0.19062 0.1331 -0.19062 0.13333 C -0.19791 0.13982 -0.2059 0.1456 -0.21319 0.15232 C -0.21632 0.1581 -0.22066 0.16088 -0.22395 0.16644 C -0.22604 0.16991 -0.22986 0.17755 -0.22986 0.17778 C -0.23263 0.18889 -0.22864 0.17616 -0.23472 0.18565 C -0.2427 0.19815 -0.23177 0.18681 -0.24062 0.19514 C -0.24618 0.20602 -0.25277 0.21505 -0.25729 0.22685 C -0.25972 0.23287 -0.26562 0.24421 -0.26562 0.24445 C -0.26736 0.25093 -0.26961 0.25602 -0.27274 0.26181 C -0.27309 0.26389 -0.27309 0.2662 -0.27395 0.26806 C -0.27517 0.2706 -0.27777 0.27176 -0.27882 0.27454 C -0.28038 0.27894 -0.27951 0.28426 -0.28107 0.28866 C -0.28472 0.29838 -0.28593 0.3088 -0.29062 0.31736 C -0.29357 0.3287 -0.29166 0.32407 -0.29548 0.33171 C -0.29826 0.34815 -0.30573 0.37361 -0.31441 0.38565 C -0.31718 0.39653 -0.32604 0.3956 -0.3335 0.39676 C -0.33958 0.40695 -0.34114 0.41875 -0.34548 0.43009 C -0.34583 0.43264 -0.34548 0.43565 -0.34652 0.43796 C -0.34722 0.43958 -0.3493 0.43958 -0.35017 0.4412 C -0.3552 0.45185 -0.35434 0.46551 -0.35972 0.47616 C -0.36111 0.48333 -0.36093 0.48634 -0.36562 0.49028 C -0.36961 0.49792 -0.37187 0.50278 -0.3776 0.50787 C -0.3835 0.51991 -0.37569 0.50532 -0.3835 0.51574 C -0.38454 0.51713 -0.38489 0.51921 -0.38593 0.5206 C -0.39079 0.52616 -0.39184 0.52616 -0.39652 0.52847 C -0.39774 0.53009 -0.39878 0.53195 -0.40017 0.5331 C -0.40243 0.53472 -0.40729 0.53634 -0.40729 0.53657 C -0.41649 0.53588 -0.42552 0.53565 -0.43472 0.53472 C -0.43802 0.53426 -0.44184 0.5331 -0.44184 0.52847 E">
                                      <p:cBhvr>
                                        <p:cTn id="519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157 0.00324 0.00347 0.00602 0.00469 0.00949 C 0.00677 0.01597 0.00729 0.02384 0.00938 0.03033 C 0.01059 0.03426 0.01285 0.0375 0.01424 0.04144 C 0.01632 0.0544 0.01997 0.06852 0.02379 0.08102 C 0.02344 0.22176 0.02379 0.3625 0.02257 0.50324 C 0.0224 0.51644 0.0132 0.55972 0.00469 0.56667 C 0.00122 0.57384 -0.00364 0.57454 -0.00955 0.57616 C -0.02361 0.57593 -0.06198 0.59213 -0.07864 0.56991 E">
                                      <p:cBhvr>
                                        <p:cTn id="52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5868 0.00695 C -0.05955 0.00857 -0.06007 0.01042 -0.06111 0.01181 C -0.06215 0.0132 -0.06371 0.01366 -0.06458 0.01505 C -0.07083 0.0257 -0.05937 0.01389 -0.06944 0.02292 C -0.07205 0.02847 -0.07465 0.03241 -0.07777 0.03727 C -0.08107 0.04236 -0.08107 0.04653 -0.08489 0.05139 C -0.08993 0.06482 -0.09896 0.07546 -0.10503 0.08796 C -0.11024 0.09908 -0.11041 0.10394 -0.11823 0.11181 C -0.12326 0.12477 -0.13663 0.1507 -0.14444 0.16111 C -0.14618 0.16806 -0.15017 0.16968 -0.15399 0.17523 C -0.15625 0.1787 -0.15902 0.18519 -0.16232 0.18796 C -0.16527 0.19051 -0.16892 0.19167 -0.1717 0.19445 C -0.17482 0.19769 -0.17812 0.2007 -0.18125 0.20394 C -0.1875 0.21019 -0.19323 0.21736 -0.20034 0.2213 C -0.20573 0.22847 -0.21284 0.23357 -0.21944 0.23889 C -0.22413 0.24861 -0.2375 0.26343 -0.24444 0.2706 C -0.25833 0.28495 -0.24097 0.26343 -0.25277 0.27685 C -0.26649 0.29236 -0.27951 0.30903 -0.29201 0.32616 C -0.29409 0.33426 -0.30816 0.35162 -0.31337 0.35787 C -0.32031 0.3662 -0.31909 0.36551 -0.32413 0.37222 C -0.32534 0.37384 -0.32777 0.37685 -0.32777 0.37708 C -0.3335 0.39352 -0.32482 0.37014 -0.33732 0.39283 C -0.34357 0.40417 -0.34878 0.41458 -0.35625 0.42454 C -0.3618 0.43195 -0.3585 0.4294 -0.36232 0.43889 C -0.36458 0.44445 -0.36823 0.45 -0.3717 0.45463 C -0.37257 0.45787 -0.37326 0.46088 -0.37413 0.46412 C -0.37465 0.4662 -0.3743 0.46875 -0.37534 0.4706 C -0.37621 0.47199 -0.37777 0.47176 -0.37899 0.47222 C -0.38142 0.48264 -0.37795 0.47107 -0.38368 0.48009 C -0.39166 0.49259 -0.38073 0.48125 -0.38958 0.48958 C -0.39375 0.49769 -0.39739 0.50695 -0.40156 0.51505 C -0.40555 0.52269 -0.4118 0.52824 -0.4158 0.53565 C -0.42118 0.5456 -0.41493 0.53889 -0.4217 0.54514 C -0.42361 0.55509 -0.42986 0.56134 -0.43489 0.56898 C -0.4368 0.57176 -0.43767 0.5757 -0.43958 0.57847 C -0.45816 0.60625 -0.44305 0.58079 -0.45277 0.59745 C -0.45434 0.6037 -0.4592 0.60995 -0.46232 0.61505 C -0.46857 0.6257 -0.47413 0.63727 -0.48003 0.64838 C -0.48107 0.65023 -0.48142 0.65278 -0.48246 0.65463 C -0.4835 0.65648 -0.4868 0.65741 -0.48611 0.65949 C -0.48524 0.66158 -0.475 0.65394 -0.47413 0.65301 C -0.46319 0.64097 -0.47725 0.65556 -0.46823 0.64352 C -0.46146 0.63449 -0.46059 0.63472 -0.45625 0.62292 E">
                                      <p:cBhvr>
                                        <p:cTn id="535" dur="2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3854 0.03843 C -0.0441 0.05046 -0.0467 0.06482 -0.04913 0.07824 C -0.05104 0.08866 -0.05382 0.09769 -0.05521 0.10833 C -0.05521 0.10903 -0.04427 0.19491 -0.06476 0.2132 C -0.06806 0.21991 -0.06997 0.22708 -0.07309 0.2338 C -0.07639 0.24745 -0.07465 0.24005 -0.07778 0.25602 C -0.07847 0.25926 -0.07934 0.26227 -0.08021 0.26551 C -0.08056 0.26713 -0.08143 0.27037 -0.08143 0.2706 C -0.08316 0.28889 -0.08611 0.30903 -0.09202 0.32593 C -0.09323 0.33495 -0.09584 0.34375 -0.09688 0.35278 C -0.10347 0.40602 -0.09549 0.3632 -0.10156 0.39398 C -0.10347 0.43634 -0.10295 0.42014 -0.10399 0.47824 C -0.10452 0.50417 -0.10417 0.53009 -0.10521 0.55602 C -0.10538 0.55949 -0.10903 0.57292 -0.1099 0.57662 C -0.11493 0.59607 -0.11736 0.63519 -0.13021 0.64653 C -0.13559 0.65764 -0.14115 0.67986 -0.14445 0.69259 C -0.14584 0.69838 -0.14514 0.70347 -0.15035 0.7037 C -0.16945 0.70417 -0.18837 0.7037 -0.20747 0.7037 E">
                                      <p:cBhvr>
                                        <p:cTn id="54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798 0.00139 -0.01475 0.00533 -0.02274 0.00787 C -0.02864 0.01343 -0.03541 0.0132 -0.04166 0.01736 C -0.04774 0.0213 -0.05434 0.02454 -0.06076 0.02686 C -0.06441 0.0301 -0.06788 0.03148 -0.07152 0.03473 C -0.08055 0.0426 -0.08906 0.05232 -0.09878 0.05857 C -0.10503 0.0669 -0.11406 0.0757 -0.12152 0.08241 C -0.12708 0.09422 -0.1368 0.10348 -0.14531 0.11111 C -0.15642 0.1213 -0.16527 0.13264 -0.17864 0.13635 C -0.18559 0.14213 -0.19323 0.14723 -0.20121 0.14908 C -0.20989 0.16065 -0.22257 0.16482 -0.22986 0.17454 C -0.23663 0.18357 -0.2434 0.18658 -0.25121 0.19352 C -0.25989 0.20116 -0.26875 0.20811 -0.27743 0.21574 C -0.28159 0.21945 -0.28524 0.22477 -0.28941 0.22848 C -0.29375 0.23241 -0.29913 0.23542 -0.30364 0.23959 C -0.30937 0.24491 -0.31493 0.25093 -0.32152 0.25394 C -0.32638 0.26042 -0.33142 0.26436 -0.33698 0.26968 C -0.33888 0.27361 -0.3427 0.2794 -0.34531 0.28241 C -0.34739 0.28496 -0.35243 0.28889 -0.35243 0.28889 C -0.35573 0.30116 -0.36823 0.32547 -0.375 0.33473 C -0.37968 0.34121 -0.38576 0.34769 -0.38941 0.35556 C -0.39409 0.36574 -0.39809 0.37778 -0.40364 0.38727 C -0.40711 0.39329 -0.41059 0.39954 -0.41319 0.40625 C -0.41527 0.41181 -0.41666 0.41829 -0.41909 0.42361 C -0.42569 0.43797 -0.42187 0.42547 -0.42743 0.43959 C -0.42916 0.44422 -0.43229 0.45672 -0.43333 0.46019 C -0.43854 0.47709 -0.44618 0.49908 -0.45364 0.51412 C -0.45573 0.51829 -0.46163 0.53542 -0.46441 0.53797 C -0.46684 0.54005 -0.47152 0.54445 -0.47152 0.54445 C -0.475 0.55764 -0.49531 0.55232 -0.50121 0.55232 E">
                                      <p:cBhvr>
                                        <p:cTn id="551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2"/>
          <p:cNvSpPr/>
          <p:nvPr/>
        </p:nvSpPr>
        <p:spPr>
          <a:xfrm>
            <a:off x="4500720" y="5516640"/>
            <a:ext cx="446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4500720" y="4005360"/>
            <a:ext cx="4464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>
            <a:off x="4500720" y="2565360"/>
            <a:ext cx="4392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4500720" y="1125360"/>
            <a:ext cx="4319280" cy="11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4"/>
          <p:cNvSpPr/>
          <p:nvPr/>
        </p:nvSpPr>
        <p:spPr>
          <a:xfrm>
            <a:off x="179280" y="4653000"/>
            <a:ext cx="273708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179280" y="3573360"/>
            <a:ext cx="2737080" cy="36036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179280" y="2565360"/>
            <a:ext cx="273708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179280" y="1484280"/>
            <a:ext cx="2737080" cy="35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258920" y="260280"/>
            <a:ext cx="6697800" cy="72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1239840" y="2318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666"/>
                </a:solidFill>
                <a:latin typeface="Monotype Corsiva"/>
              </a:rPr>
              <a:t>Qui dort dans quelle chambre? Associez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79280" y="1484280"/>
            <a:ext cx="28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1.Une petite fille de 10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179280" y="2565360"/>
            <a:ext cx="28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2.Un garçon de 18 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179280" y="35733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660066"/>
                </a:solidFill>
                <a:latin typeface="Arial"/>
              </a:rPr>
              <a:t>3. Un couple âg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58760" y="4624560"/>
            <a:ext cx="27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0066"/>
                </a:solidFill>
                <a:latin typeface="Arial"/>
              </a:rPr>
              <a:t>4. Une jeune fe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643280" y="1197000"/>
            <a:ext cx="383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avec les rideaux, les coussins et le dessus-de-lit assortis, des plantes vertes, une moquette épaisse de couleur pêc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4551480" y="2679840"/>
            <a:ext cx="426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petite chambre rose, avec une commode blanche, des rideaux à fleurs et des coussins de toutes les coul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4572000" y="4149720"/>
            <a:ext cx="444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c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en désordre, un lit défait, des photos de chanteurs rock au mur, et une serviette sale par t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500720" y="5516640"/>
            <a:ext cx="44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Une chambre un peu sombre, des photos sur la table de chevet, des bibelots sur la commode et un vieux tapis par ter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179280" y="5300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1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79280" y="5661000"/>
            <a:ext cx="5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2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179280" y="6021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3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181800" y="63817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3300"/>
                </a:solidFill>
                <a:latin typeface="Arial"/>
              </a:rPr>
              <a:t>4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539640" y="5300640"/>
            <a:ext cx="8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541440" y="566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541440" y="60213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541440" y="638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b2d1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7"/>
          <p:cNvSpPr/>
          <p:nvPr/>
        </p:nvSpPr>
        <p:spPr>
          <a:xfrm>
            <a:off x="3851280" y="115920"/>
            <a:ext cx="33130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8"/>
          <p:cNvSpPr/>
          <p:nvPr/>
        </p:nvSpPr>
        <p:spPr>
          <a:xfrm>
            <a:off x="5832360" y="1197000"/>
            <a:ext cx="331164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3"/>
          <p:cNvSpPr/>
          <p:nvPr/>
        </p:nvSpPr>
        <p:spPr>
          <a:xfrm>
            <a:off x="179280" y="126828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611280" y="1341360"/>
            <a:ext cx="396072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539640" y="0"/>
            <a:ext cx="21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9b2d1f"/>
                  </a:solidFill>
                  <a:miter/>
                </a:ln>
                <a:solidFill>
                  <a:srgbClr val="9b2d1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tits mots</a:t>
            </a:r>
            <a:endParaRPr b="0" lang="en-US" sz="1400" spc="1" strike="noStrike">
              <a:ln w="9360">
                <a:solidFill>
                  <a:srgbClr val="9b2d1f"/>
                </a:solidFill>
                <a:miter/>
              </a:ln>
              <a:solidFill>
                <a:srgbClr val="9b2d1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176560" y="1600200"/>
            <a:ext cx="196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On a déménagé et on va faire la fê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MCj04258120000[1]"/>
          <p:cNvPicPr/>
          <p:nvPr/>
        </p:nvPicPr>
        <p:blipFill>
          <a:blip r:embed="rId1"/>
          <a:stretch/>
        </p:blipFill>
        <p:spPr>
          <a:xfrm>
            <a:off x="1547640" y="1628640"/>
            <a:ext cx="638280" cy="6508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9"/>
          <p:cNvSpPr/>
          <p:nvPr/>
        </p:nvSpPr>
        <p:spPr>
          <a:xfrm>
            <a:off x="755640" y="2205000"/>
            <a:ext cx="362124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dez-vous dans notre appartement </a:t>
            </a:r>
            <a:r>
              <a:rPr b="0" lang="fr-FR" sz="1600" spc="-1" strike="noStrike">
                <a:solidFill>
                  <a:srgbClr val="ff3300"/>
                </a:solidFill>
                <a:latin typeface="Arial"/>
              </a:rPr>
              <a:t>samedi 21 ma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partir de 19 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rci de nous répondre rapid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bientô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Nathalie et Joël Batu, rue Tourvil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9200 Brest, tel. : 02 98 44 26 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064200" y="1312920"/>
            <a:ext cx="261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81080" y="1341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5"/>
          <p:cNvSpPr/>
          <p:nvPr/>
        </p:nvSpPr>
        <p:spPr>
          <a:xfrm flipV="1">
            <a:off x="5219640" y="1268280"/>
            <a:ext cx="36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6"/>
          <p:cNvSpPr/>
          <p:nvPr/>
        </p:nvSpPr>
        <p:spPr>
          <a:xfrm>
            <a:off x="521964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7"/>
          <p:cNvSpPr/>
          <p:nvPr/>
        </p:nvSpPr>
        <p:spPr>
          <a:xfrm>
            <a:off x="5796000" y="1197000"/>
            <a:ext cx="3348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us allons organiser une fête samedi prochain pou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endre l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rémaillère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Veuillez nous excuser d’avance pour le bruit et le dérangement.Vous êtes les bienvenus pour prendre un verre avec nous. Merci pour votre compréhen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otype Corsiva"/>
              </a:rPr>
              <a:t>Nathalie et Joël Ba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Monotype Corsiva"/>
              </a:rPr>
              <a:t>Deuxième étage (porte de droite).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9"/>
          <p:cNvSpPr/>
          <p:nvPr/>
        </p:nvSpPr>
        <p:spPr>
          <a:xfrm>
            <a:off x="250920" y="5157720"/>
            <a:ext cx="325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a)  Qui a écrit ce me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0"/>
          <p:cNvSpPr/>
          <p:nvPr/>
        </p:nvSpPr>
        <p:spPr>
          <a:xfrm>
            <a:off x="250920" y="5877000"/>
            <a:ext cx="30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b) Pour qu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1"/>
          <p:cNvSpPr/>
          <p:nvPr/>
        </p:nvSpPr>
        <p:spPr>
          <a:xfrm>
            <a:off x="3780000" y="515772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c) Pour quo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2"/>
          <p:cNvSpPr/>
          <p:nvPr/>
        </p:nvSpPr>
        <p:spPr>
          <a:xfrm>
            <a:off x="3276720" y="587700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3300"/>
                </a:solidFill>
                <a:latin typeface="Arial"/>
              </a:rPr>
              <a:t>d) Où se  trouve le messa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23"/>
          <p:cNvSpPr/>
          <p:nvPr/>
        </p:nvSpPr>
        <p:spPr>
          <a:xfrm>
            <a:off x="6877080" y="1700280"/>
            <a:ext cx="144360" cy="216000"/>
          </a:xfrm>
          <a:custGeom>
            <a:avLst/>
            <a:gdLst>
              <a:gd name="textAreaLeft" fmla="*/ 59400 w 144360"/>
              <a:gd name="textAreaRight" fmla="*/ 84960 w 144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24"/>
          <p:cNvSpPr/>
          <p:nvPr/>
        </p:nvSpPr>
        <p:spPr>
          <a:xfrm>
            <a:off x="6156360" y="5013360"/>
            <a:ext cx="216000" cy="216000"/>
          </a:xfrm>
          <a:custGeom>
            <a:avLst/>
            <a:gdLst>
              <a:gd name="textAreaLeft" fmla="*/ 88920 w 216000"/>
              <a:gd name="textAreaRight" fmla="*/ 127080 w 21600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6443640" y="4941720"/>
            <a:ext cx="27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9b2d1f"/>
                </a:solidFill>
                <a:uFillTx/>
                <a:latin typeface="Arial"/>
              </a:rPr>
              <a:t>Pendre une crémaillère – fêter un emmé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3832200" y="88920"/>
            <a:ext cx="36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9b2d1f"/>
                </a:solidFill>
                <a:latin typeface="Arial"/>
              </a:rPr>
              <a:t>Lisez et répondez aux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61"/>
          <p:cNvSpPr txBox="1"/>
          <p:nvPr/>
        </p:nvSpPr>
        <p:spPr>
          <a:xfrm>
            <a:off x="684360" y="189000"/>
            <a:ext cx="763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Page de grammai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96" name="Text Box 62"/>
          <p:cNvSpPr/>
          <p:nvPr/>
        </p:nvSpPr>
        <p:spPr>
          <a:xfrm>
            <a:off x="2340000" y="76500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c00cc"/>
                </a:solidFill>
                <a:latin typeface="Monotype Corsiva"/>
              </a:rPr>
              <a:t>La place de l’adjectif qualific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324000" y="1413000"/>
          <a:ext cx="8280360" cy="487656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Text Box 92"/>
          <p:cNvSpPr/>
          <p:nvPr/>
        </p:nvSpPr>
        <p:spPr>
          <a:xfrm>
            <a:off x="5297040" y="162864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cc"/>
                </a:solidFill>
                <a:latin typeface="Arial"/>
              </a:rPr>
              <a:t>Avant le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3"/>
          <p:cNvSpPr/>
          <p:nvPr/>
        </p:nvSpPr>
        <p:spPr>
          <a:xfrm>
            <a:off x="771480" y="1617840"/>
            <a:ext cx="2505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4"/>
          <p:cNvSpPr/>
          <p:nvPr/>
        </p:nvSpPr>
        <p:spPr>
          <a:xfrm>
            <a:off x="1187280" y="16286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cc"/>
                </a:solidFill>
                <a:latin typeface="Arial"/>
              </a:rPr>
              <a:t>Après le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6"/>
          <p:cNvSpPr/>
          <p:nvPr/>
        </p:nvSpPr>
        <p:spPr>
          <a:xfrm>
            <a:off x="4840200" y="2176560"/>
            <a:ext cx="333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97"/>
          <p:cNvSpPr/>
          <p:nvPr/>
        </p:nvSpPr>
        <p:spPr>
          <a:xfrm>
            <a:off x="324000" y="2060640"/>
            <a:ext cx="41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déscriptifs(couleur,nationalité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apparence,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8"/>
          <p:cNvSpPr/>
          <p:nvPr/>
        </p:nvSpPr>
        <p:spPr>
          <a:xfrm>
            <a:off x="395280" y="2565360"/>
            <a:ext cx="37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 rob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rouge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, un soldat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angl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99"/>
          <p:cNvSpPr/>
          <p:nvPr/>
        </p:nvSpPr>
        <p:spPr>
          <a:xfrm>
            <a:off x="324000" y="2852640"/>
            <a:ext cx="397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modifiés par un adverbe de plusieurs sylla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0"/>
          <p:cNvSpPr/>
          <p:nvPr/>
        </p:nvSpPr>
        <p:spPr>
          <a:xfrm>
            <a:off x="395280" y="3357720"/>
            <a:ext cx="40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homm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vraiment mauv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1"/>
          <p:cNvSpPr/>
          <p:nvPr/>
        </p:nvSpPr>
        <p:spPr>
          <a:xfrm>
            <a:off x="250920" y="3789360"/>
            <a:ext cx="44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accompagnés d’un complé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2"/>
          <p:cNvSpPr/>
          <p:nvPr/>
        </p:nvSpPr>
        <p:spPr>
          <a:xfrm>
            <a:off x="303120" y="4121280"/>
            <a:ext cx="412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3"/>
          <p:cNvSpPr/>
          <p:nvPr/>
        </p:nvSpPr>
        <p:spPr>
          <a:xfrm>
            <a:off x="411120" y="4354560"/>
            <a:ext cx="372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4"/>
          <p:cNvSpPr/>
          <p:nvPr/>
        </p:nvSpPr>
        <p:spPr>
          <a:xfrm>
            <a:off x="468360" y="4076640"/>
            <a:ext cx="38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professeur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facile à appro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05"/>
          <p:cNvSpPr/>
          <p:nvPr/>
        </p:nvSpPr>
        <p:spPr>
          <a:xfrm>
            <a:off x="250920" y="4653000"/>
            <a:ext cx="38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de plus de trois sylla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6"/>
          <p:cNvSpPr/>
          <p:nvPr/>
        </p:nvSpPr>
        <p:spPr>
          <a:xfrm>
            <a:off x="376200" y="4984920"/>
            <a:ext cx="376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7"/>
          <p:cNvSpPr/>
          <p:nvPr/>
        </p:nvSpPr>
        <p:spPr>
          <a:xfrm>
            <a:off x="539640" y="494172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 fêt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extraordin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8"/>
          <p:cNvSpPr/>
          <p:nvPr/>
        </p:nvSpPr>
        <p:spPr>
          <a:xfrm>
            <a:off x="250920" y="5516640"/>
            <a:ext cx="40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participes utilisés comme adje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9"/>
          <p:cNvSpPr/>
          <p:nvPr/>
        </p:nvSpPr>
        <p:spPr>
          <a:xfrm>
            <a:off x="324000" y="5805360"/>
            <a:ext cx="40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étudiant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fatiguant      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 pull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s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0"/>
          <p:cNvSpPr/>
          <p:nvPr/>
        </p:nvSpPr>
        <p:spPr>
          <a:xfrm>
            <a:off x="4587840" y="2266920"/>
            <a:ext cx="38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11"/>
          <p:cNvSpPr/>
          <p:nvPr/>
        </p:nvSpPr>
        <p:spPr>
          <a:xfrm>
            <a:off x="4479840" y="2176560"/>
            <a:ext cx="369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12"/>
          <p:cNvSpPr/>
          <p:nvPr/>
        </p:nvSpPr>
        <p:spPr>
          <a:xfrm>
            <a:off x="4500720" y="3213000"/>
            <a:ext cx="383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13"/>
          <p:cNvSpPr/>
          <p:nvPr/>
        </p:nvSpPr>
        <p:spPr>
          <a:xfrm>
            <a:off x="4551480" y="2031840"/>
            <a:ext cx="39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affectifs et appréci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4"/>
          <p:cNvSpPr/>
          <p:nvPr/>
        </p:nvSpPr>
        <p:spPr>
          <a:xfrm>
            <a:off x="4551480" y="239220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el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enfant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onn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su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5"/>
          <p:cNvSpPr/>
          <p:nvPr/>
        </p:nvSpPr>
        <p:spPr>
          <a:xfrm>
            <a:off x="4643280" y="2852640"/>
            <a:ext cx="36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courts et cou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16"/>
          <p:cNvSpPr/>
          <p:nvPr/>
        </p:nvSpPr>
        <p:spPr>
          <a:xfrm>
            <a:off x="4572000" y="3068640"/>
            <a:ext cx="38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b2d1f"/>
                </a:solidFill>
                <a:latin typeface="Arial"/>
              </a:rPr>
              <a:t>petit,grand,gentil,joli,moindre,gros,au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7"/>
          <p:cNvSpPr/>
          <p:nvPr/>
        </p:nvSpPr>
        <p:spPr>
          <a:xfrm>
            <a:off x="4551480" y="3400560"/>
            <a:ext cx="38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Une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 autre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f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8"/>
          <p:cNvSpPr/>
          <p:nvPr/>
        </p:nvSpPr>
        <p:spPr>
          <a:xfrm>
            <a:off x="4551480" y="3760920"/>
            <a:ext cx="41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intégrés au 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9"/>
          <p:cNvSpPr/>
          <p:nvPr/>
        </p:nvSpPr>
        <p:spPr>
          <a:xfrm>
            <a:off x="4479840" y="4121280"/>
            <a:ext cx="39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s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jeunes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 mariés, 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beau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-fr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0"/>
          <p:cNvSpPr/>
          <p:nvPr/>
        </p:nvSpPr>
        <p:spPr>
          <a:xfrm>
            <a:off x="4551480" y="4624560"/>
            <a:ext cx="42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qualifiant les noms prop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1"/>
          <p:cNvSpPr/>
          <p:nvPr/>
        </p:nvSpPr>
        <p:spPr>
          <a:xfrm>
            <a:off x="4624560" y="4624560"/>
            <a:ext cx="376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2"/>
          <p:cNvSpPr/>
          <p:nvPr/>
        </p:nvSpPr>
        <p:spPr>
          <a:xfrm>
            <a:off x="4551480" y="4984920"/>
            <a:ext cx="35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célèbre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Dr.Wat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23"/>
          <p:cNvSpPr/>
          <p:nvPr/>
        </p:nvSpPr>
        <p:spPr>
          <a:xfrm>
            <a:off x="4408560" y="5416560"/>
            <a:ext cx="318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4"/>
          <p:cNvSpPr/>
          <p:nvPr/>
        </p:nvSpPr>
        <p:spPr>
          <a:xfrm>
            <a:off x="4514760" y="5651640"/>
            <a:ext cx="4089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25"/>
          <p:cNvSpPr/>
          <p:nvPr/>
        </p:nvSpPr>
        <p:spPr>
          <a:xfrm>
            <a:off x="4859280" y="5373720"/>
            <a:ext cx="35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9933"/>
                </a:solidFill>
                <a:latin typeface="Arial"/>
              </a:rPr>
              <a:t>Les adjectifs numér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6"/>
          <p:cNvSpPr/>
          <p:nvPr/>
        </p:nvSpPr>
        <p:spPr>
          <a:xfrm>
            <a:off x="4356000" y="5589720"/>
            <a:ext cx="439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premier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amour, l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dernier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mé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660066"/>
                </a:solidFill>
                <a:uFillTx/>
                <a:latin typeface="Arial"/>
              </a:rPr>
              <a:t>mai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La semaine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dernière</a:t>
            </a:r>
            <a:r>
              <a:rPr b="0" i="1" lang="fr-FR" sz="1600" spc="-1" strike="noStrike">
                <a:solidFill>
                  <a:srgbClr val="cc0000"/>
                </a:solidFill>
                <a:latin typeface="Arial"/>
              </a:rPr>
              <a:t>,L’année</a:t>
            </a:r>
            <a:r>
              <a:rPr b="0" lang="fr-FR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9b2d1f"/>
                </a:solidFill>
                <a:latin typeface="Arial"/>
              </a:rPr>
              <a:t>proch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7"/>
          <p:cNvSpPr/>
          <p:nvPr/>
        </p:nvSpPr>
        <p:spPr>
          <a:xfrm>
            <a:off x="5940360" y="260280"/>
            <a:ext cx="2879640" cy="100980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3"/>
          <p:cNvSpPr/>
          <p:nvPr/>
        </p:nvSpPr>
        <p:spPr>
          <a:xfrm>
            <a:off x="179280" y="2536920"/>
            <a:ext cx="5905440" cy="4321080"/>
          </a:xfrm>
          <a:prstGeom prst="rect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1187280" y="83664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1187280" y="112536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187280" y="148428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1187280" y="1844640"/>
            <a:ext cx="4608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"/>
          <p:cNvSpPr/>
          <p:nvPr/>
        </p:nvSpPr>
        <p:spPr>
          <a:xfrm>
            <a:off x="686160" y="765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757440" y="10526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468360" y="141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bj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539640" y="1773360"/>
            <a:ext cx="8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1187280" y="765000"/>
            <a:ext cx="31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« laura »  laurachat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0"/>
          <p:cNvSpPr/>
          <p:nvPr/>
        </p:nvSpPr>
        <p:spPr>
          <a:xfrm>
            <a:off x="1187280" y="105264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«  fabien »  fabien88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club-internet.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1"/>
          <p:cNvSpPr/>
          <p:nvPr/>
        </p:nvSpPr>
        <p:spPr>
          <a:xfrm>
            <a:off x="1187280" y="1413000"/>
            <a:ext cx="31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m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2"/>
          <p:cNvSpPr/>
          <p:nvPr/>
        </p:nvSpPr>
        <p:spPr>
          <a:xfrm>
            <a:off x="1187280" y="1773360"/>
            <a:ext cx="32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ff"/>
                </a:solidFill>
                <a:latin typeface="Arial"/>
              </a:rPr>
              <a:t>22 ju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4"/>
          <p:cNvSpPr/>
          <p:nvPr/>
        </p:nvSpPr>
        <p:spPr>
          <a:xfrm>
            <a:off x="179280" y="2492280"/>
            <a:ext cx="549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er Fabi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Ça y est, je crois qu’on a trouvé la maison de nos rêves! Je te la décris: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3"/>
          <p:cNvSpPr/>
          <p:nvPr/>
        </p:nvSpPr>
        <p:spPr>
          <a:xfrm>
            <a:off x="1692360" y="2997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4"/>
          <p:cNvSpPr/>
          <p:nvPr/>
        </p:nvSpPr>
        <p:spPr>
          <a:xfrm>
            <a:off x="3276720" y="299736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urfac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5"/>
          <p:cNvSpPr/>
          <p:nvPr/>
        </p:nvSpPr>
        <p:spPr>
          <a:xfrm>
            <a:off x="3995640" y="2997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6"/>
          <p:cNvSpPr/>
          <p:nvPr/>
        </p:nvSpPr>
        <p:spPr>
          <a:xfrm>
            <a:off x="179280" y="3284640"/>
            <a:ext cx="55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st de 130 m carrés. Au premier , on a tr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7"/>
          <p:cNvSpPr/>
          <p:nvPr/>
        </p:nvSpPr>
        <p:spPr>
          <a:xfrm>
            <a:off x="4140360" y="328464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8"/>
          <p:cNvSpPr/>
          <p:nvPr/>
        </p:nvSpPr>
        <p:spPr>
          <a:xfrm>
            <a:off x="158760" y="3544920"/>
            <a:ext cx="340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hambr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9"/>
          <p:cNvSpPr/>
          <p:nvPr/>
        </p:nvSpPr>
        <p:spPr>
          <a:xfrm>
            <a:off x="1187280" y="3573360"/>
            <a:ext cx="29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0"/>
          <p:cNvSpPr/>
          <p:nvPr/>
        </p:nvSpPr>
        <p:spPr>
          <a:xfrm>
            <a:off x="1258920" y="3645000"/>
            <a:ext cx="2036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2987640" y="3573360"/>
            <a:ext cx="2808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; au rez-de-chaussée, il y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2"/>
          <p:cNvSpPr/>
          <p:nvPr/>
        </p:nvSpPr>
        <p:spPr>
          <a:xfrm>
            <a:off x="179280" y="3860640"/>
            <a:ext cx="45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3"/>
          <p:cNvSpPr/>
          <p:nvPr/>
        </p:nvSpPr>
        <p:spPr>
          <a:xfrm>
            <a:off x="684360" y="3933720"/>
            <a:ext cx="23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4"/>
          <p:cNvSpPr/>
          <p:nvPr/>
        </p:nvSpPr>
        <p:spPr>
          <a:xfrm>
            <a:off x="2967120" y="3905280"/>
            <a:ext cx="27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5"/>
          <p:cNvSpPr/>
          <p:nvPr/>
        </p:nvSpPr>
        <p:spPr>
          <a:xfrm>
            <a:off x="3708360" y="393372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6"/>
          <p:cNvSpPr/>
          <p:nvPr/>
        </p:nvSpPr>
        <p:spPr>
          <a:xfrm>
            <a:off x="231840" y="4264200"/>
            <a:ext cx="23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7"/>
          <p:cNvSpPr/>
          <p:nvPr/>
        </p:nvSpPr>
        <p:spPr>
          <a:xfrm>
            <a:off x="971640" y="4292640"/>
            <a:ext cx="39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8"/>
          <p:cNvSpPr/>
          <p:nvPr/>
        </p:nvSpPr>
        <p:spPr>
          <a:xfrm>
            <a:off x="3276720" y="429264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ièce à vi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9"/>
          <p:cNvSpPr/>
          <p:nvPr/>
        </p:nvSpPr>
        <p:spPr>
          <a:xfrm>
            <a:off x="4551480" y="4264200"/>
            <a:ext cx="131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0"/>
          <p:cNvSpPr/>
          <p:nvPr/>
        </p:nvSpPr>
        <p:spPr>
          <a:xfrm>
            <a:off x="324000" y="458136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1"/>
          <p:cNvSpPr/>
          <p:nvPr/>
        </p:nvSpPr>
        <p:spPr>
          <a:xfrm>
            <a:off x="250920" y="4869000"/>
            <a:ext cx="578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us la maison , on trouve 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560" y="4913280"/>
            <a:ext cx="22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140360" y="48690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4643280" y="4941720"/>
            <a:ext cx="146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4767120" y="4913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250920" y="5157720"/>
            <a:ext cx="34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 tout autour,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1959120" y="520056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9"/>
          <p:cNvSpPr/>
          <p:nvPr/>
        </p:nvSpPr>
        <p:spPr>
          <a:xfrm>
            <a:off x="3348000" y="5157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ar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0"/>
          <p:cNvSpPr/>
          <p:nvPr/>
        </p:nvSpPr>
        <p:spPr>
          <a:xfrm>
            <a:off x="3903840" y="52005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1"/>
          <p:cNvSpPr/>
          <p:nvPr/>
        </p:nvSpPr>
        <p:spPr>
          <a:xfrm>
            <a:off x="250920" y="5516640"/>
            <a:ext cx="520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ça pour 130 000 euros à une heure de Paris. Quand est-ce que tu veux venir la visi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bientôt, b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2"/>
          <p:cNvSpPr/>
          <p:nvPr/>
        </p:nvSpPr>
        <p:spPr>
          <a:xfrm>
            <a:off x="4067280" y="29242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hab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3"/>
          <p:cNvSpPr/>
          <p:nvPr/>
        </p:nvSpPr>
        <p:spPr>
          <a:xfrm>
            <a:off x="4211640" y="321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be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4"/>
          <p:cNvSpPr/>
          <p:nvPr/>
        </p:nvSpPr>
        <p:spPr>
          <a:xfrm>
            <a:off x="1258920" y="350028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spacie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5"/>
          <p:cNvSpPr/>
          <p:nvPr/>
        </p:nvSpPr>
        <p:spPr>
          <a:xfrm>
            <a:off x="1187280" y="3860640"/>
            <a:ext cx="23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67"/>
          <p:cNvSpPr/>
          <p:nvPr/>
        </p:nvSpPr>
        <p:spPr>
          <a:xfrm>
            <a:off x="3780000" y="38606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ménag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8"/>
          <p:cNvSpPr/>
          <p:nvPr/>
        </p:nvSpPr>
        <p:spPr>
          <a:xfrm>
            <a:off x="4643280" y="4221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cl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9"/>
          <p:cNvSpPr/>
          <p:nvPr/>
        </p:nvSpPr>
        <p:spPr>
          <a:xfrm>
            <a:off x="395280" y="4508640"/>
            <a:ext cx="23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t ensoleill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0"/>
          <p:cNvSpPr/>
          <p:nvPr/>
        </p:nvSpPr>
        <p:spPr>
          <a:xfrm>
            <a:off x="4788000" y="4869000"/>
            <a:ext cx="21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oû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1"/>
          <p:cNvSpPr/>
          <p:nvPr/>
        </p:nvSpPr>
        <p:spPr>
          <a:xfrm>
            <a:off x="3924360" y="5157720"/>
            <a:ext cx="21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rbo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2"/>
          <p:cNvSpPr/>
          <p:nvPr/>
        </p:nvSpPr>
        <p:spPr>
          <a:xfrm>
            <a:off x="6711840" y="1960560"/>
            <a:ext cx="232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habi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belles, spacie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aménagée,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claire et ensoleill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voût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ff"/>
                </a:solidFill>
                <a:uFillTx/>
                <a:latin typeface="Arial"/>
              </a:rPr>
              <a:t>arbo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75"/>
          <p:cNvSpPr txBox="1"/>
          <p:nvPr/>
        </p:nvSpPr>
        <p:spPr>
          <a:xfrm>
            <a:off x="611280" y="189000"/>
            <a:ext cx="47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xercice de grammaire</a:t>
            </a:r>
            <a:endParaRPr b="0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5940360" y="260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Mettez les adjectifs avant ou après les noms ou expressions soulig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8"/>
          <p:cNvSpPr/>
          <p:nvPr/>
        </p:nvSpPr>
        <p:spPr>
          <a:xfrm>
            <a:off x="1887480" y="2897280"/>
            <a:ext cx="88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9"/>
          <p:cNvSpPr/>
          <p:nvPr/>
        </p:nvSpPr>
        <p:spPr>
          <a:xfrm>
            <a:off x="1547640" y="4149720"/>
            <a:ext cx="124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0"/>
          <p:cNvSpPr/>
          <p:nvPr/>
        </p:nvSpPr>
        <p:spPr>
          <a:xfrm>
            <a:off x="2124000" y="285264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1"/>
          <p:cNvSpPr/>
          <p:nvPr/>
        </p:nvSpPr>
        <p:spPr>
          <a:xfrm>
            <a:off x="2268360" y="5013360"/>
            <a:ext cx="9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2"/>
          <p:cNvSpPr/>
          <p:nvPr/>
        </p:nvSpPr>
        <p:spPr>
          <a:xfrm>
            <a:off x="3419640" y="479736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7"/>
          <p:cNvSpPr/>
          <p:nvPr/>
        </p:nvSpPr>
        <p:spPr>
          <a:xfrm>
            <a:off x="108000" y="1052640"/>
            <a:ext cx="8928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324000" y="663480"/>
            <a:ext cx="84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2031840" y="663480"/>
            <a:ext cx="1748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0"/>
          <p:cNvSpPr/>
          <p:nvPr/>
        </p:nvSpPr>
        <p:spPr>
          <a:xfrm>
            <a:off x="303120" y="160200"/>
            <a:ext cx="56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ff"/>
                </a:solidFill>
                <a:latin typeface="Arial"/>
              </a:rPr>
              <a:t>La maison dont rêvent Jérôme et Syl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5651640" y="260280"/>
            <a:ext cx="3384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Écrivez les verbes au Conditio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376200" y="109692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première por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2103480" y="109692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3040200" y="1096920"/>
            <a:ext cx="59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r une chambre, au plancher recouvert d’une  moquette cla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250920" y="1557360"/>
            <a:ext cx="491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grand lit anglais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2463840" y="1384200"/>
            <a:ext cx="1892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8"/>
          <p:cNvSpPr/>
          <p:nvPr/>
        </p:nvSpPr>
        <p:spPr>
          <a:xfrm>
            <a:off x="2556000" y="155736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ccu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3419640" y="1557360"/>
            <a:ext cx="556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ut le fond. À droite, de  chaque côté de la fenêtre, de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324000" y="1916280"/>
            <a:ext cx="49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étagères étroites et ha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2987640" y="191628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contien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2"/>
          <p:cNvSpPr/>
          <p:nvPr/>
        </p:nvSpPr>
        <p:spPr>
          <a:xfrm>
            <a:off x="4264200" y="1916280"/>
            <a:ext cx="48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uelques livres, des albums, des pots, des coll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324000" y="2276640"/>
            <a:ext cx="54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auche, une vieille armoire de chê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4067280" y="227664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f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5"/>
          <p:cNvSpPr/>
          <p:nvPr/>
        </p:nvSpPr>
        <p:spPr>
          <a:xfrm>
            <a:off x="4716360" y="2276640"/>
            <a:ext cx="41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ace à un petit fauteuil... La seconde 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324000" y="26370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découv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1619280" y="2637000"/>
            <a:ext cx="36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bureau. Les murs, de haut en b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5148360" y="26370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s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6064200" y="2637000"/>
            <a:ext cx="30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apissés de livres et de revu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324000" y="3068640"/>
            <a:ext cx="858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, çà et là, quelques gravures, des dessins, des photographies... Un peu à gauche de 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enêtre et légèrement en biais, une longue table lorra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1"/>
          <p:cNvSpPr/>
          <p:nvPr/>
        </p:nvSpPr>
        <p:spPr>
          <a:xfrm>
            <a:off x="5580000" y="357336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3"/>
          <p:cNvSpPr/>
          <p:nvPr/>
        </p:nvSpPr>
        <p:spPr>
          <a:xfrm>
            <a:off x="6227640" y="3573360"/>
            <a:ext cx="26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uverte d’un grand tap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4"/>
          <p:cNvSpPr/>
          <p:nvPr/>
        </p:nvSpPr>
        <p:spPr>
          <a:xfrm>
            <a:off x="324000" y="4005360"/>
            <a:ext cx="23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uge... La lu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5"/>
          <p:cNvSpPr/>
          <p:nvPr/>
        </p:nvSpPr>
        <p:spPr>
          <a:xfrm>
            <a:off x="2268360" y="400536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6"/>
          <p:cNvSpPr/>
          <p:nvPr/>
        </p:nvSpPr>
        <p:spPr>
          <a:xfrm>
            <a:off x="3184560" y="2968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8"/>
          <p:cNvSpPr/>
          <p:nvPr/>
        </p:nvSpPr>
        <p:spPr>
          <a:xfrm>
            <a:off x="3040200" y="4005360"/>
            <a:ext cx="61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une vieille lampe de bureau   garnie d’un abat-jour. De cha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9"/>
          <p:cNvSpPr/>
          <p:nvPr/>
        </p:nvSpPr>
        <p:spPr>
          <a:xfrm>
            <a:off x="250920" y="4365720"/>
            <a:ext cx="23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ôté de la table, il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0"/>
          <p:cNvSpPr/>
          <p:nvPr/>
        </p:nvSpPr>
        <p:spPr>
          <a:xfrm>
            <a:off x="2195640" y="43657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1"/>
          <p:cNvSpPr/>
          <p:nvPr/>
        </p:nvSpPr>
        <p:spPr>
          <a:xfrm>
            <a:off x="2608200" y="4365720"/>
            <a:ext cx="65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ux fauteuils de bois et de cuir, à hauts dossiers... Leur appar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95280" y="47973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042920" y="4797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rement en ordre mais son désordre mê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292720" y="4797360"/>
            <a:ext cx="5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084720" y="479736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n plus grand char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6"/>
          <p:cNvSpPr/>
          <p:nvPr/>
        </p:nvSpPr>
        <p:spPr>
          <a:xfrm>
            <a:off x="324000" y="5229360"/>
            <a:ext cx="9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ls s’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7"/>
          <p:cNvSpPr/>
          <p:nvPr/>
        </p:nvSpPr>
        <p:spPr>
          <a:xfrm>
            <a:off x="1187280" y="5229360"/>
            <a:ext cx="117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occup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8"/>
          <p:cNvSpPr/>
          <p:nvPr/>
        </p:nvSpPr>
        <p:spPr>
          <a:xfrm>
            <a:off x="2392200" y="3905280"/>
            <a:ext cx="1748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0"/>
          <p:cNvSpPr/>
          <p:nvPr/>
        </p:nvSpPr>
        <p:spPr>
          <a:xfrm>
            <a:off x="2340000" y="52293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peine. Ils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1"/>
          <p:cNvSpPr/>
          <p:nvPr/>
        </p:nvSpPr>
        <p:spPr>
          <a:xfrm>
            <a:off x="3708360" y="5229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Arial"/>
              </a:rPr>
              <a:t>vi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3"/>
          <p:cNvSpPr/>
          <p:nvPr/>
        </p:nvSpPr>
        <p:spPr>
          <a:xfrm>
            <a:off x="2195640" y="11253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uvri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411280" y="1557360"/>
            <a:ext cx="181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ccup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5"/>
          <p:cNvSpPr/>
          <p:nvPr/>
        </p:nvSpPr>
        <p:spPr>
          <a:xfrm>
            <a:off x="2771640" y="1916280"/>
            <a:ext cx="31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contiend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3995640" y="2276640"/>
            <a:ext cx="23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f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7"/>
          <p:cNvSpPr/>
          <p:nvPr/>
        </p:nvSpPr>
        <p:spPr>
          <a:xfrm>
            <a:off x="324000" y="2637000"/>
            <a:ext cx="26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découvri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5076720" y="2637000"/>
            <a:ext cx="24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9"/>
          <p:cNvSpPr/>
          <p:nvPr/>
        </p:nvSpPr>
        <p:spPr>
          <a:xfrm>
            <a:off x="5435640" y="357336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0"/>
          <p:cNvSpPr/>
          <p:nvPr/>
        </p:nvSpPr>
        <p:spPr>
          <a:xfrm>
            <a:off x="2195640" y="4005360"/>
            <a:ext cx="26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viend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1"/>
          <p:cNvSpPr/>
          <p:nvPr/>
        </p:nvSpPr>
        <p:spPr>
          <a:xfrm>
            <a:off x="2050920" y="436572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au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2"/>
          <p:cNvSpPr/>
          <p:nvPr/>
        </p:nvSpPr>
        <p:spPr>
          <a:xfrm>
            <a:off x="324000" y="4797360"/>
            <a:ext cx="21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63"/>
          <p:cNvSpPr/>
          <p:nvPr/>
        </p:nvSpPr>
        <p:spPr>
          <a:xfrm>
            <a:off x="5219640" y="4797360"/>
            <a:ext cx="11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ser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64"/>
          <p:cNvSpPr/>
          <p:nvPr/>
        </p:nvSpPr>
        <p:spPr>
          <a:xfrm>
            <a:off x="1116000" y="5229360"/>
            <a:ext cx="182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occupera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5"/>
          <p:cNvSpPr/>
          <p:nvPr/>
        </p:nvSpPr>
        <p:spPr>
          <a:xfrm>
            <a:off x="3635280" y="52293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vivrai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9" descr="Картинка 36 из 9777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716440"/>
            <a:ext cx="1513080" cy="1141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1" descr="Картинка 59 из 9777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5705640"/>
            <a:ext cx="1871640" cy="11332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3" descr="Картинка 133 из 97772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88000" y="5692680"/>
            <a:ext cx="19242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0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7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47:57Z</dcterms:created>
  <dc:creator>Roman</dc:creator>
  <dc:description/>
  <dc:language>en-US</dc:language>
  <cp:lastModifiedBy>uchitel596</cp:lastModifiedBy>
  <dcterms:modified xsi:type="dcterms:W3CDTF">2013-04-09T08:37:06Z</dcterms:modified>
  <cp:revision>70</cp:revision>
  <dc:subject/>
  <dc:title>Слайд 1</dc:title>
</cp:coreProperties>
</file>