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8219-8CDA-430B-AD1A-8962EC5A31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8A7A-1837-4562-86E5-EC581AEBA2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2ED-12D1-4B94-A31E-F3DD07BE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14C-3C28-4A66-A810-13A37E2C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E00-5531-4E91-8AFD-877FB878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04E-6128-4195-822F-0C2F6510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A04A-CD53-4DDB-90E8-5AD5BC8E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79AB-6CC5-45E6-AFE7-4F076DDE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0C62-DD32-4BC9-ABC1-047B1BF0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6112-99D2-4659-8F8A-FE0B0FE6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886A-160F-4E3A-AF1C-6C69D089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E668-6258-4533-BA1B-536258CC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CB86-105B-4AF8-ADC2-3C424BD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1AE-74EE-4209-9B15-B2306844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0EB8-0177-4FEE-AA15-D15BC5B3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37CD-D4A2-4495-95C2-98BE437E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DDAA-113E-440D-AE97-2B7DBA50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8CD3-3C2A-42D6-911E-CFCAF564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822-5D9D-4B07-A625-6C3CE7BA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0FD2-CC6E-441E-A8F0-B83EE7FE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0355-A553-4CCC-82A7-6CD88459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8127-D58E-43AB-BEC1-5906CF39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D2481-5CB7-4D7E-8034-0E865156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BEE60-5BF8-403F-A848-5C3C89D1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B28-C75B-4BA9-A8DF-ECD4B9C2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174F-53FA-461E-B3D0-8F14C15E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2BB3-3D65-474C-AE9F-85330ED0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7B95-F21C-46B3-823E-F868C5E8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AFE6-D8AF-4B55-B597-AFBBA2D8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5412-95D3-4531-99F4-8E2CA800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D20B-38BF-44FC-9E01-F99ECABF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58272-5378-4B43-8C96-C66DAD96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824D1-CAB8-4A7B-A362-5ED6A51A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AC5D-F61A-4F80-8A8B-683E73E0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45C83-CF5D-4005-A527-B028658E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52B-D90F-425D-B9DC-89030409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E6B12-BA8A-409B-BC52-9F849BE6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839DF-FE1D-4156-86EE-4EA4AC0F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A81D-3162-4DBE-8F40-4C875428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6CE74-7B68-4BF8-900D-9EFA603A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1CF6-2E9A-4E54-9A21-ADAE7ECE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3BED-114A-415D-BE8A-EFF7700D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E2D5-99B5-4F85-A61C-2B46EE8B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0A1F-BBD7-4565-81BD-C2085FC4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601B-7CFF-492A-8C24-CB2E301E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72BEB-B5D8-4C94-9978-5F1DB187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FA7-8BD3-43B8-B2D3-4F728B85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6236E-43A2-41FE-B962-CD7A5D93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A8AFF-4C67-48A5-B30F-C472ED03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D6CBA-550B-4217-A497-5F9086D7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8C045-136C-4B32-A250-FAA0030F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5D288-C0F7-4F11-BCF2-7FE98C89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BBB4-6968-4857-A874-5D1E537A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6FBAC-975F-4463-9797-7B186320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EB6C2-2ADB-43E2-A94F-6243B40B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C93DE-D270-41BD-919D-9C0A16DD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6090-9D82-470C-AA99-439031D2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A0F-0175-471D-9600-C297EA04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72DE-5FFB-42A0-BD93-2920804B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66A-7B65-4C99-8482-52B00C33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073-8734-4D4D-B4DC-73DC26E7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C23-B9CF-4FC0-A596-74FBE480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ff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6ff9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93B4-5705-4E81-B44F-8A0EF4528D14}" type="slidenum">
              <a:rPr b="0" lang="ru-RU" sz="1100" spc="-1" strike="noStrike">
                <a:solidFill>
                  <a:srgbClr val="36ff9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76f9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3889-0BFE-4FFE-96AA-73C5BE0A404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ff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6ff9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E31A-7C48-4830-A687-ABAD02800C64}" type="slidenum">
              <a:rPr b="0" lang="ru-RU" sz="1100" spc="-1" strike="noStrike">
                <a:solidFill>
                  <a:srgbClr val="36ff9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9ffb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79ffb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9ffb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79ffb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79ffb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9ff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9ff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9ff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BE25-6D29-45AA-847A-9C2FA0A55CCA}" type="slidenum">
              <a:rPr b="0" lang="ru-RU" sz="1100" spc="-1" strike="noStrike">
                <a:solidFill>
                  <a:srgbClr val="79ffb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ff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6ff9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CD30-91E4-41AD-B693-66B4368C3674}" type="slidenum">
              <a:rPr b="0" lang="ru-RU" sz="1100" spc="-1" strike="noStrike">
                <a:solidFill>
                  <a:srgbClr val="36ff9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&#1060;&#1072;&#1081;&#1083;:Parrot.red.macaw.1.arp.750pix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53880" y="493560"/>
            <a:ext cx="8332920" cy="1584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Ара (род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643120"/>
            <a:ext cx="27147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566640" y="-5065560"/>
            <a:ext cx="7248600" cy="6570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- to study the information about foreign and native Safari-Parks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-to find advantages and disadvantages of Krasnodar Safari-Park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-to find the ways of improving of Krasnodar Safari-Park`s conditions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 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Диаграмма 5"/>
          <p:cNvGraphicFramePr/>
          <p:nvPr/>
        </p:nvGraphicFramePr>
        <p:xfrm>
          <a:off x="2000160" y="357120"/>
          <a:ext cx="4934160" cy="607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" name="Диаграмма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357120"/>
                    <a:ext cx="493416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6"/>
          <p:cNvSpPr/>
          <p:nvPr/>
        </p:nvSpPr>
        <p:spPr>
          <a:xfrm>
            <a:off x="0" y="864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643040" y="285840"/>
          <a:ext cx="5477040" cy="62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285840"/>
                    <a:ext cx="5477040" cy="62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25508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4"/>
          <p:cNvGraphicFramePr/>
          <p:nvPr/>
        </p:nvGraphicFramePr>
        <p:xfrm>
          <a:off x="1285920" y="1104840"/>
          <a:ext cx="5943600" cy="575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1104840"/>
                    <a:ext cx="59436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139680" y="189000"/>
            <a:ext cx="8454960" cy="1176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07136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mic Sans MS"/>
              </a:rPr>
              <a:t>to save and reproduce rare species of animals, fish and bird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mic Sans MS"/>
              </a:rPr>
              <a:t>to make conditions for a successful scientific, conservation and enlightening research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mic Sans MS"/>
              </a:rPr>
              <a:t>to give the visitors more information about the biology additional visual exposition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mic Sans MS"/>
              </a:rPr>
              <a:t>to work with partners at all levels, from community leaders to governments and multinational bodie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mic Sans MS"/>
              </a:rPr>
              <a:t>to interest our citizens in animal’s lif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28760" y="15714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OR ATTENTION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5:15:25Z</dcterms:created>
  <dc:creator>класс</dc:creator>
  <dc:description/>
  <dc:language>en-US</dc:language>
  <cp:lastModifiedBy>класс</cp:lastModifiedBy>
  <dcterms:modified xsi:type="dcterms:W3CDTF">2012-03-29T07:17:47Z</dcterms:modified>
  <cp:revision>44</cp:revision>
  <dc:subject/>
  <dc:title>Информационно-  коммуникационные технологии как средство моделирования социокультурного пространства при работе с тематическим текстом на уроках английского языка</dc:title>
</cp:coreProperties>
</file>