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0E98-7966-4666-9E21-2199749741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321A-4F66-40DA-A4F3-7929E0CF04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3E9-5F87-489D-8D27-E6F79DE4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8F8-D143-481B-8803-4704DF12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0CA5-60F3-401B-BF43-4EFCB6C8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A48-F309-4558-95EB-20D2493C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29D3-EC49-47AD-9B3B-4852EA75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E36C-F21A-41B5-B0D0-635738CE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6423-AE7B-4A0C-A6DD-8CE10BC6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FB92-A08E-4581-B0BE-7D090462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411F-FEBA-4786-BB9B-D274FB50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BE31-195E-4E3F-969F-393330BE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F1BC-525D-4C53-A6A0-36EAC505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CC0-4218-40A1-A41A-41A4CA69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562A-ECFB-4520-9D27-46BB66DE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36D9-A71F-4BBA-9C16-1471211A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28EB-D665-42AB-8642-19147863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036A-7ECE-4870-9B5C-2C461B0A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152A-A4A8-41A0-A703-71DF7DDA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6D66-F9C0-4CFD-9915-5B57E59E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C567-9E32-4E26-B3EB-B4139EEC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3900-33F8-4753-9A14-A83014EA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AD1C-2AE2-492F-8364-4CDE1888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FE08-19F1-4BFF-8554-74913DBE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F0A-20EC-47E4-848C-3A7C855F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4324-793C-4183-8F20-0BBE174C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A1893-DD21-4AFA-9DBF-8E38C70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900B9-8A92-44D9-BB7A-D18E04D7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E9A7-F7EA-407B-B020-D78EB39C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39BE-EFC6-4235-9913-0EEE1971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6FD10-5205-4E67-836D-F70F97F8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CF4B-32F2-48E4-BE5D-B3A172A6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E63E-D323-4244-A6E6-90B79FBE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FBDD-B9FE-4438-A13F-C85908F9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7D5F8-9C19-477C-B16A-90B35C6E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436-AA7D-43B0-A00F-FFC6CC34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DD6DE-A64E-4556-9462-2C0436AE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4F9CB-8158-497D-8258-C42DF4CA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2F7D-198F-436D-B992-1BA3F7E2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7D825-20AE-41AE-8079-DFD221CF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6659-9190-4CA6-99FC-18A52F4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836D-06DE-47C9-A81C-56E59D87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E406-B643-4874-B7E7-3F09439F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3872B-F89D-4AD6-BA56-8B7750C4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013B0-7873-460D-9AF5-69813083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27B07-EB70-4E54-8B72-5083E712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72B-3107-486F-8877-1C1BBE0C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E1188-71D2-4BDB-9A01-C3052751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D8B1-2A1E-4DC2-9AEC-601D9CB7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91CE7-122D-48A3-906A-E32F857F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B3394-8C7D-4E62-B9EA-FAD318FC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D1C5-4DD6-4A89-9E92-786CFDAA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017EC-DF6B-4922-B3BB-7840ECF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E9DD8-55B1-4E59-825A-F53A051D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9AE48-F3EA-4479-83C3-76E47F3F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9F0B-AB38-4197-9EA7-ED7DC953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B26CD-9474-4C68-A886-D34B76F1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E072-8832-47D5-A893-7545B26B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CA361-F7B6-431D-BAE0-BE2F9A32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56E-6863-4776-AA5F-45CD0FD1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D16-F27E-4FE1-BA2F-591249C7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9FD-8E3A-4E21-BFC8-919BE2B6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ff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6ff9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5E69-62DF-4B3F-B95D-96FA562B2FA4}" type="slidenum">
              <a:rPr b="0" lang="ru-RU" sz="1100" spc="-1" strike="noStrike">
                <a:solidFill>
                  <a:srgbClr val="36ff9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76f9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062D-5D27-4058-B46C-380233A10DB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ff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6ff9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672D-A18F-4D6A-BD81-F162CCCE6647}" type="slidenum">
              <a:rPr b="0" lang="ru-RU" sz="1100" spc="-1" strike="noStrike">
                <a:solidFill>
                  <a:srgbClr val="36ff9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9ffb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79ffb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9ffb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79ffb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79ffb6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9ffb6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79ffb6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79ff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9ffb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79ff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8B87-3693-4787-8F81-E6045D583BC3}" type="slidenum">
              <a:rPr b="0" lang="ru-RU" sz="1100" spc="-1" strike="noStrike">
                <a:solidFill>
                  <a:srgbClr val="79ffb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ff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00b05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00b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00b05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6ff9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36ff9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30CA-1C7C-499D-8AF1-C1BC7CB8B7DC}" type="slidenum">
              <a:rPr b="0" lang="ru-RU" sz="1100" spc="-1" strike="noStrike">
                <a:solidFill>
                  <a:srgbClr val="36ff9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&#1060;&#1072;&#1081;&#1083;:Parrot.red.macaw.1.arp.750pix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53880" y="493560"/>
            <a:ext cx="8332920" cy="1584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Ара (род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643120"/>
            <a:ext cx="27147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566640" y="-5065560"/>
            <a:ext cx="7248600" cy="6570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- to study the information about foreign and native Safari-Parks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-to find advantages and disadvantages of Krasnodar Safari-Park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omic Sans MS"/>
              </a:rPr>
              <a:t>-to find the ways of improving of Krasnodar Safari-Park`s conditions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 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36ff91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Диаграмма 5"/>
          <p:cNvGraphicFramePr/>
          <p:nvPr/>
        </p:nvGraphicFramePr>
        <p:xfrm>
          <a:off x="2000160" y="357120"/>
          <a:ext cx="4934160" cy="607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5" name="Диаграмма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357120"/>
                    <a:ext cx="493416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6"/>
          <p:cNvSpPr/>
          <p:nvPr/>
        </p:nvSpPr>
        <p:spPr>
          <a:xfrm>
            <a:off x="0" y="864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643040" y="285840"/>
          <a:ext cx="5477040" cy="62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285840"/>
                    <a:ext cx="5477040" cy="62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255080" cy="12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4"/>
          <p:cNvGraphicFramePr/>
          <p:nvPr/>
        </p:nvGraphicFramePr>
        <p:xfrm>
          <a:off x="1285920" y="1104840"/>
          <a:ext cx="5943600" cy="5753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1104840"/>
                    <a:ext cx="59436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Rectangle 2" descr=""/>
          <p:cNvPicPr/>
          <p:nvPr/>
        </p:nvPicPr>
        <p:blipFill>
          <a:blip r:embed="rId1"/>
          <a:stretch/>
        </p:blipFill>
        <p:spPr>
          <a:xfrm>
            <a:off x="139680" y="189000"/>
            <a:ext cx="8454960" cy="11761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071360"/>
            <a:ext cx="82296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mic Sans MS"/>
              </a:rPr>
              <a:t>to save and reproduce rare species of animals, fish and bird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mic Sans MS"/>
              </a:rPr>
              <a:t>to make conditions for a successful scientific, conservation and enlightening research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mic Sans MS"/>
              </a:rPr>
              <a:t>to give the visitors more information about the biology additional visual exposition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mic Sans MS"/>
              </a:rPr>
              <a:t>to work with partners at all levels, from community leaders to governments and multinational bodies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mic Sans MS"/>
              </a:rPr>
              <a:t>to interest our citizens in animal’s lif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28760" y="15714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FOR ATTENTION!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5:15:25Z</dcterms:created>
  <dc:creator>класс</dc:creator>
  <dc:description/>
  <dc:language>en-US</dc:language>
  <cp:lastModifiedBy>класс</cp:lastModifiedBy>
  <dcterms:modified xsi:type="dcterms:W3CDTF">2012-03-29T07:17:47Z</dcterms:modified>
  <cp:revision>44</cp:revision>
  <dc:subject/>
  <dc:title>Информационно-  коммуникационные технологии как средство моделирования социокультурного пространства при работе с тематическим текстом на уроках английского языка</dc:title>
</cp:coreProperties>
</file>