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6A6D-1BA1-4477-906E-87BDD6C9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AD6C-2A48-4ACC-AADD-49E56B0D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7777-FEEC-46A6-9CC4-FF9BA2E8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5961-AC14-4094-8F4F-29EE5C18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43FD-48A0-405D-B4C9-FAEBC1BE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9F71-FA29-481B-8EDB-7B817901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656E-5FF7-4E33-9DE3-4B2BB0B8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FEDA-5087-434D-98D1-ECEC973F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262E-8B37-41CB-87F3-A8DFF59D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380B-CBD9-48CD-9838-3AFA1497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4F05-6F5B-41D6-BE00-A69C5A51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50A5-196B-4D9A-8D2F-50831938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4436-02CA-4EE1-BBEA-ECCBC2C2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DF87-7D4A-4B90-96CB-F2CD62C0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EDD6-0240-4818-B262-03D836A8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AE9D-FC9B-42DE-819A-6AA72862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3645-43B3-47BD-974A-6216CC78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D6684-E86E-4387-89A8-A1EE881B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C1C0C-A41F-4141-A20C-1E8D287D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199E1-E5A7-4ABA-989F-CFE824C8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DA075-DEE3-4A5A-90A8-4FDD4A4E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043F7-1217-4A6C-945A-C9D6BFF9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7F9B-99F5-412D-9217-69054EB9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7B840-CAEA-4A59-82F6-134A4633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68E3D-60A2-4475-8AF8-C19C6580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AF758-A35E-4CDD-A7A8-F4E57DF1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4B56E-05D2-4C4B-AAF8-AAED36DC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F909A-6FB6-465B-9B11-8A62CC7D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62228-347D-454C-8C67-B4AF48E0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ABD59-C117-4458-9B22-D2E1E85F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CB272-AF80-4EC1-9842-B85DBB2A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0C005-1B76-411C-8DF4-8EBAD3BA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3E17C-97BB-46D4-959A-48130E94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F6BE-756C-49CD-9C2C-A69B8E95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116B1-118C-4245-8E85-C353C340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8F1B4-3F6D-484C-A554-A1C001BE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140DC-D240-47D4-A8F8-700ACAFD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8D568-D3C3-4D24-9F55-6A1355D5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5D907-7A3E-4181-BAC4-D3A277F6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78AF4-82F2-4997-AEE4-7B856409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AAF67-4E9A-4598-AB3C-1E811A67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458AD-BA64-4412-A3F6-A70E591C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66335-FD11-45C5-829A-9363874F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8409C-9FA2-4429-B573-BBB46565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3240-24D5-45A5-B8F7-3BDA8E08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0C2D8-B663-4316-827E-CD9DCA94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0EBA4-AE02-43C0-AA63-A03A7D46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FB08D-EA8A-4A16-B8E6-B34A1E08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C87AD-3786-4023-8BCD-1511232C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4FAE4-E430-485B-8129-77DFCD18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4A220-CCB4-485E-A978-3AA93BE4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045DA-3FCE-4FAD-92E0-6786F2C5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A3AB7-6FEC-421B-8BA0-E93C3E15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B6C33-7DF1-4B57-9231-1CCBB182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4B800-F774-4A72-B2ED-2DA1A5E5E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9638-86CC-4C3F-A50B-00CEDD83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C159E-F9DE-4499-9F9C-7D0DB813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BAFC2-A367-4F31-80FB-CA30EB9F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C2D71-81E3-4041-B2ED-AA84F591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22787-0E3B-4661-AFA4-DF9E2D94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0486C-DD64-4923-AB9D-E5FE39D3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D0045-91A8-4A8A-81C2-D5CAD9E7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9BA5E-2CD9-4693-BA94-6CA10A6E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99B95-9551-4566-8C37-DDE3B511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F5B55-9E81-4A9A-99EF-EF03C479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959D5-3B79-4BE9-84F9-0915865C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9C44-202F-42CF-95BF-7D70F48E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D07EE-1A74-4F50-A593-A86BB796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BB404-162C-4FEC-93D4-BD706A31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FBE09-4D16-4B5D-A342-6F5C096E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8252-B47A-4965-8EAB-66F6D5BD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C15C-6445-4AC5-ABE5-941C770E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97D4-5587-4CBD-BADD-09363C6CC61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D00A-C831-4732-98BA-A8EE0970FB3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F195-84A6-401F-BC16-8EF755EFD0E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6C89-6E3D-4BAC-BA9E-47EB4404CCB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E61E-EFA9-466A-8965-DD0F2837F2D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9C0E-2CB6-44C6-9511-70B56949435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pifagor.home.nov.ru/stixi.htm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5dfd0"/>
                </a:solidFill>
                <a:latin typeface="Constantia"/>
              </a:rPr>
              <a:t>Проектная работа по теме: «Доказательство теоремы Пифагора»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fafc"/>
                </a:solidFill>
                <a:latin typeface="Constantia"/>
              </a:rPr>
              <a:t>Работу выполнили: Сеничак Ярослав и Борзова Валери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fafc"/>
                </a:solidFill>
                <a:latin typeface="Constantia"/>
              </a:rPr>
              <a:t>Руководитель: Бычко Галина Михайловн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66600" y="165240"/>
            <a:ext cx="5771880" cy="14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Доказательство: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985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усть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ABDE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квадрат, построенный на гипотенузе прямоугольного треугольника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а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ACFG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BCHI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квадраты, построенные на его катетах. Опустим из вершины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прямого угла перпендикуляр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CP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на гипотенузу и продолжим его до пересечения со стороной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DE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квадрата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ABDE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 точке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 соединим точки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0" name="Picture 4" descr="evklid"/>
          <p:cNvPicPr/>
          <p:nvPr/>
        </p:nvPicPr>
        <p:blipFill>
          <a:blip r:embed="rId1"/>
          <a:stretch/>
        </p:blipFill>
        <p:spPr>
          <a:xfrm>
            <a:off x="5073480" y="2027160"/>
            <a:ext cx="2773440" cy="2982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 0.011 0.08661 0.028 0.11325 C 0.028 0.11459 0.055 0.15056 0.055 0.14923 C 0.07 0.16922 0.079 0.1972 0.079 0.22651 C 0.079 0.28514 0.044 0.33177 0 0.3331 C -0.044 0.33177 -0.079 0.28514 -0.079 0.22651 C -0.079 0.1972 -0.07 0.16922 -0.055 0.14923 C -0.055 0.15056 -0.028 0.11459 -0.028 0.11325 C -0.011 0.08661 -0.001 0.0453 0 0 Z">
                                      <p:cBhvr>
                                        <p:cTn id="297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4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-252360" y="333360"/>
            <a:ext cx="4968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чевидно, что углы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CAE=GAB(=A+90°)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 отсюда следует, что треугольники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AGB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закрашенные на рисунке) равны между собой (по двум сторонам и углу, заключённому между ними). Сравним далее тре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и прямо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PQEA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 они имеют общее основание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AE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и высоту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AP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опущенную на это основание, следовательно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nstantia"/>
              </a:rPr>
              <a:t>PQEA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Constantia"/>
              </a:rPr>
              <a:t>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nstantia"/>
              </a:rPr>
              <a:t>A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очно так же квадрат FCAG и треугольник BAG имеют общее основание GA и высоту AC; значит,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nstantia"/>
              </a:rPr>
              <a:t>FCAG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=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nstantia"/>
              </a:rPr>
              <a:t>GA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2" name="Picture 4" descr="evklid"/>
          <p:cNvPicPr/>
          <p:nvPr/>
        </p:nvPicPr>
        <p:blipFill>
          <a:blip r:embed="rId1"/>
          <a:stretch/>
        </p:blipFill>
        <p:spPr>
          <a:xfrm>
            <a:off x="4716360" y="476280"/>
            <a:ext cx="3060720" cy="38098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7"/>
          <p:cNvSpPr/>
          <p:nvPr/>
        </p:nvSpPr>
        <p:spPr>
          <a:xfrm>
            <a:off x="1979640" y="4597560"/>
            <a:ext cx="65516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Отсюда и из равенства треугольников ACE и GBA вытекает равновеликость прямоугольника QPBD и квадрата CFGA; аналогично доказывается и равновеликость прямоугольника QPAE и квадрата CHIB. А отсюда, следует, что квадрат ABDE равновелик сумме квадратов ACFG и BCHI, т.е. теорема Пифагора.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4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4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1117440" indent="-1117440">
              <a:buClr>
                <a:srgbClr val="e2d700"/>
              </a:buClr>
              <a:buFont typeface="Calibri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Алгебраическое доказательство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5" name="Picture 4" descr="algebra"/>
          <p:cNvPicPr/>
          <p:nvPr/>
        </p:nvPicPr>
        <p:blipFill>
          <a:blip r:embed="rId1"/>
          <a:stretch/>
        </p:blipFill>
        <p:spPr>
          <a:xfrm>
            <a:off x="770040" y="1849320"/>
            <a:ext cx="2568600" cy="14464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6"/>
          <p:cNvSpPr/>
          <p:nvPr/>
        </p:nvSpPr>
        <p:spPr>
          <a:xfrm>
            <a:off x="3708360" y="177336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прямоугольный тре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Доказать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1908000" y="2924280"/>
            <a:ext cx="669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) Проведем высоту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з вершины прямого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) По определению косинуса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А=AD/AC=A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тсюда следу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AD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) Аналогично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В=BD/BC=B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знач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BD=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) Сложив полученные равенства почленно, получи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*(AD + 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        </a:t>
            </a:r>
            <a:r>
              <a:rPr b="1" i="1" lang="ru-RU" sz="1600" spc="-1" strike="noStrike">
                <a:solidFill>
                  <a:srgbClr val="008000"/>
                </a:solidFill>
                <a:latin typeface="Comic Sans MS"/>
              </a:rPr>
              <a:t>Что и требовалось доказ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4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4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7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6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770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1" dur="77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3" dur="77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5" dur="77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1117440" indent="-1117440">
              <a:buClr>
                <a:srgbClr val="e2d700"/>
              </a:buClr>
              <a:buFont typeface="Calibri"/>
              <a:buAutoNum type="roman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Геометрическое доказательство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9" name="Picture 4" descr="geometria"/>
          <p:cNvPicPr/>
          <p:nvPr/>
        </p:nvPicPr>
        <p:blipFill>
          <a:blip r:embed="rId1"/>
          <a:stretch/>
        </p:blipFill>
        <p:spPr>
          <a:xfrm>
            <a:off x="324000" y="981000"/>
            <a:ext cx="2519280" cy="170820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7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3180600" y="166896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о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B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прямоугольный треуголь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азать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=AB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A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1835280" y="2346840"/>
            <a:ext cx="5940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Доказатель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1) Построим отрезок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равный отрезку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на продолжении катета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прямоугольного треугольника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. Затем опустим перпендикуляр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к отрезку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, равный отрезку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, соединим точки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2) Площадь фигуры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можно найти, если рассматривать её как сумму площадей трёх треугольников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1763640" y="4076640"/>
            <a:ext cx="5867640" cy="34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2*AB*AC/2+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) Фигура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является трапецией, значит, её площадь равн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(DE+AB)*AD/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4) Если приравнять левые части найденных выражений, то получи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(DE+AB)(CD+AC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(AC+AB)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A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*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AB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+A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Это доказательство было опубликовано в 1882 году Гэрфилдом. </a:t>
            </a:r>
            <a:br>
              <a:rPr sz="1400"/>
            </a:br>
            <a:br>
              <a:rPr sz="3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path" presetID="1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78 0 L 0.25 0.16122 L 0.072 0.16122 L 0 0 Z">
                                      <p:cBhvr>
                                        <p:cTn id="438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4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4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600"/>
                            </p:stCondLst>
                            <p:childTnLst>
                              <p:par>
                                <p:cTn id="4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240"/>
                            </p:stCondLst>
                            <p:childTnLst>
                              <p:par>
                                <p:cTn id="4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2920"/>
                            </p:stCondLst>
                            <p:childTnLst>
                              <p:par>
                                <p:cTn id="4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342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540"/>
                            </p:stCondLst>
                            <p:childTnLst>
                              <p:par>
                                <p:cTn id="4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6040"/>
                            </p:stCondLst>
                            <p:childTnLst>
                              <p:par>
                                <p:cTn id="5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8280"/>
                            </p:stCondLst>
                            <p:childTnLst>
                              <p:par>
                                <p:cTn id="5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9440"/>
                            </p:stCondLst>
                            <p:childTnLst>
                              <p:par>
                                <p:cTn id="5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360"/>
                            </p:stCondLst>
                            <p:childTnLst>
                              <p:par>
                                <p:cTn id="5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1560"/>
                            </p:stCondLst>
                            <p:childTnLst>
                              <p:par>
                                <p:cTn id="5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2000" fill="hold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Значение теоремы Пифаго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898560" y="2139480"/>
            <a:ext cx="7199280" cy="29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62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орема Пифагора- это одна из самых важных теорем геометрии. Значение её состоит в том, что из неё или с её помощью можно вывести большинство теорем геометри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544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61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7920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оказательство теоремы Пифагора учащиеся средних веков считали очень трудным и называли его </a:t>
            </a:r>
            <a:r>
              <a:rPr b="0" lang="en-US" sz="2000" spc="-1" strike="noStrike">
                <a:solidFill>
                  <a:srgbClr val="008000"/>
                </a:solidFill>
                <a:latin typeface="Constantia"/>
              </a:rPr>
              <a:t>Don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Constantia"/>
              </a:rPr>
              <a:t>asinorum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 ослиный мост, или </a:t>
            </a:r>
            <a:r>
              <a:rPr b="0" lang="en-US" sz="2000" spc="-1" strike="noStrike">
                <a:solidFill>
                  <a:srgbClr val="008000"/>
                </a:solidFill>
                <a:latin typeface="Constantia"/>
              </a:rPr>
              <a:t>elefuga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 бегство «убогих», так как некоторые «убогие» ученики, не имевшие серьезной математической подготовки, бежали от геометрии. Слабые ученики, заучившие теоремы наизусть, без понимания, и прозванные поэтому «ослами», были не в состоянии преодолеть теорему Пифагора, служившую для них вроде непреодолимого моста. Из-за чертежей, сопровождающих теорему Пифагора, учащиеся называли ее также «ветряной мельницей», составляли стихи,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роде «Пифагоровы штаны на все стороны равны», рисовали карикатур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47" name="Object 5"/>
          <p:cNvGraphicFramePr/>
          <p:nvPr/>
        </p:nvGraphicFramePr>
        <p:xfrm>
          <a:off x="2916360" y="3414600"/>
          <a:ext cx="4319640" cy="34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3414600"/>
                    <a:ext cx="431964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4617b"/>
                </a:solidFill>
                <a:latin typeface="Calibri"/>
              </a:rPr>
              <a:t>Спасибо за внимание!</a:t>
            </a:r>
            <a:endParaRPr b="0" lang="en-US" sz="9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wedg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Теорема Пифагора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onstantia"/>
              </a:rPr>
              <a:t>Пребудет вечной истина, как скор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onstantia"/>
              </a:rPr>
              <a:t>Её познает слабый человек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onstantia"/>
              </a:rPr>
              <a:t>И ныне теорема Пифагор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onstantia"/>
              </a:rPr>
              <a:t>Верна, как и в его далёкий век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одерж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84360" y="2565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ормулировка теорем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казательства теорем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начение теоремы Пифагор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diamond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55160" y="430200"/>
            <a:ext cx="57358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Формулировка</a:t>
            </a:r>
            <a:br>
              <a:rPr sz="4000"/>
            </a:b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 теорем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50920" y="1915920"/>
            <a:ext cx="813096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85dfd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nstantia"/>
              </a:rPr>
              <a:t>« Доказать, что квадрат, построенный на гипотенузе прямоугольного треугольника, равновелик сумме квадратов, построенных на катетах»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85dfd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« Площадь квадрата, построенного на гипотенузе прямоугольного треугольника, равна сумме площадей квадратов, построенных на его катетах». 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85dfd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324000" y="16286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о времена Пифагора теорема звучала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3924360" y="3429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20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овременная формулиров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030320" y="2665080"/>
            <a:ext cx="7200720" cy="22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Constantia"/>
              </a:rPr>
              <a:t>« В прямоугольном треугольнике квадрат гипотенузы равен сумме квадратов катетов».</a:t>
            </a:r>
            <a:r>
              <a:rPr b="1" lang="ru-RU" sz="2600" spc="-1" strike="noStrike">
                <a:solidFill>
                  <a:srgbClr val="cc3300"/>
                </a:solidFill>
                <a:latin typeface="Constantia"/>
              </a:rPr>
              <a:t>    </a:t>
            </a:r>
            <a:r>
              <a:rPr b="0" lang="ru-RU" sz="2600" spc="-1" strike="noStrike">
                <a:solidFill>
                  <a:srgbClr val="cc33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blinds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казательства теорем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63360" y="2545920"/>
            <a:ext cx="7197480" cy="22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11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66ff"/>
                </a:solidFill>
                <a:latin typeface="Constantia"/>
              </a:rPr>
              <a:t>Существует около 500 различных доказательств этой теоремы (геометрических, алгебраических, механических и т.д.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6 -0.169 0.15589 C -0.169 0.2465 -0.114 0.32111 -0.044 0.32111 C -0.029 0.32111 -0.014 0.31711 0 0.31045 C -0.047 0.28647 -0.08 0.22651 -0.08 0.15589 C -0.08 0.08394 -0.047 0.02398 0 0 Z">
                                      <p:cBhvr>
                                        <p:cTn id="146" dur="3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L 0.188 0.14523 L 0.125 0.28913 L 0 0.28913 L -0.063 0.14523 L 0 0 Z">
                                      <p:cBhvr>
                                        <p:cTn id="150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1117440" indent="-1117440">
              <a:buClr>
                <a:srgbClr val="e2d700"/>
              </a:buClr>
              <a:buFont typeface="Calibri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амое простое доказательство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9163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ссмотрим квадрат, показанный на рисунк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орона квадрата равна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a + c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0" name="Picture 6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2484360" y="4005360"/>
            <a:ext cx="4533840" cy="22460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957360" y="45086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4707720" y="537372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8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100"/>
                            </p:stCondLst>
                            <p:childTnLst>
                              <p:par>
                                <p:cTn id="1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600"/>
                            </p:stCondLst>
                            <p:childTnLst>
                              <p:par>
                                <p:cTn id="1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50560" y="2205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одном случае (слева) квадрат разбит на квадрат со стороной </a:t>
            </a:r>
            <a:r>
              <a:rPr b="1" lang="ru-RU" sz="2000" spc="-1" strike="noStrike">
                <a:solidFill>
                  <a:srgbClr val="98d743"/>
                </a:solidFill>
                <a:latin typeface="Constantia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и четыре прямоугольных треугольника с катетами </a:t>
            </a:r>
            <a:r>
              <a:rPr b="1" lang="ru-RU" sz="2000" spc="-1" strike="noStrike">
                <a:solidFill>
                  <a:srgbClr val="66ccff"/>
                </a:solidFill>
                <a:latin typeface="Constantia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1" lang="ru-RU" sz="2000" spc="-1" strike="noStrike">
                <a:solidFill>
                  <a:srgbClr val="ff66ff"/>
                </a:solidFill>
                <a:latin typeface="Constantia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4" name="Picture 4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1835280" y="260280"/>
            <a:ext cx="5184720" cy="256392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7"/>
          <p:cNvSpPr/>
          <p:nvPr/>
        </p:nvSpPr>
        <p:spPr>
          <a:xfrm>
            <a:off x="1829520" y="692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507920" y="981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5070960" y="189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2916360" y="1159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4427640" y="3141720"/>
            <a:ext cx="4103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другом случае (справа) квадрат разбит на два квадрата со сторонами </a:t>
            </a: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четыре прямоугольных треугольника с катетами </a:t>
            </a: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4494960" y="20606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955560" y="105264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2195640" y="5229360"/>
            <a:ext cx="59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аким образом, получаем, что площадь квадрата со стороной </a:t>
            </a:r>
            <a:r>
              <a:rPr b="1" lang="ru-RU" sz="2000" spc="-1" strike="noStrike">
                <a:solidFill>
                  <a:srgbClr val="98d743"/>
                </a:solidFill>
                <a:latin typeface="Comic Sans MS"/>
              </a:rPr>
              <a:t>b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авна сумме площадей квадратов со сторонами </a:t>
            </a: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1117440" indent="-1117440">
              <a:buClr>
                <a:srgbClr val="e2d700"/>
              </a:buClr>
              <a:buFont typeface="Calibri"/>
              <a:buAutoNum type="roman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казательство Евклида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185640" y="2896920"/>
            <a:ext cx="3170520" cy="24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прямоугольный треугольник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nstantia"/>
              </a:rPr>
              <a:t>ABDE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=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nstantia"/>
              </a:rPr>
              <a:t>ACFG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+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nstantia"/>
              </a:rPr>
              <a:t>BCH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5" name="Picture 9" descr="evklid"/>
          <p:cNvPicPr/>
          <p:nvPr/>
        </p:nvPicPr>
        <p:blipFill>
          <a:blip r:embed="rId1"/>
          <a:stretch/>
        </p:blipFill>
        <p:spPr>
          <a:xfrm>
            <a:off x="179280" y="1197000"/>
            <a:ext cx="2562480" cy="318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6" name="Object 8"/>
          <p:cNvGraphicFramePr/>
          <p:nvPr/>
        </p:nvGraphicFramePr>
        <p:xfrm>
          <a:off x="5867280" y="1231920"/>
          <a:ext cx="2327400" cy="312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231920"/>
                    <a:ext cx="232740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4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4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4:48:45Z</dcterms:created>
  <dc:creator>Сеничак Я. Борзова В.</dc:creator>
  <dc:description/>
  <dc:language>en-US</dc:language>
  <cp:lastModifiedBy>Дом</cp:lastModifiedBy>
  <dcterms:modified xsi:type="dcterms:W3CDTF">2013-04-09T16:56:56Z</dcterms:modified>
  <cp:revision>76</cp:revision>
  <dc:subject/>
  <dc:title>Теорема Пифагора</dc:title>
</cp:coreProperties>
</file>