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749-7677-473B-852A-D23BA118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D2D-624C-45C6-A306-A56C94F8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064-90AB-4312-B3C0-E930D449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3C1-EB40-49BD-B403-5E6CDC31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A4D3-4037-4CA0-873F-C38CAF00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3915-67E3-446D-BD0D-740F6458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172C-39DC-4AB9-8648-56A5E94D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79ED-2FD1-4DAE-8A7E-A1866FD0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5208-0B35-425A-8CBE-F201D1FC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53AE-2A12-4BA2-B676-50887120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9EFD-06EE-46A6-A15F-4E735A50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BA00-9BE4-41DB-ABAA-E416BCC6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C42D-CB58-4187-997A-A501FE44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71D8-90DC-4CC0-9C7E-2E01E27C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49AD-3312-4803-B555-616BBD36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BF15-8B9E-44A3-BBE0-C6E7ECC6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2681-6049-4DBE-803E-C5F9659E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6EB2-0891-429E-B0B4-67DF301B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EFCF-5AA1-493F-8EC2-BE71A62A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E515C-DBDA-4479-ADAA-F7A3EFCA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E0F9-633E-41E1-ADE8-B7BF3389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53DA-5349-4113-984D-ABE64A16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4F6-49D9-494D-BA1A-D0B09F66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8D25-5726-4790-886A-7940C196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472A-D925-4E20-840B-6D3D7330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3E96-3AE6-456F-BBF3-43976309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9583B-73A9-4ABD-BEA5-587DE160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EACC-ABBA-46A1-8A8C-CF7B2F70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ECD8-5D11-4E83-A010-C31411A9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9CA9-31EB-4130-A355-8AFA2D2C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A3EC-4315-493F-8A99-F984732E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63EC7-A77D-436E-A05F-3D284898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3C67-1590-4657-99B7-01BD8E58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EF2-2DAB-48B8-8D50-2F94CC7C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5CE1-CACF-46C7-9C0C-F5D5B3E5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884DA-6DC6-4BE7-A77D-D01AB831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0EC4-E88B-4C4B-98BD-F609AE6D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4A7FB-FE5D-4107-9C8F-BE6755E0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3160-21D3-49CB-8F6B-4CF7D4B9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725B-F05B-44C5-803F-1BFA751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E6D6-47A2-4A98-B39F-E35E8390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27AB9-C020-47C1-8B08-DA441887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965CF-8E11-4CD2-8755-753714CD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E5DA-8E24-401C-9AF6-477E8628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AC1-E023-480C-9514-D1DFCC56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F343A-A8AE-400B-B515-D577424A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D5779-00E8-4E9F-B798-E050892B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A2698-D20C-4C8D-8003-C82BAEF7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05A1-80B4-4EF7-9D70-665C9FEA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8E0DF-1635-4823-8080-CA24F773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21C89-D520-4315-95B7-32E9BB4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C4BD9-CABD-426C-9959-A839DE3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7FCF4-271B-4112-90D0-4C578C5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F9924-9AF6-424B-88B3-6CEEE56F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775E8-0558-4F65-B384-26726234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B39-3251-4FF3-A906-2406CA25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980C-E166-4A8E-B6D7-0BF243D1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2CE8B-5EB0-4E56-AC03-A950C4EC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7BFEA-F293-4B67-9B4B-81329217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560B0-6531-40A8-B3D3-916A9116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6844D-865A-4E5C-8601-BD8D4421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75F9-1C16-4701-9C41-84F61CE5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14A13-C490-4156-9B73-155DC195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A5632-F7D7-4586-B4D4-53C0D436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E6792-4C55-4D7A-8BFD-4FBC44B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4DEEF-CC1A-459E-9EDA-806D31A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FAC-883F-4810-BB4A-DC50D466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F8496-0C94-48AC-B780-AE306337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C7309-789F-4119-90EF-66BF2B41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AE923-2332-4ACF-8145-3E39E19D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396-BC5F-45A4-A074-B48A7695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F9E-B31A-4090-B0E5-14BD04FE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9CB6-B469-48F3-9C8C-DA555D678A2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EB1C-DC17-46A0-8E95-C1D5E9246B3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3D26-4D0A-42BC-83C4-5A3EA79DFC0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80C8-F15D-48FD-81ED-CB9374FCAD7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254A-75C7-4732-967F-833E4C2F259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83FF-8988-40A9-B736-CBEC2D521F0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5dfd0"/>
                </a:solidFill>
                <a:latin typeface="Constantia"/>
              </a:rPr>
              <a:t>Проектная работа по теме: «Доказательство теоремы Пифагора»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fafc"/>
                </a:solidFill>
                <a:latin typeface="Constantia"/>
              </a:rPr>
              <a:t>Работу выполнили: Сеничак Ярослав и Борзова Валер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fafc"/>
                </a:solidFill>
                <a:latin typeface="Constantia"/>
              </a:rPr>
              <a:t>Руководитель: Бычко Галина Михайловна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Доказательство: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усть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ABD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квадрат, построенный на гипотенузе прямоугольного треугольника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AB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а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ACF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BCHI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квадраты, построенные на его катетах. Опустим из вершины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рямого угла 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CP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на гипотенузу и продолжим его до пересечения со стороной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D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квадрата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ABD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 точке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; соединим точки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0" name="Picture 4" descr="evklid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97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nstantia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4" descr="evklid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7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117440" indent="-1117440">
              <a:buClr>
                <a:srgbClr val="e2d700"/>
              </a:buClr>
              <a:buFont typeface="Calibri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лгебраическое доказательство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5" name="Picture 4" descr="algebra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117440" indent="-1117440">
              <a:buClr>
                <a:srgbClr val="e2d700"/>
              </a:buClr>
              <a:buFont typeface="Calibri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Геометрическое доказательство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9" name="Picture 4" descr="geometria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7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5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4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60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24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920"/>
                            </p:stCondLst>
                            <p:childTnLst>
                              <p:par>
                                <p:cTn id="4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342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54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604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828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9440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36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1560"/>
                            </p:stCondLst>
                            <p:childTnLst>
                              <p:par>
                                <p:cTn id="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начение теоремы Пифаго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4622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57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nstantia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7" name="Object 5"/>
          <p:cNvGraphicFramePr/>
          <p:nvPr/>
        </p:nvGraphicFramePr>
        <p:xfrm>
          <a:off x="2916360" y="3414600"/>
          <a:ext cx="431964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1964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4617b"/>
                </a:solidFill>
                <a:latin typeface="Calibri"/>
              </a:rPr>
              <a:t>Спасибо за внимание!</a:t>
            </a: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wedge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Calibri"/>
              </a:rPr>
              <a:t>Теорема Пифагора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Пребудет вечной истина, как скор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Её познает слабый человек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И ныне теорема Пифаго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onstantia"/>
              </a:rPr>
              <a:t>Верна, как и в его далёкий век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держ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улировка теоре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оказательства теорем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начение теоремы Пифаг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diamond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Формулировка</a:t>
            </a:r>
            <a:br>
              <a:rPr sz="4000"/>
            </a:b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 теорем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5dfd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nstantia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5dfd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85dfd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20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овременная формулиро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00"/>
                </a:solidFill>
                <a:latin typeface="Constantia"/>
              </a:rPr>
              <a:t>« В прямоугольном треугольнике квадрат гипотенузы равен сумме квадратов катетов».</a:t>
            </a:r>
            <a:r>
              <a:rPr b="1" lang="ru-RU" sz="2600" spc="-1" strike="noStrike">
                <a:solidFill>
                  <a:srgbClr val="cc3300"/>
                </a:solidFill>
                <a:latin typeface="Constantia"/>
              </a:rPr>
              <a:t>    </a:t>
            </a:r>
            <a:r>
              <a:rPr b="0" lang="ru-RU" sz="2600" spc="-1" strike="noStrike">
                <a:solidFill>
                  <a:srgbClr val="cc33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blinds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казательства теор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11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66ff"/>
                </a:solidFill>
                <a:latin typeface="Constantia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ver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46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5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117440" indent="-1117440">
              <a:buClr>
                <a:srgbClr val="e2d700"/>
              </a:buClr>
              <a:buFont typeface="Calibri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мое простое доказательст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смотрим квадрат, показанный на рисун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орона квадрата равна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a + c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6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100"/>
                            </p:stCondLst>
                            <p:childTnLst>
                              <p:par>
                                <p:cTn id="1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600"/>
                            </p:stCondLst>
                            <p:childTnLst>
                              <p:par>
                                <p:cTn id="1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nstantia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nstantia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nstantia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4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1117440" indent="-1117440">
              <a:buClr>
                <a:srgbClr val="e2d700"/>
              </a:buClr>
              <a:buFont typeface="Calibri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казательство Евклида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nstantia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5" name="Picture 9" descr="evklid"/>
          <p:cNvPicPr/>
          <p:nvPr/>
        </p:nvPicPr>
        <p:blipFill>
          <a:blip r:embed="rId1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Object 8"/>
          <p:cNvGraphicFramePr/>
          <p:nvPr/>
        </p:nvGraphicFramePr>
        <p:xfrm>
          <a:off x="5867280" y="1231920"/>
          <a:ext cx="2327400" cy="312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231920"/>
                    <a:ext cx="232740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Сеничак Я. Борзова В.</dc:creator>
  <dc:description/>
  <dc:language>en-US</dc:language>
  <cp:lastModifiedBy>Дом</cp:lastModifiedBy>
  <dcterms:modified xsi:type="dcterms:W3CDTF">2013-04-09T16:56:56Z</dcterms:modified>
  <cp:revision>76</cp:revision>
  <dc:subject/>
  <dc:title>Теорема Пифагора</dc:title>
</cp:coreProperties>
</file>