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BCB-84E6-4946-A071-CCA5D5F5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42B-EA86-4921-835C-5274879D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16E-A18E-469A-BA4C-AE8A13A9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7F6-0986-4613-ABB5-F403C076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6DC4-4129-4C5F-92AD-4B0B36B0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85FD-63B9-4FE6-8111-C6CC8DA4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72B8-C37E-4152-BADA-1310648F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8F9B-A2AA-44DA-B71F-D54C0CEB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B887-4745-426D-992A-C4D8346C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2B0D-2FCD-41D8-AA3B-EC51460C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1450-5E83-4D92-BCD5-5C212F6C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61A-9A77-4C9C-8677-6F907407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42B4-8BA0-4582-A3EB-40424760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F001-A7D8-4ACF-8703-E710E9F5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336F-AE24-4562-B3EA-7F929C88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96CB-25FA-41C2-877E-03A6E36D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C572-1F99-425B-A2E6-2FE07503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E1255-3DAA-43C9-AD30-255AAFF2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9D6D6-669D-4493-984C-6D648B1E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90745-05FB-41A4-8311-595A45BA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64D40-7B1E-4352-9898-72A28652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83C8F-CCE9-448C-AE8B-CF1E74A4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795-AA8E-40DE-A99C-6DBAC8B3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54E54-F914-4E49-A910-F96B57F2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82E85-2D37-49FB-9AE0-75A8C87D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C9D5A-F003-4C9E-86B8-3BB433E5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E21DE-723A-4100-A8E4-30B2D75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C4ED1-80B8-4455-BAA2-26EECB28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8A91D-20E8-44C6-8488-978417CE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AC657-B0D8-4B45-AF6D-936BE335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8F62-BDED-410F-A90D-4CFBB9A1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7377-0EC8-404D-8A2B-297F6E95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E3BBA-2680-4E8C-91D4-9F9649BB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B60-80F7-467D-B04C-0044BB0B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D225B-CF52-4CE3-8B27-EC808BB5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D07C-DE82-4CE9-9854-6D1AA567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5B510-466E-452B-98C7-AA38E229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D33C3-CA11-40EF-A5C2-E8D46F25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AFC3F-1F94-445C-9BE4-DA0C39C3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B54DF-E241-42C7-9ACF-DCC9186F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A3F7D-E7AD-464B-959F-A6E7FDC8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930BD-E13D-4403-8F51-7B74C31A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833EE-BA3B-4AF8-94F3-2B08259B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22611-B199-48D7-9A36-4851DFAC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726-DA03-4278-90EF-8D589D62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75B38-CE38-489E-88A3-CF0C076E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9B1B0-BCE1-42FA-AE4F-5D05EF79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7AADA-CA31-4E9B-A6BA-92A72946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507AB-545D-48F1-8FD1-802E30A3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E6EFC-B7E4-45D6-BE7F-E8160453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C650E-6CC2-4AD5-8D61-AC45EF3E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EF08B-F606-4ACE-8970-DE1E6A9D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FD7DA8-A2BF-40FF-B139-AA6F36F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4BDBE-3D77-47FE-A579-6115BFE9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04D25-A4A2-44BB-8576-A9DB5B57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C71-DCE9-4F01-9114-5D22FF06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4DD08-A0F3-4F8E-9571-BDDCCCEB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C629E-58A1-4D7F-8813-2FD496A7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65E1B4-143A-4664-913F-686ADDF7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E1B4F-515A-4D79-BE30-761DCB6A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0F266-E677-4A54-843C-0EBD2802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FD3DA7-8604-4A51-9F1B-3C7A41E4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F7F37-E509-4BBD-9666-C774F7A3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D8C3F-11A9-49B5-B78F-E153D198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219B8A-6E1B-4C25-AC16-67827393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B788C-EBA7-409B-8D4F-E96E5DF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969-6C10-4ACB-B6F6-F8159CFC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4A5795-49FD-4513-87D1-B3A3FD65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75CA9-02C2-47E4-8B71-D6B782AB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7A9F2-9D76-4811-909F-6B0F7185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B2E93-1721-4954-9F2A-280C4832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CD17D-B6D6-4207-A666-C3E3D298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5CF0E-7370-4876-A4A7-6A553D78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BF882-B9C9-4A7C-887F-4FD2785F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61B8F9-781E-44F5-81FD-05601CE3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79C3F3-AEA1-421A-96F8-05D3838F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7B0E5-606E-4F7B-A6D6-CE4A6886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62B-9DAC-49A2-AD81-7B878387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02A11-E34F-4218-B927-AA94AE01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8FC9ED-3996-4FF6-8EBB-DA59B01E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DE1E3-94D7-41FC-B31D-DF5B1F86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4437E-939D-467C-B5FC-51D605A1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C04D2F-F466-4EB9-A721-FC46B0C2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B89-29E2-4EAF-8EB9-DF4D17C7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3769-DB6B-42A2-8510-D120839C08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E635-2B8B-405A-8C3C-26EA821324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9DBA-5C51-4C10-8CF4-D1EC32DA85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75F2-2EE9-4D6F-8AD4-273DD4FD64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FDA8-3638-4CF0-8A37-F390CB6711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E503-95FE-41E5-B244-0D8B003F75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A8AC-5224-41CD-8545-98533A640AF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5" descr=""/>
          <p:cNvPicPr/>
          <p:nvPr/>
        </p:nvPicPr>
        <p:blipFill>
          <a:blip r:embed="rId1"/>
          <a:stretch/>
        </p:blipFill>
        <p:spPr>
          <a:xfrm>
            <a:off x="1743120" y="1828800"/>
            <a:ext cx="7229520" cy="24084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6"/>
          <p:cNvSpPr/>
          <p:nvPr/>
        </p:nvSpPr>
        <p:spPr>
          <a:xfrm>
            <a:off x="1714680" y="417600"/>
            <a:ext cx="70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a3d01"/>
                </a:solidFill>
                <a:latin typeface="Arial"/>
              </a:rPr>
              <a:t>Элективный курс «твоя профессиональная карьер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Скругленный прямоугольник 3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Три слагаемых правильног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выбора професс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25"/>
          <p:cNvGrpSpPr/>
          <p:nvPr/>
        </p:nvGrpSpPr>
        <p:grpSpPr>
          <a:xfrm>
            <a:off x="3571920" y="4786200"/>
            <a:ext cx="3142800" cy="2071080"/>
            <a:chOff x="3571920" y="4786200"/>
            <a:chExt cx="3142800" cy="2071080"/>
          </a:xfrm>
        </p:grpSpPr>
        <p:pic>
          <p:nvPicPr>
            <p:cNvPr id="374" name="Picture 19" descr="b-00019872-a-00006846"/>
            <p:cNvPicPr/>
            <p:nvPr/>
          </p:nvPicPr>
          <p:blipFill>
            <a:blip r:embed="rId1"/>
            <a:stretch/>
          </p:blipFill>
          <p:spPr>
            <a:xfrm>
              <a:off x="3571920" y="4786200"/>
              <a:ext cx="3142800" cy="20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21"/>
            <p:cNvSpPr/>
            <p:nvPr/>
          </p:nvSpPr>
          <p:spPr>
            <a:xfrm rot="10800000">
              <a:off x="4803120" y="6552360"/>
              <a:ext cx="667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9a3d01"/>
                  </a:solidFill>
                  <a:latin typeface="Arial"/>
                </a:rPr>
                <a:t>Хочу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9a3d01"/>
                  </a:solidFill>
                  <a:latin typeface="Arial"/>
                </a:rPr>
                <a:t>Могу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Box 8"/>
          <p:cNvSpPr/>
          <p:nvPr/>
        </p:nvSpPr>
        <p:spPr>
          <a:xfrm>
            <a:off x="1928880" y="1571760"/>
            <a:ext cx="678636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9a3d01"/>
                </a:solidFill>
                <a:uFillTx/>
                <a:latin typeface="Arial"/>
              </a:rPr>
              <a:t>Во-вторых</a:t>
            </a: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, человек должен обладать набором профессионально важных для этой работы качеств: интеллектуальных, физических, психологических (МОГУ). </a:t>
            </a:r>
            <a:r>
              <a:rPr b="1" lang="ru-RU" sz="2500" spc="-1" strike="noStrike">
                <a:solidFill>
                  <a:srgbClr val="9a3d01"/>
                </a:solidFill>
                <a:latin typeface="Arial"/>
              </a:rPr>
              <a:t>МОГУ</a:t>
            </a: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 ли я работать по этой профессии? Хватит ли моих способностей и здоровья для этого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Скругленный прямоугольник 3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Три слагаемых правильног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выбора професс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25"/>
          <p:cNvGrpSpPr/>
          <p:nvPr/>
        </p:nvGrpSpPr>
        <p:grpSpPr>
          <a:xfrm>
            <a:off x="3571920" y="4786200"/>
            <a:ext cx="3142800" cy="2071080"/>
            <a:chOff x="3571920" y="4786200"/>
            <a:chExt cx="3142800" cy="2071080"/>
          </a:xfrm>
        </p:grpSpPr>
        <p:pic>
          <p:nvPicPr>
            <p:cNvPr id="379" name="Picture 19" descr="b-00019872-a-00006846"/>
            <p:cNvPicPr/>
            <p:nvPr/>
          </p:nvPicPr>
          <p:blipFill>
            <a:blip r:embed="rId1"/>
            <a:stretch/>
          </p:blipFill>
          <p:spPr>
            <a:xfrm>
              <a:off x="3571920" y="4786200"/>
              <a:ext cx="3142800" cy="20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21"/>
            <p:cNvSpPr/>
            <p:nvPr/>
          </p:nvSpPr>
          <p:spPr>
            <a:xfrm rot="10800000">
              <a:off x="4803120" y="6552360"/>
              <a:ext cx="667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9a3d01"/>
                  </a:solidFill>
                  <a:latin typeface="Arial"/>
                </a:rPr>
                <a:t>Хочу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9a3d01"/>
                  </a:solidFill>
                  <a:latin typeface="Arial"/>
                </a:rPr>
                <a:t>Могу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Box 7"/>
          <p:cNvSpPr/>
          <p:nvPr/>
        </p:nvSpPr>
        <p:spPr>
          <a:xfrm>
            <a:off x="1928880" y="1571760"/>
            <a:ext cx="67863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9a3d01"/>
                </a:solidFill>
                <a:uFillTx/>
                <a:latin typeface="Arial"/>
              </a:rPr>
              <a:t>В-третьих</a:t>
            </a: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, эта профессия должна пользоваться спросом на рынке труда (НАДО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Так ли </a:t>
            </a:r>
            <a:r>
              <a:rPr b="1" lang="ru-RU" sz="2500" spc="-1" strike="noStrike">
                <a:solidFill>
                  <a:srgbClr val="9a3d01"/>
                </a:solidFill>
                <a:latin typeface="Arial"/>
              </a:rPr>
              <a:t>НУЖНА</a:t>
            </a: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 выбранная профессия в городе? Смогу ли я потом устроиться на работ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6"/>
          <p:cNvSpPr/>
          <p:nvPr/>
        </p:nvSpPr>
        <p:spPr>
          <a:xfrm>
            <a:off x="3419640" y="4508640"/>
            <a:ext cx="2160360" cy="2016000"/>
          </a:xfrm>
          <a:prstGeom prst="ellipse">
            <a:avLst/>
          </a:prstGeom>
          <a:solidFill>
            <a:srgbClr val="fe8637">
              <a:alpha val="37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3d01"/>
                </a:solidFill>
                <a:latin typeface="Arial"/>
              </a:rPr>
              <a:t>НА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"/>
          <p:cNvSpPr/>
          <p:nvPr/>
        </p:nvSpPr>
        <p:spPr>
          <a:xfrm flipH="1" flipV="1">
            <a:off x="4500720" y="3141720"/>
            <a:ext cx="3456000" cy="2519280"/>
          </a:xfrm>
          <a:prstGeom prst="line">
            <a:avLst/>
          </a:prstGeom>
          <a:ln w="76320">
            <a:solidFill>
              <a:srgbClr val="fe863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6572160" y="5643720"/>
            <a:ext cx="2571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9a3d01"/>
                </a:solidFill>
                <a:latin typeface="Arial"/>
              </a:rPr>
              <a:t>УСПЕ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11"/>
          <p:cNvGrpSpPr/>
          <p:nvPr/>
        </p:nvGrpSpPr>
        <p:grpSpPr>
          <a:xfrm>
            <a:off x="611280" y="1989000"/>
            <a:ext cx="2089080" cy="2016000"/>
            <a:chOff x="611280" y="1989000"/>
            <a:chExt cx="2089080" cy="2016000"/>
          </a:xfrm>
        </p:grpSpPr>
        <p:sp>
          <p:nvSpPr>
            <p:cNvPr id="386" name="Oval 4"/>
            <p:cNvSpPr/>
            <p:nvPr/>
          </p:nvSpPr>
          <p:spPr>
            <a:xfrm>
              <a:off x="611280" y="1989000"/>
              <a:ext cx="2089080" cy="2016000"/>
            </a:xfrm>
            <a:prstGeom prst="ellipse">
              <a:avLst/>
            </a:prstGeom>
            <a:solidFill>
              <a:srgbClr val="c00000">
                <a:alpha val="34000"/>
              </a:srgbClr>
            </a:solidFill>
            <a:ln w="22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9"/>
            <p:cNvSpPr/>
            <p:nvPr/>
          </p:nvSpPr>
          <p:spPr>
            <a:xfrm>
              <a:off x="1143720" y="2142720"/>
              <a:ext cx="102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a3d01"/>
                  </a:solidFill>
                  <a:latin typeface="Arial"/>
                </a:rPr>
                <a:t>ХОЧ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6659640" y="2060640"/>
            <a:ext cx="2160360" cy="2016000"/>
            <a:chOff x="6659640" y="2060640"/>
            <a:chExt cx="2160360" cy="2016000"/>
          </a:xfrm>
        </p:grpSpPr>
        <p:sp>
          <p:nvSpPr>
            <p:cNvPr id="389" name="Oval 5"/>
            <p:cNvSpPr/>
            <p:nvPr/>
          </p:nvSpPr>
          <p:spPr>
            <a:xfrm>
              <a:off x="6659640" y="2060640"/>
              <a:ext cx="2160360" cy="2016000"/>
            </a:xfrm>
            <a:prstGeom prst="ellipse">
              <a:avLst/>
            </a:prstGeom>
            <a:solidFill>
              <a:srgbClr val="339966">
                <a:alpha val="43000"/>
              </a:srgbClr>
            </a:solidFill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215840" y="2214360"/>
              <a:ext cx="103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a3d01"/>
                  </a:solidFill>
                  <a:latin typeface="Arial"/>
                </a:rPr>
                <a:t>МОГ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Скругленный прямоугольник 12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ВЫБОР ПРОФЕСС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79191E-006 L 0.00018 -0.22012 E">
                                      <p:cBhvr>
                                        <p:cTn id="42" dur="20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6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4"/>
          <p:cNvSpPr/>
          <p:nvPr/>
        </p:nvSpPr>
        <p:spPr>
          <a:xfrm>
            <a:off x="2214720" y="3929040"/>
            <a:ext cx="664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a3d01"/>
                </a:solidFill>
                <a:latin typeface="Arial"/>
              </a:rPr>
              <a:t>На выбор профессии вли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a3d01"/>
                </a:solidFill>
                <a:latin typeface="Arial"/>
              </a:rPr>
              <a:t>ряд факторов, которые условно разделяют на внешние и внутрен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3" descr="http://www.bgshop.ru/photos1/866/8662865.jpg"/>
          <p:cNvPicPr/>
          <p:nvPr/>
        </p:nvPicPr>
        <p:blipFill>
          <a:blip r:embed="rId1"/>
          <a:stretch/>
        </p:blipFill>
        <p:spPr>
          <a:xfrm>
            <a:off x="3857760" y="642960"/>
            <a:ext cx="2857320" cy="2976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914400" y="107172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9a3d01"/>
                </a:solidFill>
                <a:uFillTx/>
                <a:latin typeface="Arial"/>
                <a:ea typeface="Arial"/>
              </a:rPr>
              <a:t>ВНЕШНИЕ </a:t>
            </a:r>
            <a:br>
              <a:rPr sz="4500"/>
            </a:br>
            <a:r>
              <a:rPr b="1" lang="ru-RU" sz="4500" spc="-1" strike="noStrike" u="sng">
                <a:solidFill>
                  <a:srgbClr val="9a3d01"/>
                </a:solidFill>
                <a:uFillTx/>
                <a:latin typeface="Arial"/>
                <a:ea typeface="Arial"/>
              </a:rPr>
              <a:t>СОЦИАЛЬНЫЕ ФАКТОР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Схема 8" descr=""/>
          <p:cNvPicPr/>
          <p:nvPr/>
        </p:nvPicPr>
        <p:blipFill>
          <a:blip r:embed="rId1"/>
          <a:stretch/>
        </p:blipFill>
        <p:spPr>
          <a:xfrm>
            <a:off x="2054160" y="2266920"/>
            <a:ext cx="6126120" cy="4097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914400" y="107172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9a3d01"/>
                </a:solidFill>
                <a:uFillTx/>
                <a:latin typeface="Arial"/>
                <a:ea typeface="Arial"/>
              </a:rPr>
              <a:t>ВНУТРЕННИЕ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 u="sng">
                <a:solidFill>
                  <a:srgbClr val="9a3d01"/>
                </a:solidFill>
                <a:uFillTx/>
                <a:latin typeface="Arial"/>
                <a:ea typeface="Arial"/>
              </a:rPr>
              <a:t>ЛИЧНОСТНЫЕ ФАКТОРЫ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Схема 4" descr=""/>
          <p:cNvPicPr/>
          <p:nvPr/>
        </p:nvPicPr>
        <p:blipFill>
          <a:blip r:embed="rId1"/>
          <a:stretch/>
        </p:blipFill>
        <p:spPr>
          <a:xfrm>
            <a:off x="2066760" y="2266920"/>
            <a:ext cx="6107400" cy="4091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Скругленный прямоугольник 3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«Образ профессии или профессионала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2143080" y="1928880"/>
            <a:ext cx="6715080" cy="33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9a3d01"/>
                </a:solidFill>
                <a:uFillTx/>
                <a:latin typeface="Arial"/>
              </a:rPr>
              <a:t>«Образ профессионала»</a:t>
            </a:r>
            <a:r>
              <a:rPr b="0" lang="ru-RU" sz="2000" spc="-1" strike="noStrike" u="sng">
                <a:solidFill>
                  <a:srgbClr val="9a3d01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9a3d01"/>
                </a:solidFill>
                <a:latin typeface="Arial"/>
              </a:rPr>
              <a:t>– это совокупность представлений и ожиданий, связанных не только с будущей профессией, но и с будущим образом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a3d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a3d01"/>
                </a:solidFill>
                <a:latin typeface="Arial"/>
              </a:rPr>
              <a:t>К сожалению, учащимся, выбирающим профессию, часто не осознаются или осознаются только поверхностные, внешние черты «образа профессионала», которые заслоняют собой собственно содержание будуще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Скругленный прямоугольник 3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«Образ себя в професси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2214720" y="1571760"/>
            <a:ext cx="671508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d01"/>
                </a:solidFill>
                <a:latin typeface="Arial"/>
              </a:rPr>
              <a:t>В «образ профессионала» входит и чаще всего оказывается самым главным </a:t>
            </a:r>
            <a:r>
              <a:rPr b="0" i="1" lang="ru-RU" sz="1800" spc="-1" strike="noStrike" u="sng">
                <a:solidFill>
                  <a:srgbClr val="9a3d01"/>
                </a:solidFill>
                <a:uFillTx/>
                <a:latin typeface="Arial"/>
              </a:rPr>
              <a:t>«образ себя в профессии»</a:t>
            </a:r>
            <a:r>
              <a:rPr b="0" lang="ru-RU" sz="1800" spc="-1" strike="noStrike">
                <a:solidFill>
                  <a:srgbClr val="9a3d0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d01"/>
                </a:solidFill>
                <a:latin typeface="Arial"/>
              </a:rPr>
              <a:t>(как я буду себя вести, какие я проявлю способности и добьюсь ли большого успеха, какой я буду «важный», или «влиятельный», или «значительный» в этой профессии, какие «важные» и интересные люди меня будут окружат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a3d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a3d01"/>
                </a:solidFill>
                <a:latin typeface="Arial"/>
              </a:rPr>
              <a:t>Менее значительной и соответственно менее осознаваемой частью «образа профессионала» является, как правило, содержание деятельности на конкретном рабочем месте (что же я буду все-таки делать по 8 часов каждый день?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Скругленный прямоугольник 3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Уровень притязан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2214720" y="1571760"/>
            <a:ext cx="642924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 u="sng">
                <a:solidFill>
                  <a:srgbClr val="9a3d01"/>
                </a:solidFill>
                <a:uFillTx/>
                <a:latin typeface="Arial"/>
              </a:rPr>
              <a:t>Уровень притязаний</a:t>
            </a:r>
            <a:r>
              <a:rPr b="0" i="1" lang="ru-RU" sz="2300" spc="-1" strike="noStrike" u="sng">
                <a:solidFill>
                  <a:srgbClr val="9a3d01"/>
                </a:solidFill>
                <a:uFillTx/>
                <a:latin typeface="Arial"/>
              </a:rPr>
              <a:t> </a:t>
            </a:r>
            <a:r>
              <a:rPr b="0" lang="ru-RU" sz="2300" spc="-1" strike="noStrike">
                <a:solidFill>
                  <a:srgbClr val="9a3d01"/>
                </a:solidFill>
                <a:latin typeface="Arial"/>
              </a:rPr>
              <a:t>– это то, к чему стремится человек, какой уровень достижений он ставит перед собо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a3d01"/>
                </a:solidFill>
                <a:latin typeface="Arial"/>
              </a:rPr>
              <a:t>Например, человек, желающий стать врачом, может стремиться поступить в лучший медицинский вуз (</a:t>
            </a:r>
            <a:r>
              <a:rPr b="1" i="1" lang="ru-RU" sz="1800" spc="-1" strike="noStrike" u="sng">
                <a:solidFill>
                  <a:srgbClr val="9a3d01"/>
                </a:solidFill>
                <a:uFillTx/>
                <a:latin typeface="Arial"/>
              </a:rPr>
              <a:t>высокий уровень притязаний</a:t>
            </a:r>
            <a:r>
              <a:rPr b="0" i="1" lang="ru-RU" sz="1800" spc="-1" strike="noStrike">
                <a:solidFill>
                  <a:srgbClr val="9a3d01"/>
                </a:solidFill>
                <a:latin typeface="Arial"/>
              </a:rPr>
              <a:t>) или может остановиться на медицинском учили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a3d01"/>
                </a:solidFill>
                <a:latin typeface="Arial"/>
              </a:rPr>
              <a:t>(</a:t>
            </a:r>
            <a:r>
              <a:rPr b="1" i="1" lang="ru-RU" sz="1800" spc="-1" strike="noStrike" u="sng">
                <a:solidFill>
                  <a:srgbClr val="9a3d01"/>
                </a:solidFill>
                <a:uFillTx/>
                <a:latin typeface="Arial"/>
              </a:rPr>
              <a:t>низкий уровень притязаний</a:t>
            </a:r>
            <a:r>
              <a:rPr b="0" i="1" lang="ru-RU" sz="1800" spc="-1" strike="noStrike">
                <a:solidFill>
                  <a:srgbClr val="9a3d01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Скругленный прямоугольник 3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Самооцен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2214720" y="1571760"/>
            <a:ext cx="6429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9a3d01"/>
                </a:solidFill>
                <a:latin typeface="Arial"/>
              </a:rPr>
              <a:t>На уровень притязаний во многом влияет </a:t>
            </a:r>
            <a:r>
              <a:rPr b="1" i="1" lang="ru-RU" sz="2300" spc="-1" strike="noStrike" u="sng">
                <a:solidFill>
                  <a:srgbClr val="9a3d01"/>
                </a:solidFill>
                <a:uFillTx/>
                <a:latin typeface="Arial"/>
              </a:rPr>
              <a:t>самооценка</a:t>
            </a:r>
            <a:r>
              <a:rPr b="1" i="1" lang="ru-RU" sz="2300" spc="-1" strike="noStrike">
                <a:solidFill>
                  <a:srgbClr val="9a3d01"/>
                </a:solidFill>
                <a:latin typeface="Arial"/>
              </a:rPr>
              <a:t>,</a:t>
            </a:r>
            <a:r>
              <a:rPr b="0" lang="ru-RU" sz="2300" spc="-1" strike="noStrike">
                <a:solidFill>
                  <a:srgbClr val="9a3d01"/>
                </a:solidFill>
                <a:latin typeface="Arial"/>
              </a:rPr>
              <a:t> т.е. оценивание человеком своих возможностей и способносте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a3d01"/>
                </a:solidFill>
                <a:latin typeface="Arial"/>
              </a:rPr>
              <a:t>Так, к примеру, человек, может быть, и хотел бы поступить в вуз, но боится не пройти по конкурсу, оценивая свои возможности как недостаточ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Скругленный прямоугольник 4"/>
          <p:cNvSpPr/>
          <p:nvPr/>
        </p:nvSpPr>
        <p:spPr>
          <a:xfrm>
            <a:off x="1857240" y="428760"/>
            <a:ext cx="6929640" cy="785520"/>
          </a:xfrm>
          <a:prstGeom prst="roundRect">
            <a:avLst>
              <a:gd name="adj" fmla="val 16667"/>
            </a:avLst>
          </a:prstGeom>
          <a:solidFill>
            <a:srgbClr val="ffe7d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Три слагаемых правильного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  <a:ea typeface="Arial"/>
              </a:rPr>
              <a:t>выбора професс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1643040" y="1357200"/>
            <a:ext cx="678672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9a3d01"/>
                </a:solidFill>
                <a:uFillTx/>
                <a:latin typeface="Arial"/>
              </a:rPr>
              <a:t>Во-первых</a:t>
            </a: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, будущая работа должна быть в радость, а не в тягость (ХОЧУ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a3d01"/>
                </a:solidFill>
                <a:latin typeface="Arial"/>
              </a:rPr>
              <a:t>ХОЧУ</a:t>
            </a:r>
            <a:r>
              <a:rPr b="0" lang="ru-RU" sz="2500" spc="-1" strike="noStrike">
                <a:solidFill>
                  <a:srgbClr val="9a3d01"/>
                </a:solidFill>
                <a:latin typeface="Arial"/>
              </a:rPr>
              <a:t> ли я быть профессионалом в данной области? Нравится ли мне та профессия, которую я выбираю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25"/>
          <p:cNvGrpSpPr/>
          <p:nvPr/>
        </p:nvGrpSpPr>
        <p:grpSpPr>
          <a:xfrm>
            <a:off x="3571920" y="4786200"/>
            <a:ext cx="3142800" cy="2071080"/>
            <a:chOff x="3571920" y="4786200"/>
            <a:chExt cx="3142800" cy="2071080"/>
          </a:xfrm>
        </p:grpSpPr>
        <p:pic>
          <p:nvPicPr>
            <p:cNvPr id="370" name="Picture 19" descr="b-00019872-a-00006846"/>
            <p:cNvPicPr/>
            <p:nvPr/>
          </p:nvPicPr>
          <p:blipFill>
            <a:blip r:embed="rId1"/>
            <a:stretch/>
          </p:blipFill>
          <p:spPr>
            <a:xfrm>
              <a:off x="3571920" y="4786200"/>
              <a:ext cx="3142800" cy="20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Text Box 21"/>
            <p:cNvSpPr/>
            <p:nvPr/>
          </p:nvSpPr>
          <p:spPr>
            <a:xfrm rot="10800000">
              <a:off x="4803120" y="6552360"/>
              <a:ext cx="667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9a3d01"/>
                  </a:solidFill>
                  <a:latin typeface="Arial"/>
                </a:rPr>
                <a:t>Хочу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9a3d01"/>
                  </a:solidFill>
                  <a:latin typeface="Arial"/>
                </a:rPr>
                <a:t>Могу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5:59:06Z</dcterms:created>
  <dc:creator>XTreme</dc:creator>
  <dc:description/>
  <dc:language>en-US</dc:language>
  <cp:lastModifiedBy>u</cp:lastModifiedBy>
  <dcterms:modified xsi:type="dcterms:W3CDTF">2013-04-03T15:14:51Z</dcterms:modified>
  <cp:revision>26</cp:revision>
  <dc:subject/>
  <dc:title>Факторы выбора профессии</dc:title>
</cp:coreProperties>
</file>