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266-F8EA-4702-9B0E-E8372DEA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5E2-C01D-48C6-A35E-3DC3381E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FBD-D35C-4641-B8EB-6A5C5099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E69-3314-4093-AD88-75F8C6F3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2E3F-BCCF-4721-9A22-124C78AD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0230-2C8F-40E9-8909-D494364E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FCC2-3E57-4B1A-90F8-6E66E131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D78E-E85F-40F5-B4BC-6DD64B48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1037-9BFB-490C-9F55-919A27E6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9A80-1208-4DCC-8629-D27DAD43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2130-E127-4842-BD8E-5726C3CE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D96-B2BC-4283-A558-DAEFEEAA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F52E-6E25-42E7-89EB-A0F0329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EA48-9E49-4151-A6BB-7B7705D1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99BB-BBA9-4918-9CAA-97E98A76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A0E6-A82E-42E1-8911-C1FA5083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9C69-7257-4C54-802C-C3CDA639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C9194-1CEA-4B6A-8343-05A346E7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6B5BB-5F1A-4EBE-84D4-480DBF7D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96A78-394D-42F6-AB5C-32978E7F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85071-E4CF-4DCF-8868-DE114748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5A205-8868-44D8-AD3F-6EB28A22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0D3-66DD-4173-AEF5-13F089EF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58592-C7BD-4394-A092-F2ADED2B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2B679-D6A6-4E93-9EB0-FDB6D036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DDE1A-CBC3-47D8-8351-99966F4E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72CB9-B20F-417A-BE6E-65251F5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6337C-4014-449D-AEFC-DF947B4E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4000D-BD93-49B4-8506-5E090275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7482D-EEAC-4128-BE42-14436F60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9ACC3-41CD-4FD4-9A7A-4A777CCF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7840A-6F1A-4284-BA61-4E1585C4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FCC17-5993-42BA-97A4-4ED89A3C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F0A-6FA2-41F0-B950-6BE8AC52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0CB1-8CF4-4748-9768-6889DB6D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1C98-2FE3-4363-B24A-41BE7091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DE1C-F5E0-4FA3-B3F8-3D6CE7ED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EB659-8A0D-4231-A2F3-D975E495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DC438-A2AA-494E-9D6B-3BF15848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8B4B-EEC8-4079-9CC1-8F237CFF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7D4BB-982F-4A17-9759-B6FAC60E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75F8-80EC-423D-B053-62564A7E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8F39-9BD1-4745-9207-C7E129D9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251DF-8956-4DF7-9D75-A8949D50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A2C-9B91-4AC1-92F5-D9BF6C36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929FA-0C6E-4842-A83C-301249E4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36480-F7FA-4227-A703-51F9DF8B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F9286-A4E4-440A-B34B-8403A523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42D00-7B1F-420B-816F-17B748D4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C19C0-5450-4B44-A8AC-DFE799A2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FAB12-5E70-4CCA-8737-E57919FA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79468-E4C8-4758-9484-8B4A1AE6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ED25C-B57D-401E-A534-0DA6C60D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C2D7C-4966-463E-9369-69DAEDE4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89C02-6C7D-4AFA-859A-65F57E11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DCA-2F96-49AF-912F-AC89BD75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3BFA3-0C7B-4BF4-B7B3-975CFDEE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78906-F22B-4839-BEAD-1630C1FB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73880-C7B0-4467-8BDF-F9E43AEF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32FF9-C115-4265-8976-3195F2BE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F9B69-A613-4EF5-B014-B2482C4D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5E216-C729-45DF-B660-B6EEABEA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F4F66-807C-4B14-90C1-EDB85AA6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EB9FE-48C9-47E9-BABF-D7F180A9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E1AA4-93C4-4228-BFA2-8C1DDA5C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796F2-36F3-4440-B1DD-B0404585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2EA-67FE-4CE0-8545-9A5FC615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35E37-5EBA-413A-B8F9-58179E8B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6AD08-FE6B-4482-B705-1C655CE1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56A44-F697-4869-86E1-99E4DC83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5584A-8277-4E4A-AC54-B14E61E0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AFA79-D20E-458E-ABD0-F52BF310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9BBBD-6FFF-47B3-95DC-B2104A63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F1FB5-90EB-4597-81F1-7DA51D8E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4CD5C-D2C1-41DA-A2B5-2056411A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F83B7-BC0B-4A9D-BD28-3872CDDA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312ABA-2CC1-4964-BD45-03BCC8D3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874-8B04-41EB-937E-82DAF2D5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1B9DB-C482-4C0C-9D62-EA384AEA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DFE43-C0EF-4633-B06C-2CAB1E18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39B38-F295-4714-8616-69325C50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40BA2-6AFA-4045-A5A9-ED889593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9A083-AC4B-4AE8-8417-C54786B7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098-CA03-4C99-9DDE-62DF2A53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1541-8494-4E0B-A229-45E0FEEE98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3048-60C8-4238-86EF-993576C688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F9BF-65A4-4738-B582-41F82D31DB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DE66-7BB4-409C-BF2E-367935B0FE7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AC5B-CD65-48F0-9135-271E42BF54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701A-F0E3-4833-A879-CB160DD64B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F2F2-250D-40F4-8A7B-0ED46EEDBA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5" descr=""/>
          <p:cNvPicPr/>
          <p:nvPr/>
        </p:nvPicPr>
        <p:blipFill>
          <a:blip r:embed="rId1"/>
          <a:stretch/>
        </p:blipFill>
        <p:spPr>
          <a:xfrm>
            <a:off x="1743120" y="1828800"/>
            <a:ext cx="7229520" cy="24084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6"/>
          <p:cNvSpPr/>
          <p:nvPr/>
        </p:nvSpPr>
        <p:spPr>
          <a:xfrm>
            <a:off x="1714680" y="417600"/>
            <a:ext cx="70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a3d01"/>
                </a:solidFill>
                <a:latin typeface="Arial"/>
              </a:rPr>
              <a:t>Элективный курс «твоя профессиональная карье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Три слагаемых правильног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выбора професс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5"/>
          <p:cNvGrpSpPr/>
          <p:nvPr/>
        </p:nvGrpSpPr>
        <p:grpSpPr>
          <a:xfrm>
            <a:off x="3571920" y="4786200"/>
            <a:ext cx="3142800" cy="2071080"/>
            <a:chOff x="3571920" y="4786200"/>
            <a:chExt cx="3142800" cy="2071080"/>
          </a:xfrm>
        </p:grpSpPr>
        <p:pic>
          <p:nvPicPr>
            <p:cNvPr id="374" name="Picture 19" descr="b-00019872-a-00006846"/>
            <p:cNvPicPr/>
            <p:nvPr/>
          </p:nvPicPr>
          <p:blipFill>
            <a:blip r:embed="rId1"/>
            <a:stretch/>
          </p:blipFill>
          <p:spPr>
            <a:xfrm>
              <a:off x="3571920" y="4786200"/>
              <a:ext cx="3142800" cy="20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21"/>
            <p:cNvSpPr/>
            <p:nvPr/>
          </p:nvSpPr>
          <p:spPr>
            <a:xfrm rot="10800000">
              <a:off x="4803120" y="6552360"/>
              <a:ext cx="667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Хоч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Мог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Box 8"/>
          <p:cNvSpPr/>
          <p:nvPr/>
        </p:nvSpPr>
        <p:spPr>
          <a:xfrm>
            <a:off x="1928880" y="1571760"/>
            <a:ext cx="678636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9a3d01"/>
                </a:solidFill>
                <a:uFillTx/>
                <a:latin typeface="Arial"/>
              </a:rPr>
              <a:t>Во-вторых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, человек должен обладать набором профессионально важных для этой работы качеств: интеллектуальных, физических, психологических (МОГУ). </a:t>
            </a:r>
            <a:r>
              <a:rPr b="1" lang="ru-RU" sz="2500" spc="-1" strike="noStrike">
                <a:solidFill>
                  <a:srgbClr val="9a3d01"/>
                </a:solidFill>
                <a:latin typeface="Arial"/>
              </a:rPr>
              <a:t>МОГУ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 ли я работать по этой профессии? Хватит ли моих способностей и здоровья для этого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Три слагаемых правильног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выбора професс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25"/>
          <p:cNvGrpSpPr/>
          <p:nvPr/>
        </p:nvGrpSpPr>
        <p:grpSpPr>
          <a:xfrm>
            <a:off x="3571920" y="4786200"/>
            <a:ext cx="3142800" cy="2071080"/>
            <a:chOff x="3571920" y="4786200"/>
            <a:chExt cx="3142800" cy="2071080"/>
          </a:xfrm>
        </p:grpSpPr>
        <p:pic>
          <p:nvPicPr>
            <p:cNvPr id="379" name="Picture 19" descr="b-00019872-a-00006846"/>
            <p:cNvPicPr/>
            <p:nvPr/>
          </p:nvPicPr>
          <p:blipFill>
            <a:blip r:embed="rId1"/>
            <a:stretch/>
          </p:blipFill>
          <p:spPr>
            <a:xfrm>
              <a:off x="3571920" y="4786200"/>
              <a:ext cx="3142800" cy="20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21"/>
            <p:cNvSpPr/>
            <p:nvPr/>
          </p:nvSpPr>
          <p:spPr>
            <a:xfrm rot="10800000">
              <a:off x="4803120" y="6552360"/>
              <a:ext cx="667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Хоч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Мог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7"/>
          <p:cNvSpPr/>
          <p:nvPr/>
        </p:nvSpPr>
        <p:spPr>
          <a:xfrm>
            <a:off x="1928880" y="1571760"/>
            <a:ext cx="67863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9a3d01"/>
                </a:solidFill>
                <a:uFillTx/>
                <a:latin typeface="Arial"/>
              </a:rPr>
              <a:t>В-третьих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, эта профессия должна пользоваться спросом на рынке труда (НАДО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Так ли </a:t>
            </a:r>
            <a:r>
              <a:rPr b="1" lang="ru-RU" sz="2500" spc="-1" strike="noStrike">
                <a:solidFill>
                  <a:srgbClr val="9a3d01"/>
                </a:solidFill>
                <a:latin typeface="Arial"/>
              </a:rPr>
              <a:t>НУЖНА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 выбранная профессия в городе? Смогу ли я потом устроиться на работ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6"/>
          <p:cNvSpPr/>
          <p:nvPr/>
        </p:nvSpPr>
        <p:spPr>
          <a:xfrm>
            <a:off x="3419640" y="4508640"/>
            <a:ext cx="2160360" cy="2016000"/>
          </a:xfrm>
          <a:prstGeom prst="ellipse">
            <a:avLst/>
          </a:prstGeom>
          <a:solidFill>
            <a:srgbClr val="fe8637">
              <a:alpha val="37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3d01"/>
                </a:solidFill>
                <a:latin typeface="Arial"/>
              </a:rPr>
              <a:t>Н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"/>
          <p:cNvSpPr/>
          <p:nvPr/>
        </p:nvSpPr>
        <p:spPr>
          <a:xfrm flipH="1" flipV="1">
            <a:off x="4500720" y="3141720"/>
            <a:ext cx="3456000" cy="2519280"/>
          </a:xfrm>
          <a:prstGeom prst="line">
            <a:avLst/>
          </a:prstGeom>
          <a:ln w="76320">
            <a:solidFill>
              <a:srgbClr val="fe8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6572160" y="5643720"/>
            <a:ext cx="2571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a3d01"/>
                </a:solidFill>
                <a:latin typeface="Arial"/>
              </a:rPr>
              <a:t>УСПЕ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1"/>
          <p:cNvGrpSpPr/>
          <p:nvPr/>
        </p:nvGrpSpPr>
        <p:grpSpPr>
          <a:xfrm>
            <a:off x="611280" y="1989000"/>
            <a:ext cx="2089080" cy="2016000"/>
            <a:chOff x="611280" y="1989000"/>
            <a:chExt cx="2089080" cy="2016000"/>
          </a:xfrm>
        </p:grpSpPr>
        <p:sp>
          <p:nvSpPr>
            <p:cNvPr id="386" name="Oval 4"/>
            <p:cNvSpPr/>
            <p:nvPr/>
          </p:nvSpPr>
          <p:spPr>
            <a:xfrm>
              <a:off x="611280" y="1989000"/>
              <a:ext cx="2089080" cy="2016000"/>
            </a:xfrm>
            <a:prstGeom prst="ellipse">
              <a:avLst/>
            </a:prstGeom>
            <a:solidFill>
              <a:srgbClr val="c00000">
                <a:alpha val="34000"/>
              </a:srgbClr>
            </a:solidFill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9"/>
            <p:cNvSpPr/>
            <p:nvPr/>
          </p:nvSpPr>
          <p:spPr>
            <a:xfrm>
              <a:off x="1143720" y="2142720"/>
              <a:ext cx="102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a3d01"/>
                  </a:solidFill>
                  <a:latin typeface="Arial"/>
                </a:rPr>
                <a:t>ХОЧ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6659640" y="2060640"/>
            <a:ext cx="2160360" cy="2016000"/>
            <a:chOff x="6659640" y="2060640"/>
            <a:chExt cx="2160360" cy="2016000"/>
          </a:xfrm>
        </p:grpSpPr>
        <p:sp>
          <p:nvSpPr>
            <p:cNvPr id="389" name="Oval 5"/>
            <p:cNvSpPr/>
            <p:nvPr/>
          </p:nvSpPr>
          <p:spPr>
            <a:xfrm>
              <a:off x="6659640" y="2060640"/>
              <a:ext cx="2160360" cy="2016000"/>
            </a:xfrm>
            <a:prstGeom prst="ellipse">
              <a:avLst/>
            </a:prstGeom>
            <a:solidFill>
              <a:srgbClr val="339966">
                <a:alpha val="43000"/>
              </a:srgbClr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215840" y="2214360"/>
              <a:ext cx="103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a3d01"/>
                  </a:solidFill>
                  <a:latin typeface="Arial"/>
                </a:rPr>
                <a:t>МОГ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Скругленный прямоугольник 12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ВЫБОР ПРОФЕСС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79191E-006 L 0.00018 -0.22012 E">
                                      <p:cBhvr>
                                        <p:cTn id="42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6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4"/>
          <p:cNvSpPr/>
          <p:nvPr/>
        </p:nvSpPr>
        <p:spPr>
          <a:xfrm>
            <a:off x="2214720" y="3929040"/>
            <a:ext cx="664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a3d01"/>
                </a:solidFill>
                <a:latin typeface="Arial"/>
              </a:rPr>
              <a:t>На выбор профессии вли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a3d01"/>
                </a:solidFill>
                <a:latin typeface="Arial"/>
              </a:rPr>
              <a:t>ряд факторов, которые условно разделяют на внешние и внутрен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3" descr="http://www.bgshop.ru/photos1/866/8662865.jpg"/>
          <p:cNvPicPr/>
          <p:nvPr/>
        </p:nvPicPr>
        <p:blipFill>
          <a:blip r:embed="rId1"/>
          <a:stretch/>
        </p:blipFill>
        <p:spPr>
          <a:xfrm>
            <a:off x="3857760" y="642960"/>
            <a:ext cx="2857320" cy="2976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14400" y="107172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9a3d01"/>
                </a:solidFill>
                <a:uFillTx/>
                <a:latin typeface="Arial"/>
                <a:ea typeface="Arial"/>
              </a:rPr>
              <a:t>ВНЕШНИЕ </a:t>
            </a:r>
            <a:br>
              <a:rPr sz="4500"/>
            </a:br>
            <a:r>
              <a:rPr b="1" lang="ru-RU" sz="4500" spc="-1" strike="noStrike" u="sng">
                <a:solidFill>
                  <a:srgbClr val="9a3d01"/>
                </a:solidFill>
                <a:uFillTx/>
                <a:latin typeface="Arial"/>
                <a:ea typeface="Arial"/>
              </a:rPr>
              <a:t>СОЦИАЛЬНЫЕ ФАКТОР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Схема 8" descr=""/>
          <p:cNvPicPr/>
          <p:nvPr/>
        </p:nvPicPr>
        <p:blipFill>
          <a:blip r:embed="rId1"/>
          <a:stretch/>
        </p:blipFill>
        <p:spPr>
          <a:xfrm>
            <a:off x="2054160" y="2266920"/>
            <a:ext cx="6126120" cy="4097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914400" y="107172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9a3d01"/>
                </a:solidFill>
                <a:uFillTx/>
                <a:latin typeface="Arial"/>
                <a:ea typeface="Arial"/>
              </a:rPr>
              <a:t>ВНУТРЕННИЕ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9a3d01"/>
                </a:solidFill>
                <a:uFillTx/>
                <a:latin typeface="Arial"/>
                <a:ea typeface="Arial"/>
              </a:rPr>
              <a:t>ЛИЧНОСТНЫЕ ФАКТОР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Схема 4" descr=""/>
          <p:cNvPicPr/>
          <p:nvPr/>
        </p:nvPicPr>
        <p:blipFill>
          <a:blip r:embed="rId1"/>
          <a:stretch/>
        </p:blipFill>
        <p:spPr>
          <a:xfrm>
            <a:off x="2066760" y="2266920"/>
            <a:ext cx="6107400" cy="4091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«Образ профессии или профессионала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2143080" y="1928880"/>
            <a:ext cx="671508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a3d01"/>
                </a:solidFill>
                <a:uFillTx/>
                <a:latin typeface="Arial"/>
              </a:rPr>
              <a:t>«Образ профессионала»</a:t>
            </a:r>
            <a:r>
              <a:rPr b="0" lang="ru-RU" sz="2000" spc="-1" strike="noStrike" u="sng">
                <a:solidFill>
                  <a:srgbClr val="9a3d01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9a3d01"/>
                </a:solidFill>
                <a:latin typeface="Arial"/>
              </a:rPr>
              <a:t>– это совокупность представлений и ожиданий, связанных не только с будущей профессией, но и с будущим образом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a3d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a3d01"/>
                </a:solidFill>
                <a:latin typeface="Arial"/>
              </a:rPr>
              <a:t>К сожалению, учащимся, выбирающим профессию, часто не осознаются или осознаются только поверхностные, внешние черты «образа профессионала», которые заслоняют собой собственно содержание будуще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«Образ себя в професси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2214720" y="1571760"/>
            <a:ext cx="671508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d01"/>
                </a:solidFill>
                <a:latin typeface="Arial"/>
              </a:rPr>
              <a:t>В «образ профессионала» входит и чаще всего оказывается самым главным </a:t>
            </a:r>
            <a:r>
              <a:rPr b="0" i="1" lang="ru-RU" sz="1800" spc="-1" strike="noStrike" u="sng">
                <a:solidFill>
                  <a:srgbClr val="9a3d01"/>
                </a:solidFill>
                <a:uFillTx/>
                <a:latin typeface="Arial"/>
              </a:rPr>
              <a:t>«образ себя в профессии»</a:t>
            </a:r>
            <a:r>
              <a:rPr b="0" lang="ru-RU" sz="1800" spc="-1" strike="noStrike">
                <a:solidFill>
                  <a:srgbClr val="9a3d0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d01"/>
                </a:solidFill>
                <a:latin typeface="Arial"/>
              </a:rPr>
              <a:t>(как я буду себя вести, какие я проявлю способности и добьюсь ли большого успеха, какой я буду «важный», или «влиятельный», или «значительный» в этой профессии, какие «важные» и интересные люди меня будут окружат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a3d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a3d01"/>
                </a:solidFill>
                <a:latin typeface="Arial"/>
              </a:rPr>
              <a:t>Менее значительной и соответственно менее осознаваемой частью «образа профессионала» является, как правило, содержание деятельности на конкретном рабочем месте (что же я буду все-таки делать по 8 часов каждый день?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Уровень притязан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2214720" y="1571760"/>
            <a:ext cx="642924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9a3d01"/>
                </a:solidFill>
                <a:uFillTx/>
                <a:latin typeface="Arial"/>
              </a:rPr>
              <a:t>Уровень притязаний</a:t>
            </a:r>
            <a:r>
              <a:rPr b="0" i="1" lang="ru-RU" sz="2300" spc="-1" strike="noStrike" u="sng">
                <a:solidFill>
                  <a:srgbClr val="9a3d01"/>
                </a:solidFill>
                <a:uFillTx/>
                <a:latin typeface="Arial"/>
              </a:rPr>
              <a:t> </a:t>
            </a:r>
            <a:r>
              <a:rPr b="0" lang="ru-RU" sz="2300" spc="-1" strike="noStrike">
                <a:solidFill>
                  <a:srgbClr val="9a3d01"/>
                </a:solidFill>
                <a:latin typeface="Arial"/>
              </a:rPr>
              <a:t>– это то, к чему стремится человек, какой уровень достижений он ставит перед собо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a3d01"/>
                </a:solidFill>
                <a:latin typeface="Arial"/>
              </a:rPr>
              <a:t>Например, человек, желающий стать врачом, может стремиться поступить в лучший медицинский вуз (</a:t>
            </a:r>
            <a:r>
              <a:rPr b="1" i="1" lang="ru-RU" sz="1800" spc="-1" strike="noStrike" u="sng">
                <a:solidFill>
                  <a:srgbClr val="9a3d01"/>
                </a:solidFill>
                <a:uFillTx/>
                <a:latin typeface="Arial"/>
              </a:rPr>
              <a:t>высокий уровень притязаний</a:t>
            </a:r>
            <a:r>
              <a:rPr b="0" i="1" lang="ru-RU" sz="1800" spc="-1" strike="noStrike">
                <a:solidFill>
                  <a:srgbClr val="9a3d01"/>
                </a:solidFill>
                <a:latin typeface="Arial"/>
              </a:rPr>
              <a:t>) или может остановиться на медицинском учили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a3d01"/>
                </a:solidFill>
                <a:latin typeface="Arial"/>
              </a:rPr>
              <a:t>(</a:t>
            </a:r>
            <a:r>
              <a:rPr b="1" i="1" lang="ru-RU" sz="1800" spc="-1" strike="noStrike" u="sng">
                <a:solidFill>
                  <a:srgbClr val="9a3d01"/>
                </a:solidFill>
                <a:uFillTx/>
                <a:latin typeface="Arial"/>
              </a:rPr>
              <a:t>низкий уровень притязаний</a:t>
            </a:r>
            <a:r>
              <a:rPr b="0" i="1" lang="ru-RU" sz="1800" spc="-1" strike="noStrike">
                <a:solidFill>
                  <a:srgbClr val="9a3d01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Самооцен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2214720" y="1571760"/>
            <a:ext cx="6429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a3d01"/>
                </a:solidFill>
                <a:latin typeface="Arial"/>
              </a:rPr>
              <a:t>На уровень притязаний во многом влияет </a:t>
            </a:r>
            <a:r>
              <a:rPr b="1" i="1" lang="ru-RU" sz="2300" spc="-1" strike="noStrike" u="sng">
                <a:solidFill>
                  <a:srgbClr val="9a3d01"/>
                </a:solidFill>
                <a:uFillTx/>
                <a:latin typeface="Arial"/>
              </a:rPr>
              <a:t>самооценка</a:t>
            </a:r>
            <a:r>
              <a:rPr b="1" i="1" lang="ru-RU" sz="2300" spc="-1" strike="noStrike">
                <a:solidFill>
                  <a:srgbClr val="9a3d01"/>
                </a:solidFill>
                <a:latin typeface="Arial"/>
              </a:rPr>
              <a:t>,</a:t>
            </a:r>
            <a:r>
              <a:rPr b="0" lang="ru-RU" sz="2300" spc="-1" strike="noStrike">
                <a:solidFill>
                  <a:srgbClr val="9a3d01"/>
                </a:solidFill>
                <a:latin typeface="Arial"/>
              </a:rPr>
              <a:t> т.е. оценивание человеком своих возможностей и способносте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a3d01"/>
                </a:solidFill>
                <a:latin typeface="Arial"/>
              </a:rPr>
              <a:t>Так, к примеру, человек, может быть, и хотел бы поступить в вуз, но боится не пройти по конкурсу, оценивая свои возможности как недостаточ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Скругленный прямоугольник 4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Три слагаемых правильног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выбора професс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1643040" y="1357200"/>
            <a:ext cx="678672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9a3d01"/>
                </a:solidFill>
                <a:uFillTx/>
                <a:latin typeface="Arial"/>
              </a:rPr>
              <a:t>Во-первых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, будущая работа должна быть в радость, а не в тягость (ХОЧУ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</a:rPr>
              <a:t>ХОЧУ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 ли я быть профессионалом в данной области? Нравится ли мне та профессия, которую я выбираю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5"/>
          <p:cNvGrpSpPr/>
          <p:nvPr/>
        </p:nvGrpSpPr>
        <p:grpSpPr>
          <a:xfrm>
            <a:off x="3571920" y="4786200"/>
            <a:ext cx="3142800" cy="2071080"/>
            <a:chOff x="3571920" y="4786200"/>
            <a:chExt cx="3142800" cy="2071080"/>
          </a:xfrm>
        </p:grpSpPr>
        <p:pic>
          <p:nvPicPr>
            <p:cNvPr id="370" name="Picture 19" descr="b-00019872-a-00006846"/>
            <p:cNvPicPr/>
            <p:nvPr/>
          </p:nvPicPr>
          <p:blipFill>
            <a:blip r:embed="rId1"/>
            <a:stretch/>
          </p:blipFill>
          <p:spPr>
            <a:xfrm>
              <a:off x="3571920" y="4786200"/>
              <a:ext cx="3142800" cy="20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21"/>
            <p:cNvSpPr/>
            <p:nvPr/>
          </p:nvSpPr>
          <p:spPr>
            <a:xfrm rot="10800000">
              <a:off x="4803120" y="6552360"/>
              <a:ext cx="667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Хоч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Мог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5:59:06Z</dcterms:created>
  <dc:creator>XTreme</dc:creator>
  <dc:description/>
  <dc:language>en-US</dc:language>
  <cp:lastModifiedBy>u</cp:lastModifiedBy>
  <dcterms:modified xsi:type="dcterms:W3CDTF">2013-04-03T15:14:51Z</dcterms:modified>
  <cp:revision>26</cp:revision>
  <dc:subject/>
  <dc:title>Факторы выбора профессии</dc:title>
</cp:coreProperties>
</file>