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02D-B3B3-4688-9CB4-6E954978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071-3481-4CF4-89D8-24F2919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B27DE-A958-4315-8EDD-8F9613A4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088FF-D3A7-40FE-8BFA-54507C8D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6676-0A19-4787-A300-FBC2C44D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AE277-617E-4B4C-B90D-BCDE8903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560CD-3EC9-4251-BCF6-3740D7BC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E8029-7E63-4B23-89E7-6AF5DDD3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AC0F9-1F45-4B91-880A-0FC218E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B190-DA20-4F41-8CF3-D2D42236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20BA3-A834-46F5-9B9F-DC74C2B2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F1E78-8714-4E3D-8FB6-EDA752B1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F61-936F-4B60-BB99-92C24363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E6E2C-0868-4A55-ABFD-9D52A287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147E1-5441-4095-AD79-2F6983EE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E06AE-A86A-49F2-B907-83D1FA37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FE93C-965C-40D0-98D8-D8D508D8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43531-AF2A-4A89-86DE-8AF1776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62E6D-4E78-453F-9262-A2CACF8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07FBF-1DFB-40A2-92E6-EE4CA471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F2C35-E0DC-490A-A862-826E321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5802F-B914-4771-8299-3F4DADF4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E8A07-7A97-4D8E-8E59-5EE12F98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C5D-1797-424F-85F3-51E44448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EC0D3-7146-476D-9643-70A3608F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C71FE-20A6-40BB-AB26-F2A2979E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F53D1-A590-4545-A66A-4D8AE66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A5230-08EA-4EA3-92E3-2E722E8D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D88B-211F-4BB5-9B13-259A5F66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7795C-4C19-4D76-ADC8-1554056A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BA317-9C8C-481D-86EC-C24BAFEB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D3DE6-72A1-4164-BCC7-D0D8CA29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A329D-245E-4AEE-B5AC-0EBC49D0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ADA83-20C7-4A17-BD9D-1B5DC8DE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355A5-CFC0-49F2-BB83-1C4B4724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E84C2-8BE9-4C80-8219-DA423E2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A7317-3021-4A52-8F05-53468F36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B1496-3303-4055-9585-AF817FF8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C0874-594F-4E31-9A58-7ADEC6EE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782DE-23B5-45CB-BFDF-002C90D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B0576-8E2A-49A0-A317-554AB929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11A7F-E891-448D-9572-03E68F3E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7502F-594F-489D-8A2E-C0B8406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0367D-A806-4FC2-B140-6AB96BEA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96827-1336-40E8-B698-1BB141F2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C57B-5EF7-4E05-B633-4200E967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D8A5C-CA9A-4704-8E21-B3231028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5DEF0-9645-4296-A7B2-AC80E4A2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6897A-ABEF-43B8-B417-F96D97B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1D297-A189-4BF5-A34D-DC9CA4FA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02BB5-09AE-42EB-9209-900F398E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45B76-B386-4D78-894F-AD1E5E53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4F79C-7E7C-4925-AA97-95EF2E4C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615209-3BCA-4C68-A136-6005815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3896B-C6E2-4FB6-A718-DEB47CF0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6F7D9-5C31-4EF4-996C-E7966319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39B6E-802F-490D-961A-D47729A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F84AE-DBDF-4D35-9A74-EFFDA1A4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943E5-D83C-4DAA-9D7C-258E0AF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836CC-C3D5-4FE4-8F8F-A88CA9B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8DCD42-66F4-4C84-AD6B-D9599193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F5DBA-8499-4A49-BA69-3C01F178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35DB1-46C8-4E42-93E9-B2871A12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C39CD-F057-4136-8220-AF346ACC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0CD653-B224-437F-BB6F-A584EB01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1004BC-3A99-442C-96D6-BCFAA33A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DFDF0A-F2A9-4D16-85D1-870C902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1BDDF-A9D1-4990-9D9A-46BCDCD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9FB0B18-815D-40AB-BC0D-CD77928E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BA7EC5-4284-4DAB-B2E0-243390C7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7EE12D-CFB8-4A1A-9830-F724A6B6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EF8B62-EA36-4444-9575-F0E6DDB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A50760-DF2C-4D79-AFD5-B3E8960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8ED0CF-522D-4F9D-AD4B-6A0565A5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75E2E3-D512-45F6-A213-B965DE06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562D1A-A214-4329-A600-E19A2C44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9F1AB31-44D7-40E3-BC35-021DF3C4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B90E0-BF4A-4705-9458-27E144EA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31071-0067-458F-A530-CE65F0DC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05748-16B7-476B-9109-E31831C2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BB8F8F-BE84-4B9E-B9AB-1F400597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9BA92-F8AC-47F8-AA13-CDA85AA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03EDF-1EAD-44B8-8D7D-47C59FA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B9761-9EBF-4D6A-BA4A-6DA935C6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5AA55-31B1-4768-99F7-F508300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6EB37-D142-4382-BD3D-792E7B14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BEB80-81C5-4A8D-94B5-7B23C74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38DFD-51C8-4513-BE10-E9E024EF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D780B-3757-4397-B0A2-F8E7A6F4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2D0E-7E1A-4738-8B65-D7F9946F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FCA9C-B336-46EA-ACFE-56EDA6C8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07718-4ED5-4D6E-860F-6FBE112A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82BAC-1D50-4C85-B415-0E7889B2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E445A-5A48-4995-96AC-0FEDFFD4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86331-AD6D-47C7-96DF-907E24E2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F9429-3313-46D9-BA83-1855AE4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84BDAA-9C83-46CC-B225-6DF68E4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DE6B0-22C6-4787-8E12-E167630C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AA611-A9A8-468A-8B80-F88A4772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6F626-430E-46B1-B85A-E07B8F3E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C6A1-F2C9-4740-8552-B514F0C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8E2204-D4FA-4AD5-8365-8728BA89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7538A-08C3-450A-A793-801D897E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20B03-2B0C-4F10-9D4D-94BE78C0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DA8B7-6643-4189-86D9-2F91BEA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9F435-26B3-45A4-891E-8A9AD9D8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86F75-B7E5-4E38-8247-2C9DB4C2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F0580B-16F2-41AA-9245-99646727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F1870-BC85-4BBB-AA08-C177AFEC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42DF3-4307-4649-8E4B-3074FF2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FD996-A39B-4040-A283-53641BE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836-100D-4B80-BF02-971D239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9B33-FD3E-42C6-9D2F-FBD1E76E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9778C-3585-4EBB-B648-1844E5D3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6A9F79-39EB-4BD6-A29C-AA86931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2FEE1-7F08-42B2-842B-8A558277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3121BB-BCAA-4F7D-97A5-1FF0754B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5359D3-6F4E-475F-8505-6ED580CF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3BCA0-BA54-4F1F-8501-C2283FD2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00568-FFAD-485F-A822-DE54B87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712CA-8323-471F-967C-9E9DCF17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CAE51-B49E-4287-BE72-CE03F9C4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FD802-7874-4BAC-93ED-453BAF68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D3509-C852-408E-B258-F49B1EA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3C1C15-D28C-4390-892D-D88D93BF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37E66-7B58-494E-8068-BE07E33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4776F-A67D-493F-8031-CFF4070A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20569E-00C7-4274-9192-3FDB6F2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FA0AD-3FDF-4D70-84F6-C8EC541D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D5CA3-84B8-429E-8329-D5D5F741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2B4529-0DF1-4CF0-80B4-15CD28FA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B6601-729F-41E9-932B-ECCBCE28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AF0FC0-6263-4F8F-AC4B-BC682D4E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114BF-F51D-47A4-BE8A-9DB713D0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6A267-A373-4F7A-A625-A9E78D4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2CFCF-B2BB-4E2C-B409-41A7E3E9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9A936B-DAC9-4F74-85FE-795E6377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9BA6D-E185-45F2-A71F-E72DBE33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3B5645-935E-4536-91AC-FB584A82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16D29-9220-4CB4-B514-635B0D3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9C33A-CF13-4320-82FE-34202B64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D32D0-59AD-43BA-8E0F-6B7A98F9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A9DACF-6D42-484B-8109-643C40A6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D7F3EE-5D5A-4F53-9D63-F065BBD9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06890-0161-44F8-B2DA-FC57CFF3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36389-8E0D-4E48-B38A-712120BC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69F253-8F09-4F86-93E0-B516898F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91CBE-3B23-425B-ACE0-7462F144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76B60-F9E8-4A71-AD81-B5F9BD7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E96AC-0FB9-4111-9F76-BDDA41F4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D7289-99C2-46BD-A6B2-D0074751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1C940E-A1DA-4A6D-A1B5-6C82CD17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73946-3315-4A8C-A1D2-BB8C7F8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63A1D-62B3-4D66-A65E-47F4BB3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B7ADED-C7A6-437B-B629-F6C46C4C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A1FBD-6B78-4E4C-9154-9CBC69B8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78732-5BE8-4A0B-8DE7-60BC21EF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B303A8-F787-4AF5-B01C-A0311386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04C0-2A7E-4466-9774-5DCD7E12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3191-A5E9-4CED-86CA-07834546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8F89-31C4-4285-B2EB-DDA757F9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71EB8-55EF-422B-9E3E-DF339F97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73DF-B4D7-486A-BBD9-DBE980B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16D-F900-46FD-A989-3E456141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747A5-79A5-4BC7-90B3-5BA49EC4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07D5-E17C-45E8-8547-B44D037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A8CA-D3D9-4250-9991-E879EB68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8856-5929-40D0-A45C-DCADAF1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35E0-3486-450C-BB3F-73B1ED31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FCBA-F66C-4A70-A68B-8F829D90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68AB-0700-4A3C-8FC1-A4E4EE0F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AD80-7E93-4462-8CF9-5C54EF3A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344B-AD27-470E-BBC1-A9A77D85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1D886-41DC-41FF-BB3D-1EBA70E8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972-816B-4709-BF86-E35E8B92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B08C-B659-4D03-9F04-6796AE1E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EBC1-126A-4B7F-AA80-00AF1592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8A057-6ABC-442D-8AA0-73799A7F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F7DC-05A4-4065-8A81-140F6177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78C70-6B13-48A8-A3A7-E0DE83C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61B94-420C-4AA1-A4A0-A2C23A4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6C272-5D4C-452E-BC89-FBC2454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4F970-13AD-4800-952F-CD2679D7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6874-B2E1-4365-957B-DE7F9058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1E915-792B-41D9-B671-B80A5CF7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382-AF81-43E5-BAD4-71EF520C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FFCA-49DC-4806-82F2-8C59DC5E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0F56-5A99-47D9-BDEA-AA084AC1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11869-6872-4856-8DCB-B93F510C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3A0AB-BCB8-459B-9D3F-7C499A5F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E9A03-465C-46BB-BC91-DC1CE40E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12573-3AB3-4327-93E9-AE92FC78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3F6E5-3E2D-46E4-B0B5-9218359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43D1E-A5D4-45F5-8E4F-A86402B7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1BBE4-BAE6-4B4F-B870-26DCBA2B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C122-27FC-4881-9AA9-5EA86C8D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A17-755F-4A84-9236-3522460F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79B4-5FA9-4FF0-B78B-8231C75B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6EA8-1AE6-43F6-978A-C5786295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F3F56-9B47-457B-9A6E-848D9A91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4C7A-948E-4DF0-9DC0-C26B37CE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C224F-DF8C-49AB-8F02-FEFBECF7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AF299-A4C7-4CF1-872E-1C8EC2F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B649A-1137-4E60-B50C-9B1609E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58929-8F35-4FE6-ACE0-FBD8B73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3DADC-0E56-40B3-9F29-D8E2EA4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AF4C3-9C80-430E-B8D8-3790A93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E27-2894-44AF-A764-286C9C7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858E-9CC6-4E45-B902-7ABA92C2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01B64-6AED-4644-B804-6EF6FBF9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0602A-7998-4273-B2CE-4814F2E2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33849-F598-494B-A17D-21DDB90D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2C6E3-C74C-4D2B-A9B8-99D0B613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FD10B-7AFE-4F17-BEFE-B0C78FCC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76B28-D074-403D-907A-2955010D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2B297-19A9-46FD-BF1E-D3A74AAB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60488-859A-4587-B208-5C7B6F3E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7B2D2-E30C-4751-8A5D-AF4A49B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431-AE6F-4FE4-A027-D2D74B3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B3E02F-B185-4B71-B6CE-A72AB4E1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63000-7D93-4B88-8124-8F4AEE5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4FAE2-61F6-413B-9917-5820F163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4BE7C-CC54-47B1-99AF-522ED318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9C244-7895-4339-8A4B-7498CA94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61D63-FFEA-416F-9114-7CDD91B3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1698F-A7C9-4BC2-B854-5E14467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33A51-4AF1-4948-9E80-723A2DEE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C6F88-D951-4F77-BF3C-D193E76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2011E-4972-4373-AF47-DCB00649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426E-2025-4FD8-9F8F-940E7209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42F15-1CDE-4A20-B764-341EC7AA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44E1E-EA4C-49F9-8B00-B08B7E3A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180EB-1494-48E7-B8CC-8DDD5B4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18A90-8F13-4762-98D5-CFE37EDF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D649-E374-4D5F-AEB3-D37C7F67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6587B-8704-431B-BEC8-BD275ED2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6F82-53DA-4018-ACA6-6BEB5F16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93F87-988B-41D8-8F2F-350871EC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0A82E-917A-4271-8B0A-A5FB7C27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37399-651B-4E41-ACB9-06683E88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D833-2A9A-4BF4-91EA-4AAE6D71FA1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750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5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5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56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75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1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762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763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767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8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9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7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75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7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78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DC32-CE9C-434D-83A2-1E88E2E60F35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34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35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6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7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8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39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40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41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42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48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849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0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1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52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853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4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5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56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857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8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59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60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861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2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3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864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865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6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67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868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0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2A85-424D-4CF1-B339-99C0D6EE058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B561-DAB1-4FAB-921C-56982F9328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F6DE-8350-4C98-A854-22655A8324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939-8C1B-4B52-A4DE-25EA176E7E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07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7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7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07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7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7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8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8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8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8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9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9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09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09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10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10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10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11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11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11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12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12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12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12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13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13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13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4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4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4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4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5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5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5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6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6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6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7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7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7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7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17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18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18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BB1B-1FEF-438A-BA6E-9B2C966EEA60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45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6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47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8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49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0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1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2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3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4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5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6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57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59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0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1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2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3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4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5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6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7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8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9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0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1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2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3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4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5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6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77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78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9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0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1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2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3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4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5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6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7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8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9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0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1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2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3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4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295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96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7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8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9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0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1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2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1303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04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5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6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1307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F5C-65AD-4F75-BEE5-A3E227E6A9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5657-72BB-4D62-AE64-18035E8DF67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42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2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2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2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0BB0-EBCE-44C6-97BD-AC520A8272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477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478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485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6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7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8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9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0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91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92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5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96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00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3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04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07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08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1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2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3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4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5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6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7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5334-DEA2-4340-86F8-8B6E061106DA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642-DFFE-4594-B121-A4B6F08211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60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561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68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9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0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1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2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3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74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575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579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82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83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86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87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590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91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4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5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6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7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8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99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0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6831-A51C-4F53-86A1-B161BD0636DB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6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2741-EC4B-40A1-B8AD-FDD96F2A2F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9FF-7511-4CD6-9E22-76D0DA6D5F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3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3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4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4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4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4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6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6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6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8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8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8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9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9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1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1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3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3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3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DC42-78B1-43F6-9BE1-00F3252ADC9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1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1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2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3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4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4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5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6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6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46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47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2F48-24F6-4217-8362-91B40704C7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075-5AC2-40CD-AC51-1149C1D9488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EED3-6A37-4B3B-854B-76E864EFC2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8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9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9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9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0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0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1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1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1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2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6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6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7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2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7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77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678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79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83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4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5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8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8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79B0-8F33-4F99-9355-263D97FE0561}" type="slidenum">
              <a:rPr b="0" lang="ru-RU" sz="1400" spc="-1" strike="noStrike">
                <a:solidFill>
                  <a:srgbClr val="000066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ffffcc"/>
                </a:solidFill>
                <a:latin typeface="Palatino Linotype"/>
              </a:rPr>
              <a:t>ПСИХОЛОГИЯ ЧЕЛОВЕКА</a:t>
            </a:r>
            <a:br>
              <a:rPr sz="4800"/>
            </a:br>
            <a:br>
              <a:rPr sz="4800"/>
            </a:br>
            <a:r>
              <a:rPr b="0" i="1" lang="ru-RU" sz="2400" spc="-1" strike="noStrike">
                <a:solidFill>
                  <a:srgbClr val="ffffcc"/>
                </a:solidFill>
                <a:latin typeface="Palatino Linotype"/>
              </a:rPr>
              <a:t>(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«психология» переводе на русский язык означает «наука о душе» (греч.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syche –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 «душа»,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logos – </a:t>
            </a: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«учение»))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3" name="Picture 11" descr="j0217698"/>
          <p:cNvPicPr/>
          <p:nvPr/>
        </p:nvPicPr>
        <p:blipFill>
          <a:blip r:embed="rId1"/>
          <a:stretch/>
        </p:blipFill>
        <p:spPr>
          <a:xfrm>
            <a:off x="3635280" y="3789360"/>
            <a:ext cx="1747800" cy="171468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память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все что мы запоминаем, что мы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ощущали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в нашем прошлом опыте, эти образы остаются в мозг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Запомин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храня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спроизводи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знае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воображен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 можем создавать новые образы на основе ранее восприняты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ображение как бы перерабатывает то, что есть в памя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оизведения писателей, художников, кинематографистов появляются благодаря работе </a:t>
            </a:r>
            <a:r>
              <a:rPr b="0" i="1" lang="ru-RU" sz="3200" spc="-1" strike="noStrike" u="sng">
                <a:solidFill>
                  <a:srgbClr val="eaeaea"/>
                </a:solidFill>
                <a:uFillTx/>
                <a:latin typeface="Verdana"/>
              </a:rPr>
              <a:t>творческого воображ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Arial"/>
              </a:rPr>
              <a:t>мышление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Получив информацию, мы перерабатываем е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Обдумываем причины и последствия событий, поступков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елаем умозаключ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Решаем задач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Эмоционально-волевые психические процессы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Эмоции и чувства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Verdana"/>
              </a:rPr>
              <a:t>Воля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Эмоционально- волевые процесс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Постоянно происходят внутри нас, тесно связаны со свойствами лич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ЭМОЦИИ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ЭТО НАША РЕАКЦИЯ НА ПРОИСХОДЯЩИЕ СОБЫТИЯ, КОТОРЫЕ ВОЗДЕЙСТВУЮТ НА НАС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ше личное к ним отношение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вол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Это то, как мы контролируем свое поведение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С помощью воли мы заставляем себя работать, учиться, достигать чего-либ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А также отказаться от чего-либо (бросить курить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Verdana"/>
              </a:rPr>
              <a:t>Свойства  личност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пособности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отивация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емперамент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Характер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79" name="Picture 5" descr="j0292020"/>
          <p:cNvPicPr/>
          <p:nvPr/>
        </p:nvPicPr>
        <p:blipFill>
          <a:blip r:embed="rId1"/>
          <a:stretch/>
        </p:blipFill>
        <p:spPr>
          <a:xfrm>
            <a:off x="6012000" y="3860640"/>
            <a:ext cx="2523960" cy="24386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Свойства лич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Это все что мы сами и окружающие люди могут сказать о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Tahoma"/>
              </a:rPr>
              <a:t>Отвечает на вопрос: «Какой ты человек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2" name="Picture 7" descr="j0297551"/>
          <p:cNvPicPr/>
          <p:nvPr/>
        </p:nvPicPr>
        <p:blipFill>
          <a:blip r:embed="rId1"/>
          <a:stretch/>
        </p:blipFill>
        <p:spPr>
          <a:xfrm>
            <a:off x="6068880" y="2349360"/>
            <a:ext cx="2175120" cy="302436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способности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ндивидуальные особенности личности (т. е. наши), которые помогают нам в какой- либо деятельност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Например: способности к музыке, к рисованию и т. д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15832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уш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нятие, употребляемое для обозначения внутреннего мира человека, его сознания и самосознания.</a:t>
            </a:r>
            <a:br>
              <a:rPr sz="2800"/>
            </a:b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сихи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войство мозга отражать объективную действительность и на основе формируемого при этом психического образа целесообразно регулировать человека и его поведение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5" name="Object 5"/>
          <p:cNvGraphicFramePr/>
          <p:nvPr/>
        </p:nvGraphicFramePr>
        <p:xfrm>
          <a:off x="1663560" y="1986120"/>
          <a:ext cx="5846760" cy="39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1986120"/>
                    <a:ext cx="5846760" cy="39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мотивация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То, что побуждает, заставляет нас делать что либо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Мотивы наших поступков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темперамент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ши индивидуальные особенности, в них проявляется наше поведение и деятельность, их скорость и эмоциональность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Типы темперамент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и их характерные черт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ангвини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подвижность, склонность к частой смене впечатлений, отзывчивость и общитель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Флегмати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медлительность, устойчивость, эмоциональные состояния внешне выражаются слаб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Холерик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бурные эмоции, резкие смены настроения, неуравновешенность, общая подвижн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Меланхоли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легкая ранимость, склонность глубоко переживать даже незначительные событ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характе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одержание личности, ее поведения и деятельности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c00"/>
                </a:solidFill>
                <a:uFillTx/>
                <a:latin typeface="Arial Black"/>
              </a:rPr>
              <a:t>Экстраверсия и интроверси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ше устойчивое отношение к окружающему миру, наши привычки, качества: доброта, упрямство, хитрость и т. д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Состояния психики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стойчивый интерес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Творческий подъем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бежденност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Сомн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Апатия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Угнетенность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И др.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Итак: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се эти качества, особенности личности, и познавательные процессы вместе составляют неповторимую индивидуальность каждого челове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7" name="Picture 8" descr="j0216516"/>
          <p:cNvPicPr/>
          <p:nvPr/>
        </p:nvPicPr>
        <p:blipFill>
          <a:blip r:embed="rId1"/>
          <a:stretch/>
        </p:blipFill>
        <p:spPr>
          <a:xfrm>
            <a:off x="3851280" y="4724280"/>
            <a:ext cx="1573200" cy="182088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функции психики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для чего существует психика и что она дела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ражение – окружающей действи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сихическое отражение не зеркально – оно преломляется через индивидуальность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гуляция поведения и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войств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формы проявления психики и их взаимосвяз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сихические 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зна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эмоционально-воле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ойств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стоя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ПОЗНАВАТЕЛЬНЫЕ ПРОЦЕССЫ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Ощущ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осприят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Памят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Воображ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Мышле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Verdana"/>
              </a:rPr>
              <a:t>Реч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53" name="Picture 7" descr="j0297707"/>
          <p:cNvPicPr/>
          <p:nvPr/>
        </p:nvPicPr>
        <p:blipFill>
          <a:blip r:embed="rId1"/>
          <a:stretch/>
        </p:blipFill>
        <p:spPr>
          <a:xfrm>
            <a:off x="5867280" y="1773360"/>
            <a:ext cx="2271960" cy="266364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знавательные проце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53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С их помощью мы получаем знания об окружающем мире – видим и чувствуем предметы, обращаем на них внимание, запоминаем, обдумываем, рассказываем другим, создаем что-то новое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11" descr="j0299171"/>
          <p:cNvPicPr/>
          <p:nvPr/>
        </p:nvPicPr>
        <p:blipFill>
          <a:blip r:embed="rId1"/>
          <a:stretch/>
        </p:blipFill>
        <p:spPr>
          <a:xfrm>
            <a:off x="5942160" y="2637000"/>
            <a:ext cx="2157120" cy="225900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ощущения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отражение основных свойств предметов, с помощью зрения, слуха, обоняния, осязания, вкус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Цвета, звуки, запахи – все это ощущ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Красный, шершавый, горький, громкий – ощущ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восприят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о отражение образа предмета в целом, с помощью органов чувств (зрение и др.) и сравнения образа с прошлым опыт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 воспринимаем все что нас окружает: образы людей, зданий, машин, животных и т. д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cc"/>
                </a:solidFill>
                <a:latin typeface="Arial"/>
              </a:rPr>
              <a:t>внимание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ше сознание бывает направлено на что-то одно, отвлекаясь от всего остальног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Мы смотрим интересный фильм, или делаем уроки и не видим, не слышим ничего вокруг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00:03Z</dcterms:created>
  <dc:creator>Ирина</dc:creator>
  <dc:description/>
  <dc:language>en-US</dc:language>
  <cp:lastModifiedBy>Ucer</cp:lastModifiedBy>
  <dcterms:modified xsi:type="dcterms:W3CDTF">2012-11-21T07:30:16Z</dcterms:modified>
  <cp:revision>19</cp:revision>
  <dc:subject/>
  <dc:title>ПСИХОЛОГИЯ ЧЕЛОВЕКА</dc:title>
</cp:coreProperties>
</file>