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F532-865E-4351-8FDA-80DF7E5EA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5C85-1D77-4AEC-BFB9-6AE78A36C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C4D851-CAFB-4E00-BD94-D38A6D7AF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98D789-969C-4DAF-9999-CD82E34E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A8D435-2209-48CC-8F01-84D4FD9D2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C20026-6A6C-4377-93AC-1339A289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F3B67A-27CD-46EB-9967-C5310243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718811-DFB3-46E6-8005-EFCDE194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AD5D5B-7AAB-41FC-9A02-C904C7587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AABD29-B17D-466D-9026-9ECBFDB16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963A24-227D-4CB8-A377-423BCC09D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A32E86-F9C0-4306-9EE3-D66FC7178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2668-19CB-4DDA-A185-993CDBAA3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CDB575-4C86-4CA3-B450-12F18B6D2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7BEB81-23E7-473C-919A-8ECF6ABEE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10EA1D-EB18-4D26-88D9-C2E41921F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85B275-8FFB-4999-9776-C7634046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695C58-3687-4A32-B1EA-DF5473384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E8F6B5-C9DD-435A-8420-FC31576C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272D3E-D108-40AF-9F35-3A5AEC8C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EAF58B-6D0F-4FC3-B5AD-61D06E3C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0F4946-EDCB-4474-BC28-9E669D3E4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84DF17-599C-49AB-ABE8-6B1B7EDD3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B525-E496-4AA3-8C08-45B6A6394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14B86C-56D7-40BB-B0B1-2E17B1A64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0649D5-B048-4272-97FD-40A9CF19D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0623A7-5798-47C7-B024-7049936AF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4606E3-270B-4F8F-8985-4AE884BFE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96ADF4-A2B6-4027-9819-F8DA07224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08BAC0-AB9C-4EA7-8692-33D889035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D44690-853E-4D3D-8EE5-38CC8C7E0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2430A4-8FCF-4C0A-B19B-9493999C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806724-5C5E-4AAD-963D-129622AA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B8EFA0-EB72-4BBE-AFCE-F26BFC66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078A73-BC28-4A6B-A20C-846F4523A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D246A0-2960-4681-BC3C-B8D71EBA9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287357-57A7-4DE8-B43C-E8180384C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FBE4E7-5E36-49F2-A110-FAFA4CB04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C22730-014E-4736-B6F4-41820D1DB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730C44-154E-49E3-B19C-F12D8B7B7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AE1F9E-6185-4B6F-8C9D-9904D6EB9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D0826D-EB93-468F-9609-5706B3F08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0D43D1-3A6C-487A-A074-287D759C4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628985-C633-4114-ADC6-02534A1B9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9D5871-A876-4901-B58C-7B9E7A99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E24AD6-1B22-4B03-A2DF-9C8B9612B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91152B-A20F-47BF-8626-C4932CF1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0A8587-22A5-4F77-83BD-8E30E2DD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E9F102-EA1D-4489-B25D-89A8B9AF7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C5018A-0390-4C9C-8C98-FBD160369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118644-830F-420C-A564-E51BF8C54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2FFC2E-4BD2-4006-ACFF-9297F2EF2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32116E-7E5F-4389-B884-10B70B138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055220-EF1B-4611-B923-96BAF0CFB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56A209-3AC5-4CFB-A339-B763A960D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08E4B2-D975-4D6A-B765-80F691592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B5F401-125A-4F79-A0DD-1F42DCE58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3AF973-7F5A-471E-A5CF-EC2726B09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694D5D-E716-4FAC-8C2B-35E5CD75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221D9B-A95A-4C09-A226-33722B33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11A0B3-20A5-42C9-B81D-4DE22DAD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BC6F57-555F-4457-B494-A748DE864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CC84D2-6622-4253-8836-2A937A621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3B21B1-63E7-4BA0-A4CB-AC82CC5CC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2F7B02F-B775-49F8-AECD-481C7494B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5282D68-03DC-4683-9C7F-1C9D25BCD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D9875BF-0066-4A14-9870-700F2168F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3654E5-F739-44DA-AFCE-A9F195615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BC25F9E-2FCF-4FEB-9135-B1ECD6AB7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0F9D934-361A-44A1-8B3E-E302695FB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F5843D2-1BD5-4A64-9449-1175581D0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FB08C42-CA8E-4378-8DED-25D0DEBD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DC53CF0-57BA-4927-AB69-CBCA587C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C647CD5-BD6C-4E28-81A5-F874DF80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240B4E7-4BA0-4E94-B5D1-73509C189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F5B1514-2085-4F8B-B296-D81847EA9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F421614-4C9D-41E0-8FF7-8B825FA42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99C0D3-5FD1-4BB8-B4E4-57BC2FAF0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B911D2-0DE9-4BDE-BFB6-4D80BB67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BD4F5D-5DDA-42CE-97BD-220BD5180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B6DA29-5D88-4785-9971-D57D5941D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7C6457-F181-461C-A47E-02049F5B6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C1388E-DCCD-4B99-B6E4-347FE6B11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800CD6-460D-466E-A433-CB3443F82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77A013-BB51-439E-A78E-40E7B10E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B43E83-44C3-44DF-A08D-4EB02176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7BC79A-C3C2-40FA-9737-413A0B86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95F8E3-8A25-402F-99FC-C916519F9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A60FF8-5286-4BCF-BE70-6499BDB22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4B21F9-2582-4B9E-8623-B199514F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9A81E8-7BED-4A38-A840-D9DED89E5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CC13B3-240F-4398-B1C0-6AE384D81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4596D4-558D-4361-BAB4-F7AEAE434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AA9E10-2F3D-4FC3-8124-D3F71C2E4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441D3F-2056-4EE0-B19C-5B0C7D61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DCB6D8-6EA0-48FC-B7A5-BCC3B17E9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FA137D-C105-4AB1-B420-41D5A74AF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FB079C-2CFF-4BC0-BB16-67F2C07D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3961F5-77CC-4E92-B5BE-DAE8357C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15A962-B44F-4542-A0C0-148D1229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09573D-264B-4B94-99F3-3A004B13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0D03D6-5500-4CD6-A2B0-6824BBA2B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C1A661-9A59-4E81-B621-D293F6699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8DE3C1-7CD2-4869-A266-6A50AE7F3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34E7F2-0142-424F-8056-1D01A1162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3F2B3F-0C48-4F7B-9ED4-CCB7C02A4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DF6B39-9656-4286-A513-604DA164C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77107A-7AD0-4205-AB1F-B70FB3B86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86AD4B-1463-4AEC-8155-87A312061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15123C-0BD7-405B-B407-1D3F80B85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A5FA70-EB8A-4023-BA7D-ACEE5ACA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DF13-72E9-4E3E-90D4-B2AFEAA7D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2C68C9-ADBD-43C9-B007-F236D0BF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D33CB6-D480-4EDD-9C0A-FB040BE1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56B059-028C-43EE-AABA-A29D0E41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7ACED3-FE40-457F-85B1-B4CA4A62D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68A54B-2035-4123-B72E-5653C5E85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2A0356-E454-4DC9-9228-B1C5B4C73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40D1DC-54CD-44AD-95F6-E14A3F673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FEDC71-1357-4F25-B1C0-04A608DFA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F0E318-B06F-49E2-A2AB-8CC92E5F3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655AA9-2FF6-4447-91EA-84951758B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C7D1B1-00AB-49E0-9366-F56EEEC1F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5F6F4C-5DFE-4546-9761-9E1ABE6D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8593FC-272A-434A-9025-DB25F2AF3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6462BC-7A7F-453B-A8DB-E2C4A093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178A12-1E05-4F9E-AE44-DECFF449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D9B463-B2A1-4CDA-82C1-F827EB25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7954B6-9C35-43B5-999C-A8AE39901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5BBFE4-662A-429A-8CB4-DC0069954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A57782-6207-48F5-B7AB-067180E43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E49DE3-0B48-4633-957D-9F121A121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44C04F-6C9F-483D-843C-C8DB7CF4D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19EB1B-BBF1-4381-BB37-9E9361452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54E5BF-CA35-46B1-99DF-878E69231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F8A09B-6023-43C2-AF0A-595BB9836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EEFB7B-ECC2-4185-B0ED-7961527A7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7C36AD-5902-454E-83AD-1D68B69CE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826C08-4B61-4D8D-A68D-8860516B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1005D5-8EC9-4FF6-890C-1619D8FB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58477F-6EBB-4137-9F32-8E7107FE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9496CC-B1ED-4117-BA0A-678669263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10CC7D-E39B-4AFF-B109-BEA75C33C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DD7CB1-01DB-4D09-B166-1CCB42A32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860812-6752-4ABC-AB9F-3028ACC42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646E9F-9C9D-4D7E-BAFE-D94EC5601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7EAADF-AAFE-4CC4-9BD5-FBFE58EFD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6C5B94-3632-4DCC-B825-4BA52655D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0B7E71-E05A-4012-B7AC-C4E35F9D2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E5D00E-F376-4E74-A1A5-71C21565B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F5843C-A481-4EA7-8D9B-0745D1695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5DE1FD-2094-41D4-AC87-41C55F2C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FE79E5-77F6-4AFC-A0BC-0182691C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AC0339-8395-4EF4-AF0E-4FD0C6E8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3E5983-B00B-4FFD-AFCC-AC0E31095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CA8EE7-566C-47CE-A37A-B150BA4B7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81452E-0A05-4F44-BAEC-0EADD0427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C63AC4-A22B-4D02-B61F-99B32B339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0D840-F149-4B5C-9621-6A5592452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46ABB-0E54-4540-B0AD-BF3087FC4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54F05-354E-4381-BBF2-C1DD2D09B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87576-71F0-4208-A557-64395DDF7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42CDA-1902-406D-8881-0E7E952ED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569E-B5D6-4297-B908-A582FDD6D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C8DE1-29BF-4A4E-BB12-49896C222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56FEA-F0F3-4E9F-A74D-0761D400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8A9B2-1A26-4A60-90E2-78C2CAD6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4ECEC-AC8F-4035-AEF8-9F24A3D9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FF5D7-40B1-4E32-8C98-0BB21BFCD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7609D-7BD3-4411-B6B4-B889181A7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4BA2F-6C80-4D06-9A20-4F7F06DA1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E33ED-49D0-4477-B5C7-9C2094DCA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63834-BF38-4DE2-B488-057BDFE2D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8EE7F-7F99-462F-99F8-B239A5C75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023D-0C48-4399-A96B-4E764E3D1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5F1A2-66F6-47A7-ADC9-D94821D0F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8858E-F589-4CA4-8AF4-7E3AB9618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E8BC7-53ED-4256-83F5-2B067A2ED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8F2B4-1DE4-4B10-B90D-67EDB9DA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0F1E1-3A14-4B3C-9124-DE6E7C0A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521D9-3504-4781-8A04-53F019E7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91A4B-2808-45DE-A7C2-8458851D8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FD29A-F4EB-49B8-9DB3-3DE06377B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C9604-0EF2-4862-AA0B-EA75D9E10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BECC0-6370-42E9-AFBC-067444883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ADA1-CDB3-4E83-B7DB-C9AF44250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A8CCE-4A39-452A-9569-497CAF46C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F817B-FC80-434B-B16E-ABB4C6E4C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6A82B-2E1A-42A3-9E32-B71F66E4D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D1C19-E93E-402A-82FD-8259628BA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7C396-C01E-46C0-B864-67187B079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DFF26-843B-479B-B4BF-228C8002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6CF68-5378-449E-8E2F-4DF07569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C5838-475B-458F-85C3-9381AF82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B2693-A595-429A-BBEA-113509DFD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66948-2762-4084-AFDB-65A7B1F5C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6DF3-81EE-45F2-9266-9AD850C43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ABF41-F3A6-435C-B9A6-C3887E96C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51C1EE-7520-4A7C-B2C8-DCC1C4ECF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FD7F8-1F10-4AC0-B320-B3F3E1D09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5A98BD-C38D-4881-BC2D-7ED26FDB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DD4B3-F19D-4911-A0A9-6A4847DE2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BA2AF-8F55-43E4-9ED2-86ADA40B1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5AB58-BEDA-4444-97A4-F4FB3DC7B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155FE-B653-4B4B-BDA9-22A86A22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BCED3-C96C-4F92-B8F5-B4A1BC86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51372-064D-4A33-8B8D-71592AB5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4FCD-9B59-4A6F-8014-23CF0BFF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B2428-C92B-48E6-9AF7-E9909836C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C00BE-A536-4D2A-9947-0F9D9BDC4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8823F-B52E-4E2B-B03D-899112EC9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8FA704-0B60-4B10-B188-D3F8C4E70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8DC9E6-3BC0-4C0D-8A34-EF09081B2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83CA8C-7225-4DCF-B5B6-8D2E4B9A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905184-0FBA-4B89-A17A-71F7B2989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27C523-EB3D-4F39-9EB9-6C898B221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734168-CEA0-4377-AD6A-F4A807BE5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BA9FE8-2E39-4606-A72A-5F6CA76F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77D2-7E72-4955-9601-E585A2C8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D812F3-5734-4FE5-B9D8-189AB039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561D61-095F-499D-889C-0E0AFA1E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F874F3-43D4-4CDC-99A1-1E26BF3A4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79E72E-591E-4507-BA7D-4D9C5F2CD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999FC5-F61D-495E-8892-2A64A0523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311C5-1A8A-4D8E-854D-213F4E686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20BBD6-8280-4066-AF0F-6BF8F5AA3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C72F2E-5C5F-4BC0-8170-CAC3D1F60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C96502-33CA-47F1-A85E-841978344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F13713-F79A-492A-ADE6-58CDC2F3C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C9C5-44CC-453E-A779-A7DAF101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3EB28-864F-49EB-ACCD-168B6ADD0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583FA3-DEED-41A0-ADD0-6DD9EEA8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2A4C67-5447-4C42-AED4-0CD6864B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C61D50-C1E6-4542-A1C9-77F66D43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3EE88E-0EAD-4029-8C47-988688AA9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A6CBA8-C151-422C-9E98-0303A4E81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92424A-243C-4B45-AFD9-13D7D1EA7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90AE0C-2FF6-4381-9FF6-E7C48E385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44D7DD-1239-4B49-B8CA-307953F4C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280FE9-63F4-48B0-825B-7B7297C68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33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C459D-3174-4D06-BA1B-E62A994A1C3F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9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750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751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752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53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54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755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33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756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757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58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59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60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61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pSp>
            <p:nvGrpSpPr>
              <p:cNvPr id="762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763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764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765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66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767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68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69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770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771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72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73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774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775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76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77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778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9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0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1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2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3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4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5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6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7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8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9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0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1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81FA5-356E-4779-AB07-397479253164}" type="slidenum">
              <a:rPr b="0" lang="ru-RU" sz="14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3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34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35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36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37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38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39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40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41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842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3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4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5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6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7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848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849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50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51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852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853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54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55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856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857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58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59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860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861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62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63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864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865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66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67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868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9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0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1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2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3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4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DE718-E838-4008-8362-1ADA0A9EB0D6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17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cce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18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919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20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1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2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3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4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5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6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7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8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9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3A780-633F-4721-BA21-0EDEE8D3B59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1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972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3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4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5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6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7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8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9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0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1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2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3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4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5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6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F23F3-9971-4A89-9CF3-BECAD595CA4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 type="ftr" idx="4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 type="sldNum" idx="4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DC762-4C30-4DA2-810A-298508CB27D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 type="dt" idx="4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0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071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072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073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074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075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076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077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8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9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080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081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2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83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084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5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86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087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8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89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090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1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92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093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4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95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1096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7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98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1099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0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01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1102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3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04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1105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6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07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1108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9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10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1111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2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13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1114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5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16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1117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8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19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1120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1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22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1123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4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25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1126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7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28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1129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0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31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1132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3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34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1135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6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37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1138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9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40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1141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2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3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4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45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1146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7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48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1149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0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1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1152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3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4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1155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6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7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1158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9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60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1161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63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1164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5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66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1167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8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69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1170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1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2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1173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4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5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176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7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178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1179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1180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1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2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3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4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6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7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8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1189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90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91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92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93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94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95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96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97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98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99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00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01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02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6EE3B-3BCA-48AB-B4B8-C7AB95D1FC44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4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245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246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247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48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49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50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51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52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53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54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55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56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57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258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59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60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61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62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63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64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65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66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67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68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69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70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71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72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73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74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75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76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277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278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79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80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81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82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83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84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85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86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87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88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89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90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91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92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93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94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295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296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97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98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99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00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01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02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pSp>
            <p:nvGrpSpPr>
              <p:cNvPr id="1303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304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305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306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307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2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B2A22-E44C-4164-9C8A-095C9D622C6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9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350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1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2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3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4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5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6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7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8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9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0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1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2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3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4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5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6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7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8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9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0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5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04633-189B-4E6A-8E18-1C3D1C5B357F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413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414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15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16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417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418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19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20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21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22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grpSp>
        <p:nvGrpSpPr>
          <p:cNvPr id="1423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24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25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26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427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28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29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30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31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32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1433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4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13087-6E2D-4119-BBA0-D3E3FF31CE58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6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477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478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79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80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81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82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83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84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485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86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87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88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89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90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491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492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93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94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495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496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97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98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499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500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01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02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503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504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05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06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507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508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09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10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511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12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13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14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15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16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17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C2A5C-A53E-4239-8E14-8A24DF633C24}" type="slidenum">
              <a:rPr b="0" lang="ru-RU" sz="14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BB1C6-382E-44E9-96AC-8A77D441928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cce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cce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96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9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560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561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62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63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64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65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66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67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568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69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70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71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72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73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574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575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76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77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578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579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80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81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582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583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84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85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586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587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88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89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590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591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92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93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594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95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96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97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98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99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00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5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9FD3B-999E-4AA0-84A8-4A29DFF2011E}" type="slidenum">
              <a:rPr b="0" lang="ru-RU" sz="14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36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1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2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3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4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5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6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7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8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9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0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9D7D3-FA47-49AC-99AC-12A90251F09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214EF-A9B9-4847-B05F-4E7F69F98BC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234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35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6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237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238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9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240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241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42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243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244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245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46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248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249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1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252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4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55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7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8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0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61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3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264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6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267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9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270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2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273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5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276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8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279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1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282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4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285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7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288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0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291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3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294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6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297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9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300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2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303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5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306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8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309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1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12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grpSp>
              <p:nvGrpSpPr>
                <p:cNvPr id="313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314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6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317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9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320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2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323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5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326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8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329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1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332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4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335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7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338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0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341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3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344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46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47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48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49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50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51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52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53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54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55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56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57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58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59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60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61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62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63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64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65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66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67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EA9EA-852A-4B44-A9E2-386EB557FD37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10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11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412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13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14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15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16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17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18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19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20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21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22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23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425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26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27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28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29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30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31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32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33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34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35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36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37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38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39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40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41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42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43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444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45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46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47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48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49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50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51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52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53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54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55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56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57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58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59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60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61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462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63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64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65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66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67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68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pSp>
            <p:nvGrpSpPr>
              <p:cNvPr id="469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470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71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72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73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79D6D-02DA-4967-88DE-ED3E093559B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5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6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7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8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9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0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1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2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3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4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5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6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7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8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9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0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1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2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3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4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6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F84F2-B23C-407D-A7FE-786BBEDD07AF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dt" idx="2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0E73E-01F5-4CD7-B956-537C834E5D24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5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86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87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8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9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0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1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2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3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4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5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96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597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598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599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00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1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02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03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pSp>
            <p:nvGrpSpPr>
              <p:cNvPr id="604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05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06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07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08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09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10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11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12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13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614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5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16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617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618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pSp>
            <p:nvGrpSpPr>
              <p:cNvPr id="619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620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21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22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23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24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25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26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27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8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5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666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667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668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69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70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671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33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672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673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74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75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76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77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pSp>
            <p:nvGrpSpPr>
              <p:cNvPr id="678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679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80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81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82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683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84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85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686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87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88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89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690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691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92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93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694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5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6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7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8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9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0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1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2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3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4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5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6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7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B8282-1D29-4582-8D72-2583FEA03EC1}" type="slidenum">
              <a:rPr b="0" lang="ru-RU" sz="14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0" i="1" lang="ru-RU" sz="4800" spc="-1" strike="noStrike">
                <a:solidFill>
                  <a:srgbClr val="ffffcc"/>
                </a:solidFill>
                <a:latin typeface="Palatino Linotype"/>
              </a:rPr>
              <a:t>ПСИХОЛОГИЯ ЧЕЛОВЕКА</a:t>
            </a:r>
            <a:br>
              <a:rPr sz="4800"/>
            </a:br>
            <a:br>
              <a:rPr sz="4800"/>
            </a:br>
            <a:r>
              <a:rPr b="0" i="1" lang="ru-RU" sz="2400" spc="-1" strike="noStrike">
                <a:solidFill>
                  <a:srgbClr val="ffffcc"/>
                </a:solidFill>
                <a:latin typeface="Palatino Linotype"/>
              </a:rPr>
              <a:t>(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«психология» переводе на русский язык означает «наука о душе» (греч. </a:t>
            </a: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psyche –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 «душа», </a:t>
            </a: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logos – 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«учение»))</a:t>
            </a:r>
            <a:br>
              <a:rPr sz="2000"/>
            </a:b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43" name="Picture 11" descr="j0217698"/>
          <p:cNvPicPr/>
          <p:nvPr/>
        </p:nvPicPr>
        <p:blipFill>
          <a:blip r:embed="rId1"/>
          <a:stretch/>
        </p:blipFill>
        <p:spPr>
          <a:xfrm>
            <a:off x="3635280" y="3789360"/>
            <a:ext cx="1747800" cy="1714680"/>
          </a:xfrm>
          <a:prstGeom prst="rect">
            <a:avLst/>
          </a:prstGeom>
          <a:ln w="0">
            <a:noFill/>
          </a:ln>
        </p:spPr>
      </p:pic>
    </p:spTree>
  </p:cSld>
  <p:transition advTm="6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cc"/>
                </a:solidFill>
                <a:latin typeface="Arial"/>
              </a:rPr>
              <a:t>память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Это все что мы запоминаем, что мы </a:t>
            </a:r>
            <a:r>
              <a:rPr b="0" i="1" lang="ru-RU" sz="3200" spc="-1" strike="noStrike" u="sng">
                <a:solidFill>
                  <a:srgbClr val="eaeaea"/>
                </a:solidFill>
                <a:uFillTx/>
                <a:latin typeface="Verdana"/>
              </a:rPr>
              <a:t>ощущали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в нашем прошлом опыте, эти образы остаются в мозгу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Запоминаем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Сохраняем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оспроизводим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Узнаем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advTm="6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cc"/>
                </a:solidFill>
                <a:latin typeface="Arial"/>
              </a:rPr>
              <a:t>воображение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Мы можем создавать новые образы на основе ранее воспринятых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оображение как бы перерабатывает то, что есть в памяти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Произведения писателей, художников, кинематографистов появляются благодаря работе </a:t>
            </a:r>
            <a:r>
              <a:rPr b="0" i="1" lang="ru-RU" sz="3200" spc="-1" strike="noStrike" u="sng">
                <a:solidFill>
                  <a:srgbClr val="eaeaea"/>
                </a:solidFill>
                <a:uFillTx/>
                <a:latin typeface="Verdana"/>
              </a:rPr>
              <a:t>творческого воображения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advTm="6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Arial"/>
              </a:rPr>
              <a:t>мышление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Получив информацию, мы перерабатываем ее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Обдумываем причины и последствия событий, поступков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Делаем умозаключения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Решаем задачи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advTm="6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Эмоционально-волевые психические процессы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Verdana"/>
              </a:rPr>
              <a:t>Эмоции и чувства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Verdana"/>
              </a:rPr>
              <a:t>Воля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 advTm="6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Эмоционально- волевые процессы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Tahoma"/>
              </a:rPr>
              <a:t>Постоянно происходят внутри нас, тесно связаны со свойствами личн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6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 Black"/>
              </a:rPr>
              <a:t>ЭМОЦИИ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ru-RU" sz="3600" spc="-1" strike="noStrike">
                <a:solidFill>
                  <a:srgbClr val="ffcc00"/>
                </a:solidFill>
                <a:latin typeface="Arial Black"/>
              </a:rPr>
              <a:t>ЭТО НАША РЕАКЦИЯ НА ПРОИСХОДЯЩИЕ СОБЫТИЯ, КОТОРЫЕ ВОЗДЕЙСТВУЮТ НА НАС.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ru-RU" sz="3600" spc="-1" strike="noStrike">
                <a:solidFill>
                  <a:srgbClr val="ffcc00"/>
                </a:solidFill>
                <a:latin typeface="Arial Black"/>
              </a:rPr>
              <a:t>Наше личное к ним отношение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advTm="6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 Black"/>
              </a:rPr>
              <a:t>воля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Это то, как мы контролируем свое поведение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С помощью воли мы заставляем себя работать, учиться, достигать чего-либо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А также отказаться от чего-либо (бросить курить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advTm="6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Verdana"/>
              </a:rPr>
              <a:t>Свойства  личности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2195640" y="191628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Способности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Мотивация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Темперамент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Характер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679" name="Picture 5" descr="j0292020"/>
          <p:cNvPicPr/>
          <p:nvPr/>
        </p:nvPicPr>
        <p:blipFill>
          <a:blip r:embed="rId1"/>
          <a:stretch/>
        </p:blipFill>
        <p:spPr>
          <a:xfrm>
            <a:off x="6012000" y="3860640"/>
            <a:ext cx="2523960" cy="2438640"/>
          </a:xfrm>
          <a:prstGeom prst="rect">
            <a:avLst/>
          </a:prstGeom>
          <a:ln w="0">
            <a:noFill/>
          </a:ln>
        </p:spPr>
      </p:pic>
    </p:spTree>
  </p:cSld>
  <p:transition advTm="6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Свойства личност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Tahoma"/>
              </a:rPr>
              <a:t>Это все что мы сами и окружающие люди могут сказать о нас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Tahoma"/>
              </a:rPr>
              <a:t>Отвечает на вопрос: «Какой ты человек?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2" name="Picture 7" descr="j0297551"/>
          <p:cNvPicPr/>
          <p:nvPr/>
        </p:nvPicPr>
        <p:blipFill>
          <a:blip r:embed="rId1"/>
          <a:stretch/>
        </p:blipFill>
        <p:spPr>
          <a:xfrm>
            <a:off x="6068880" y="2349360"/>
            <a:ext cx="2175120" cy="3024360"/>
          </a:xfrm>
          <a:prstGeom prst="rect">
            <a:avLst/>
          </a:prstGeom>
          <a:ln w="0">
            <a:noFill/>
          </a:ln>
        </p:spPr>
      </p:pic>
    </p:spTree>
  </p:cSld>
  <p:transition advTm="6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 Black"/>
              </a:rPr>
              <a:t>способности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Индивидуальные особенности личности (т. е. наши), которые помогают нам в какой- либо деятельности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Например: способности к музыке, к рисованию и т. д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advTm="6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539640" y="2276640"/>
            <a:ext cx="8158320" cy="27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Душ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понятие, употребляемое для обозначения внутреннего мира человека, его сознания и самосознания.</a:t>
            </a:r>
            <a:br>
              <a:rPr sz="2800"/>
            </a:br>
            <a:br>
              <a:rPr sz="2800"/>
            </a:b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сихик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свойство мозга отражать объективную действительность и на основе формируемого при этом психического образа целесообразно регулировать человека и его поведение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5" name="Object 5"/>
          <p:cNvGraphicFramePr/>
          <p:nvPr/>
        </p:nvGraphicFramePr>
        <p:xfrm>
          <a:off x="1663560" y="1986120"/>
          <a:ext cx="5846760" cy="39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3560" y="1986120"/>
                    <a:ext cx="5846760" cy="39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6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 Black"/>
              </a:rPr>
              <a:t>мотивация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 Black"/>
              </a:rPr>
              <a:t>То, что побуждает, заставляет нас делать что либо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 Black"/>
              </a:rPr>
              <a:t>Мотивы наших поступков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advTm="600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 Black"/>
              </a:rPr>
              <a:t>темперамент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 Black"/>
              </a:rPr>
              <a:t>Наши индивидуальные особенности, в них проявляется наше поведение и деятельность, их скорость и эмоциональность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advTm="600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Comic Sans MS"/>
              </a:rPr>
              <a:t>Типы темперамента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и их характерные черты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Сангвиник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 подвижность, склонность к частой смене впечатлений, отзывчивость и общительност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Флегматик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медлительность, устойчивость, эмоциональные состояния внешне выражаются слаб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Холерик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– бурные эмоции, резкие смены настроения, неуравновешенность, общая подвижност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Меланхолик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 легкая ранимость, склонность глубоко переживать даже незначительные событ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6000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характер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 Black"/>
              </a:rPr>
              <a:t>Содержание личности, ее поведения и деятельности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cc00"/>
                </a:solidFill>
                <a:uFillTx/>
                <a:latin typeface="Arial Black"/>
              </a:rPr>
              <a:t>Экстраверсия и интроверсия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 Black"/>
              </a:rPr>
              <a:t>Наше устойчивое отношение к окружающему миру, наши привычки, качества: доброта, упрямство, хитрость и т. д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advTm="6000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Состояния психики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Устойчивый интерес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Творческий подъем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Убежденность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Сомнение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Апатия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Угнетенность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И др.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 advTm="6000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ccecff"/>
                </a:solidFill>
                <a:uFillTx/>
                <a:latin typeface="Arial"/>
              </a:rPr>
              <a:t>Итак: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се эти качества, особенности личности, и познавательные процессы вместе составляют неповторимую индивидуальность каждого человек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7" name="Picture 8" descr="j0216516"/>
          <p:cNvPicPr/>
          <p:nvPr/>
        </p:nvPicPr>
        <p:blipFill>
          <a:blip r:embed="rId1"/>
          <a:stretch/>
        </p:blipFill>
        <p:spPr>
          <a:xfrm>
            <a:off x="3851280" y="4724280"/>
            <a:ext cx="1573200" cy="1820880"/>
          </a:xfrm>
          <a:prstGeom prst="rect">
            <a:avLst/>
          </a:prstGeom>
          <a:ln w="0">
            <a:noFill/>
          </a:ln>
        </p:spPr>
      </p:pic>
    </p:spTree>
  </p:cSld>
  <p:transition advTm="6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сновные функции психики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для чего существует психика и что она делае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тражение – окружающей действительност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сихическое отражение не зеркально – оно преломляется через индивидуальность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егуляция поведения и деятельност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свойства ли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сновные формы проявления психики и их взаимосвяз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сихические процес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познавате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эмоционально-воле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войства ли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остоя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ПОЗНАВАТЕЛЬНЫЕ ПРОЦЕССЫ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1619280" y="162864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Ощущение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Восприятие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Внимание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Память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Воображение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Мышление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Речь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653" name="Picture 7" descr="j0297707"/>
          <p:cNvPicPr/>
          <p:nvPr/>
        </p:nvPicPr>
        <p:blipFill>
          <a:blip r:embed="rId1"/>
          <a:stretch/>
        </p:blipFill>
        <p:spPr>
          <a:xfrm>
            <a:off x="5867280" y="1773360"/>
            <a:ext cx="2271960" cy="2663640"/>
          </a:xfrm>
          <a:prstGeom prst="rect">
            <a:avLst/>
          </a:prstGeom>
          <a:ln w="0">
            <a:noFill/>
          </a:ln>
        </p:spPr>
      </p:pic>
    </p:spTree>
  </p:cSld>
  <p:transition advTm="6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знавательные процес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5338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С их помощью мы получаем знания об окружающем мире – видим и чувствуем предметы, обращаем на них внимание, запоминаем, обдумываем, рассказываем другим, создаем что-то новое…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6" name="Picture 11" descr="j0299171"/>
          <p:cNvPicPr/>
          <p:nvPr/>
        </p:nvPicPr>
        <p:blipFill>
          <a:blip r:embed="rId1"/>
          <a:stretch/>
        </p:blipFill>
        <p:spPr>
          <a:xfrm>
            <a:off x="5942160" y="2637000"/>
            <a:ext cx="2157120" cy="2259000"/>
          </a:xfrm>
          <a:prstGeom prst="rect">
            <a:avLst/>
          </a:prstGeom>
          <a:ln w="0">
            <a:noFill/>
          </a:ln>
        </p:spPr>
      </p:pic>
    </p:spTree>
  </p:cSld>
  <p:transition advTm="6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cc"/>
                </a:solidFill>
                <a:latin typeface="Arial"/>
              </a:rPr>
              <a:t>ощущения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Это отражение основных свойств предметов, с помощью зрения, слуха, обоняния, осязания, вкус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Цвета, звуки, запахи – все это ощущения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Красный, шершавый, горький, громкий – ощущения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advTm="6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cc"/>
                </a:solidFill>
                <a:latin typeface="Arial"/>
              </a:rPr>
              <a:t>восприятие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Это отражение образа предмета в целом, с помощью органов чувств (зрение и др.) и сравнения образа с прошлым опытом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Мы воспринимаем все что нас окружает: образы людей, зданий, машин, животных и т. д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advTm="6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cc"/>
                </a:solidFill>
                <a:latin typeface="Arial"/>
              </a:rPr>
              <a:t>внимание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Наше сознание бывает направлено на что-то одно, отвлекаясь от всего остального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Мы смотрим интересный фильм, или делаем уроки и не видим, не слышим ничего вокруг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advTm="6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13:00:03Z</dcterms:created>
  <dc:creator>Ирина</dc:creator>
  <dc:description/>
  <dc:language>en-US</dc:language>
  <cp:lastModifiedBy>Ucer</cp:lastModifiedBy>
  <dcterms:modified xsi:type="dcterms:W3CDTF">2012-11-21T07:30:16Z</dcterms:modified>
  <cp:revision>19</cp:revision>
  <dc:subject/>
  <dc:title>ПСИХОЛОГИЯ ЧЕЛОВЕКА</dc:title>
</cp:coreProperties>
</file>