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D7B-0E6B-4DAF-83DC-0CF6E1BB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5D3-5760-4312-AA16-C979637C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C87-3381-4AA6-AFD0-2777830F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39D-E89E-4DD4-998E-6E28BE5E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D149-438B-4F58-B245-04AC60AD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4B45-DE06-4FAD-B647-1910F2EC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5083-49D7-4DAE-BA29-B1BA509C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2830-8001-45B1-BF9C-5BAF1999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ED76-A7C3-4284-A3B3-91B6D54E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E57E-D084-495C-94B3-136BBB99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560A-0C4D-472B-AB7D-6630334D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FC4-AAFB-4765-BEF5-7E89E2AB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079B-C6A6-4627-ACC7-418FFC59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BD5F-EC06-40DD-AED6-666FE409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D561-C001-42EC-9019-B0BBB439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2227-7012-48FB-A3BF-E998B3B6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318B-8DC1-40C0-BB4E-D3047E7C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CD7E2-3747-427A-9178-CA6B4954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AD13-CEA8-4725-AF2E-649192B0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668A-7D50-4EE4-B171-C922DB2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FFBD-7FE6-45E0-AB2A-F238C2F4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C757-F99A-44B3-BAEB-81AC8D8F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1C9-B114-4502-B6CF-4FCA4731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4914-E999-4E48-85DF-F23659A4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B7E6-303B-4444-A9DD-FE63A686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405F-3C34-4EDD-AF29-157C7205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231C-B21B-4D76-BCB1-B204694C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7C14C-78D5-4733-ADBC-AAE8E8D8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9684-9DC8-40EB-9A89-9FAE27DA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AE138-0736-4AC6-98DE-9C13B081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A23-A1AD-4601-AB28-87BA3124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CFF-20B1-4B1E-A6AE-526BCA8B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94E-6EAB-4D33-A1E3-6CA7F721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97C-4062-4A0B-8617-E07BB37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278-1D5B-453D-B6B6-7457EACB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14F-0F86-43D2-8A44-04E4E5E6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C036-6B98-4437-8D09-979DCBFE82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997D-A5C6-4359-A2DD-BA1E045BE6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89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AFAE-3AAB-450A-B268-611ABDA591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Тема 1: Экология, как наука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3" name="Picture 23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55308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66"/>
                </a:solidFill>
                <a:latin typeface="Arial"/>
              </a:rPr>
              <a:t>Концептуальная и эксперимент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68360" y="2050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общие экологические закономерност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24000" y="3573360"/>
            <a:ext cx="410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алит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етическая экология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"/>
          <p:cNvPicPr/>
          <p:nvPr/>
        </p:nvPicPr>
        <p:blipFill>
          <a:blip r:embed="rId1"/>
          <a:stretch/>
        </p:blipFill>
        <p:spPr>
          <a:xfrm>
            <a:off x="4427640" y="2924280"/>
            <a:ext cx="439236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Хроно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826920" y="20509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экологические процессы во времен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716360" y="3500280"/>
            <a:ext cx="40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волюцион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е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е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4465440" cy="2620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человека и социальная экология</a:t>
            </a:r>
            <a:r>
              <a:rPr b="1" i="1" lang="ru-RU" sz="40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97" name="Picture 8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1326960" cy="2022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4560" y="1989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заимоотношения человека с окружающей средо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24000" y="2625840"/>
            <a:ext cx="4535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индивид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репродуктив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пуляционная экология челове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111640" y="4508640"/>
            <a:ext cx="403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личност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емь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циальн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1898640" cy="2376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Приклад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9640" y="205092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учает вопросы антропогенного преобразования экосистем и создание новых, предотвращения их разрушения, разработки принципов рационального природопользова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417840"/>
            <a:ext cx="590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мическ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дицин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льскохозяйственная 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02"/>
          <p:cNvPicPr/>
          <p:nvPr/>
        </p:nvPicPr>
        <p:blipFill>
          <a:blip r:embed="rId1"/>
          <a:stretch/>
        </p:blipFill>
        <p:spPr>
          <a:xfrm>
            <a:off x="4788000" y="3141720"/>
            <a:ext cx="3671640" cy="254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0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поселений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187280" y="1916280"/>
            <a:ext cx="650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11280" y="191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условия существования людей в населенных пунктах различных типов и размеров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4500720" y="3645000"/>
            <a:ext cx="43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рб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строительств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хитектурн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1767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900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культур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01480" y="213372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ает жизнь человека в социально-культурной сред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24000" y="4005360"/>
            <a:ext cx="40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культу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духа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3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4754520" cy="316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24000" y="2205000"/>
            <a:ext cx="84978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…сумма знаний, относящихся к экономике природы: изучение всей совокупности взаимоотношений животного с окружающей его средой, как органической, как и неорганической, и прежде всего дружественных или враждебных отношений с теми животными и растениями, с которыми он прямо или косвенно вступает в контакт. Одним словом, экология – это изучение всех сложных взаимоотношений, которые Дарвин назвал условиями, порождающими борьбу за существование»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.Геккель, 1866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66"/>
                </a:solidFill>
                <a:latin typeface="Arial Black"/>
              </a:rPr>
              <a:t>Что такое экология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24000" y="260280"/>
            <a:ext cx="47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(греческое ойкос – дом, жилище, родина + греческое логос – понятие, учение) – область знания, изучающая взаимоотношения организмов и их сообществ с окружающей средой (в том числе и с другими организмами и сообществами). (Н.Ф.Реймерс, Краткий словарь биологических терминов: Кн. Для учителя.-2-е изд..-М.: Просвещение, 1995.- с.351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076720" y="260280"/>
            <a:ext cx="374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кология – область знания, рассматривающая различные аспекты взаимоотношений организмов (в том числе и человека), их сообществ с окружающей средой. (А.В.Миронов, Преподавание экологии в школе/М.: Гуманитар. Изд. Центр ВЛАДОС, 2004.-с.221)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50920" y="4221000"/>
            <a:ext cx="85690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работах В.И. Панова экология рассматривается как соответствующая область биологической науки, как междисциплинарный подход к изучению экосистем планетарного масштаба, как мировоззренческая позиция,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авящая своей целью сохранение  жизни на Земле.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6"/>
          <p:cNvSpPr txBox="1"/>
          <p:nvPr/>
        </p:nvSpPr>
        <p:spPr>
          <a:xfrm>
            <a:off x="179280" y="189000"/>
            <a:ext cx="8785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экологических исследований</a:t>
            </a:r>
            <a:endParaRPr b="0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0" name="Organization Chart 2"/>
          <p:cNvGrpSpPr/>
          <p:nvPr/>
        </p:nvGrpSpPr>
        <p:grpSpPr>
          <a:xfrm>
            <a:off x="179280" y="981000"/>
            <a:ext cx="8785080" cy="4247280"/>
            <a:chOff x="179280" y="981000"/>
            <a:chExt cx="8785080" cy="4247280"/>
          </a:xfrm>
        </p:grpSpPr>
        <p:cxnSp>
          <p:nvCxnSpPr>
            <p:cNvPr id="141" name="_s1028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7923960" y="3902400"/>
              <a:ext cx="5317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29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6113520" y="3900240"/>
              <a:ext cx="535320" cy="2520"/>
            </a:xfrm>
            <a:prstGeom prst="bentConnector3">
              <a:avLst>
                <a:gd name="adj1" fmla="val 503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1030"/>
            <p:cNvCxnSpPr>
              <a:stCxn id="148" idx="0"/>
              <a:endCxn id="149" idx="2"/>
            </p:cNvCxnSpPr>
            <p:nvPr/>
          </p:nvCxnSpPr>
          <p:spPr>
            <a:xfrm flipV="1">
              <a:off x="4571280" y="3633840"/>
              <a:ext cx="2520" cy="53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031"/>
            <p:cNvCxnSpPr>
              <a:stCxn id="151" idx="0"/>
              <a:endCxn id="152" idx="2"/>
            </p:cNvCxnSpPr>
            <p:nvPr/>
          </p:nvCxnSpPr>
          <p:spPr>
            <a:xfrm flipV="1" rot="16200000">
              <a:off x="2497680" y="3902400"/>
              <a:ext cx="5317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032"/>
            <p:cNvCxnSpPr>
              <a:stCxn id="149" idx="0"/>
              <a:endCxn id="154" idx="2"/>
            </p:cNvCxnSpPr>
            <p:nvPr/>
          </p:nvCxnSpPr>
          <p:spPr>
            <a:xfrm flipV="1">
              <a:off x="4571280" y="2039400"/>
              <a:ext cx="2520" cy="53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33"/>
            <p:cNvCxnSpPr>
              <a:stCxn id="146" idx="0"/>
              <a:endCxn id="154" idx="2"/>
            </p:cNvCxnSpPr>
            <p:nvPr/>
          </p:nvCxnSpPr>
          <p:spPr>
            <a:xfrm flipV="1" rot="16200000">
              <a:off x="5208120" y="1402200"/>
              <a:ext cx="535320" cy="1809360"/>
            </a:xfrm>
            <a:prstGeom prst="bentConnector3">
              <a:avLst>
                <a:gd name="adj1" fmla="val 495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34"/>
            <p:cNvCxnSpPr>
              <a:stCxn id="157" idx="0"/>
              <a:endCxn id="158" idx="2"/>
            </p:cNvCxnSpPr>
            <p:nvPr/>
          </p:nvCxnSpPr>
          <p:spPr>
            <a:xfrm flipV="1">
              <a:off x="956160" y="3637800"/>
              <a:ext cx="2160" cy="53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5"/>
            <p:cNvCxnSpPr>
              <a:stCxn id="143" idx="0"/>
              <a:endCxn id="154" idx="2"/>
            </p:cNvCxnSpPr>
            <p:nvPr/>
          </p:nvCxnSpPr>
          <p:spPr>
            <a:xfrm flipV="1" rot="16200000">
              <a:off x="6112440" y="497880"/>
              <a:ext cx="535320" cy="3618000"/>
            </a:xfrm>
            <a:prstGeom prst="bentConnector3">
              <a:avLst>
                <a:gd name="adj1" fmla="val 495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0" name="_s1036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399840" y="1402560"/>
              <a:ext cx="535320" cy="1809360"/>
            </a:xfrm>
            <a:prstGeom prst="bentConnector3">
              <a:avLst>
                <a:gd name="adj1" fmla="val 495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7"/>
            <p:cNvCxnSpPr>
              <a:stCxn id="158" idx="0"/>
              <a:endCxn id="154" idx="2"/>
            </p:cNvCxnSpPr>
            <p:nvPr/>
          </p:nvCxnSpPr>
          <p:spPr>
            <a:xfrm flipH="1" flipV="1" rot="5400000">
              <a:off x="2496240" y="498960"/>
              <a:ext cx="535320" cy="3616200"/>
            </a:xfrm>
            <a:prstGeom prst="bentConnector3">
              <a:avLst>
                <a:gd name="adj1" fmla="val 495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1038"/>
            <p:cNvSpPr/>
            <p:nvPr/>
          </p:nvSpPr>
          <p:spPr>
            <a:xfrm>
              <a:off x="3796560" y="981000"/>
              <a:ext cx="1550160" cy="10627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Метод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– путь, 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способ познания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39"/>
            <p:cNvSpPr/>
            <p:nvPr/>
          </p:nvSpPr>
          <p:spPr>
            <a:xfrm>
              <a:off x="179280" y="2575080"/>
              <a:ext cx="1550160" cy="10627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Наблюде-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ние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40"/>
            <p:cNvSpPr/>
            <p:nvPr/>
          </p:nvSpPr>
          <p:spPr>
            <a:xfrm>
              <a:off x="1987920" y="2575080"/>
              <a:ext cx="1550160" cy="10627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Экспери-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мент</a:t>
              </a:r>
              <a:r>
                <a:rPr b="0" lang="ru-RU" sz="23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41"/>
            <p:cNvSpPr/>
            <p:nvPr/>
          </p:nvSpPr>
          <p:spPr>
            <a:xfrm>
              <a:off x="7414200" y="2575080"/>
              <a:ext cx="1550160" cy="10627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Arial"/>
                </a:rPr>
                <a:t>Моделиро-</a:t>
              </a:r>
              <a:endParaRPr b="0" i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99"/>
                  </a:solidFill>
                  <a:latin typeface="Arial"/>
                </a:rPr>
                <a:t>вание </a:t>
              </a:r>
              <a:endParaRPr b="0" i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42"/>
            <p:cNvSpPr/>
            <p:nvPr/>
          </p:nvSpPr>
          <p:spPr>
            <a:xfrm>
              <a:off x="179280" y="4169160"/>
              <a:ext cx="155016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Бинокль, лупа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микроскоп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космический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спутник 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43"/>
            <p:cNvSpPr/>
            <p:nvPr/>
          </p:nvSpPr>
          <p:spPr>
            <a:xfrm>
              <a:off x="5605200" y="2575080"/>
              <a:ext cx="155016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Описа-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ние 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44"/>
            <p:cNvSpPr/>
            <p:nvPr/>
          </p:nvSpPr>
          <p:spPr>
            <a:xfrm>
              <a:off x="3796560" y="2575080"/>
              <a:ext cx="155016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Измере-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99"/>
                  </a:solidFill>
                  <a:latin typeface="Arial"/>
                </a:rPr>
                <a:t>ние </a:t>
              </a:r>
              <a:endParaRPr b="0" i="1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45"/>
            <p:cNvSpPr/>
            <p:nvPr/>
          </p:nvSpPr>
          <p:spPr>
            <a:xfrm>
              <a:off x="1989720" y="4169160"/>
              <a:ext cx="154800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Батискаф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аквариум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лабораторное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оборудование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46"/>
            <p:cNvSpPr/>
            <p:nvPr/>
          </p:nvSpPr>
          <p:spPr>
            <a:xfrm>
              <a:off x="3798720" y="4169160"/>
              <a:ext cx="154800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Линейка, 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теодолит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эхолот, сканер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47"/>
            <p:cNvSpPr/>
            <p:nvPr/>
          </p:nvSpPr>
          <p:spPr>
            <a:xfrm>
              <a:off x="5607360" y="4169160"/>
              <a:ext cx="154800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Словари, 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энциклопедии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научные статьи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048"/>
            <p:cNvSpPr/>
            <p:nvPr/>
          </p:nvSpPr>
          <p:spPr>
            <a:xfrm>
              <a:off x="7416000" y="4169160"/>
              <a:ext cx="1548000" cy="105912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Компьютер.,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компьютерная 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800080"/>
                  </a:solidFill>
                  <a:latin typeface="Arial"/>
                </a:rPr>
                <a:t>программа</a:t>
              </a: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36" descr="d056"/>
          <p:cNvPicPr/>
          <p:nvPr/>
        </p:nvPicPr>
        <p:blipFill>
          <a:blip r:embed="rId1"/>
          <a:stretch/>
        </p:blipFill>
        <p:spPr>
          <a:xfrm>
            <a:off x="684360" y="9810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8" descr="6"/>
          <p:cNvPicPr/>
          <p:nvPr/>
        </p:nvPicPr>
        <p:blipFill>
          <a:blip r:embed="rId2"/>
          <a:stretch/>
        </p:blipFill>
        <p:spPr>
          <a:xfrm>
            <a:off x="3851280" y="5373720"/>
            <a:ext cx="1290600" cy="14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9" descr="j25"/>
          <p:cNvPicPr/>
          <p:nvPr/>
        </p:nvPicPr>
        <p:blipFill>
          <a:blip r:embed="rId3"/>
          <a:stretch/>
        </p:blipFill>
        <p:spPr>
          <a:xfrm>
            <a:off x="6300720" y="530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0" descr="j25"/>
          <p:cNvPicPr/>
          <p:nvPr/>
        </p:nvPicPr>
        <p:blipFill>
          <a:blip r:embed="rId4"/>
          <a:stretch/>
        </p:blipFill>
        <p:spPr>
          <a:xfrm>
            <a:off x="1547640" y="530064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Отрасли экологических знаний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истематических групп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11280" y="184464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связи организмов с окружающей средой в соответствии с крупнейшими систематическими категориям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219640" y="3417840"/>
            <a:ext cx="345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амфиб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тиц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насекомых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43080" y="1905120"/>
            <a:ext cx="631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иерархии живого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1618920" y="1700280"/>
            <a:ext cx="1368360" cy="79200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6084720" y="1700280"/>
            <a:ext cx="1656000" cy="72072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24000" y="2625840"/>
            <a:ext cx="273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50920" y="2565360"/>
            <a:ext cx="42498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лекулярная экология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клеток и тканей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рганов и их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5003640" y="2492280"/>
            <a:ext cx="3961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з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особ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популяции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кология сообщест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Факториальная экология</a:t>
            </a:r>
            <a:r>
              <a:rPr b="1" i="1" lang="ru-RU" sz="44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5640" y="21938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следует влияние на организмы факторов сред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539640" y="357336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из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имическая экология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1308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66"/>
                </a:solidFill>
                <a:latin typeface="Arial"/>
              </a:rPr>
              <a:t>Экология сред жизни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95280" y="19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матривает взаимоотношения организмов и их сообществ со средой по основным сферам жизни и по ландшафтным подразделениям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508720" y="3213000"/>
            <a:ext cx="331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э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идр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тоэкология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тундр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кология пустын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504000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9:04:01Z</dcterms:created>
  <dc:creator>Greek</dc:creator>
  <dc:description/>
  <dc:language>en-US</dc:language>
  <cp:lastModifiedBy>Дмитрий Каленюк</cp:lastModifiedBy>
  <dcterms:modified xsi:type="dcterms:W3CDTF">2013-04-09T15:56:15Z</dcterms:modified>
  <cp:revision>10</cp:revision>
  <dc:subject/>
  <dc:title>Структура экологических знаний</dc:title>
</cp:coreProperties>
</file>