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3F7-53D1-46BF-95CA-640CE558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7B8-1C0B-442E-B54B-C390AB72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694-7045-4E10-8683-273BF9EA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185-6C84-4787-9333-6A4BA472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B7D6-1C09-46F6-BA6A-2B7C27F1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BE9D-9998-4F4B-9A44-D4DB042B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3F04-36B7-4AFA-A536-5CB3066D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43C8-D741-4725-A4B4-5003F6D4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A7A2-9E8C-4F7D-A2DA-52AD864D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B483-1A26-4197-86FB-FBCD011C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0A5D-E772-4539-BC58-E84DD892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A903-4F57-45D6-B338-D650DF28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5EAE-9296-48B9-9CBE-A0C693B2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AADA-BD79-489B-9751-12D4ED3D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5414-00AF-4D11-86DC-929F54D6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B637-677F-4BF4-8A40-87B19B0E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1DFB-7C00-4870-894C-B4D99C27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433EA-424D-433F-AF8F-CE3D3582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3D25F-1A7B-475A-A872-63E2A17F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39217-9594-42B9-9617-9477E2B3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E034-5B86-4526-8A5D-D7A87456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9E214-833F-4247-B111-332DDDA1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484-FD7E-446B-9BC6-5870FBBE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123D8-DA71-495B-9204-7D304614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8877-3ADA-482F-BD3D-5E41E53D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40C80-F41C-4D12-908B-B4094ED4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87A4-C737-450C-86C5-D464B390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4E60C-0462-487B-A927-33A50EB0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8789C-C4D6-489D-8475-E41CE91E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B7948-3FAE-4506-871E-2E5D708F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857-B8C9-472D-9DB7-E381C2DB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D41-1609-4004-810E-243BCF15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D9E-163F-4959-8D79-496770CB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EBE-30D0-4BDB-A4DE-670A488D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45F-3C23-4774-AC1D-ED6744FD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0BA-3E60-461E-A7E7-1124AD82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0602-B6D4-4FEB-82FD-0588BC42C0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70A8-E30B-4CBD-894F-4F444E8467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89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2A24-4498-4066-A83C-D260295229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Тема 1: Экология, как наука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3" name="Picture 23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55308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66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68360" y="20509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общие экологические закономерност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24000" y="3573360"/>
            <a:ext cx="4105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алит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оретическая экология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на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2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39236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Хроно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826920" y="20509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экологические процессы во времен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716360" y="350028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волюцион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е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ле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9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4465440" cy="2620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человека и соци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1"/>
          <a:stretch/>
        </p:blipFill>
        <p:spPr>
          <a:xfrm>
            <a:off x="6372360" y="2421000"/>
            <a:ext cx="1326960" cy="20224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574560" y="1989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заимоотношения человека с окружающей средо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24000" y="2625840"/>
            <a:ext cx="4535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индивид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репродуктив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пуляционная экология человек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111640" y="4508640"/>
            <a:ext cx="40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личност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емь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циаль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1898640" cy="23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Приклад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39640" y="205092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417840"/>
            <a:ext cx="590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мическ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жене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дицин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льскохозяйственн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02"/>
          <p:cNvPicPr/>
          <p:nvPr/>
        </p:nvPicPr>
        <p:blipFill>
          <a:blip r:embed="rId1"/>
          <a:stretch/>
        </p:blipFill>
        <p:spPr>
          <a:xfrm>
            <a:off x="4788000" y="3141720"/>
            <a:ext cx="3671640" cy="254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9000"/>
                            </p:stCondLst>
                            <p:childTnLst>
                              <p:par>
                                <p:cTn id="2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поселе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187280" y="1916280"/>
            <a:ext cx="650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11280" y="191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условия существования людей в населенных пунктах различных типов и размеров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4500720" y="3645000"/>
            <a:ext cx="439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рб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строительств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итекту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1767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культур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01480" y="21337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жизнь человека в социально-культурной сред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24000" y="4005360"/>
            <a:ext cx="40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культу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дух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3" descr=""/>
          <p:cNvPicPr/>
          <p:nvPr/>
        </p:nvPicPr>
        <p:blipFill>
          <a:blip r:embed="rId1"/>
          <a:stretch/>
        </p:blipFill>
        <p:spPr>
          <a:xfrm>
            <a:off x="3924360" y="2997360"/>
            <a:ext cx="4754520" cy="3168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24000" y="2205000"/>
            <a:ext cx="84978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.Геккель, 1866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66"/>
                </a:solidFill>
                <a:latin typeface="Arial Black"/>
              </a:rPr>
              <a:t>Что такое экология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24000" y="260280"/>
            <a:ext cx="475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076720" y="260280"/>
            <a:ext cx="374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50920" y="4221000"/>
            <a:ext cx="856908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вящая своей целью сохранение  жизни на Земле.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6"/>
          <p:cNvSpPr txBox="1"/>
          <p:nvPr/>
        </p:nvSpPr>
        <p:spPr>
          <a:xfrm>
            <a:off x="179280" y="189000"/>
            <a:ext cx="878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ы экологических исследований</a:t>
            </a:r>
            <a:endParaRPr b="0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0" name="Organization Chart 2"/>
          <p:cNvGrpSpPr/>
          <p:nvPr/>
        </p:nvGrpSpPr>
        <p:grpSpPr>
          <a:xfrm>
            <a:off x="179280" y="981000"/>
            <a:ext cx="8785080" cy="4247280"/>
            <a:chOff x="179280" y="981000"/>
            <a:chExt cx="8785080" cy="4247280"/>
          </a:xfrm>
        </p:grpSpPr>
        <p:cxnSp>
          <p:nvCxnSpPr>
            <p:cNvPr id="141" name="_s1028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7923960" y="3902400"/>
              <a:ext cx="53172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29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6113520" y="3900240"/>
              <a:ext cx="535320" cy="2520"/>
            </a:xfrm>
            <a:prstGeom prst="bentConnector3">
              <a:avLst>
                <a:gd name="adj1" fmla="val 503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1030"/>
            <p:cNvCxnSpPr>
              <a:stCxn id="148" idx="0"/>
              <a:endCxn id="149" idx="2"/>
            </p:cNvCxnSpPr>
            <p:nvPr/>
          </p:nvCxnSpPr>
          <p:spPr>
            <a:xfrm flipV="1">
              <a:off x="4571280" y="3633840"/>
              <a:ext cx="2520" cy="53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1031"/>
            <p:cNvCxnSpPr>
              <a:stCxn id="151" idx="0"/>
              <a:endCxn id="152" idx="2"/>
            </p:cNvCxnSpPr>
            <p:nvPr/>
          </p:nvCxnSpPr>
          <p:spPr>
            <a:xfrm flipV="1" rot="16200000">
              <a:off x="2497680" y="3902400"/>
              <a:ext cx="53172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1032"/>
            <p:cNvCxnSpPr>
              <a:stCxn id="149" idx="0"/>
              <a:endCxn id="154" idx="2"/>
            </p:cNvCxnSpPr>
            <p:nvPr/>
          </p:nvCxnSpPr>
          <p:spPr>
            <a:xfrm flipV="1">
              <a:off x="4571280" y="2039400"/>
              <a:ext cx="2520" cy="53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033"/>
            <p:cNvCxnSpPr>
              <a:stCxn id="146" idx="0"/>
              <a:endCxn id="154" idx="2"/>
            </p:cNvCxnSpPr>
            <p:nvPr/>
          </p:nvCxnSpPr>
          <p:spPr>
            <a:xfrm flipV="1" rot="16200000">
              <a:off x="5208120" y="1402200"/>
              <a:ext cx="535320" cy="1809360"/>
            </a:xfrm>
            <a:prstGeom prst="bentConnector3">
              <a:avLst>
                <a:gd name="adj1" fmla="val 495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034"/>
            <p:cNvCxnSpPr>
              <a:stCxn id="157" idx="0"/>
              <a:endCxn id="158" idx="2"/>
            </p:cNvCxnSpPr>
            <p:nvPr/>
          </p:nvCxnSpPr>
          <p:spPr>
            <a:xfrm flipV="1">
              <a:off x="956160" y="3637800"/>
              <a:ext cx="2160" cy="53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35"/>
            <p:cNvCxnSpPr>
              <a:stCxn id="143" idx="0"/>
              <a:endCxn id="154" idx="2"/>
            </p:cNvCxnSpPr>
            <p:nvPr/>
          </p:nvCxnSpPr>
          <p:spPr>
            <a:xfrm flipV="1" rot="16200000">
              <a:off x="6112440" y="497880"/>
              <a:ext cx="535320" cy="3618000"/>
            </a:xfrm>
            <a:prstGeom prst="bentConnector3">
              <a:avLst>
                <a:gd name="adj1" fmla="val 495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1036"/>
            <p:cNvCxnSpPr>
              <a:stCxn id="152" idx="0"/>
              <a:endCxn id="154" idx="2"/>
            </p:cNvCxnSpPr>
            <p:nvPr/>
          </p:nvCxnSpPr>
          <p:spPr>
            <a:xfrm flipH="1" flipV="1" rot="5400000">
              <a:off x="3399840" y="1402560"/>
              <a:ext cx="535320" cy="1809360"/>
            </a:xfrm>
            <a:prstGeom prst="bentConnector3">
              <a:avLst>
                <a:gd name="adj1" fmla="val 495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37"/>
            <p:cNvCxnSpPr>
              <a:stCxn id="158" idx="0"/>
              <a:endCxn id="154" idx="2"/>
            </p:cNvCxnSpPr>
            <p:nvPr/>
          </p:nvCxnSpPr>
          <p:spPr>
            <a:xfrm flipH="1" flipV="1" rot="5400000">
              <a:off x="2496240" y="498960"/>
              <a:ext cx="535320" cy="3616200"/>
            </a:xfrm>
            <a:prstGeom prst="bentConnector3">
              <a:avLst>
                <a:gd name="adj1" fmla="val 495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1038"/>
            <p:cNvSpPr/>
            <p:nvPr/>
          </p:nvSpPr>
          <p:spPr>
            <a:xfrm>
              <a:off x="3796560" y="981000"/>
              <a:ext cx="1550160" cy="10627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Метод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– путь, 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способ познания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39"/>
            <p:cNvSpPr/>
            <p:nvPr/>
          </p:nvSpPr>
          <p:spPr>
            <a:xfrm>
              <a:off x="179280" y="2575080"/>
              <a:ext cx="1550160" cy="10627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99"/>
                  </a:solidFill>
                  <a:latin typeface="Arial"/>
                </a:rPr>
                <a:t>Наблюде-</a:t>
              </a:r>
              <a:endParaRPr b="0" i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99"/>
                  </a:solidFill>
                  <a:latin typeface="Arial"/>
                </a:rPr>
                <a:t>ние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i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40"/>
            <p:cNvSpPr/>
            <p:nvPr/>
          </p:nvSpPr>
          <p:spPr>
            <a:xfrm>
              <a:off x="1987920" y="2575080"/>
              <a:ext cx="1550160" cy="10627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99"/>
                  </a:solidFill>
                  <a:latin typeface="Arial"/>
                </a:rPr>
                <a:t>Экспери-</a:t>
              </a:r>
              <a:endParaRPr b="0" i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99"/>
                  </a:solidFill>
                  <a:latin typeface="Arial"/>
                </a:rPr>
                <a:t>мент</a:t>
              </a:r>
              <a:r>
                <a:rPr b="0" lang="ru-RU" sz="23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i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41"/>
            <p:cNvSpPr/>
            <p:nvPr/>
          </p:nvSpPr>
          <p:spPr>
            <a:xfrm>
              <a:off x="7414200" y="2575080"/>
              <a:ext cx="1550160" cy="10627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99"/>
                  </a:solidFill>
                  <a:latin typeface="Arial"/>
                </a:rPr>
                <a:t>Моделиро-</a:t>
              </a:r>
              <a:endParaRPr b="0" i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99"/>
                  </a:solidFill>
                  <a:latin typeface="Arial"/>
                </a:rPr>
                <a:t>вание </a:t>
              </a:r>
              <a:endParaRPr b="0" i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42"/>
            <p:cNvSpPr/>
            <p:nvPr/>
          </p:nvSpPr>
          <p:spPr>
            <a:xfrm>
              <a:off x="179280" y="4169160"/>
              <a:ext cx="1550160" cy="10591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Бинокль, лупа,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микроскоп,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космический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спутник 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043"/>
            <p:cNvSpPr/>
            <p:nvPr/>
          </p:nvSpPr>
          <p:spPr>
            <a:xfrm>
              <a:off x="5605200" y="2575080"/>
              <a:ext cx="1550160" cy="10591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99"/>
                  </a:solidFill>
                  <a:latin typeface="Arial"/>
                </a:rPr>
                <a:t>Описа-</a:t>
              </a:r>
              <a:endParaRPr b="0" i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99"/>
                  </a:solidFill>
                  <a:latin typeface="Arial"/>
                </a:rPr>
                <a:t>ние </a:t>
              </a:r>
              <a:endParaRPr b="0" i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44"/>
            <p:cNvSpPr/>
            <p:nvPr/>
          </p:nvSpPr>
          <p:spPr>
            <a:xfrm>
              <a:off x="3796560" y="2575080"/>
              <a:ext cx="1550160" cy="10591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99"/>
                  </a:solidFill>
                  <a:latin typeface="Arial"/>
                </a:rPr>
                <a:t>Измере-</a:t>
              </a:r>
              <a:endParaRPr b="0" i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99"/>
                  </a:solidFill>
                  <a:latin typeface="Arial"/>
                </a:rPr>
                <a:t>ние </a:t>
              </a:r>
              <a:endParaRPr b="0" i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45"/>
            <p:cNvSpPr/>
            <p:nvPr/>
          </p:nvSpPr>
          <p:spPr>
            <a:xfrm>
              <a:off x="1989720" y="4169160"/>
              <a:ext cx="1548000" cy="10591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Батискаф,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аквариум,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лабораторное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оборудование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46"/>
            <p:cNvSpPr/>
            <p:nvPr/>
          </p:nvSpPr>
          <p:spPr>
            <a:xfrm>
              <a:off x="3798720" y="4169160"/>
              <a:ext cx="1548000" cy="10591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Линейка, 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теодолит,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эхолот, сканер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47"/>
            <p:cNvSpPr/>
            <p:nvPr/>
          </p:nvSpPr>
          <p:spPr>
            <a:xfrm>
              <a:off x="5607360" y="4169160"/>
              <a:ext cx="1548000" cy="10591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Словари, 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энциклопедии,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научные статьи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48"/>
            <p:cNvSpPr/>
            <p:nvPr/>
          </p:nvSpPr>
          <p:spPr>
            <a:xfrm>
              <a:off x="7416000" y="4169160"/>
              <a:ext cx="1548000" cy="10591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Компьютер.,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компьютерная 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программа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Picture 36" descr="d056"/>
          <p:cNvPicPr/>
          <p:nvPr/>
        </p:nvPicPr>
        <p:blipFill>
          <a:blip r:embed="rId1"/>
          <a:stretch/>
        </p:blipFill>
        <p:spPr>
          <a:xfrm>
            <a:off x="684360" y="9810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8" descr="6"/>
          <p:cNvPicPr/>
          <p:nvPr/>
        </p:nvPicPr>
        <p:blipFill>
          <a:blip r:embed="rId2"/>
          <a:stretch/>
        </p:blipFill>
        <p:spPr>
          <a:xfrm>
            <a:off x="3851280" y="5373720"/>
            <a:ext cx="1290600" cy="148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9" descr="j25"/>
          <p:cNvPicPr/>
          <p:nvPr/>
        </p:nvPicPr>
        <p:blipFill>
          <a:blip r:embed="rId3"/>
          <a:stretch/>
        </p:blipFill>
        <p:spPr>
          <a:xfrm>
            <a:off x="6300720" y="5300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0" descr="j25"/>
          <p:cNvPicPr/>
          <p:nvPr/>
        </p:nvPicPr>
        <p:blipFill>
          <a:blip r:embed="rId4"/>
          <a:stretch/>
        </p:blipFill>
        <p:spPr>
          <a:xfrm>
            <a:off x="1547640" y="5300640"/>
            <a:ext cx="1368720" cy="1368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Отрасли экологических знаний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истематических групп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11280" y="18446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219640" y="3417840"/>
            <a:ext cx="34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амфиби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тиц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насекомых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43080" y="1905120"/>
            <a:ext cx="6315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иерархии живого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4" name="Line 5"/>
          <p:cNvSpPr/>
          <p:nvPr/>
        </p:nvSpPr>
        <p:spPr>
          <a:xfrm flipH="1">
            <a:off x="1618920" y="1700280"/>
            <a:ext cx="1368360" cy="79200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6084720" y="1700280"/>
            <a:ext cx="1656000" cy="72072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24000" y="2625840"/>
            <a:ext cx="273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50920" y="2565360"/>
            <a:ext cx="42498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лекулярная экология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клеток и ткане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рганов и их систе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5003640" y="2492280"/>
            <a:ext cx="39610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з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соб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популя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общест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Факториаль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5640" y="21938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ует влияние на организмы факторов сред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39640" y="3573360"/>
            <a:ext cx="39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з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и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13080" cy="367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ред жизни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95280" y="1916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508720" y="3213000"/>
            <a:ext cx="3311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э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ид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т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тунд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устын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504000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9:04:01Z</dcterms:created>
  <dc:creator>Greek</dc:creator>
  <dc:description/>
  <dc:language>en-US</dc:language>
  <cp:lastModifiedBy>Дмитрий Каленюк</cp:lastModifiedBy>
  <dcterms:modified xsi:type="dcterms:W3CDTF">2013-04-09T15:56:15Z</dcterms:modified>
  <cp:revision>10</cp:revision>
  <dc:subject/>
  <dc:title>Структура экологических знаний</dc:title>
</cp:coreProperties>
</file>