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3.png" ContentType="image/png"/>
  <Override PartName="/ppt/media/image26.jpeg" ContentType="image/jpeg"/>
  <Override PartName="/ppt/media/image23.jpeg" ContentType="image/jpeg"/>
  <Override PartName="/ppt/media/image22.wmf" ContentType="image/x-wmf"/>
  <Override PartName="/ppt/media/image21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6.png" ContentType="image/png"/>
  <Override PartName="/ppt/media/chimes.wav" ContentType="audio/x-wav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DDD-76CA-415B-A6B2-A3227471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141-6B97-4A3B-BEE3-288FD206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4A3-5749-4D22-84EC-1C9F6390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21A-5D3A-4B95-A5F7-D3D0F68C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C157-55DE-4695-96DC-1124A25A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4387-BC85-4B5D-B10D-33307BFE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F070-BBD5-4619-93EC-9CD32477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F4C0-45F6-4E72-B35E-114199B9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B49D-BA49-4E55-9A8C-E0E5D845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B851-E4D2-4FEE-BCA6-3C2559DE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2E29-507F-4FE5-B62B-1426BAAD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DD7-1FC4-4268-9751-B3DD3D9F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4076-B22D-403A-818B-8ADF7C48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9D3D-9A07-48BB-8133-66C77653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4BB2-2B37-4008-9591-7FFDB65C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5FEC-ED56-4612-9305-7CE009DE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93CB-9B36-4EF0-9917-90391FDD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9D5CB-4837-48B7-935E-085EB126C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33B78-5BC7-4A45-91D8-5AB9CF65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B0C7A-CAC4-41AA-BC50-9CB0501B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09BF0-D673-425A-A588-E3EE595E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8878D-7B09-4A7C-A12B-7374531F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7BB1-5078-4733-8B72-19531A85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98535-892A-4EBD-B127-7773684C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E8F65-CC00-4740-B2DD-47538111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20A54-7C5D-4B84-884B-47E8E39B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D971B-9275-4DE9-A5D3-EB9C2FA4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392EF-A6C8-409E-B171-3A0D3F40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7159-DA76-45CA-93BB-CB131347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C8C6A-286F-46AF-8504-A071A8CF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1FD60-AC58-4DA5-99D3-1E43879C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C51B5-4B16-4433-AA00-6688366C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FF226-BBA1-4C12-843B-9C91488E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795E-5133-47D2-BE8F-615FE926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5A257-8F9C-4901-8DBB-905BE503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766B8-E240-436C-961B-01EBA349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3F4EE-A0FC-4048-AC8E-F80F5041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4296B-BEEB-4969-A22C-1FB69F68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8970-8DE4-48D3-BFF9-54EFF124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8A26D-52C3-40A4-84F2-05B95545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1D5EB-3207-44B6-95E2-4334A18C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26097-EF57-43D2-ACD8-D679B6A2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9CDDE-9AD3-4EB3-80B9-2B4F3A96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A9140-93EE-4A30-8E96-EEB96F18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28D-6647-48DF-BF44-92A15042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AD037-4091-45AA-9C81-7A6808DC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0DF45-D228-4D8A-8869-3E3D599B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6BAAA-EB78-4A0A-886F-D328EFAB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7E1FB-67B2-4316-B8E8-675AF1FB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22DEB-BA1F-4673-80DB-FF12B386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49A69-D94E-438E-B593-7B84413B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F3BDE-37D4-435F-947A-362ABFAC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43D42-BE25-4648-B9BE-02AE336E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39879-BF1D-44A3-B10C-648BD405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E59F9-BBAC-4B07-BCB2-6C8EE79E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3EFE-88F1-4CE1-9050-3EEB6F6B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0CE2B-64A8-4DDE-89C7-90C20ED3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95A7E-FBEE-41E0-A347-B2040C10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6A741-2ED8-40D7-90F1-293E5CD4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83237-0995-45BB-BE67-5EE42AF4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D86E8-B74A-4233-8820-84008ADF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2A786-FDDB-4BFC-90A4-CF1B04C8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8B4F0-3029-41D1-BBE8-3139975E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6EA79-9925-4E75-AC9A-FC588A1B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07E36-432B-4559-B60D-49EFF7C9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3BA7E-B262-413C-902B-3BE64A0D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9037-8ABA-4FAB-966D-2C0FBB9D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E62A0-FA09-4591-85C8-5CABD840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4F4E3-C4B3-4228-822A-DBC983F7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A164B-654D-44A8-AD82-19256B4E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97D-AB7D-492D-8A8E-89E0F885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954-AF82-4E5C-AD09-368D53E5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96A8-747D-456C-AE86-7D18DA1C6B4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2748-9A47-4253-8555-32EF14A21CC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2AB7-926E-47AA-A44E-D566E1F0C62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CD6D-C1DB-4FDA-B2E3-79985871CBE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9D25-E64B-49FA-83E3-517E1B3EAA3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E611-C85F-4176-98D0-2D1F279AB4F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Заголовок 3" descr=""/>
          <p:cNvPicPr/>
          <p:nvPr/>
        </p:nvPicPr>
        <p:blipFill>
          <a:blip r:embed="rId1"/>
          <a:stretch/>
        </p:blipFill>
        <p:spPr>
          <a:xfrm>
            <a:off x="378000" y="1706400"/>
            <a:ext cx="8772480" cy="23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Закон оптимум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7" name="Содержимое 3" descr="законы факторов.jpg"/>
          <p:cNvPicPr/>
          <p:nvPr/>
        </p:nvPicPr>
        <p:blipFill>
          <a:blip r:embed="rId1"/>
          <a:stretch/>
        </p:blipFill>
        <p:spPr>
          <a:xfrm>
            <a:off x="981000" y="1523880"/>
            <a:ext cx="70963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рганизмы с узким диапазоном выносливост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9" name="Object 4"/>
          <p:cNvGraphicFramePr/>
          <p:nvPr/>
        </p:nvGraphicFramePr>
        <p:xfrm>
          <a:off x="492120" y="1600200"/>
          <a:ext cx="396252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1600200"/>
                    <a:ext cx="396252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1" name="Picture 19" descr="266"/>
          <p:cNvPicPr/>
          <p:nvPr/>
        </p:nvPicPr>
        <p:blipFill>
          <a:blip r:embed="rId3"/>
          <a:stretch/>
        </p:blipFill>
        <p:spPr>
          <a:xfrm>
            <a:off x="5230800" y="1600200"/>
            <a:ext cx="2881440" cy="21812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1" descr="CLASSIC_"/>
          <p:cNvPicPr/>
          <p:nvPr/>
        </p:nvPicPr>
        <p:blipFill>
          <a:blip r:embed="rId4"/>
          <a:stretch/>
        </p:blipFill>
        <p:spPr>
          <a:xfrm>
            <a:off x="870120" y="3949560"/>
            <a:ext cx="3203280" cy="21812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0" descr="pic040922"/>
          <p:cNvPicPr/>
          <p:nvPr/>
        </p:nvPicPr>
        <p:blipFill>
          <a:blip r:embed="rId5"/>
          <a:stretch/>
        </p:blipFill>
        <p:spPr>
          <a:xfrm>
            <a:off x="5208480" y="3941640"/>
            <a:ext cx="2917800" cy="218916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22"/>
          <p:cNvSpPr/>
          <p:nvPr/>
        </p:nvSpPr>
        <p:spPr>
          <a:xfrm>
            <a:off x="744120" y="1787400"/>
            <a:ext cx="42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ие факторы ограничив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изнедеятельность привед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десь примеров организ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наибольшей степен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279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ГРАНИЧИВАЮЩИЙ ФАКТО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76" name="Picture 5" descr="S095174"/>
          <p:cNvPicPr/>
          <p:nvPr/>
        </p:nvPicPr>
        <p:blipFill>
          <a:blip r:embed="rId1"/>
          <a:stretch/>
        </p:blipFill>
        <p:spPr>
          <a:xfrm>
            <a:off x="3733920" y="3200400"/>
            <a:ext cx="5076720" cy="340992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6"/>
          <p:cNvSpPr/>
          <p:nvPr/>
        </p:nvSpPr>
        <p:spPr>
          <a:xfrm>
            <a:off x="684360" y="141300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фактор, значение которого отклоняется от оптимальной величины, вследствие чего  организмы данного вида начинают испытывать угнет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152280" y="2438280"/>
            <a:ext cx="3400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кон Либих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аже един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фактор за преде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оны оптимума привод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трессовому состоя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 в пределе – к гиб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6"/>
          <p:cNvSpPr/>
          <p:nvPr/>
        </p:nvSpPr>
        <p:spPr>
          <a:xfrm>
            <a:off x="380880" y="449280"/>
            <a:ext cx="830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изнь на Земле существует повсюду, кроме  жерл действующих вулканов. Все, что окружает  живой организм, называют его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редой  обитан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. Изучением взаимодействия  организмов с окружающей средой занимается  наука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экология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(от греч.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oikos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– "жилище",  "местопребывание" и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logos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– "слово", "учение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6" descr="res0648DB45-8893-446F-BFC6-AE45132A78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304920" y="560160"/>
            <a:ext cx="3504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Земле выдел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четыре основные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реды жизн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ильно различающиеся по свойст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 силе действия отдельных фа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380880" y="60948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Lucida Sans"/>
              </a:rPr>
              <a:t>Среда обитания</a:t>
            </a:r>
            <a:r>
              <a:rPr b="1" i="1" lang="ru-RU" sz="3600" spc="-1" strike="noStrike">
                <a:solidFill>
                  <a:srgbClr val="000000"/>
                </a:solidFill>
                <a:latin typeface="Lucida Sans"/>
              </a:rPr>
              <a:t>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4800600" y="68580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ff33"/>
                </a:solidFill>
                <a:latin typeface="Lucida Sans"/>
              </a:rPr>
              <a:t>часть природы, в которой живёт организм</a:t>
            </a:r>
            <a:r>
              <a:rPr b="1" i="1" lang="ru-RU" sz="32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AN02097_"/>
          <p:cNvPicPr/>
          <p:nvPr/>
        </p:nvPicPr>
        <p:blipFill>
          <a:blip r:embed="rId1"/>
          <a:stretch/>
        </p:blipFill>
        <p:spPr>
          <a:xfrm>
            <a:off x="380880" y="4495680"/>
            <a:ext cx="1295640" cy="16765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AN02542_"/>
          <p:cNvPicPr/>
          <p:nvPr/>
        </p:nvPicPr>
        <p:blipFill>
          <a:blip r:embed="rId2"/>
          <a:stretch/>
        </p:blipFill>
        <p:spPr>
          <a:xfrm>
            <a:off x="7772400" y="2743200"/>
            <a:ext cx="853920" cy="120024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6"/>
          <p:cNvSpPr/>
          <p:nvPr/>
        </p:nvSpPr>
        <p:spPr>
          <a:xfrm>
            <a:off x="380880" y="1981080"/>
            <a:ext cx="335304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1905120" y="3048120"/>
            <a:ext cx="3352680" cy="14475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6095880" y="5334120"/>
            <a:ext cx="3048120" cy="15238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9"/>
          <p:cNvSpPr/>
          <p:nvPr/>
        </p:nvSpPr>
        <p:spPr>
          <a:xfrm>
            <a:off x="4038480" y="4038480"/>
            <a:ext cx="3429000" cy="144792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533520" y="22096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Lucida Sans"/>
              </a:rPr>
              <a:t>Наземно-воздуш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2209680" y="3505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Lucida Sans"/>
              </a:rPr>
              <a:t>Поч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4724280" y="45720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Lucida Sans"/>
              </a:rPr>
              <a:t>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6019920" y="5486400"/>
            <a:ext cx="31240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6f000"/>
                </a:solidFill>
                <a:latin typeface="Lucida Sans"/>
              </a:rPr>
              <a:t>Организ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3"/>
          <p:cNvSpPr/>
          <p:nvPr/>
        </p:nvSpPr>
        <p:spPr>
          <a:xfrm>
            <a:off x="4114800" y="9828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457200" y="10666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Lucida Sans"/>
              </a:rPr>
              <a:t>Экологические факторы –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4648320" y="46483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1981080" y="2362320"/>
            <a:ext cx="609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ff33"/>
                </a:solidFill>
                <a:latin typeface="Lucida Sans"/>
              </a:rPr>
              <a:t>компоненты среды, которые воздействуют на орган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838080" y="533520"/>
            <a:ext cx="7925040" cy="838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2286000" y="6858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imes New Roman"/>
              </a:rPr>
              <a:t>Экологические фа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380880" y="2590920"/>
            <a:ext cx="3962520" cy="1752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2286000" y="4724280"/>
            <a:ext cx="46483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5334120" y="2514600"/>
            <a:ext cx="335268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609480" y="2743200"/>
            <a:ext cx="3657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Био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(факторы живой природ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2209680" y="4724280"/>
            <a:ext cx="4724640" cy="15958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Абио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(факторы неживой природ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5334120" y="2438280"/>
            <a:ext cx="3352680" cy="20224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Антропог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(факторы деятельности челов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0"/>
          <p:cNvSpPr/>
          <p:nvPr/>
        </p:nvSpPr>
        <p:spPr>
          <a:xfrm flipH="1">
            <a:off x="2666520" y="1447920"/>
            <a:ext cx="762120" cy="1066680"/>
          </a:xfrm>
          <a:prstGeom prst="line">
            <a:avLst/>
          </a:prstGeom>
          <a:ln w="3816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1"/>
          <p:cNvSpPr/>
          <p:nvPr/>
        </p:nvSpPr>
        <p:spPr>
          <a:xfrm>
            <a:off x="6248520" y="1371600"/>
            <a:ext cx="609480" cy="1143000"/>
          </a:xfrm>
          <a:prstGeom prst="line">
            <a:avLst/>
          </a:prstGeom>
          <a:ln w="3816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2"/>
          <p:cNvSpPr/>
          <p:nvPr/>
        </p:nvSpPr>
        <p:spPr>
          <a:xfrm>
            <a:off x="4952880" y="1447920"/>
            <a:ext cx="0" cy="2971800"/>
          </a:xfrm>
          <a:prstGeom prst="line">
            <a:avLst/>
          </a:prstGeom>
          <a:ln w="3816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BD21370_"/>
          <p:cNvPicPr/>
          <p:nvPr/>
        </p:nvPicPr>
        <p:blipFill>
          <a:blip r:embed="rId1"/>
          <a:stretch/>
        </p:blipFill>
        <p:spPr>
          <a:xfrm>
            <a:off x="304920" y="2286000"/>
            <a:ext cx="8305560" cy="1522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"/>
          <p:cNvSpPr/>
          <p:nvPr/>
        </p:nvSpPr>
        <p:spPr>
          <a:xfrm>
            <a:off x="228600" y="3049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Lucida Sans"/>
              </a:rPr>
              <a:t>Био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6095880" y="457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парази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5410080" y="11430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нейтр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3962520" y="19051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муту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2895480" y="13716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симби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1676520" y="6858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хищн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9" descr="BD14790_"/>
          <p:cNvPicPr/>
          <p:nvPr/>
        </p:nvPicPr>
        <p:blipFill>
          <a:blip r:embed="rId2"/>
          <a:stretch/>
        </p:blipFill>
        <p:spPr>
          <a:xfrm>
            <a:off x="13716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BD14790_"/>
          <p:cNvPicPr/>
          <p:nvPr/>
        </p:nvPicPr>
        <p:blipFill>
          <a:blip r:embed="rId3"/>
          <a:stretch/>
        </p:blipFill>
        <p:spPr>
          <a:xfrm>
            <a:off x="2438280" y="1447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BD14790_"/>
          <p:cNvPicPr/>
          <p:nvPr/>
        </p:nvPicPr>
        <p:blipFill>
          <a:blip r:embed="rId4"/>
          <a:stretch/>
        </p:blipFill>
        <p:spPr>
          <a:xfrm>
            <a:off x="3581280" y="1905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2" descr="BD14790_"/>
          <p:cNvPicPr/>
          <p:nvPr/>
        </p:nvPicPr>
        <p:blipFill>
          <a:blip r:embed="rId5"/>
          <a:stretch/>
        </p:blipFill>
        <p:spPr>
          <a:xfrm>
            <a:off x="5715000" y="533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3" descr="BD14790_"/>
          <p:cNvPicPr/>
          <p:nvPr/>
        </p:nvPicPr>
        <p:blipFill>
          <a:blip r:embed="rId6"/>
          <a:stretch/>
        </p:blipFill>
        <p:spPr>
          <a:xfrm>
            <a:off x="5181480" y="1219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4"/>
          <p:cNvSpPr/>
          <p:nvPr/>
        </p:nvSpPr>
        <p:spPr>
          <a:xfrm>
            <a:off x="468360" y="24922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Lucida Sans"/>
              </a:rPr>
              <a:t>Абиот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5" descr="BD21370_"/>
          <p:cNvPicPr/>
          <p:nvPr/>
        </p:nvPicPr>
        <p:blipFill>
          <a:blip r:embed="rId7"/>
          <a:stretch/>
        </p:blipFill>
        <p:spPr>
          <a:xfrm>
            <a:off x="380880" y="4267080"/>
            <a:ext cx="8305920" cy="15264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6"/>
          <p:cNvSpPr/>
          <p:nvPr/>
        </p:nvSpPr>
        <p:spPr>
          <a:xfrm>
            <a:off x="4343400" y="36576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914400" y="3878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релье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342900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с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160020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0"/>
          <p:cNvSpPr/>
          <p:nvPr/>
        </p:nvSpPr>
        <p:spPr>
          <a:xfrm>
            <a:off x="5791320" y="2590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ве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1" descr="BD21294_"/>
          <p:cNvPicPr/>
          <p:nvPr/>
        </p:nvPicPr>
        <p:blipFill>
          <a:blip r:embed="rId8"/>
          <a:stretch/>
        </p:blipFill>
        <p:spPr>
          <a:xfrm>
            <a:off x="12193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2" descr="BD21294_"/>
          <p:cNvPicPr/>
          <p:nvPr/>
        </p:nvPicPr>
        <p:blipFill>
          <a:blip r:embed="rId9"/>
          <a:stretch/>
        </p:blipFill>
        <p:spPr>
          <a:xfrm>
            <a:off x="68580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3" descr="BD21294_"/>
          <p:cNvPicPr/>
          <p:nvPr/>
        </p:nvPicPr>
        <p:blipFill>
          <a:blip r:embed="rId10"/>
          <a:stretch/>
        </p:blipFill>
        <p:spPr>
          <a:xfrm>
            <a:off x="297180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4" descr="BD21294_"/>
          <p:cNvPicPr/>
          <p:nvPr/>
        </p:nvPicPr>
        <p:blipFill>
          <a:blip r:embed="rId11"/>
          <a:stretch/>
        </p:blipFill>
        <p:spPr>
          <a:xfrm>
            <a:off x="396252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5" descr="BD21294_"/>
          <p:cNvPicPr/>
          <p:nvPr/>
        </p:nvPicPr>
        <p:blipFill>
          <a:blip r:embed="rId12"/>
          <a:stretch/>
        </p:blipFill>
        <p:spPr>
          <a:xfrm>
            <a:off x="5105520" y="2590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26"/>
          <p:cNvSpPr/>
          <p:nvPr/>
        </p:nvSpPr>
        <p:spPr>
          <a:xfrm>
            <a:off x="380880" y="46404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Lucida Sans"/>
              </a:rPr>
              <a:t>Антропог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7"/>
          <p:cNvSpPr/>
          <p:nvPr/>
        </p:nvSpPr>
        <p:spPr>
          <a:xfrm>
            <a:off x="609480" y="54021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пож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8"/>
          <p:cNvSpPr/>
          <p:nvPr/>
        </p:nvSpPr>
        <p:spPr>
          <a:xfrm>
            <a:off x="609480" y="60199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вырубка л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9"/>
          <p:cNvSpPr/>
          <p:nvPr/>
        </p:nvSpPr>
        <p:spPr>
          <a:xfrm>
            <a:off x="4648320" y="54864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выбросы промыш-ленных от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0"/>
          <p:cNvSpPr/>
          <p:nvPr/>
        </p:nvSpPr>
        <p:spPr>
          <a:xfrm>
            <a:off x="4724280" y="48006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осушение</a:t>
            </a:r>
            <a:r>
              <a:rPr b="0" lang="ru-RU" sz="2800" spc="-1" strike="noStrike">
                <a:solidFill>
                  <a:srgbClr val="66ff33"/>
                </a:solidFill>
                <a:latin typeface="Lucida Sans"/>
              </a:rPr>
              <a:t> </a:t>
            </a:r>
            <a:r>
              <a:rPr b="1" i="1" lang="ru-RU" sz="2800" spc="-1" strike="noStrike">
                <a:solidFill>
                  <a:srgbClr val="66ff33"/>
                </a:solidFill>
                <a:latin typeface="Lucida Sans"/>
              </a:rPr>
              <a:t>бол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1" descr="BD14790_"/>
          <p:cNvPicPr/>
          <p:nvPr/>
        </p:nvPicPr>
        <p:blipFill>
          <a:blip r:embed="rId13"/>
          <a:stretch/>
        </p:blipFill>
        <p:spPr>
          <a:xfrm>
            <a:off x="38088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2" descr="BD14790_"/>
          <p:cNvPicPr/>
          <p:nvPr/>
        </p:nvPicPr>
        <p:blipFill>
          <a:blip r:embed="rId1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3" descr="BD14790_"/>
          <p:cNvPicPr/>
          <p:nvPr/>
        </p:nvPicPr>
        <p:blipFill>
          <a:blip r:embed="rId15"/>
          <a:stretch/>
        </p:blipFill>
        <p:spPr>
          <a:xfrm>
            <a:off x="4419720" y="4952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4" descr="BD14790_"/>
          <p:cNvPicPr/>
          <p:nvPr/>
        </p:nvPicPr>
        <p:blipFill>
          <a:blip r:embed="rId16"/>
          <a:stretch/>
        </p:blipFill>
        <p:spPr>
          <a:xfrm>
            <a:off x="4419720" y="5638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ЭКОЛОГИЧЕСКАЯ НИШ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1" name="Picture 5" descr="041067B"/>
          <p:cNvPicPr/>
          <p:nvPr/>
        </p:nvPicPr>
        <p:blipFill>
          <a:blip r:embed="rId1"/>
          <a:stretch/>
        </p:blipFill>
        <p:spPr>
          <a:xfrm>
            <a:off x="380880" y="1905120"/>
            <a:ext cx="4751640" cy="319716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6"/>
          <p:cNvSpPr/>
          <p:nvPr/>
        </p:nvSpPr>
        <p:spPr>
          <a:xfrm>
            <a:off x="5562720" y="2193840"/>
            <a:ext cx="3228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совокупность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ов, котор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бходим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ществования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360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КОНОМЕРНОСТИ ВЛИЯНИЯ ФАКТОРОВ НА ОРГАНИЗ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4" name="Picture 6" descr="picture74"/>
          <p:cNvPicPr/>
          <p:nvPr/>
        </p:nvPicPr>
        <p:blipFill>
          <a:blip r:embed="rId1"/>
          <a:stretch/>
        </p:blipFill>
        <p:spPr>
          <a:xfrm>
            <a:off x="380880" y="2438280"/>
            <a:ext cx="4149720" cy="31356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54440" y="1600200"/>
            <a:ext cx="4238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ЗОНА ОПТИМУ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- значения фактора, наиболее благоприятные для жизнедеятельности организ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ЗОНА УГНЕТЕ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- значения фактора, при которых ухудшается жизнедеятельнос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ЗОНА ГИБЕЛ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- значения фактора, непригодные для жизн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ИАПАЗОН ВЫНОСЛИВО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- диапазон изменчивости фактора, при котором возможна жизнедеятельность организ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й</cp:lastModifiedBy>
  <dcterms:modified xsi:type="dcterms:W3CDTF">2012-01-20T06:18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