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EB6-6B11-4EFA-BE69-F014204F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34E-D80B-4541-B70A-81B4148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E1-C490-4632-9199-688C00EE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11C-9737-484A-8A76-6B838E8C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374-53F6-4C89-B19B-2283BED0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19F-AA65-41EB-A2C6-5B86C80C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A75-53CB-4DE6-9982-23048229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886-DA76-403C-AA31-EF17A59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278B-7DA1-4B83-8855-3F85363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8D1A-0F0E-45F8-B85D-E50D7CF7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05B0-8109-4760-8DC6-AC71B38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FE6-94FE-426A-BD7C-91C1B23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058-0F14-4F19-9699-5A3ACCC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1F72-F0E1-4AC0-A59B-0DEE0B14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0C34-0AEC-4255-BD98-A2374CD6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494-BCB6-405B-98C1-35110B3F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014-B937-490C-9D16-F11FC793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8528-6F26-4FC8-9F24-E02456A5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D5AD-7751-433C-8FC4-EDD9E21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2632-A718-451F-957B-694A347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ACC9-28CC-4B16-BEA8-0B89CD28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6B67-454F-4177-B87C-764774A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809-BA8F-4440-B920-884EA3D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09A3-2323-4E3B-B40D-D8F23F9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8031-F90A-44C2-8C61-F8C2C5C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5391-427A-470D-8750-EB6788C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559B-27C3-4C89-BB2F-FEE3834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4178-A7EB-4D99-8210-9BB3B63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F58B-A39F-44C6-A5EA-5C359255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61E4-60B9-45D6-ADE7-3FEC4550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99F5-76A5-4210-8217-C8118AC2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EF0E-DD6A-429F-A800-FDA4B657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143E-87C6-4E53-A5C5-7EA039C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A17-7EC1-452E-9060-BB43FCA1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7AA0-9BDF-4182-830B-CC5234C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D45B-DD6A-402F-9534-0FBD5E8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30DB-4EA3-421E-ACB3-4F5D33D0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126C-459F-432D-959B-E212F02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074A-BDBB-4057-8E0D-B72F34E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9E12-CB77-45A1-B42F-311EEE1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AA3C-F914-4416-A7C2-22987D1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ECE6-1A1E-4CFA-89DE-9404B0A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C110-C659-4CFD-92A6-4354D49C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08BE-793E-4B6D-98FB-71C019C2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09C-050E-44AE-9ADD-138FF8EB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0927-C000-4342-9CEA-24F58E3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3BDC-A814-4DAE-BC68-C3137D4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2658-57AD-4151-87D8-A213EFA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3B62-BBA7-494E-B1FF-1B908F5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D2B64-D957-47C0-AE85-2D437D1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7289-5FDA-4C16-8687-343DAC2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8935-F08B-40BD-8392-067A167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8D0D-ED8A-4C9A-8759-63B9729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69F4-BAB5-49C9-9063-0303502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02655-A69E-46BF-A17A-A21A13A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482-CC32-42C6-B52E-6BE3976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E840-0555-4D7F-94B0-2E7611E7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C212-1434-40D6-B6FA-18723330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9731-EEBF-4F64-984A-530965B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FAE0-6941-4161-BB49-4B70E3B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468D-EEF5-4D89-8EE7-C52CA07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A761-C257-490E-A041-BAEFA41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A21A-7330-451F-8FD5-E49B26C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6239-EB64-451E-8616-F910D52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3A05C-BD41-465A-9886-58C8FF2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1D19-EA8F-4BD6-AE38-06AB26B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B00-B71A-4D08-992A-8016BEE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FF66-31CD-42A1-9ABE-3D75AFC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0623-2433-40DA-AB43-B3E16BE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F862-F701-4113-8672-6CDB9948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352-DCED-4796-B189-E70D176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CB1-CC7F-43A8-8BAC-9CC59CE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343-012E-4F52-8140-FE152460B9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CD9-CA84-4F34-BEEB-D0E220E2718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D88-26C3-49A5-B657-868C50497D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76A1-AA9A-42DF-B2E9-CC0DF33839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730-FF0B-4DFF-AEAC-318EB14ECE5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EB5-19F5-466A-9AE6-A1F3521AB3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3" descr=""/>
          <p:cNvPicPr/>
          <p:nvPr/>
        </p:nvPicPr>
        <p:blipFill>
          <a:blip r:embed="rId1"/>
          <a:stretch/>
        </p:blipFill>
        <p:spPr>
          <a:xfrm>
            <a:off x="378000" y="1706400"/>
            <a:ext cx="87724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он оптим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Содержимое 3" descr="законы факторов.jpg"/>
          <p:cNvPicPr/>
          <p:nvPr/>
        </p:nvPicPr>
        <p:blipFill>
          <a:blip r:embed="rId1"/>
          <a:stretch/>
        </p:blipFill>
        <p:spPr>
          <a:xfrm>
            <a:off x="981000" y="1523880"/>
            <a:ext cx="70963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мы с узким диапазоном выносливос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9" name="Object 4"/>
          <p:cNvGraphicFramePr/>
          <p:nvPr/>
        </p:nvGraphicFramePr>
        <p:xfrm>
          <a:off x="492120" y="1600200"/>
          <a:ext cx="396252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25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19" descr="266"/>
          <p:cNvPicPr/>
          <p:nvPr/>
        </p:nvPicPr>
        <p:blipFill>
          <a:blip r:embed="rId3"/>
          <a:stretch/>
        </p:blipFill>
        <p:spPr>
          <a:xfrm>
            <a:off x="5230800" y="1600200"/>
            <a:ext cx="2881440" cy="2181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1" descr="CLASSIC_"/>
          <p:cNvPicPr/>
          <p:nvPr/>
        </p:nvPicPr>
        <p:blipFill>
          <a:blip r:embed="rId4"/>
          <a:stretch/>
        </p:blipFill>
        <p:spPr>
          <a:xfrm>
            <a:off x="870120" y="3949560"/>
            <a:ext cx="3203280" cy="2181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" descr="pic040922"/>
          <p:cNvPicPr/>
          <p:nvPr/>
        </p:nvPicPr>
        <p:blipFill>
          <a:blip r:embed="rId5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2"/>
          <p:cNvSpPr/>
          <p:nvPr/>
        </p:nvSpPr>
        <p:spPr>
          <a:xfrm>
            <a:off x="744120" y="17874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ие факторы ограничи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знедеятельность приве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десь примеров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наибольшей степ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ГРАНИЧИВАЮЩИЙ ФА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6" name="Picture 5" descr="S095174"/>
          <p:cNvPicPr/>
          <p:nvPr/>
        </p:nvPicPr>
        <p:blipFill>
          <a:blip r:embed="rId1"/>
          <a:stretch/>
        </p:blipFill>
        <p:spPr>
          <a:xfrm>
            <a:off x="3733920" y="3200400"/>
            <a:ext cx="5076720" cy="34099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684360" y="141300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фактор, значение которого отклоняется от оптимальной величины, вследствие чего  организмы данного вида начинают испытывать угнет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152280" y="2438280"/>
            <a:ext cx="340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кон Либих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аже един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актор за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ны оптимума при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рессовому состоя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 в пределе – к гиб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80880" y="4492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знь на Земле существует повсюду, кроме  жерл действующих вулканов. Все, что окружает  живой организм, называют его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редой  обита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Изучением взаимодействия  организмов с окружающей средой занимается  наука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колог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(от греч.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oikos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"жилище",  "местопребывание"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logos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"слово", "учение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res0648DB45-8893-446F-BFC6-AE45132A78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304920" y="56016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Земле вы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етыре основны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реды жизн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льно различающиеся по свой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силе действия отдельн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80880" y="609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Lucida Sans"/>
              </a:rPr>
              <a:t>Среда обитания</a:t>
            </a:r>
            <a:r>
              <a:rPr b="1" i="1" lang="ru-RU" sz="3600" spc="-1" strike="noStrike">
                <a:solidFill>
                  <a:srgbClr val="000000"/>
                </a:solidFill>
                <a:latin typeface="Lucida Sans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4800600" y="6858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Lucida Sans"/>
              </a:rPr>
              <a:t>часть природы, в которой живёт организм</a:t>
            </a:r>
            <a:r>
              <a:rPr b="1" i="1" lang="ru-RU" sz="32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AN02097_"/>
          <p:cNvPicPr/>
          <p:nvPr/>
        </p:nvPicPr>
        <p:blipFill>
          <a:blip r:embed="rId1"/>
          <a:stretch/>
        </p:blipFill>
        <p:spPr>
          <a:xfrm>
            <a:off x="380880" y="449568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AN02542_"/>
          <p:cNvPicPr/>
          <p:nvPr/>
        </p:nvPicPr>
        <p:blipFill>
          <a:blip r:embed="rId2"/>
          <a:stretch/>
        </p:blipFill>
        <p:spPr>
          <a:xfrm>
            <a:off x="7772400" y="2743200"/>
            <a:ext cx="853920" cy="12002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/>
          <p:cNvSpPr/>
          <p:nvPr/>
        </p:nvSpPr>
        <p:spPr>
          <a:xfrm>
            <a:off x="380880" y="1981080"/>
            <a:ext cx="33530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05120" y="3048120"/>
            <a:ext cx="3352680" cy="14475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6095880" y="5334120"/>
            <a:ext cx="3048120" cy="15238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4038480" y="4038480"/>
            <a:ext cx="3429000" cy="14479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33520" y="2209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20968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47242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019920" y="5486400"/>
            <a:ext cx="3124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6f000"/>
                </a:solidFill>
                <a:latin typeface="Lucida Sans"/>
              </a:rPr>
              <a:t>Организ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4114800" y="982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57200" y="10666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"/>
              </a:rPr>
              <a:t>Экологические факторы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648320" y="46483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981080" y="2362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Lucida Sans"/>
              </a:rPr>
              <a:t>компоненты среды, которые воздействуют на орг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838080" y="533520"/>
            <a:ext cx="792504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28600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80880" y="2590920"/>
            <a:ext cx="3962520" cy="1752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286000" y="4724280"/>
            <a:ext cx="4648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334120" y="2514600"/>
            <a:ext cx="33526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09480" y="2743200"/>
            <a:ext cx="3657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209680" y="4724280"/>
            <a:ext cx="4724640" cy="15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не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5334120" y="2438280"/>
            <a:ext cx="3352680" cy="2022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деятельности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 flipH="1">
            <a:off x="2666520" y="1447920"/>
            <a:ext cx="762120" cy="106668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1"/>
          <p:cNvSpPr/>
          <p:nvPr/>
        </p:nvSpPr>
        <p:spPr>
          <a:xfrm>
            <a:off x="6248520" y="1371600"/>
            <a:ext cx="609480" cy="114300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2"/>
          <p:cNvSpPr/>
          <p:nvPr/>
        </p:nvSpPr>
        <p:spPr>
          <a:xfrm>
            <a:off x="4952880" y="1447920"/>
            <a:ext cx="0" cy="297180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BD21370_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15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228600" y="304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09588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410080" y="1143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нейтр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962520" y="1905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му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89548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676520" y="685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хищ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9" descr="BD14790_"/>
          <p:cNvPicPr/>
          <p:nvPr/>
        </p:nvPicPr>
        <p:blipFill>
          <a:blip r:embed="rId2"/>
          <a:stretch/>
        </p:blipFill>
        <p:spPr>
          <a:xfrm>
            <a:off x="13716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BD14790_"/>
          <p:cNvPicPr/>
          <p:nvPr/>
        </p:nvPicPr>
        <p:blipFill>
          <a:blip r:embed="rId3"/>
          <a:stretch/>
        </p:blipFill>
        <p:spPr>
          <a:xfrm>
            <a:off x="243828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BD14790_"/>
          <p:cNvPicPr/>
          <p:nvPr/>
        </p:nvPicPr>
        <p:blipFill>
          <a:blip r:embed="rId4"/>
          <a:stretch/>
        </p:blipFill>
        <p:spPr>
          <a:xfrm>
            <a:off x="3581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BD14790_"/>
          <p:cNvPicPr/>
          <p:nvPr/>
        </p:nvPicPr>
        <p:blipFill>
          <a:blip r:embed="rId5"/>
          <a:stretch/>
        </p:blipFill>
        <p:spPr>
          <a:xfrm>
            <a:off x="57150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BD14790_"/>
          <p:cNvPicPr/>
          <p:nvPr/>
        </p:nvPicPr>
        <p:blipFill>
          <a:blip r:embed="rId6"/>
          <a:stretch/>
        </p:blipFill>
        <p:spPr>
          <a:xfrm>
            <a:off x="518148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4"/>
          <p:cNvSpPr/>
          <p:nvPr/>
        </p:nvSpPr>
        <p:spPr>
          <a:xfrm>
            <a:off x="468360" y="2492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5" descr="BD21370_"/>
          <p:cNvPicPr/>
          <p:nvPr/>
        </p:nvPicPr>
        <p:blipFill>
          <a:blip r:embed="rId7"/>
          <a:stretch/>
        </p:blipFill>
        <p:spPr>
          <a:xfrm>
            <a:off x="380880" y="4267080"/>
            <a:ext cx="830592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6"/>
          <p:cNvSpPr/>
          <p:nvPr/>
        </p:nvSpPr>
        <p:spPr>
          <a:xfrm>
            <a:off x="4343400" y="365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914400" y="387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34290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0020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5791320" y="2590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1" descr="BD21294_"/>
          <p:cNvPicPr/>
          <p:nvPr/>
        </p:nvPicPr>
        <p:blipFill>
          <a:blip r:embed="rId8"/>
          <a:stretch/>
        </p:blipFill>
        <p:spPr>
          <a:xfrm>
            <a:off x="12193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2" descr="BD21294_"/>
          <p:cNvPicPr/>
          <p:nvPr/>
        </p:nvPicPr>
        <p:blipFill>
          <a:blip r:embed="rId9"/>
          <a:stretch/>
        </p:blipFill>
        <p:spPr>
          <a:xfrm>
            <a:off x="6858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3" descr="BD21294_"/>
          <p:cNvPicPr/>
          <p:nvPr/>
        </p:nvPicPr>
        <p:blipFill>
          <a:blip r:embed="rId10"/>
          <a:stretch/>
        </p:blipFill>
        <p:spPr>
          <a:xfrm>
            <a:off x="29718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4" descr="BD21294_"/>
          <p:cNvPicPr/>
          <p:nvPr/>
        </p:nvPicPr>
        <p:blipFill>
          <a:blip r:embed="rId11"/>
          <a:stretch/>
        </p:blipFill>
        <p:spPr>
          <a:xfrm>
            <a:off x="39625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5" descr="BD21294_"/>
          <p:cNvPicPr/>
          <p:nvPr/>
        </p:nvPicPr>
        <p:blipFill>
          <a:blip r:embed="rId12"/>
          <a:stretch/>
        </p:blipFill>
        <p:spPr>
          <a:xfrm>
            <a:off x="5105520" y="2590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6"/>
          <p:cNvSpPr/>
          <p:nvPr/>
        </p:nvSpPr>
        <p:spPr>
          <a:xfrm>
            <a:off x="380880" y="464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609480" y="54021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609480" y="6019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ырубка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4648320" y="5486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ыбросы промыш-лен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4724280" y="4800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осушение</a:t>
            </a:r>
            <a:r>
              <a:rPr b="0" lang="ru-RU" sz="2800" spc="-1" strike="noStrike">
                <a:solidFill>
                  <a:srgbClr val="66ff33"/>
                </a:solidFill>
                <a:latin typeface="Lucida Sans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бо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1" descr="BD14790_"/>
          <p:cNvPicPr/>
          <p:nvPr/>
        </p:nvPicPr>
        <p:blipFill>
          <a:blip r:embed="rId13"/>
          <a:stretch/>
        </p:blipFill>
        <p:spPr>
          <a:xfrm>
            <a:off x="3808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" descr="BD14790_"/>
          <p:cNvPicPr/>
          <p:nvPr/>
        </p:nvPicPr>
        <p:blipFill>
          <a:blip r:embed="rId1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3" descr="BD14790_"/>
          <p:cNvPicPr/>
          <p:nvPr/>
        </p:nvPicPr>
        <p:blipFill>
          <a:blip r:embed="rId15"/>
          <a:stretch/>
        </p:blipFill>
        <p:spPr>
          <a:xfrm>
            <a:off x="44197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" descr="BD14790_"/>
          <p:cNvPicPr/>
          <p:nvPr/>
        </p:nvPicPr>
        <p:blipFill>
          <a:blip r:embed="rId16"/>
          <a:stretch/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КОЛОГИЧЕСКАЯ НИ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1" name="Picture 5" descr="041067B"/>
          <p:cNvPicPr/>
          <p:nvPr/>
        </p:nvPicPr>
        <p:blipFill>
          <a:blip r:embed="rId1"/>
          <a:stretch/>
        </p:blipFill>
        <p:spPr>
          <a:xfrm>
            <a:off x="380880" y="1905120"/>
            <a:ext cx="4751640" cy="3197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5562720" y="2193840"/>
            <a:ext cx="3228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овокупность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ов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ования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КОНОМЕРНОСТИ ВЛИЯНИЯ ФАКТОРОВ НА ОРГАНИЗ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4" name="Picture 6" descr="picture74"/>
          <p:cNvPicPr/>
          <p:nvPr/>
        </p:nvPicPr>
        <p:blipFill>
          <a:blip r:embed="rId1"/>
          <a:stretch/>
        </p:blipFill>
        <p:spPr>
          <a:xfrm>
            <a:off x="380880" y="2438280"/>
            <a:ext cx="4149720" cy="3135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54440" y="1600200"/>
            <a:ext cx="4238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ОПТИМУ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наиболее благоприятные для жизнедеятельности орган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УГНЕТ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при которых ухудшается жизнедея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ГИБЕЛ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непригодные для жиз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ИАПАЗОН ВЫНОСЛИВ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диапазон изменчивости фактора, при котором возможна жизнедеятельность орган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2-01-20T06:18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