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394-CD1B-40AC-B184-5CA9F73A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19C-A7B6-4AE0-BA9C-0029307E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AD2-83DA-4E41-8B76-6700BCE1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24A-C1C9-4E18-B48E-75D9F4BD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B73-3068-4BDA-828A-EE8F6E68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C36-660B-43D1-B0CF-1CED8C9D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CF4-31E0-4E35-B242-717AFE6D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030-5F79-404E-B5D4-FB385FB6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BFC-2D54-47AE-858A-EF301A8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C1C-989C-4009-AC3E-BDF9A05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08F-7493-4B40-B5F9-994CAC04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937-BE8B-4BEF-A48D-7645A83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FF3C-F5D6-4E0A-A2EF-0B5EDF637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89000" y="762120"/>
            <a:ext cx="8692920" cy="4973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Нахлебнич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168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требление остатков пищи хозя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ьвы и гиены; дельфины, акулы и рыбы- прилипалы, рыбы- лоцм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Untitled-4"/>
          <p:cNvPicPr/>
          <p:nvPr/>
        </p:nvPicPr>
        <p:blipFill>
          <a:blip r:embed="rId1"/>
          <a:stretch/>
        </p:blipFill>
        <p:spPr>
          <a:xfrm>
            <a:off x="250920" y="1197000"/>
            <a:ext cx="4749840" cy="458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Сотрапезнич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ение разных веществ или частей одной и той же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ные виды почвенных бактерий- сапрофитов и высшие растения; грибы, почвенные черви, жуки- могильщ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"/>
          <p:cNvPicPr/>
          <p:nvPr/>
        </p:nvPicPr>
        <p:blipFill>
          <a:blip r:embed="rId1"/>
          <a:stretch/>
        </p:blipFill>
        <p:spPr>
          <a:xfrm>
            <a:off x="395280" y="1484280"/>
            <a:ext cx="392436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Квартиран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Untitled-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2373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дними видам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х тел, их жилищ) в качестве убежища или жил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аны и эпифиты(орхидеи, лишайники, мхи) ; гнезда птиц, норы грызунов и членистоногие; рыбы и медузы; рыба горчак и двустворчатый моллюс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Untitled-18"/>
          <p:cNvPicPr/>
          <p:nvPr/>
        </p:nvPicPr>
        <p:blipFill>
          <a:blip r:embed="rId2"/>
          <a:stretch/>
        </p:blipFill>
        <p:spPr>
          <a:xfrm>
            <a:off x="324000" y="4221000"/>
            <a:ext cx="4066920" cy="2232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лезновредные+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2610000"/>
            <a:ext cx="288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видов получает пользу, другой испытывает угне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Untitled-6"/>
          <p:cNvPicPr/>
          <p:nvPr/>
        </p:nvPicPr>
        <p:blipFill>
          <a:blip r:embed="rId1"/>
          <a:stretch/>
        </p:blipFill>
        <p:spPr>
          <a:xfrm>
            <a:off x="4788000" y="3141720"/>
            <a:ext cx="2813040" cy="2347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755640" y="907920"/>
            <a:ext cx="287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арази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788000" y="907920"/>
            <a:ext cx="30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ищ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2555640" y="549360"/>
            <a:ext cx="2160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4716360" y="549360"/>
            <a:ext cx="1871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арази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5157720"/>
            <a:ext cx="874728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тические отношения, при которых организмы одного вида( паразита) живут за счет питательных веществ или тканей организма другого вида. Например, свиной цепень, аскарида, вши, блохи, клопы, фитофтора, гриб- трутовик, насекомо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ник, бак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Untitled-10"/>
          <p:cNvPicPr/>
          <p:nvPr/>
        </p:nvPicPr>
        <p:blipFill>
          <a:blip r:embed="rId1"/>
          <a:stretch/>
        </p:blipFill>
        <p:spPr>
          <a:xfrm>
            <a:off x="5580000" y="2060640"/>
            <a:ext cx="20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ивотные паразиты"/>
          <p:cNvPicPr/>
          <p:nvPr/>
        </p:nvPicPr>
        <p:blipFill>
          <a:blip r:embed="rId2"/>
          <a:stretch/>
        </p:blipFill>
        <p:spPr>
          <a:xfrm>
            <a:off x="250920" y="1844640"/>
            <a:ext cx="26654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ищн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672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тические отношения, при которых организмы одного вида ловят, умерщвляют и поедают друг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божьи коровки и тля; щуки и караси; волки и зай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оядные животные 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Untitled-17"/>
          <p:cNvPicPr/>
          <p:nvPr/>
        </p:nvPicPr>
        <p:blipFill>
          <a:blip r:embed="rId1"/>
          <a:stretch/>
        </p:blipFill>
        <p:spPr>
          <a:xfrm>
            <a:off x="1547640" y="4365720"/>
            <a:ext cx="2808360" cy="172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rysy"/>
          <p:cNvPicPr/>
          <p:nvPr/>
        </p:nvPicPr>
        <p:blipFill>
          <a:blip r:embed="rId2"/>
          <a:stretch/>
        </p:blipFill>
        <p:spPr>
          <a:xfrm>
            <a:off x="755640" y="148428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заимовредные (- 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таком типе взаимоотношений оба организма испытывают негативное влияние друг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2707920"/>
            <a:ext cx="793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тношения организмов, которые близки по своим потребнос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340000" y="26028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2384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91628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234480" y="1773360"/>
            <a:ext cx="1532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697099"/>
          <p:cNvPicPr/>
          <p:nvPr/>
        </p:nvPicPr>
        <p:blipFill>
          <a:blip r:embed="rId1"/>
          <a:stretch/>
        </p:blipFill>
        <p:spPr>
          <a:xfrm>
            <a:off x="468360" y="3716280"/>
            <a:ext cx="410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408074"/>
          <p:cNvPicPr/>
          <p:nvPr/>
        </p:nvPicPr>
        <p:blipFill>
          <a:blip r:embed="rId2"/>
          <a:stretch/>
        </p:blipFill>
        <p:spPr>
          <a:xfrm>
            <a:off x="5027760" y="4005360"/>
            <a:ext cx="3279600" cy="2087640"/>
          </a:xfrm>
          <a:prstGeom prst="rect">
            <a:avLst/>
          </a:prstGeom>
          <a:ln w="0">
            <a:noFill/>
          </a:ln>
        </p:spPr>
      </p:pic>
      <p:sp>
        <p:nvSpPr>
          <p:cNvPr id="132" name="Line 9"/>
          <p:cNvSpPr/>
          <p:nvPr/>
        </p:nvSpPr>
        <p:spPr>
          <a:xfrm flipH="1">
            <a:off x="2484360" y="90792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79600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нутривид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Untitled-12"/>
          <p:cNvPicPr/>
          <p:nvPr/>
        </p:nvPicPr>
        <p:blipFill>
          <a:blip r:embed="rId1"/>
          <a:stretch/>
        </p:blipFill>
        <p:spPr>
          <a:xfrm>
            <a:off x="4572000" y="1773360"/>
            <a:ext cx="391176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борьба за одни и те же ресурсы, происходящая между особями одного и того же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лес1"/>
          <p:cNvPicPr/>
          <p:nvPr/>
        </p:nvPicPr>
        <p:blipFill>
          <a:blip r:embed="rId2"/>
          <a:stretch/>
        </p:blipFill>
        <p:spPr>
          <a:xfrm>
            <a:off x="826920" y="1341360"/>
            <a:ext cx="266400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вид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362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заимоотрицательные отношения видов, занимающих сходную экологическую ни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ультурные растения и растения- сорняки, волк и лиса; щука и окунь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Untitled-14"/>
          <p:cNvPicPr/>
          <p:nvPr/>
        </p:nvPicPr>
        <p:blipFill>
          <a:blip r:embed="rId1"/>
          <a:stretch/>
        </p:blipFill>
        <p:spPr>
          <a:xfrm>
            <a:off x="4500720" y="907920"/>
            <a:ext cx="4392360" cy="316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лес"/>
          <p:cNvPicPr/>
          <p:nvPr/>
        </p:nvPicPr>
        <p:blipFill>
          <a:blip r:embed="rId2"/>
          <a:stretch/>
        </p:blipFill>
        <p:spPr>
          <a:xfrm>
            <a:off x="755640" y="90792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6169320" y="549360"/>
            <a:ext cx="297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знь любого жи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ущества невозмо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ез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Его благополучи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 многих видов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ак или иначе на 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оздей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взаимодействия организмов очень разнообразны, они приводят лишь к трем главным результа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ю пи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ю среды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елению видов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и между разными организмами называю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иотическ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живая природа пронизана этими связями. Они необыкновенно  разнообразны в деталях, могут быть прямыми или косвенными и имеют разное значение в жизни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ямые свя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лияние одного вида на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с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рез влияние на внешнюю среду или на другие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Типы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экологических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заимо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1341360"/>
            <a:ext cx="2124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заимо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305080" y="1413000"/>
            <a:ext cx="18716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лез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ейт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392720" y="1341360"/>
            <a:ext cx="197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лезновре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588000" y="1341360"/>
            <a:ext cx="230508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заимовре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 rot="16200000">
            <a:off x="-541080" y="3429000"/>
            <a:ext cx="20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 rot="16200000">
            <a:off x="108000" y="335736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б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 rot="16200000">
            <a:off x="826920" y="3357360"/>
            <a:ext cx="20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 rot="16200000">
            <a:off x="2412000" y="3284640"/>
            <a:ext cx="187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 rot="16200000">
            <a:off x="1690560" y="5445000"/>
            <a:ext cx="187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леб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 rot="16200000">
            <a:off x="6228360" y="5516640"/>
            <a:ext cx="187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 rot="16200000">
            <a:off x="7056360" y="5481360"/>
            <a:ext cx="180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 rot="16200000">
            <a:off x="3887640" y="332100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 rot="16200000">
            <a:off x="4752720" y="332100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щ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 rot="16200000">
            <a:off x="6660360" y="335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 rot="16200000">
            <a:off x="2446920" y="548064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апез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 rot="16200000">
            <a:off x="3274920" y="5445000"/>
            <a:ext cx="187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ти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V="1">
            <a:off x="53964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 flipV="1">
            <a:off x="118728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83528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3419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 flipV="1">
            <a:off x="4788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 flipV="1">
            <a:off x="579600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 flipV="1">
            <a:off x="7667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 flipV="1">
            <a:off x="738036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774072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 flipV="1">
            <a:off x="2627280" y="4436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H="1" flipV="1">
            <a:off x="3563640" y="4437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 flipV="1">
            <a:off x="3347640" y="44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2565360"/>
            <a:ext cx="842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полезные-  это такие отношения, при которых организмы получают обоюдную пользу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Untitled-1"/>
          <p:cNvPicPr/>
          <p:nvPr/>
        </p:nvPicPr>
        <p:blipFill>
          <a:blip r:embed="rId1"/>
          <a:stretch/>
        </p:blipFill>
        <p:spPr>
          <a:xfrm>
            <a:off x="179280" y="4122720"/>
            <a:ext cx="4321440" cy="267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Untitled-2"/>
          <p:cNvPicPr/>
          <p:nvPr/>
        </p:nvPicPr>
        <p:blipFill>
          <a:blip r:embed="rId2"/>
          <a:stretch/>
        </p:blipFill>
        <p:spPr>
          <a:xfrm>
            <a:off x="4716360" y="4076640"/>
            <a:ext cx="4427640" cy="2637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заимополез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68360" y="1413000"/>
            <a:ext cx="20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б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132000" y="1413000"/>
            <a:ext cx="25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300720" y="1413000"/>
            <a:ext cx="215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516720" y="692280"/>
            <a:ext cx="719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450072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1979640" y="765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имби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вместная жизнь организмов (сожительство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шай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иб и водоросль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ты и одноклеточные- жгутиковые; зеленые растения и шляпочные гри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пические акации и мурав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Untitled-3"/>
          <p:cNvPicPr/>
          <p:nvPr/>
        </p:nvPicPr>
        <p:blipFill>
          <a:blip r:embed="rId1"/>
          <a:stretch/>
        </p:blipFill>
        <p:spPr>
          <a:xfrm>
            <a:off x="250920" y="907920"/>
            <a:ext cx="35640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отокооп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вместное, хотя и необязательное существование выгодно для обеих видов, но не является непременным условием вы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овые растения и насекомые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лители; муравьи и семена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432041"/>
          <p:cNvPicPr/>
          <p:nvPr/>
        </p:nvPicPr>
        <p:blipFill>
          <a:blip r:embed="rId1"/>
          <a:stretch/>
        </p:blipFill>
        <p:spPr>
          <a:xfrm>
            <a:off x="835200" y="2852640"/>
            <a:ext cx="328104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Мут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25"/>
          <p:cNvPicPr/>
          <p:nvPr/>
        </p:nvPicPr>
        <p:blipFill>
          <a:blip r:embed="rId1"/>
          <a:stretch/>
        </p:blipFill>
        <p:spPr>
          <a:xfrm>
            <a:off x="668160" y="1600200"/>
            <a:ext cx="3614760" cy="384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, при которых присутствие каждого из двух видов- партнеров становится обяз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приме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зкоспециализированные к опылению растения (инжир, купальница, дурман, орхидные) и насеком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рог и птицы; кедровки и семена кедровой сосны; сойки и дубы; шмели и клевер; бабочки-бражники и душистый табак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лезнонейтральные +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(комменсализ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4259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тношения, при которых один вид получает выгоду, другой не испытывает угнет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пень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16:28:22Z</dcterms:created>
  <dc:creator>Слюсарь Т.Д.</dc:creator>
  <dc:description/>
  <dc:language>en-US</dc:language>
  <cp:lastModifiedBy>Дмитрий Каленюк</cp:lastModifiedBy>
  <dcterms:modified xsi:type="dcterms:W3CDTF">2012-01-18T22:09:22Z</dcterms:modified>
  <cp:revision>3</cp:revision>
  <dc:subject>Сообщества и популяции</dc:subject>
  <dc:title>Биотические взаимоотношения организмов</dc:title>
</cp:coreProperties>
</file>