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C2B2-86E8-42E0-B240-71CA52DA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DB4-0DFE-4E7A-96ED-34AA35B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D7E-764D-43CA-BD1A-6D23598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ABA-CFE1-458A-9C58-DE8DEBD1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2DD-C4D3-42EA-AAF1-A13ED685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B32-F657-4285-A29F-0D2B4FC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035-ECE6-478D-B61F-E08569A6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D84-86B8-4643-ADE7-919C93F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CE98-4A9F-43A0-B9FF-CAEEFF5F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FF8-BCB7-4036-B97A-16E5F24D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BA0-EE32-42EB-B3EB-0631CFD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38F-2427-4F43-A0AC-583E7E9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9E5-A5B9-49E5-B55A-0ED2A6828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189000" y="762120"/>
            <a:ext cx="8692920" cy="4973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Нахлебнич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168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требление остатков пищи хозя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ьвы и гиены; дельфины, акулы и рыбы- прилипалы, рыбы- лоцм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Untitled-4"/>
          <p:cNvPicPr/>
          <p:nvPr/>
        </p:nvPicPr>
        <p:blipFill>
          <a:blip r:embed="rId1"/>
          <a:stretch/>
        </p:blipFill>
        <p:spPr>
          <a:xfrm>
            <a:off x="250920" y="1197000"/>
            <a:ext cx="4749840" cy="4589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Сотрапезниче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ребление разных веществ или частей одной и той же пи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ные виды почвенных бактерий- сапрофитов и высшие растения; грибы, почвенные черви, жуки- могильщ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0"/>
          <p:cNvPicPr/>
          <p:nvPr/>
        </p:nvPicPr>
        <p:blipFill>
          <a:blip r:embed="rId1"/>
          <a:stretch/>
        </p:blipFill>
        <p:spPr>
          <a:xfrm>
            <a:off x="395280" y="1484280"/>
            <a:ext cx="392436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«Квартиранств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Untitled-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23731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дними видами друг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х тел, их жилищ) в качестве убежища или жили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аны и эпифиты(орхидеи, лишайники, мхи) ; гнезда птиц, норы грызунов и членистоногие; рыбы и медузы; рыба горчак и двустворчатый моллюск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Untitled-18"/>
          <p:cNvPicPr/>
          <p:nvPr/>
        </p:nvPicPr>
        <p:blipFill>
          <a:blip r:embed="rId2"/>
          <a:stretch/>
        </p:blipFill>
        <p:spPr>
          <a:xfrm>
            <a:off x="324000" y="4221000"/>
            <a:ext cx="4066920" cy="2232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-387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лезновредные+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2610000"/>
            <a:ext cx="2881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 из видов получает пользу, другой испытывает угнет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Untitled-6"/>
          <p:cNvPicPr/>
          <p:nvPr/>
        </p:nvPicPr>
        <p:blipFill>
          <a:blip r:embed="rId1"/>
          <a:stretch/>
        </p:blipFill>
        <p:spPr>
          <a:xfrm>
            <a:off x="4788000" y="3141720"/>
            <a:ext cx="2813040" cy="2347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755640" y="907920"/>
            <a:ext cx="287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арази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788000" y="907920"/>
            <a:ext cx="3097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Хищни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2555640" y="549360"/>
            <a:ext cx="216036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4716360" y="549360"/>
            <a:ext cx="1871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арази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5157720"/>
            <a:ext cx="874728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тические отношения, при которых организмы одного вида( паразита) живут за счет питательных веществ или тканей организма другого вида. Например, свиной цепень, аскарида, вши, блохи, клопы, фитофтора, гриб- трутовик, насекомо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ездник, бакт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Untitled-10"/>
          <p:cNvPicPr/>
          <p:nvPr/>
        </p:nvPicPr>
        <p:blipFill>
          <a:blip r:embed="rId1"/>
          <a:stretch/>
        </p:blipFill>
        <p:spPr>
          <a:xfrm>
            <a:off x="5580000" y="2060640"/>
            <a:ext cx="20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ивотные паразиты"/>
          <p:cNvPicPr/>
          <p:nvPr/>
        </p:nvPicPr>
        <p:blipFill>
          <a:blip r:embed="rId2"/>
          <a:stretch/>
        </p:blipFill>
        <p:spPr>
          <a:xfrm>
            <a:off x="250920" y="1844640"/>
            <a:ext cx="266544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ищнич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6720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тические отношения, при которых организмы одного вида ловят, умерщвляют и поедают других живот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божьи коровки и тля; щуки и караси; волки и зай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оядные животные и рас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Untitled-17"/>
          <p:cNvPicPr/>
          <p:nvPr/>
        </p:nvPicPr>
        <p:blipFill>
          <a:blip r:embed="rId1"/>
          <a:stretch/>
        </p:blipFill>
        <p:spPr>
          <a:xfrm>
            <a:off x="1547640" y="4365720"/>
            <a:ext cx="2808360" cy="17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rysy"/>
          <p:cNvPicPr/>
          <p:nvPr/>
        </p:nvPicPr>
        <p:blipFill>
          <a:blip r:embed="rId2"/>
          <a:stretch/>
        </p:blipFill>
        <p:spPr>
          <a:xfrm>
            <a:off x="755640" y="1484280"/>
            <a:ext cx="338472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заимовредные (- -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таком типе взаимоотношений оба организма испытывают негативное влияние друг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2707920"/>
            <a:ext cx="7931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тношения организмов, которые близки по своим потребност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340000" y="26028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Конкур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2384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971640" y="1916280"/>
            <a:ext cx="2592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234480" y="1773360"/>
            <a:ext cx="153252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697099"/>
          <p:cNvPicPr/>
          <p:nvPr/>
        </p:nvPicPr>
        <p:blipFill>
          <a:blip r:embed="rId1"/>
          <a:stretch/>
        </p:blipFill>
        <p:spPr>
          <a:xfrm>
            <a:off x="468360" y="3716280"/>
            <a:ext cx="410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408074"/>
          <p:cNvPicPr/>
          <p:nvPr/>
        </p:nvPicPr>
        <p:blipFill>
          <a:blip r:embed="rId2"/>
          <a:stretch/>
        </p:blipFill>
        <p:spPr>
          <a:xfrm>
            <a:off x="5027760" y="4005360"/>
            <a:ext cx="3279600" cy="208764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 flipH="1">
            <a:off x="2484360" y="907920"/>
            <a:ext cx="1008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579600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Внутривид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Untitled-12"/>
          <p:cNvPicPr/>
          <p:nvPr/>
        </p:nvPicPr>
        <p:blipFill>
          <a:blip r:embed="rId1"/>
          <a:stretch/>
        </p:blipFill>
        <p:spPr>
          <a:xfrm>
            <a:off x="4572000" y="1773360"/>
            <a:ext cx="3911760" cy="2185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822960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борьба за одни и те же ресурсы, происходящая между особями одного и того же 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лес1"/>
          <p:cNvPicPr/>
          <p:nvPr/>
        </p:nvPicPr>
        <p:blipFill>
          <a:blip r:embed="rId2"/>
          <a:stretch/>
        </p:blipFill>
        <p:spPr>
          <a:xfrm>
            <a:off x="826920" y="1341360"/>
            <a:ext cx="266400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3628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взаимоотрицательные отношения видов, занимающих сходную экологическую ниш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ультурные растения и растения- сорняки, волк и лиса; щука и окунь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Untitled-14"/>
          <p:cNvPicPr/>
          <p:nvPr/>
        </p:nvPicPr>
        <p:blipFill>
          <a:blip r:embed="rId1"/>
          <a:stretch/>
        </p:blipFill>
        <p:spPr>
          <a:xfrm>
            <a:off x="4500720" y="907920"/>
            <a:ext cx="4392360" cy="316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лес"/>
          <p:cNvPicPr/>
          <p:nvPr/>
        </p:nvPicPr>
        <p:blipFill>
          <a:blip r:embed="rId2"/>
          <a:stretch/>
        </p:blipFill>
        <p:spPr>
          <a:xfrm>
            <a:off x="755640" y="90792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6169320" y="549360"/>
            <a:ext cx="2974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знь любого жив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ущества невозмож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без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Его благополучи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 многих видов, кото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ак или иначе на 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оздей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я взаимодействия организмов очень разнообразны, они приводят лишь к трем главным результа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ю пи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менению среды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елению видов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и между разными организмами называ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иотическ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живая природа пронизана этими связями. Они необыкновенно  разнообразны в деталях, могут быть прямыми или косвенными и имеют разное значение в жизни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ямые связ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лияние одного вида на друг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св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рез влияние на внешнюю среду или на другие ви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Типы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экологических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заимо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1341360"/>
            <a:ext cx="212400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заимопол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305080" y="1413000"/>
            <a:ext cx="187164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лез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йтр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92720" y="1341360"/>
            <a:ext cx="1979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олезновре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588000" y="1341360"/>
            <a:ext cx="230508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заимовре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 rot="16200000">
            <a:off x="-541080" y="3429000"/>
            <a:ext cx="20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 rot="16200000">
            <a:off x="108000" y="3357360"/>
            <a:ext cx="2016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б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 rot="16200000">
            <a:off x="826920" y="3357360"/>
            <a:ext cx="201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 rot="16200000">
            <a:off x="2412000" y="32846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 rot="16200000">
            <a:off x="1690560" y="5445000"/>
            <a:ext cx="18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леб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 rot="16200000">
            <a:off x="6228360" y="5516640"/>
            <a:ext cx="1871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 rot="16200000">
            <a:off x="7056360" y="5481360"/>
            <a:ext cx="180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 rot="16200000">
            <a:off x="3887640" y="332100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6"/>
          <p:cNvSpPr/>
          <p:nvPr/>
        </p:nvSpPr>
        <p:spPr>
          <a:xfrm rot="16200000">
            <a:off x="4752720" y="332100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щ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7"/>
          <p:cNvSpPr/>
          <p:nvPr/>
        </p:nvSpPr>
        <p:spPr>
          <a:xfrm rot="16200000">
            <a:off x="6660360" y="335664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 rot="16200000">
            <a:off x="2446920" y="548064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апез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 rot="16200000">
            <a:off x="3274920" y="5445000"/>
            <a:ext cx="1873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варти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V="1">
            <a:off x="53964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 flipV="1">
            <a:off x="118728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83528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3419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4788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5"/>
          <p:cNvSpPr/>
          <p:nvPr/>
        </p:nvSpPr>
        <p:spPr>
          <a:xfrm flipV="1">
            <a:off x="5796000" y="227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 flipV="1">
            <a:off x="7667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 flipV="1">
            <a:off x="7380360" y="44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8"/>
          <p:cNvSpPr/>
          <p:nvPr/>
        </p:nvSpPr>
        <p:spPr>
          <a:xfrm flipV="1">
            <a:off x="7740720" y="45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9"/>
          <p:cNvSpPr/>
          <p:nvPr/>
        </p:nvSpPr>
        <p:spPr>
          <a:xfrm flipV="1">
            <a:off x="2627280" y="4436640"/>
            <a:ext cx="50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0"/>
          <p:cNvSpPr/>
          <p:nvPr/>
        </p:nvSpPr>
        <p:spPr>
          <a:xfrm flipH="1" flipV="1">
            <a:off x="3563640" y="4437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1"/>
          <p:cNvSpPr/>
          <p:nvPr/>
        </p:nvSpPr>
        <p:spPr>
          <a:xfrm flipH="1" flipV="1">
            <a:off x="3347640" y="44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2565360"/>
            <a:ext cx="842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полезные-  это такие отношения, при которых организмы получают обоюдную пользу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Untitled-1"/>
          <p:cNvPicPr/>
          <p:nvPr/>
        </p:nvPicPr>
        <p:blipFill>
          <a:blip r:embed="rId1"/>
          <a:stretch/>
        </p:blipFill>
        <p:spPr>
          <a:xfrm>
            <a:off x="179280" y="4122720"/>
            <a:ext cx="4321440" cy="267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Untitled-2"/>
          <p:cNvPicPr/>
          <p:nvPr/>
        </p:nvPicPr>
        <p:blipFill>
          <a:blip r:embed="rId2"/>
          <a:stretch/>
        </p:blipFill>
        <p:spPr>
          <a:xfrm>
            <a:off x="4716360" y="4076640"/>
            <a:ext cx="4427640" cy="2637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заимополез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68360" y="141300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би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132000" y="1413000"/>
            <a:ext cx="259236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оп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300720" y="1413000"/>
            <a:ext cx="21589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ту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516720" y="692280"/>
            <a:ext cx="719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4500720" y="692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1979640" y="765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имби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вместная жизнь организмов (сожительство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ша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риб и водоросль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ты и одноклеточные- жгутиковые; зеленые растения и шляпочные гри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пические акации и мурав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Untitled-3"/>
          <p:cNvPicPr/>
          <p:nvPr/>
        </p:nvPicPr>
        <p:blipFill>
          <a:blip r:embed="rId1"/>
          <a:stretch/>
        </p:blipFill>
        <p:spPr>
          <a:xfrm>
            <a:off x="250920" y="907920"/>
            <a:ext cx="3564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отокоопе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овместное, хотя и необязательное существование выгодно для обеих видов, но не является непременным условием вы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ковые растения и насекомые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ылители; муравьи и семена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432041"/>
          <p:cNvPicPr/>
          <p:nvPr/>
        </p:nvPicPr>
        <p:blipFill>
          <a:blip r:embed="rId1"/>
          <a:stretch/>
        </p:blipFill>
        <p:spPr>
          <a:xfrm>
            <a:off x="835200" y="2852640"/>
            <a:ext cx="328104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Мут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25"/>
          <p:cNvPicPr/>
          <p:nvPr/>
        </p:nvPicPr>
        <p:blipFill>
          <a:blip r:embed="rId1"/>
          <a:stretch/>
        </p:blipFill>
        <p:spPr>
          <a:xfrm>
            <a:off x="668160" y="1600200"/>
            <a:ext cx="3614760" cy="384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, при которых присутствие каждого из двух видов- партнеров становится обязате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приме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зкоспециализированные к опылению растения (инжир, купальница, дурман, орхидные) и насеком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сорог и птицы; кедровки и семена кедровой сосны; сойки и дубы; шмели и клевер; бабочки-бражники и душистый табак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олезнонейтральные +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0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(комменсализ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349000"/>
            <a:ext cx="4259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тношения, при которых один вид получает выгоду, другой не испытывает угнет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пень"/>
          <p:cNvPicPr/>
          <p:nvPr/>
        </p:nvPicPr>
        <p:blipFill>
          <a:blip r:embed="rId1"/>
          <a:stretch/>
        </p:blipFill>
        <p:spPr>
          <a:xfrm>
            <a:off x="4788000" y="1844640"/>
            <a:ext cx="367164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16:28:22Z</dcterms:created>
  <dc:creator>Слюсарь Т.Д.</dc:creator>
  <dc:description/>
  <dc:language>en-US</dc:language>
  <cp:lastModifiedBy>Дмитрий Каленюк</cp:lastModifiedBy>
  <dcterms:modified xsi:type="dcterms:W3CDTF">2012-01-18T22:09:22Z</dcterms:modified>
  <cp:revision>3</cp:revision>
  <dc:subject>Сообщества и популяции</dc:subject>
  <dc:title>Биотические взаимоотношения организмов</dc:title>
</cp:coreProperties>
</file>