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FED-781B-4A47-BAE1-23CE7231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311-354F-4176-A934-8569C238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51C40-4592-4970-8A69-2F28881F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80550-ADEB-4D1D-BA7D-81F086F8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F6E4F-88F1-4132-B057-8504C951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F90C7-5FAD-4CDD-8E48-906B222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8D700-3E7E-4493-A52A-01A8B404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6068F-4F1C-478C-9F61-DF4CF34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2AA06-25E9-445C-AA7F-8F189609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0A24A-181C-44E5-874D-CAA035F3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E8462-B2CF-49D1-878B-31961A5F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4DD8D-7B20-4D13-BB71-A243B094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BF2-D847-4D2B-9338-6E103B3E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6F461-04D4-483D-B7AA-68A16B4A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25FB7-12FD-4026-8854-2A7730DF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8B3F5-F8C6-49C9-B553-28AADCEC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309D8-6678-4FE8-9AC6-6E83ADB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DE6FF-D776-47A2-9E1C-BD3D5ED2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9931B-8C04-4E25-BF73-67EE76A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9E65A-2E62-4063-BA10-9910DE2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AB650-276C-4A0F-BF1C-44B256D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1C40D-F928-4DB6-AA3E-D244661B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3E929-C941-431D-9858-B374262B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0AB-5AB4-4447-BE0B-47657203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AF981-45C6-4B42-B65F-23811451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0048-A037-482F-A73E-2FEA0FD0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3182-124C-4129-AFAD-7836915C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FB84-9A96-4B0F-BFDB-ECEB7F78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CFF5-171A-4B44-9004-1F1F7D98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9072-0C8A-4097-9559-7F54022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75C3-2972-4295-92B3-56AEC583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DFBB-9DEA-43EB-9CD7-039F1AA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868-3BD1-4D25-B19E-484D6F9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818-B7CC-4680-8503-47081BA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CCC6-6B73-4316-9BC4-5D5EB7C4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1DB5-9B79-4F62-BA9F-2486493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6F88-F7E3-4D98-B02E-9A523291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1589-3648-4A11-867C-A8C62AFD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F9F2-3B68-4167-96A0-5F1EAE53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1342-7DF1-4A8D-BA6A-00B529A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8615-B844-4C1E-A4CE-96819D46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B510-5EA5-4A97-A747-73E4D59C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F57F-5FB1-4E39-AE1D-9C6665DE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C13-5D09-4CDB-8B36-F718A3C0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7B3F-A0B2-4498-96C0-930A540E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6B1C-7DEC-4F9C-8339-A45B1659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7B80-13D2-4DA3-A32A-1DB48254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432F-5439-4907-AEC4-614C6CD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5C90-1CC5-4123-9222-949F456F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15EF-544B-4666-BE5D-E7659D19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45B5-D060-44CD-8AE6-65EA2F44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FA06-E904-414E-8C2A-176384AB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DD87D-1246-429D-B0F3-D58878E8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BC14-6D82-4724-A657-660A7E9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5E8-B5B2-44C7-857B-B084A34A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E1602-D853-47B4-B9BC-F1E9961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4673-36B0-4583-BD99-41F3E3F7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9018-C5A4-4B2C-856C-23134975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9FD8-E8D4-4B92-BB0C-9683C58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2CFC8-710A-4390-A257-35E4A08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38745-DFDB-4EA3-9339-9D66FA73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09F2-EFAA-4A19-8FA3-E4057F1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33BD-4CDB-425B-A09E-EFC4319C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296F-16C6-4007-9BCE-E99AF876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3C63D-AFA6-4D7A-BABA-B867273F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8D0-3F90-4801-A9F9-8A9BBF7F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14707-D30A-41E5-8268-385AB60F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EF0E3-AF0A-4869-A531-B704BE35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A2A8B-7546-4294-84C2-F25096A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FD1CC-68E6-4B2E-BD66-D64E543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A586F-2C5A-4FDA-BCD6-1966C13D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5061-C3A1-4E8C-BD5A-1B70F75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91D71-5F42-40A7-9EA4-A2E536A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25288-352C-461D-ACBE-BBA4648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2E49-4127-4FF3-A9A8-0268188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9EEE7-713E-4528-969C-55AFE3F8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452-B91A-43CC-81D9-33F55BB0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4668-1CCF-4F25-BF05-00C50D1F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B14F6-D720-4AAE-AB21-2AD7845E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98B7B-918B-44DA-BF41-392092A5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EA6D-0E54-400D-89C9-F100BEDA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BBD4-3019-4A5F-9A23-F7790084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2C11D-6298-4730-9A6E-2F5B6F3B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3AB4-130B-4177-B82E-96543B2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C0AF0-3B78-4E19-BD87-E78CC0CC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98E8D-923F-420F-A07E-983ABE31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0F3DC-7EB6-4432-830B-DA7B5B6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7BF-BFCD-4B5E-99B7-05354D5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856E0-5B65-4D14-9538-B40833FC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0340-FDA1-4940-B994-DF2A7EEA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FBF6-F4F9-4CFF-B80A-9D35D5A6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A144E-D172-485D-9246-1CC7298D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EEE14-E6B5-460A-A9B7-9E2CDB25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332D-1535-4CB5-82FB-17C185F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CAE0-11CD-461C-BD1A-3A07405A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15D7-6D0C-440E-A2FA-1A1E1FDD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DE0CC-75A2-418E-97EA-9A208A18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B45B-142C-439E-8497-20B0AE6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08E-D4E5-4637-9A30-D40D8625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2CFE2-F538-438A-85B4-6B02F8F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CAF9-8840-4991-B8AF-4BE7E7BA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2AD1-B349-41C5-BCF2-EC6D67F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E8913-07E6-48F0-B9BA-D4345A06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E38A4-2C0A-4E8C-9FFF-BF82C643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EBD83-DDD3-490D-86C0-90468A6E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37F90-68E8-4642-87E0-DD4C9CBB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2A080-A238-4142-BD7F-0FB4A7B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A5848-8733-48E1-BDF6-C0CD1E8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CDCB6-10B3-4CE0-BAB7-FCF0AFF6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1FC-6491-4C01-8BC3-82B60BD3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CFDC-2617-47C1-A78E-E939F0B6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56473-259D-410A-B884-2225894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C0B09-FF6C-4E03-89C1-6F39E46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9A503-874F-42A6-8FB5-DF196AB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5601-7105-4EA4-96A0-08571712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6797-BB01-40E9-B652-5B1D3431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4B8CA-4F3C-49D8-B3FF-FBE2247B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F6C5B-8EFB-41DF-93C8-63337581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3C5B8-4D83-4E77-9D4E-FCB3715C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7BCCD-523C-4B2E-B9EB-E274E40D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A30D-1585-4F16-B1B4-2974F6B12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9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9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1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2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4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4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5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6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6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0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0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1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FA38-49B7-473C-9F37-F932161F407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6347-0013-40A3-B625-F1A252580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73DE-75E4-47B1-8DAD-87CC56315C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ED1A-BC93-45D4-B37D-57CCC18D98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7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79B1-4EF1-45D8-A318-CD4CD93DC7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2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127F-2CB4-4D8D-B35C-D66214CE80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7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D839-2853-4655-BCF1-5FAE4211F4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26A-2072-4C27-9D33-25ECE5C618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2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2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2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2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D54-3B73-4B7B-834E-56978FFFFD6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Bookman Old Style"/>
              </a:rPr>
              <a:t>Твой психологический ти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263520" y="39243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Bookman Old Style"/>
              </a:rPr>
              <a:t>Оцените следующие высказывания в баллах от 0 до 4, затем подсчитайте сумм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2979720" y="1598760"/>
            <a:ext cx="1954080" cy="2170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9) Когда я надолго оторван от людей, мне очень хочется поговорить с кем-нибудь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6516720" y="4100400"/>
            <a:ext cx="2144520" cy="19796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1-12 баллов. </a:t>
            </a:r>
            <a:r>
              <a:rPr b="0" i="1" lang="en-US" sz="4800" spc="-1" strike="noStrike">
                <a:solidFill>
                  <a:srgbClr val="b2b2b2"/>
                </a:solidFill>
                <a:latin typeface="Bookman Old Style"/>
              </a:rPr>
              <a:t>Интроверт</a:t>
            </a:r>
            <a:r>
              <a:rPr b="0" i="1" lang="en-US" sz="5400" spc="-1" strike="noStrike">
                <a:solidFill>
                  <a:srgbClr val="b2b2b2"/>
                </a:solidFill>
                <a:latin typeface="Bookman Old Style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701360"/>
            <a:ext cx="8002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ращенный на себя, с трудом вступает в контакт. Такой человек ориентирован в основном на собственные чувства, сдержан, общению предпочитает книг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1773000" cy="1823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Bookman Old Style"/>
              </a:rPr>
              <a:t>13-24 балла. </a:t>
            </a:r>
            <a:r>
              <a:rPr b="0" i="1" lang="ru-RU" sz="4800" spc="-1" strike="noStrike">
                <a:solidFill>
                  <a:srgbClr val="dbbd71"/>
                </a:solidFill>
                <a:latin typeface="Bookman Old Style"/>
              </a:rPr>
              <a:t>Амбаверт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него характерны спокойные, ровные отношения с людьми, ответственность за свои поступ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man Old Style"/>
              </a:rPr>
              <a:t>25-36 баллов. </a:t>
            </a:r>
            <a:r>
              <a:rPr b="0" i="1" lang="en-US" sz="4800" spc="-1" strike="noStrike">
                <a:solidFill>
                  <a:srgbClr val="ffffff"/>
                </a:solidFill>
                <a:latin typeface="Bookman Old Style"/>
              </a:rPr>
              <a:t>Экстраверт</a:t>
            </a: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Unicode MS"/>
              </a:rPr>
              <a:t>Словоохотливый, общительный оптимист, любит каверзные вопросы, острые шутки, несдержан, не может контролировать свои эмоци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1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Я легко сближаюсь с людьми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6372360" y="4581360"/>
            <a:ext cx="2390760" cy="19940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2) У меня много знакомых, с которыми я часто встречаюсь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6659640" y="4724280"/>
            <a:ext cx="1859040" cy="1890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e5ffff"/>
                </a:solidFill>
                <a:latin typeface="Tahoma"/>
              </a:rPr>
              <a:t>3) Я -разговорчивый человек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4) Я непринужденно чувствую себя с незнакомыми людьми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7380360" y="4797360"/>
            <a:ext cx="1568520" cy="18194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5) Мне было бы неприятно, если бы надолго исчезла возможность обще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 flipH="1">
            <a:off x="7524360" y="4943520"/>
            <a:ext cx="1104840" cy="11206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6)Когда мне надо что-то узнать, я предпочитаю спросить, а не копаться в книгах.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7164360" y="2060640"/>
            <a:ext cx="1792440" cy="18208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7) Мне удается оживить скучную компанию.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8) Я говорю быстро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6588000" y="3716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03:31Z</dcterms:created>
  <dc:creator>Ирина</dc:creator>
  <dc:description/>
  <dc:language>en-US</dc:language>
  <cp:lastModifiedBy> KATI</cp:lastModifiedBy>
  <dcterms:modified xsi:type="dcterms:W3CDTF">2011-04-19T07:34:18Z</dcterms:modified>
  <cp:revision>5</cp:revision>
  <dc:subject/>
  <dc:title>Твой психологический тип</dc:title>
</cp:coreProperties>
</file>