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20C-F05F-44E5-B734-46F65566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E4A-77BE-4619-9446-D4301D0D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50323-FB52-46C9-9CCA-D2E42E43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A927A-8DA1-4F78-9159-DE37395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EA4FC-C7D8-4AB2-B0AF-36263214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C8DA7-D447-4A26-9FAC-07A4DF0A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8A0BA-9718-4CC0-943A-A71FCBFD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A910E-3134-40D3-8AED-59054B43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436BE-9662-45F6-B925-4136A60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C3741-271E-47E6-8C42-4B8E7C96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1D978-ADCD-4B13-83A0-EA9F189A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E1F7B-C56B-4A58-ABAC-4C7EFC60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D992-A64B-450E-B98B-19521614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D8DD2-40AB-4850-9DA0-9CD3073C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F6587-8B91-431C-8F2B-C988E23C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BAE49-D7B1-43DB-B31F-3FB01B35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54F40-7113-4DB2-B156-77FFCA28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4C7CC-C06D-434D-9101-240D5D22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E2EB6-6133-4579-9776-50006566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71AC7-351C-43E1-8FBF-BC99F09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D630C-2E33-4CBF-87BC-3F259273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1D283-874C-46A0-AD0B-C88BE330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7C5A7-7214-470C-9A9A-CC9CAF69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353-D9CF-4522-8579-CFDB10CF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FDCF1-84AE-42AE-9BE3-3B55CD81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C096-D4C7-4A46-9367-1C6E0576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7659-E9E8-4FF5-B457-54D74260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D79C-A341-44F7-B96C-E72C625F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E554-561E-4736-A0A5-0DE672BC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E349-B782-4CFA-A359-47D8C49E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0D17-774B-4D7D-8F69-7BFD64F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A674-994E-4B74-824E-7031A0AD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C49-C12C-44CE-8D8B-92C3EEF1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C3E0-4793-480C-A209-A84A869F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2D6F-80EA-4F2E-86C0-75FEF35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A7F8-81E6-4864-8FDB-141C9C7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BDCA-1E7B-4D45-BD3C-E903F411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0B8C-EB38-497D-A019-3E108E3E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1EA1-7A11-42DD-9218-D47224B6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A542-48BD-4C38-986C-9DB02C48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61F5E-A1AB-4411-BDEE-4AF6B4CB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E11E-0C0C-4DE4-9EE4-ACAFC602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592D-4629-45B3-AB18-5220064B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229-0CD5-41FD-939F-5FC29E7A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FC69-7BA4-40EF-A7C6-21733565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1ACE-E96D-4CE1-B7AB-6763136F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F3668-984C-4962-A59D-BDF78FFF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9BEA-57D8-4B80-A56B-BD0E1AA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B12A-5B6F-4B03-928B-79E164B5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812C-893B-4EF5-B392-ACA397E1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9C8A-68D6-4515-8199-80F6DCD0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6AB9-798F-450F-946D-03BBA8A3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2F09-3969-4513-B73F-A3D4959E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A79C-974D-40E5-89FB-7CB11E85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C7E-9CCB-4F91-959D-B0D9BFD5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F942-321D-4B4A-81B0-565AFDA2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C590-1933-4BFA-ADAA-40C4FE45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A2C5-7B80-49C2-A6E7-5204E6F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34622-DCAB-4BC6-9635-D7B19463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EBBA-6A86-419F-B1BB-E5F17DC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DB15-F992-4105-8016-EDF0B53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6FD5-9EE9-4D58-9CA4-ECB66535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2B2E-3F70-456E-A19D-A8C65FE4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BC1A-C112-4449-A02C-D18E229C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F35B1-882B-4CE9-BBB0-105ED525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A38-3D9D-4188-8EA1-F8E2D439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5683-01D0-4B4E-B8AB-BC4A565C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AFD50-8C86-4ACE-8870-0E986E1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19F97-74CC-4375-B865-5C901280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7AB4A-5C9C-491A-BE28-1721481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1372F-6453-4ECF-9D29-6AC5979C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2755F-943B-41AC-A938-BC74026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94E6-5DD6-477B-9F77-A06A3A6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EF796-451E-4053-A32A-9C72ADD8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DDCF-3B34-4181-849B-E0F9B0C6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55BC-02C3-4218-8395-E113A32A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1AF8-598F-4579-BBF4-4D244069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F23FA-E05B-42EF-B671-9066E3AF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BEBF-D7DD-4B36-B3F1-643E28F1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A7F72-67B7-4AFC-A969-CD2BBF70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B60CA-205D-42FA-ADBB-8373ABE2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FF15-1118-477A-B465-A1239F5D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BE278-F476-43E1-B3B4-A30E7365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00DD1-D34C-4AD7-9B2A-FAA6814E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601CF-7768-4894-83E2-E40241B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CCFCE-4E60-44FC-A272-24FEF2CC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DAA2C-A518-411D-9FE4-876DB2D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04A-BF0F-41DB-B896-32F43A59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7CD18-4EA8-4D27-AF09-FD871010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77B8A-9F3F-4AF6-974D-BAEFEFF5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AD72-2899-4EAA-968B-3C27A54C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478E9-3D78-47A6-B6D8-F61E7BE0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9422A-ED6A-413A-A8E4-30BBC5E6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9BEC-B47C-455A-8AAA-D614247D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56B67-52DD-4851-9F9E-E3AA222C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BBA9D-482C-4BD5-B0C7-A44E02EA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149F3-2F0B-445E-8DE9-2CA082AE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858A3-F3D7-4809-961C-7875964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802-35F3-4C67-9447-E47B41EC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92027-9075-4A7F-839C-7FE8C01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38590-3AC5-40B5-8EDC-15C21FDD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7B573-BE23-4544-BE45-B2EFF008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3785-28A3-4424-8E72-6710C252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EAFF4-432B-4F1D-A7A5-9285E236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1A29C-2DCB-4403-80B7-FF4B0842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00825-D1D4-4006-B919-A94B1A7D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DA0ED-28C5-4052-945E-00D8EF5B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3F91E-DD16-429D-83F8-BE07F6CA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E25CD-D9EC-4309-8E0D-E1A87DAF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9F9-916B-4DB2-9DBE-8A7123FA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63FB0-9AE5-47E2-B02C-99949C3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E4A77-FC3B-4EB7-AF10-C3FFA66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579E4-391C-47CC-9982-ECFC7CCF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E015-F94B-409B-9B04-5AA2FC3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592C-921D-4E97-9A9E-FB3A1A64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999DA-9CCB-4285-9665-66CC0D1F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5BC75-5E24-475F-A7CB-31695C9C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C1A62-83B1-4345-A86F-45F1B860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BD0C1-F30A-45DE-87BF-226DC5DC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C89EE-1177-4769-B8F2-0BF83E37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D240-0C64-4A53-9AED-8B47284233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9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9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1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2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4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4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5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5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5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6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6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7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7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8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9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0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0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1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7874-4771-4B85-AE56-E145B981B80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DBE-EFB0-41AB-A1B1-01597DA12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3FA4-3607-44FD-AC8A-C8ACA700B6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A760-6A93-41D6-889D-FB107C8AA5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7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E6E9-A228-41E4-8E44-3141630AC6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2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2FE-6871-4ADF-91C6-52E68F4B7D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7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F848-B3F7-4070-B867-8CFC95379F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4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0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226E-997C-464D-9620-2911F2F3B7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52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2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2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2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3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6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61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62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3963-4DE3-4506-9C87-353B365105F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Bookman Old Style"/>
              </a:rPr>
              <a:t>Твой психологический ти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263520" y="392436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Bookman Old Style"/>
              </a:rPr>
              <a:t>Оцените следующие высказывания в баллах от 0 до 4, затем подсчитайте сумм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979720" y="1598760"/>
            <a:ext cx="1954080" cy="2170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9) Когда я надолго оторван от людей, мне очень хочется поговорить с кем-нибудь.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2"/>
          <a:stretch/>
        </p:blipFill>
        <p:spPr>
          <a:xfrm>
            <a:off x="6516720" y="4100400"/>
            <a:ext cx="2144520" cy="1979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1-12 баллов. </a:t>
            </a:r>
            <a:r>
              <a:rPr b="0" i="1" lang="en-US" sz="4800" spc="-1" strike="noStrike">
                <a:solidFill>
                  <a:srgbClr val="b2b2b2"/>
                </a:solidFill>
                <a:latin typeface="Bookman Old Style"/>
              </a:rPr>
              <a:t>Интроверт</a:t>
            </a:r>
            <a:r>
              <a:rPr b="0" i="1" lang="en-US" sz="5400" spc="-1" strike="noStrike">
                <a:solidFill>
                  <a:srgbClr val="b2b2b2"/>
                </a:solidFill>
                <a:latin typeface="Bookman Old Style"/>
              </a:rPr>
              <a:t>.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701360"/>
            <a:ext cx="8002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бращенный на себя, с трудом вступает в контакт. Такой человек ориентирован в основном на собственные чувства, сдержан, общению предпочитает книг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7093080" y="4869000"/>
            <a:ext cx="1773000" cy="1823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bd71"/>
                </a:solidFill>
                <a:latin typeface="Bookman Old Style"/>
              </a:rPr>
              <a:t>13-24 балла. </a:t>
            </a:r>
            <a:r>
              <a:rPr b="0" i="1" lang="ru-RU" sz="4800" spc="-1" strike="noStrike">
                <a:solidFill>
                  <a:srgbClr val="dbbd71"/>
                </a:solidFill>
                <a:latin typeface="Bookman Old Style"/>
              </a:rPr>
              <a:t>Амбаверт.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ля него характерны спокойные, ровные отношения с людьми, ответственность за свои поступ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man Old Style"/>
              </a:rPr>
              <a:t>25-36 баллов. </a:t>
            </a:r>
            <a:r>
              <a:rPr b="0" i="1" lang="en-US" sz="4800" spc="-1" strike="noStrike">
                <a:solidFill>
                  <a:srgbClr val="ffffff"/>
                </a:solidFill>
                <a:latin typeface="Bookman Old Style"/>
              </a:rPr>
              <a:t>Экстраверт</a:t>
            </a:r>
            <a:r>
              <a:rPr b="0" i="1" lang="en-US" sz="4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Unicode MS"/>
              </a:rPr>
              <a:t>Словоохотливый, общительный оптимист, любит каверзные вопросы, острые шутки, несдержан, не может контролировать свои эмоции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advTm="6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1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8800" spc="-1" strike="noStrike">
                <a:solidFill>
                  <a:srgbClr val="e5ffff"/>
                </a:solidFill>
                <a:latin typeface="Tahoma"/>
              </a:rPr>
              <a:t>Я легко сближаюсь с людьми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6372360" y="4581360"/>
            <a:ext cx="2390760" cy="199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2) У меня много знакомых, с которыми я часто встречаюсь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6659640" y="4724280"/>
            <a:ext cx="1859040" cy="1890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0" lang="en-US" sz="8000" spc="-1" strike="noStrike">
                <a:solidFill>
                  <a:srgbClr val="e5ffff"/>
                </a:solidFill>
                <a:latin typeface="Tahoma"/>
              </a:rPr>
              <a:t>3) Я -разговорчивый человек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4) Я непринужденно чувствую себя с незнакомыми людьми.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7380360" y="4797360"/>
            <a:ext cx="1568520" cy="18194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5) Мне было бы неприятно, если бы надолго исчезла возможность общения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 flipH="1">
            <a:off x="7524360" y="4943520"/>
            <a:ext cx="1104840" cy="1120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6)Когда мне надо что-то узнать, я предпочитаю спросить, а не копаться в книгах.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7164360" y="2060640"/>
            <a:ext cx="1792440" cy="18208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7) Мне удается оживить скучную компанию.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622764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5ffff"/>
                </a:solidFill>
                <a:latin typeface="Tahoma"/>
              </a:rPr>
              <a:t>8) Я говорю быстро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6588000" y="3716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03:31Z</dcterms:created>
  <dc:creator>Ирина</dc:creator>
  <dc:description/>
  <dc:language>en-US</dc:language>
  <cp:lastModifiedBy> KATI</cp:lastModifiedBy>
  <dcterms:modified xsi:type="dcterms:W3CDTF">2011-04-19T07:34:18Z</dcterms:modified>
  <cp:revision>5</cp:revision>
  <dc:subject/>
  <dc:title>Твой психологический тип</dc:title>
</cp:coreProperties>
</file>