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311-F0D2-46EB-A803-43860C6A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0C5-0153-4FA2-8DD8-EAE7564F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EC4-9870-4297-BCBE-9F428226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400-E400-4C23-9A75-DA3F9BCE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4223-73C4-4A05-9868-9A5D51AA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FECE-D4B0-4C00-AFAC-49AA83B2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07EE-9873-4189-9E19-61D57894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0E5A-4DC8-4B28-8826-B9A96220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0064-C760-4FEB-95E4-20173BE7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0402-2651-4846-9EEA-47698C3F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C59F-E3D5-4F4C-BD74-22E37332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544-87D0-4340-B2B5-2744A092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1358-3D02-4A63-B3F5-A9197AE2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E5BA-004E-4DA1-9FD6-7F5227D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986F-FA47-4B69-BAB5-97EE0494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2A4B-C10C-4CEF-A9A3-85B9C8C9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8154-40CD-4556-B375-607F42E4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AA21-6A91-424B-BDCD-84C992B0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55BE-062A-4D6F-A723-C390C95A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6679-D577-46FE-819D-BEE761A8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2B55-21D1-42E9-94A0-510C1E21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3466-2E3D-4B96-8063-CA5D58B2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437E-1CDE-4921-831F-E8AA0278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B301-7702-4701-B63F-6640BFDB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6DD4E-BDF4-4F53-8211-35F1F098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72F3-22C0-4C17-B50B-FDABBD7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DD7F-868C-4867-B18F-430DEBC5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A8EA-D1D8-47CA-856B-24C44B0C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014B-BD2B-44FF-9E67-60E8A3DF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9EC85-3873-46A1-925B-E6FD2BF3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A21-5697-4BDD-80F5-A71A2C18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FE9-80E6-46BE-B03A-37BF287E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EDA-FBA3-41D5-8A09-14714FE1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FB4-515F-4F95-817E-2ED677B7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799-BD32-4B91-A378-76116735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1CD-03A6-4696-8E25-8E45F3A8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AAE7-74DC-415D-AF58-03A373EBE7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C2A7-9D03-4959-A0A6-8626E588BA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5E21-1837-4DEF-BD7A-6083A0798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andex.ru/" TargetMode="External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643280" y="55468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Составила Деева О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воспит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МДОУ №4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г.Челябин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Голубой плато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Красный колобок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По небу катает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Людям усмех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солн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284720" y="1998720"/>
            <a:ext cx="485928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14400" y="90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Влезет в окно, растянется, как сукн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Не прогонишь ни пест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Ни шест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Пора придет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Сам уйдё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солнечный лу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989680" y="2205000"/>
            <a:ext cx="31543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Зеркальцем взмахну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Побежит по ок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И в припрыжку по сте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Возвращается ко м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солнечные зайчи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788000" y="3068640"/>
            <a:ext cx="4356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писок используемых источник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Загадки для развития речи, внимания, памяти и абстрактного мышления» составили О.В. Узорова, Е.А. Нефёдов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ОО «Издательство АСТ» 2005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www.yandex.r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картин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63640" y="4397400"/>
            <a:ext cx="5948280" cy="2460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0" y="112536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Из какого ков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Не пьют, не едя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А только на него глядя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звездие Большая Медвед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27640" y="3807000"/>
            <a:ext cx="471636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Раскинут ковё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Рассыпан горох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Ни ковра поднять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Ни гороха собр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звёзд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16360" y="2827440"/>
            <a:ext cx="4427640" cy="4030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24720" y="357336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Вся доро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Усыпана горошк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млечный пу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43280" y="2782800"/>
            <a:ext cx="630072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64960"/>
            <a:ext cx="8229600" cy="55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Извечно кружи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В пространстве жар-пти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 звезде подлетает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Свой хвост распуск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Светящийся хвост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На тысячи вёрс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Как странница где-т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Блуждает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ком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16360" y="3544920"/>
            <a:ext cx="4427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Голубая просты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Весь свет покрыв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4eec"/>
                </a:solidFill>
                <a:latin typeface="Tahoma"/>
              </a:rPr>
              <a:t>неб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40360" y="2854440"/>
            <a:ext cx="50036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асёт в небес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Белолицый овч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Всю ночь на пролё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Сразу сотни от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А утром все эти от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вчар загоняет в коша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звёзды и 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80852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Над бабушкиной избушк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Висит хлеба краюш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Собаки лают, а достать не могу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меся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42847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4ee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То я блюдо, то – рож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Ты узнал меня, дружок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лу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35280" y="2708280"/>
            <a:ext cx="5508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5:40:35Z</dcterms:created>
  <dc:creator>Деев</dc:creator>
  <dc:description/>
  <dc:language>en-US</dc:language>
  <cp:lastModifiedBy>Деев</cp:lastModifiedBy>
  <dcterms:modified xsi:type="dcterms:W3CDTF">2010-11-19T16:11:23Z</dcterms:modified>
  <cp:revision>18</cp:revision>
  <dc:subject/>
  <dc:title>ЗЕМЛЯ И НЕБО</dc:title>
</cp:coreProperties>
</file>