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6B-BBC0-4356-A90E-475A54E9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1D3-9EEC-47CC-BBD8-A7114B8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31B-8D45-432C-B075-32B2E202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72E-88C1-486F-B638-04109C17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DB0C-C2EE-4B32-B31A-E2E2D705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C205-835D-4ED9-A2F4-3FBAC7B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C20-222F-4F7E-8113-0D6EF85B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9A6-50E7-48D4-A667-5850B64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64F9-2D28-470B-9C56-414664D6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76FE-E0F8-43A8-AF10-160EE77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5D00-0FB2-4DF0-89A4-E8A72810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D71-DE3E-4891-8574-04339D7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F052-5E9E-40A5-8965-9E26308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89CC-5E9A-44B5-B087-67BDF27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FE6A-08E6-424A-B150-AEF902CB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8202-C407-4440-B6FC-43D8869D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D269-B534-4D9F-A312-769F586D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4CB6-9764-41C3-AA28-CD3EC86A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D4C7-11C6-415C-8CA4-60A1DF79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71C0-2AAA-4817-9F78-52C2E70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A5AD-B238-470A-918E-0323C55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FBFC-A86A-446D-AC81-A0017B25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AB0-07BB-4EFB-B0C8-B55084E4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513F-3F9B-4B94-896C-5C2D7F9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1B0A-21BA-4A1C-979D-B85C37E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A0AB-344E-4CB8-888D-8E66610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B9DF-9248-4C77-8FC6-7320B0E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7547-A087-4819-BCFB-BB598F2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C71F-C735-437E-9822-9BD3CCE5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91CD-8591-42FF-81A3-E9D7753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C51-C323-420B-91FA-1B6B3366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DF6-5916-4212-8184-A04487D0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3FF-9975-4955-8928-17CAA263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BD6-60A9-4817-AE84-E20A2F5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0C5-B3F9-4247-824E-64C41F5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4D0-F21B-41A4-96C0-179AA12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7422-352D-444C-9062-D27B0ED5A8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EB0D-C1E7-49F0-BB49-AC764F16E4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20C-FC01-4B48-8E49-4CC3B6B7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43280" y="55468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Составила Деева О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восп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МДОУ №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г.Челябин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Голубой пла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Красный колобок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По небу катае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Людям усмех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4720" y="1998720"/>
            <a:ext cx="48592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лезет в окно, растянется, как сук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Не прогонишь ни пест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Ни шес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Пора приде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Сам уйдё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солнечный лу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89680" y="2205000"/>
            <a:ext cx="31543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Зеркальцем взмахну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Побежит по ок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И в припрыжку по ст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Возвращается ко м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олнечные зай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88000" y="3068640"/>
            <a:ext cx="4356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писок используемых источник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агадки для развития речи, внимания, памяти и абстрактного мышления» составили О.В. Узорова, Е.А. Нефёдо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ОО «Издательство АСТ» 2005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yandex.r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артин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4397400"/>
            <a:ext cx="5948280" cy="24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Из какого ков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Не пьют, не едя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А только на него глядя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звездие Большая Медвед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3807000"/>
            <a:ext cx="47163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Раскинут ковё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Рассыпан горо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и ковра подня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и гороха собр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звёз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16360" y="2827440"/>
            <a:ext cx="4427640" cy="4030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24720" y="3573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ся доро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Усыпана горош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млечный пу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2782800"/>
            <a:ext cx="63007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496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Извечно кружи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 пространстве жар-пт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 звезде подлетае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вой хвост распуск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ветящийся хвос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а тысячи вёрс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странница где-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Блуждает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ком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16360" y="3544920"/>
            <a:ext cx="4427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Голубая просты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есь свет покры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4eec"/>
                </a:solidFill>
                <a:latin typeface="Tahoma"/>
              </a:rPr>
              <a:t>не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40360" y="2854440"/>
            <a:ext cx="50036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асёт в небес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Белолицый овч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сю ночь на прол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разу сотни от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А утром все эти от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вчар загоняет в коша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звёзды и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80852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Над бабушкиной избуш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Висит хлеба краюш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Собаки лают, а достать не мог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То я блюдо, то – рож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Ты узнал меня, дружо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лу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5508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5:40:35Z</dcterms:created>
  <dc:creator>Деев</dc:creator>
  <dc:description/>
  <dc:language>en-US</dc:language>
  <cp:lastModifiedBy>Деев</cp:lastModifiedBy>
  <dcterms:modified xsi:type="dcterms:W3CDTF">2010-11-19T16:11:23Z</dcterms:modified>
  <cp:revision>18</cp:revision>
  <dc:subject/>
  <dc:title>ЗЕМЛЯ И НЕБО</dc:title>
</cp:coreProperties>
</file>