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1.gif" ContentType="image/gif"/>
  <Override PartName="/ppt/media/image10.gif" ContentType="image/gif"/>
  <Override PartName="/ppt/media/image9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.png" ContentType="image/png"/>
  <Override PartName="/ppt/media/image17.png" ContentType="image/png"/>
  <Override PartName="/ppt/media/image14.gif" ContentType="image/gi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06A-4725-4BFB-81B2-F9495D0E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C9F-D571-44B3-9EE7-3A23D372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551-F1A6-45FE-8E9C-C0B8A7CA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78E-DB49-4760-A55A-F15F0325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0324-2756-450D-B4DA-0DFA3D49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962D-A81B-4741-B26C-3D9D5A76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97FC-E17C-4C6E-AA5D-6D3B7CFE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4543-58D3-4A6B-A7FB-AD44FFF0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D95A-9B41-42B0-985B-3DCCB383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D248-5310-4F6E-8772-78A32852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35E6-DD2C-41E1-B025-3DC2D7DC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1AB-09E2-4B30-8D66-15D2531F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3C62-3734-4B0D-8DAB-8D1BE371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0EEE-EFE6-4C5E-867E-F5F3639E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77A8-DC5C-41B0-AC5D-AE704AD9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AEA6-1FD8-423C-99CF-596A9765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CE2B-3780-4D7B-8B43-2B053EF5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E49-5D0B-4AD1-BA44-BAB5B165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698C-B4E8-4429-83BA-FD3EDBFC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09F-215D-405F-BF61-A3B1F549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D24-C442-4890-A1F8-89BCF819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F08B-E77F-42D7-B271-71BE450C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829E-BAB6-466E-91BE-F4804ACC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5D9B-CDEC-49AC-B721-33358ED0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6025-8F96-459F-83FE-D613582DD7D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B421-D71B-4B84-9C14-B79FDCD3A3A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3.png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image" Target="../media/image16.gif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99"/>
                </a:solidFill>
                <a:latin typeface="Verdana"/>
              </a:rPr>
              <a:t>Русский язык в 4 классе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61840" cy="1762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2739960" cy="2913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 rot="2864400">
            <a:off x="6732360" y="0"/>
            <a:ext cx="1762200" cy="1761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731280" y="6093000"/>
            <a:ext cx="209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Verdana"/>
              </a:rPr>
              <a:t>Подготовила: Прудникова С.Ю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1000" spc="-1" strike="noStrike">
                <a:solidFill>
                  <a:srgbClr val="006699"/>
                </a:solidFill>
                <a:latin typeface="Verdana"/>
              </a:rPr>
              <a:t>учитель начальных классов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Verdana"/>
              </a:rPr>
              <a:t>МОУ ГСОШ г. Калязина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86280" cy="2185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22080" y="2636640"/>
            <a:ext cx="350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ратцы в гости снарядились, 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руг за друга прицепились 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И помчались в путь далек, 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ишь оставили дымок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932360" y="5516640"/>
          <a:ext cx="3754440" cy="539640"/>
        </p:xfrm>
        <a:graphic>
          <a:graphicData uri="http://schemas.openxmlformats.org/drawingml/2006/table">
            <a:tbl>
              <a:tblPr/>
              <a:tblGrid>
                <a:gridCol w="750960"/>
                <a:gridCol w="750960"/>
                <a:gridCol w="750600"/>
                <a:gridCol w="750960"/>
                <a:gridCol w="7509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86280" cy="2185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03000" y="2565360"/>
            <a:ext cx="332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Грянул гром, веселый гром,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асверкало все кругом!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вутся в небо неустанно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Разноцветные фонтаны,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рызги света всюду льют.</a:t>
            </a:r>
            <a:br>
              <a:rPr sz="1800"/>
            </a:b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Это праздничный ..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932360" y="5516640"/>
          <a:ext cx="3754440" cy="539640"/>
        </p:xfrm>
        <a:graphic>
          <a:graphicData uri="http://schemas.openxmlformats.org/drawingml/2006/table">
            <a:tbl>
              <a:tblPr/>
              <a:tblGrid>
                <a:gridCol w="750960"/>
                <a:gridCol w="750960"/>
                <a:gridCol w="750600"/>
                <a:gridCol w="750960"/>
                <a:gridCol w="7509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ю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86280" cy="2185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390680" y="2957040"/>
            <a:ext cx="685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 машет крылом, а летает, Не птица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 птиц обгоняет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51640" y="5445000"/>
          <a:ext cx="3035160" cy="611280"/>
        </p:xfrm>
        <a:graphic>
          <a:graphicData uri="http://schemas.openxmlformats.org/drawingml/2006/table">
            <a:tbl>
              <a:tblPr/>
              <a:tblGrid>
                <a:gridCol w="433800"/>
                <a:gridCol w="433080"/>
                <a:gridCol w="434160"/>
                <a:gridCol w="433080"/>
                <a:gridCol w="433800"/>
                <a:gridCol w="433440"/>
                <a:gridCol w="43380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ё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86280" cy="2185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67560" y="2636640"/>
            <a:ext cx="821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Загудел глазастый жук, Обогнул зеленый луг,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У дороги смял ковыль И ушел, вздымая пыль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556000" y="5589720"/>
          <a:ext cx="6130800" cy="517320"/>
        </p:xfrm>
        <a:graphic>
          <a:graphicData uri="http://schemas.openxmlformats.org/drawingml/2006/table">
            <a:tbl>
              <a:tblPr/>
              <a:tblGrid>
                <a:gridCol w="612720"/>
                <a:gridCol w="613800"/>
                <a:gridCol w="612720"/>
                <a:gridCol w="612720"/>
                <a:gridCol w="613800"/>
                <a:gridCol w="612720"/>
                <a:gridCol w="613080"/>
                <a:gridCol w="612360"/>
                <a:gridCol w="613800"/>
                <a:gridCol w="613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л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ь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5025960" cy="6278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069080" y="333360"/>
            <a:ext cx="457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роспрягать глаголы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1-ый вариант – пет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2- ой вариант - сидет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Физкультминутк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979640" y="198288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Отгадайте загадку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Times New Roman"/>
              </a:rPr>
              <a:t>Одну меня – не съешь никогда, а без меня – не вкусна еда.</a:t>
            </a:r>
            <a:r>
              <a:rPr b="1" lang="en-US" sz="5400" spc="-1" strike="noStrike">
                <a:solidFill>
                  <a:srgbClr val="006699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Times New Roman"/>
              </a:rPr>
              <a:t>(соль)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99"/>
                </a:solidFill>
                <a:latin typeface="Times New Roman"/>
              </a:rPr>
              <a:t>Поёшь, сидишь, съешь.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Работа в учебнике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42920" y="1692360"/>
            <a:ext cx="669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ff"/>
                </a:solidFill>
                <a:latin typeface="Times New Roman"/>
              </a:rPr>
              <a:t>Запомни правило</a:t>
            </a:r>
            <a:br>
              <a:rPr sz="4800"/>
            </a:b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4800" spc="-1" strike="noStrike">
                <a:solidFill>
                  <a:srgbClr val="006699"/>
                </a:solidFill>
                <a:latin typeface="Times New Roman"/>
              </a:rPr>
              <a:t>Глаголы во 2-м лице единственного числа имеют окончание –</a:t>
            </a:r>
            <a:r>
              <a:rPr b="0" i="1" lang="en-US" sz="4800" spc="-1" strike="noStrike">
                <a:solidFill>
                  <a:srgbClr val="006699"/>
                </a:solidFill>
                <a:latin typeface="Times New Roman"/>
              </a:rPr>
              <a:t>ешь</a:t>
            </a:r>
            <a:r>
              <a:rPr b="0" lang="en-US" sz="4800" spc="-1" strike="noStrike">
                <a:solidFill>
                  <a:srgbClr val="006699"/>
                </a:solidFill>
                <a:latin typeface="Times New Roman"/>
              </a:rPr>
              <a:t> (-</a:t>
            </a:r>
            <a:r>
              <a:rPr b="0" i="1" lang="en-US" sz="4800" spc="-1" strike="noStrike">
                <a:solidFill>
                  <a:srgbClr val="006699"/>
                </a:solidFill>
                <a:latin typeface="Times New Roman"/>
              </a:rPr>
              <a:t>ёшь</a:t>
            </a:r>
            <a:r>
              <a:rPr b="0" lang="en-US" sz="4800" spc="-1" strike="noStrike">
                <a:solidFill>
                  <a:srgbClr val="006699"/>
                </a:solidFill>
                <a:latin typeface="Times New Roman"/>
              </a:rPr>
              <a:t>) или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Times New Roman"/>
              </a:rPr>
              <a:t> –</a:t>
            </a:r>
            <a:r>
              <a:rPr b="0" i="1" lang="en-US" sz="4800" spc="-1" strike="noStrike">
                <a:solidFill>
                  <a:srgbClr val="006699"/>
                </a:solidFill>
                <a:latin typeface="Times New Roman"/>
              </a:rPr>
              <a:t>ишь.</a:t>
            </a:r>
            <a:r>
              <a:rPr b="0" lang="en-US" sz="4800" spc="-1" strike="noStrike">
                <a:solidFill>
                  <a:srgbClr val="006699"/>
                </a:solidFill>
                <a:latin typeface="Times New Roman"/>
              </a:rPr>
              <a:t> На конце пишется </a:t>
            </a:r>
            <a:r>
              <a:rPr b="1" i="1" lang="en-US" sz="4800" spc="-1" strike="noStrike">
                <a:solidFill>
                  <a:srgbClr val="006699"/>
                </a:solidFill>
                <a:latin typeface="Times New Roman"/>
              </a:rPr>
              <a:t>ь</a:t>
            </a:r>
            <a:r>
              <a:rPr b="0" lang="en-US" sz="4800" spc="-1" strike="noStrike">
                <a:solidFill>
                  <a:srgbClr val="006699"/>
                </a:solidFill>
                <a:latin typeface="Times New Roman"/>
              </a:rPr>
              <a:t>: </a:t>
            </a:r>
            <a:r>
              <a:rPr b="0" i="1" lang="en-US" sz="4800" spc="-1" strike="noStrike">
                <a:solidFill>
                  <a:srgbClr val="006699"/>
                </a:solidFill>
                <a:latin typeface="Times New Roman"/>
              </a:rPr>
              <a:t>по</a:t>
            </a:r>
            <a:r>
              <a:rPr b="1" i="1" lang="en-US" sz="4800" spc="-1" strike="noStrike">
                <a:solidFill>
                  <a:srgbClr val="006699"/>
                </a:solidFill>
                <a:latin typeface="Times New Roman"/>
              </a:rPr>
              <a:t>ёшь</a:t>
            </a:r>
            <a:r>
              <a:rPr b="0" i="1" lang="en-US" sz="4800" spc="-1" strike="noStrike">
                <a:solidFill>
                  <a:srgbClr val="006699"/>
                </a:solidFill>
                <a:latin typeface="Times New Roman"/>
              </a:rPr>
              <a:t>, вста</a:t>
            </a:r>
            <a:r>
              <a:rPr b="1" i="1" lang="en-US" sz="4800" spc="-1" strike="noStrike">
                <a:solidFill>
                  <a:srgbClr val="006699"/>
                </a:solidFill>
                <a:latin typeface="Times New Roman"/>
              </a:rPr>
              <a:t>ёшь</a:t>
            </a:r>
            <a:r>
              <a:rPr b="0" i="1" lang="en-US" sz="4800" spc="-1" strike="noStrike">
                <a:solidFill>
                  <a:srgbClr val="006699"/>
                </a:solidFill>
                <a:latin typeface="Times New Roman"/>
              </a:rPr>
              <a:t>, сто</a:t>
            </a:r>
            <a:r>
              <a:rPr b="1" i="1" lang="en-US" sz="4800" spc="-1" strike="noStrike">
                <a:solidFill>
                  <a:srgbClr val="006699"/>
                </a:solidFill>
                <a:latin typeface="Times New Roman"/>
              </a:rPr>
              <a:t>ишь</a:t>
            </a:r>
            <a:r>
              <a:rPr b="0" i="1" lang="en-US" sz="4800" spc="-1" strike="noStrike">
                <a:solidFill>
                  <a:srgbClr val="006699"/>
                </a:solidFill>
                <a:latin typeface="Times New Roman"/>
              </a:rPr>
              <a:t>, шум</a:t>
            </a:r>
            <a:r>
              <a:rPr b="1" i="1" lang="en-US" sz="4800" spc="-1" strike="noStrike">
                <a:solidFill>
                  <a:srgbClr val="006699"/>
                </a:solidFill>
                <a:latin typeface="Times New Roman"/>
              </a:rPr>
              <a:t>ишь</a:t>
            </a:r>
            <a:r>
              <a:rPr b="0" i="1" lang="en-US" sz="4800" spc="-1" strike="noStrike">
                <a:solidFill>
                  <a:srgbClr val="006699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 rot="20054400">
            <a:off x="2771280" y="1700280"/>
            <a:ext cx="1619280" cy="1595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995640" y="1700280"/>
            <a:ext cx="1266840" cy="2471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 rot="711000">
            <a:off x="5003280" y="1699920"/>
            <a:ext cx="762120" cy="2857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 rot="2352000">
            <a:off x="5219280" y="2707920"/>
            <a:ext cx="1422360" cy="1592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760320" cy="907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 rot="2790000">
            <a:off x="318240" y="192600"/>
            <a:ext cx="701640" cy="836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 rot="19915200">
            <a:off x="0" y="333360"/>
            <a:ext cx="542880" cy="64764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457200" y="2924280"/>
            <a:ext cx="2075040" cy="3132000"/>
            <a:chOff x="457200" y="2924280"/>
            <a:chExt cx="2075040" cy="3132000"/>
          </a:xfrm>
        </p:grpSpPr>
        <p:pic>
          <p:nvPicPr>
            <p:cNvPr id="224" name="" descr=""/>
            <p:cNvPicPr/>
            <p:nvPr/>
          </p:nvPicPr>
          <p:blipFill>
            <a:blip r:embed="rId8"/>
            <a:stretch/>
          </p:blipFill>
          <p:spPr>
            <a:xfrm>
              <a:off x="457200" y="2924280"/>
              <a:ext cx="2075040" cy="31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 txBox="1"/>
            <p:nvPr/>
          </p:nvSpPr>
          <p:spPr>
            <a:xfrm>
              <a:off x="457200" y="2924280"/>
              <a:ext cx="2075040" cy="31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 rot="19948200">
            <a:off x="3635280" y="2421000"/>
            <a:ext cx="752400" cy="2114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0"/>
          <a:stretch/>
        </p:blipFill>
        <p:spPr>
          <a:xfrm rot="2586600">
            <a:off x="2268000" y="4149360"/>
            <a:ext cx="795600" cy="1814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7812000" y="189000"/>
            <a:ext cx="1076400" cy="2127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2"/>
          <a:stretch/>
        </p:blipFill>
        <p:spPr>
          <a:xfrm rot="19085400">
            <a:off x="2843280" y="2781000"/>
            <a:ext cx="12510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трана Глаголия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57200" y="1801800"/>
            <a:ext cx="3827520" cy="4254480"/>
            <a:chOff x="457200" y="1801800"/>
            <a:chExt cx="3827520" cy="425448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457200" y="1801800"/>
              <a:ext cx="3827520" cy="425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 txBox="1"/>
            <p:nvPr/>
          </p:nvSpPr>
          <p:spPr>
            <a:xfrm>
              <a:off x="457200" y="1801800"/>
              <a:ext cx="3827520" cy="425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577040" y="1927080"/>
            <a:ext cx="4197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Я весёлый клоун Вася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Появился в вашем классе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Я принёс с собой шар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ля любимой детворы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Вам шары я подарю,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Но сначала вам велю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Думать, правильно писат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 друзей не забывать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Тема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ы узнаем об особенностях окончания глагола 2-го лица единственного числа, научимся находить в тексте глаголы и определять их лицо и число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Минутка – чистописания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и   ш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шагает, качаю, ласкает,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6699"/>
                </a:solidFill>
                <a:latin typeface="Verdana"/>
              </a:rPr>
              <a:t>шагают, чистит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Ласкаешь маленького, беззащитного котёнк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ловарный диктант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76720" y="1355760"/>
            <a:ext cx="507528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6840" y="2565000"/>
            <a:ext cx="8435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Times New Roman"/>
              </a:rPr>
              <a:t>ПРИЯТНОГО…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862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4648320" y="5445000"/>
          <a:ext cx="4038480" cy="611280"/>
        </p:xfrm>
        <a:graphic>
          <a:graphicData uri="http://schemas.openxmlformats.org/drawingml/2006/table">
            <a:tbl>
              <a:tblPr/>
              <a:tblGrid>
                <a:gridCol w="576000"/>
                <a:gridCol w="578160"/>
                <a:gridCol w="576000"/>
                <a:gridCol w="577800"/>
                <a:gridCol w="576360"/>
                <a:gridCol w="577800"/>
                <a:gridCol w="57636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6840" y="2565000"/>
            <a:ext cx="8435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За трактором </a:t>
            </a:r>
            <a:br>
              <a:rPr sz="2000"/>
            </a:b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по полю ходит она, </a:t>
            </a:r>
            <a:br>
              <a:rPr sz="2000"/>
            </a:b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Отборного ей насыпают зерна. </a:t>
            </a:r>
            <a:br>
              <a:rPr sz="2000"/>
            </a:b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А где ее след </a:t>
            </a:r>
            <a:br>
              <a:rPr sz="2000"/>
            </a:b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чуть заметный ложится, </a:t>
            </a:r>
            <a:br>
              <a:rPr sz="2000"/>
            </a:b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Там буйно </a:t>
            </a:r>
            <a:br>
              <a:rPr sz="2000"/>
            </a:b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потом урожай колоситс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862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4605480" y="4761000"/>
          <a:ext cx="3776400" cy="942480"/>
        </p:xfrm>
        <a:graphic>
          <a:graphicData uri="http://schemas.openxmlformats.org/drawingml/2006/table">
            <a:tbl>
              <a:tblPr/>
              <a:tblGrid>
                <a:gridCol w="630000"/>
                <a:gridCol w="628920"/>
                <a:gridCol w="630000"/>
                <a:gridCol w="628560"/>
                <a:gridCol w="630360"/>
                <a:gridCol w="628560"/>
              </a:tblGrid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c</a:t>
                      </a:r>
                      <a:endParaRPr b="0" lang="en-US" sz="4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е</a:t>
                      </a:r>
                      <a:endParaRPr b="0" lang="en-US" sz="4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я</a:t>
                      </a:r>
                      <a:endParaRPr b="0" lang="en-US" sz="4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л</a:t>
                      </a:r>
                      <a:endParaRPr b="0" lang="en-US" sz="4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к</a:t>
                      </a:r>
                      <a:endParaRPr b="0" lang="en-US" sz="4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а</a:t>
                      </a:r>
                      <a:endParaRPr b="0" lang="en-US" sz="4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2565000"/>
            <a:ext cx="8435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ам все знаки зодиака-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одолея, девы, рака.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ветятся и ночью и днём,</a:t>
            </a:r>
            <a:br>
              <a:rPr sz="2800"/>
            </a:b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уда смотрит астроном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862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4648320" y="5373720"/>
          <a:ext cx="4038480" cy="682560"/>
        </p:xfrm>
        <a:graphic>
          <a:graphicData uri="http://schemas.openxmlformats.org/drawingml/2006/table">
            <a:tbl>
              <a:tblPr/>
              <a:tblGrid>
                <a:gridCol w="672840"/>
                <a:gridCol w="673200"/>
                <a:gridCol w="673200"/>
                <a:gridCol w="673200"/>
                <a:gridCol w="672840"/>
                <a:gridCol w="6732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6840" y="2349000"/>
            <a:ext cx="8435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У тридцати двух воинов оди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18628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4648320" y="5445000"/>
          <a:ext cx="4038480" cy="611280"/>
        </p:xfrm>
        <a:graphic>
          <a:graphicData uri="http://schemas.openxmlformats.org/drawingml/2006/table">
            <a:tbl>
              <a:tblPr/>
              <a:tblGrid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5:56:44Z</dcterms:created>
  <dc:creator>tester</dc:creator>
  <dc:description/>
  <dc:language>en-US</dc:language>
  <cp:lastModifiedBy>Админитратор</cp:lastModifiedBy>
  <dcterms:modified xsi:type="dcterms:W3CDTF">2013-04-09T20:42:20Z</dcterms:modified>
  <cp:revision>7</cp:revision>
  <dc:subject/>
  <dc:title>Слайд 1</dc:title>
</cp:coreProperties>
</file>