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727-6AA6-46DB-86C1-DAC9EC5A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1B6-AA15-4FEF-A6B6-386C9DD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2F5-59CC-4356-A266-EA26735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D08-C5B9-4764-ABE8-84CBFDC8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F272-CACB-4D72-BC92-926F1E3E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C296-7BEF-4814-BF9D-E2FD055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A23-4692-4029-8EBD-49220AB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273-220A-4A1B-8C43-145ED4B9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E42-C9AD-42F5-975D-78B10045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5B9-1F31-4CBC-BB96-9879A7B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DFB5-7393-4829-BEAF-82F60A5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7EA-A4C6-451D-BB43-6751CBCB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6218-FBF1-4D7B-9EF2-FC782A5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84D1-3465-4EFA-B9F7-92EB9DF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0BD-0038-42AF-B77D-DE997934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7E2-2A49-4036-A24B-249AFE0A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61DD-339A-49AE-B12F-49C31437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760-0034-4FF5-816C-0F8608C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8BF-9480-44F3-973A-CC2B3A28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08F-13D4-45C9-B5A3-B7D9778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642-40C5-4FD9-B5A0-7DDD5070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E0D-ABF6-474E-8F49-D5A691E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BF6-E1C6-4DC5-B43E-CE604B1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D0A-25B3-4808-8E75-08BA8F7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2AF-61D9-4956-A01E-CAA24F33C08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2D97-D271-4630-A12F-A89EBDD3B26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3.png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Verdana"/>
              </a:rPr>
              <a:t>Русский язык в 4 классе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61840" cy="176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739960" cy="2913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 rot="2864400">
            <a:off x="6732360" y="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31280" y="6093000"/>
            <a:ext cx="209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Подготовила: Прудникова С.Ю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МОУ ГСОШ г. Калязина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080" y="2636640"/>
            <a:ext cx="350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ратцы в гости снарядились,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г за друга прицепились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 помчались в путь далек,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ишь оставили дымок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5516640"/>
          <a:ext cx="3754440" cy="539640"/>
        </p:xfrm>
        <a:graphic>
          <a:graphicData uri="http://schemas.openxmlformats.org/drawingml/2006/table">
            <a:tbl>
              <a:tblPr/>
              <a:tblGrid>
                <a:gridCol w="750960"/>
                <a:gridCol w="750960"/>
                <a:gridCol w="750600"/>
                <a:gridCol w="750960"/>
                <a:gridCol w="750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03000" y="2565360"/>
            <a:ext cx="332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янул гром, веселый гром,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веркало все кругом!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вутся в небо неустанно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ноцветные фонтаны,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рызги света всюду льют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Это праздничный ..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32360" y="5516640"/>
          <a:ext cx="3754440" cy="539640"/>
        </p:xfrm>
        <a:graphic>
          <a:graphicData uri="http://schemas.openxmlformats.org/drawingml/2006/table">
            <a:tbl>
              <a:tblPr/>
              <a:tblGrid>
                <a:gridCol w="750960"/>
                <a:gridCol w="750960"/>
                <a:gridCol w="750600"/>
                <a:gridCol w="750960"/>
                <a:gridCol w="750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ю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90680" y="2957040"/>
            <a:ext cx="68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машет крылом, а летает, Не птица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птиц обгоняет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51640" y="5445000"/>
          <a:ext cx="3035160" cy="611280"/>
        </p:xfrm>
        <a:graphic>
          <a:graphicData uri="http://schemas.openxmlformats.org/drawingml/2006/table">
            <a:tbl>
              <a:tblPr/>
              <a:tblGrid>
                <a:gridCol w="433800"/>
                <a:gridCol w="433080"/>
                <a:gridCol w="434160"/>
                <a:gridCol w="433080"/>
                <a:gridCol w="433800"/>
                <a:gridCol w="433440"/>
                <a:gridCol w="43380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ё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67560" y="2636640"/>
            <a:ext cx="82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гудел глазастый жук, Обогнул зеленый луг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 дороги смял ковыль И ушел, вздымая пыль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56000" y="5589720"/>
          <a:ext cx="6130800" cy="517320"/>
        </p:xfrm>
        <a:graphic>
          <a:graphicData uri="http://schemas.openxmlformats.org/drawingml/2006/table">
            <a:tbl>
              <a:tblPr/>
              <a:tblGrid>
                <a:gridCol w="612720"/>
                <a:gridCol w="613800"/>
                <a:gridCol w="612720"/>
                <a:gridCol w="612720"/>
                <a:gridCol w="613800"/>
                <a:gridCol w="612720"/>
                <a:gridCol w="613080"/>
                <a:gridCol w="612360"/>
                <a:gridCol w="613800"/>
                <a:gridCol w="6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025960" cy="627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69080" y="333360"/>
            <a:ext cx="457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спрягать глаголы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-ый вариант – пе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- ой вариант - сиде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зкультминутк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79640" y="19828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тгадайте загадку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Одну меня – не съешь никогда, а без меня – не вкусна еда.</a:t>
            </a:r>
            <a:r>
              <a:rPr b="1" lang="en-US" sz="5400" spc="-1" strike="noStrike">
                <a:solidFill>
                  <a:srgbClr val="006699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(соль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Поёшь, сидишь, съешь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бота в учебнике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42920" y="1692360"/>
            <a:ext cx="669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ff"/>
                </a:solidFill>
                <a:latin typeface="Times New Roman"/>
              </a:rPr>
              <a:t>Запомни правило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Глаголы во 2-м лице единственного числа имеют окончание –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еш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(-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) или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–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ишь.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На конце пишется 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: 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по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вста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сто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и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шум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и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 rot="20054400">
            <a:off x="2771280" y="1700280"/>
            <a:ext cx="161928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1266840" cy="2471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rot="711000">
            <a:off x="5003280" y="1699920"/>
            <a:ext cx="762120" cy="2857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2352000">
            <a:off x="5219280" y="2707920"/>
            <a:ext cx="1422360" cy="1592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60320" cy="907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 rot="2790000">
            <a:off x="318240" y="192600"/>
            <a:ext cx="701640" cy="836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 rot="19915200">
            <a:off x="0" y="333360"/>
            <a:ext cx="542880" cy="64764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457200" y="2924280"/>
            <a:ext cx="2075040" cy="3132000"/>
            <a:chOff x="457200" y="2924280"/>
            <a:chExt cx="2075040" cy="3132000"/>
          </a:xfrm>
        </p:grpSpPr>
        <p:pic>
          <p:nvPicPr>
            <p:cNvPr id="224" name="" descr=""/>
            <p:cNvPicPr/>
            <p:nvPr/>
          </p:nvPicPr>
          <p:blipFill>
            <a:blip r:embed="rId8"/>
            <a:stretch/>
          </p:blipFill>
          <p:spPr>
            <a:xfrm>
              <a:off x="457200" y="2924280"/>
              <a:ext cx="207504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 txBox="1"/>
            <p:nvPr/>
          </p:nvSpPr>
          <p:spPr>
            <a:xfrm>
              <a:off x="457200" y="2924280"/>
              <a:ext cx="2075040" cy="31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 rot="19948200">
            <a:off x="3635280" y="2421000"/>
            <a:ext cx="752400" cy="2114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 rot="2586600">
            <a:off x="2268000" y="4149360"/>
            <a:ext cx="795600" cy="18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7812000" y="189000"/>
            <a:ext cx="1076400" cy="2127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 rot="19085400">
            <a:off x="2843280" y="2781000"/>
            <a:ext cx="1251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трана Глагол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801800"/>
            <a:ext cx="3827520" cy="4254480"/>
            <a:chOff x="457200" y="1801800"/>
            <a:chExt cx="3827520" cy="4254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801800"/>
              <a:ext cx="382752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457200" y="1801800"/>
              <a:ext cx="3827520" cy="425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7040" y="1927080"/>
            <a:ext cx="419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 весёлый клоун Вася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явился в вашем класс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 принёс с собой шар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ля любимой детворы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ам шары я подарю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о сначала вам велю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умать, правильно писа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друзей не забыват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ы узнаем об особенностях окончания глагола 2-го лица единственного числа, научимся находить в тексте глаголы и определять их лицо и числ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инутка – чистописан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   ш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шагает, качаю, ласкает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шагают, чистит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аскаешь маленького, беззащитного котё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ловарный диктант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1355760"/>
            <a:ext cx="50752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ПРИЯТНОГО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48320" y="5445000"/>
          <a:ext cx="4038480" cy="611280"/>
        </p:xfrm>
        <a:graphic>
          <a:graphicData uri="http://schemas.openxmlformats.org/drawingml/2006/table">
            <a:tbl>
              <a:tblPr/>
              <a:tblGrid>
                <a:gridCol w="576000"/>
                <a:gridCol w="578160"/>
                <a:gridCol w="576000"/>
                <a:gridCol w="577800"/>
                <a:gridCol w="576360"/>
                <a:gridCol w="577800"/>
                <a:gridCol w="57636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За трактором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 полю ходит она,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Отборного ей насыпают зерна.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А где ее след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чуть заметный ложится,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Там буйно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том урожай колосит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605480" y="4761000"/>
          <a:ext cx="3776400" cy="942480"/>
        </p:xfrm>
        <a:graphic>
          <a:graphicData uri="http://schemas.openxmlformats.org/drawingml/2006/table">
            <a:tbl>
              <a:tblPr/>
              <a:tblGrid>
                <a:gridCol w="630000"/>
                <a:gridCol w="628920"/>
                <a:gridCol w="630000"/>
                <a:gridCol w="628560"/>
                <a:gridCol w="630360"/>
                <a:gridCol w="628560"/>
              </a:tblGrid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c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ам все знаки зодиака-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долея, девы, рака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ветятся и ночью и днё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уда смотрит астроно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4648320" y="5373720"/>
          <a:ext cx="4038480" cy="6825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6840" y="2349000"/>
            <a:ext cx="843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 тридцати двух воинов оди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648320" y="5445000"/>
          <a:ext cx="4038480" cy="6112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5:56:44Z</dcterms:created>
  <dc:creator>tester</dc:creator>
  <dc:description/>
  <dc:language>en-US</dc:language>
  <cp:lastModifiedBy>Админитратор</cp:lastModifiedBy>
  <dcterms:modified xsi:type="dcterms:W3CDTF">2013-04-09T20:42:20Z</dcterms:modified>
  <cp:revision>7</cp:revision>
  <dc:subject/>
  <dc:title>Слайд 1</dc:title>
</cp:coreProperties>
</file>