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7F0-C550-4642-8D6E-CFDF212C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44C-D491-42C9-AC6E-C3D4A6FD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9A0-C0AC-492D-80B8-65D27961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229-74EA-4FF6-91C6-85157B30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63E-2736-4092-9695-7652E5DB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2A0-F524-4C92-9CCE-9490F65B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F80-3885-4F9B-ADCC-431A4B4B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72F-5308-446C-A66B-E4681AA9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1FA-6352-4D6C-B2A3-D8B9348D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B83-7838-4DC4-944D-CF5C7799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93F-9504-4DB7-BE0F-7DCC2AF7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7B0-1680-4C2E-9AC7-246DC725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6ABE-44E5-4F6D-BDAA-640887B8B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Monotype Corsiva"/>
              </a:rPr>
              <a:t>НАША АРМИЯ РОДНА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1675800"/>
            <a:ext cx="46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узыкальный досуг, посвященный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«Дню защитника Оте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9640" y="686520"/>
            <a:ext cx="44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763b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9763b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572000" cy="3440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4572000" cy="2287440"/>
          </a:xfrm>
          <a:prstGeom prst="rect">
            <a:avLst/>
          </a:prstGeom>
          <a:ln w="0">
            <a:noFill/>
          </a:ln>
        </p:spPr>
      </p:pic>
      <p:pic>
        <p:nvPicPr>
          <p:cNvPr id="48" name="i" descr=""/>
          <p:cNvPicPr/>
          <p:nvPr/>
        </p:nvPicPr>
        <p:blipFill>
          <a:blip r:embed="rId4"/>
          <a:stretch/>
        </p:blipFill>
        <p:spPr>
          <a:xfrm rot="21250200">
            <a:off x="0" y="2361960"/>
            <a:ext cx="2690640" cy="1874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3424320"/>
            <a:ext cx="4343400" cy="332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4724280" y="152280"/>
            <a:ext cx="4192560" cy="3165480"/>
          </a:xfrm>
          <a:prstGeom prst="rect">
            <a:avLst/>
          </a:prstGeom>
          <a:ln w="0">
            <a:noFill/>
          </a:ln>
        </p:spPr>
      </p:pic>
      <p:pic>
        <p:nvPicPr>
          <p:cNvPr id="51" name="i" descr=""/>
          <p:cNvPicPr/>
          <p:nvPr/>
        </p:nvPicPr>
        <p:blipFill>
          <a:blip r:embed="rId7"/>
          <a:stretch/>
        </p:blipFill>
        <p:spPr>
          <a:xfrm rot="21250200">
            <a:off x="3581280" y="0"/>
            <a:ext cx="2691000" cy="1874880"/>
          </a:xfrm>
          <a:prstGeom prst="rect">
            <a:avLst/>
          </a:prstGeom>
          <a:ln w="0">
            <a:noFill/>
          </a:ln>
        </p:spPr>
      </p:pic>
      <p:pic>
        <p:nvPicPr>
          <p:cNvPr id="52" name="i" descr=""/>
          <p:cNvPicPr/>
          <p:nvPr/>
        </p:nvPicPr>
        <p:blipFill>
          <a:blip r:embed="rId8"/>
          <a:stretch/>
        </p:blipFill>
        <p:spPr>
          <a:xfrm rot="21250200">
            <a:off x="3200400" y="2437920"/>
            <a:ext cx="26906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@</cp:lastModifiedBy>
  <dcterms:modified xsi:type="dcterms:W3CDTF">2013-04-09T19:12:3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