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DEE-8D2D-40C5-910F-7C6736E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297-8E10-4D79-B1CF-C908E051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A3A-33EB-42BB-BD82-7CCFD0D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73E-CC8C-49FC-8E1B-E09F9CE3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616-2ECD-46B4-8876-5F8E02C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896-D806-46CF-B000-98A442A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900-DC6B-46D4-9A5A-067D788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5B1-AAD2-4FFD-B547-9E06CE8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127-B4D7-4817-8457-F30D6362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71B-FCAB-4D57-95A2-47DE586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507-1700-4F60-BFF9-37E0C62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EB4-40DD-452E-AB7E-C2350E9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22D-7E4E-4F8D-9450-E8A213A4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НАША АРМИЯ РОДНА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67580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узыкальный досуг, посвященн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«Дню защитника От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9640" y="68652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763b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763b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572000" cy="344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57200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i" descr=""/>
          <p:cNvPicPr/>
          <p:nvPr/>
        </p:nvPicPr>
        <p:blipFill>
          <a:blip r:embed="rId4"/>
          <a:stretch/>
        </p:blipFill>
        <p:spPr>
          <a:xfrm rot="21250200">
            <a:off x="0" y="2361960"/>
            <a:ext cx="269064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424320"/>
            <a:ext cx="4343400" cy="33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724280" y="152280"/>
            <a:ext cx="4192560" cy="3165480"/>
          </a:xfrm>
          <a:prstGeom prst="rect">
            <a:avLst/>
          </a:prstGeom>
          <a:ln w="0">
            <a:noFill/>
          </a:ln>
        </p:spPr>
      </p:pic>
      <p:pic>
        <p:nvPicPr>
          <p:cNvPr id="51" name="i" descr=""/>
          <p:cNvPicPr/>
          <p:nvPr/>
        </p:nvPicPr>
        <p:blipFill>
          <a:blip r:embed="rId7"/>
          <a:stretch/>
        </p:blipFill>
        <p:spPr>
          <a:xfrm rot="21250200">
            <a:off x="3581280" y="0"/>
            <a:ext cx="2691000" cy="1874880"/>
          </a:xfrm>
          <a:prstGeom prst="rect">
            <a:avLst/>
          </a:prstGeom>
          <a:ln w="0">
            <a:noFill/>
          </a:ln>
        </p:spPr>
      </p:pic>
      <p:pic>
        <p:nvPicPr>
          <p:cNvPr id="52" name="i" descr=""/>
          <p:cNvPicPr/>
          <p:nvPr/>
        </p:nvPicPr>
        <p:blipFill>
          <a:blip r:embed="rId8"/>
          <a:stretch/>
        </p:blipFill>
        <p:spPr>
          <a:xfrm rot="21250200">
            <a:off x="3200400" y="2437920"/>
            <a:ext cx="2690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@</cp:lastModifiedBy>
  <dcterms:modified xsi:type="dcterms:W3CDTF">2013-04-09T19:12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