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582-CF30-47F4-92DC-B72EBE87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6DE-C358-4193-9530-8A030B6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60B-7114-411C-9C37-6494BA4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2AD-CD77-4D1E-9459-D8CE18A1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7B8-C21C-47AE-80DD-D52B915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08F-1124-49A7-9659-080E16F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4E1-D9ED-42E5-8DC4-E3EEF38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CBA-FFD9-4ADE-AC9C-84413EB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A32-2F25-4351-89A4-1F54017D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505-5869-44DB-A382-CDA66B3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95C-9660-48C6-9D53-874A399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E11-179E-4533-9235-55834D7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30271-28CD-4C1C-B787-3B0726001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2360" y="157320"/>
            <a:ext cx="184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31280" y="250920"/>
            <a:ext cx="3359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еление многоз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чного на трёх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на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84560" y="1925640"/>
            <a:ext cx="15692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60840" y="6713640"/>
            <a:ext cx="276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ставила: Прудникова Светлана Юрь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ОУ ГСОШ г. Калязи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18000" y="7074000"/>
            <a:ext cx="6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3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34520" y="179280"/>
            <a:ext cx="52221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"/>
              </a:rPr>
              <a:t>Устный счё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4480" y="1241280"/>
            <a:ext cx="4961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(9000:300*4+150)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2520" y="133200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5600" y="2104920"/>
            <a:ext cx="2212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0:360*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2520" y="212400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400" y="2916360"/>
            <a:ext cx="407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600:6:10*2:10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2520" y="298764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9440" y="363528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699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80" y="4356000"/>
            <a:ext cx="8852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данное число на 3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15960" y="500364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0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6480" y="5291280"/>
            <a:ext cx="73238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полученное 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на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960" y="586728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6299280"/>
            <a:ext cx="8868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данное число в 1000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43440" y="6804000"/>
            <a:ext cx="1308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41800" y="3652920"/>
            <a:ext cx="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9800" y="179280"/>
            <a:ext cx="5218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9 апреля 1699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0120" y="826920"/>
            <a:ext cx="90532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р I издал Указ «О наблюд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истоты в Москве и о наказании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расывание сору и всякого по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улицы и переул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880" y="3046680"/>
            <a:ext cx="9286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нный документ обязывал жителей столицы мусор на ул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е выбрасывать,следить за чистотой дворов и мостовых, а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тходы вывозить подальше за пределы города и засып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земл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5760" y="4642200"/>
            <a:ext cx="949536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тот Указ императора стал мощным подспорьем не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ля чиновников, отвечавшего перед царем за «благочи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Москве, но и для дворников, следивших за чистотой на у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Также при Петре I в столице начали проклад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нализацию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а на улицах устанавливать ур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и москвичи, опасаясь обещанного наказания, 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усорить гораздо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11640" y="179280"/>
            <a:ext cx="136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9.0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680" y="157320"/>
            <a:ext cx="3507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800" y="684360"/>
            <a:ext cx="102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0160" y="1547640"/>
            <a:ext cx="1308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6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40" y="2581200"/>
            <a:ext cx="2265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560 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88000" y="2627280"/>
            <a:ext cx="18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1080"/>
            <a:ext cx="2016000" cy="1824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17080" y="255600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78160" y="2627280"/>
            <a:ext cx="384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25800" y="262728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10520" y="262728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5080" y="3203640"/>
            <a:ext cx="2199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870кг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73800" y="3203640"/>
            <a:ext cx="50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53640" y="315756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0160" y="3203640"/>
            <a:ext cx="802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94520" y="3132000"/>
            <a:ext cx="802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520" y="3780000"/>
            <a:ext cx="207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730ц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1440" y="3780000"/>
            <a:ext cx="436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78520" y="3851280"/>
            <a:ext cx="50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5440" y="378000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46520" y="385128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280" y="4524480"/>
            <a:ext cx="2199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480кг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25640" y="4452840"/>
            <a:ext cx="436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6200" y="445284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62360" y="445284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8520" y="450072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5000" y="324000"/>
            <a:ext cx="88081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 урока: Деление много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трёхзнач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360" y="1606680"/>
            <a:ext cx="3678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1016:1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70720" y="1676520"/>
            <a:ext cx="604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640" y="4381560"/>
            <a:ext cx="3361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. 63 № 3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3640" y="4308480"/>
            <a:ext cx="1713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70720" y="531648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8360" y="2195640"/>
            <a:ext cx="70966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000-41656:82+908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2520" y="3995640"/>
            <a:ext cx="7532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54049+3070*93-735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4880" y="1619280"/>
            <a:ext cx="102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5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1547640"/>
            <a:ext cx="1590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94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4880" y="1619280"/>
            <a:ext cx="1590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85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4320" y="349236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85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59240" y="341964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395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8320" y="471636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322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320" y="1933560"/>
            <a:ext cx="7320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у же на уроке учи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1120" y="3373560"/>
            <a:ext cx="7659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огли бы вы достичь 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одиноч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457200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9280" y="2484360"/>
            <a:ext cx="842472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63 № 311,  313 (2 ст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3280" y="3995640"/>
            <a:ext cx="32907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Админитратор</cp:lastModifiedBy>
  <dcterms:modified xsi:type="dcterms:W3CDTF">2013-04-09T20:39:05Z</dcterms:modified>
  <cp:revision>4</cp:revision>
  <dc:subject/>
  <dc:title>Слайд 1</dc:title>
</cp:coreProperties>
</file>