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CB4-93DB-471C-BEF8-86ABB876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B01-73F0-46DE-B9CB-14948EAE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552-D854-499D-9580-3F22A54A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E75-E219-46CC-A1BE-A1FE12DA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66D-9C39-4EB4-9722-7BE93866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861-F6C6-41A9-A9B6-36417A6F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765-2758-4345-A450-33F85E1B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123-7F44-4A28-9E33-B5A552A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94F-D47C-4B50-B03B-93C15E3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D95-262E-4D4D-91B2-889BD13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D68-8A60-47F5-8A1E-92E5ECEC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11D-A31E-4912-950F-09FCD03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92EE4-4F17-4AF0-9221-6AF834A235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32360" y="157320"/>
            <a:ext cx="184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31280" y="250920"/>
            <a:ext cx="33598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еление многоз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чного на трёх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нач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84560" y="1925640"/>
            <a:ext cx="156924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60840" y="6713640"/>
            <a:ext cx="2766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Составила: Прудникова Светлана Юрь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МОУ ГСОШ г. Калязи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18000" y="7074000"/>
            <a:ext cx="6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2013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34520" y="179280"/>
            <a:ext cx="52221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Arial"/>
              </a:rPr>
              <a:t>Устный счё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4480" y="1241280"/>
            <a:ext cx="4961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(9000:300*4+150)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2520" y="1332000"/>
            <a:ext cx="462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5600" y="2104920"/>
            <a:ext cx="2212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0:360*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2520" y="2124000"/>
            <a:ext cx="462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1400" y="2916360"/>
            <a:ext cx="4074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3600:6:10*2:10-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2520" y="2987640"/>
            <a:ext cx="462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9440" y="3635280"/>
            <a:ext cx="2154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16993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80" y="4356000"/>
            <a:ext cx="8852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меньшите данное число на 3 сот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15960" y="5003640"/>
            <a:ext cx="2154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16990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6480" y="5291280"/>
            <a:ext cx="73238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меньшите полученное чис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на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960" y="5867280"/>
            <a:ext cx="21542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1699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4120" y="6299280"/>
            <a:ext cx="8868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Уменьшите данное число в 1000 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43440" y="6804000"/>
            <a:ext cx="1308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16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141800" y="3652920"/>
            <a:ext cx="36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49800" y="179280"/>
            <a:ext cx="5218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9 апреля 1699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0120" y="826920"/>
            <a:ext cx="90532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тр I издал Указ «О наблюд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истоты в Москве и о наказании 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брасывание сору и всякого пом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улицы и переул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880" y="3046680"/>
            <a:ext cx="92865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нный документ обязывал жителей столицы мусор на ул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не выбрасывать,следить за чистотой дворов и мостовых, а в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отходы вывозить подальше за пределы города и засып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земле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5760" y="4642200"/>
            <a:ext cx="9495360" cy="24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Этот Указ императора стал мощным подспорьем не т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ля чиновников, отвечавшего перед царем за «благочин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 Москве, но и для дворников, следивших за чистотой на ули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Также при Петре I в столице начали проклад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канализацию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а на улицах устанавливать ур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Да и москвичи, опасаясь обещанного наказания, с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мусорить гораздо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11640" y="179280"/>
            <a:ext cx="1366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9.04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680" y="157320"/>
            <a:ext cx="35074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800" y="684360"/>
            <a:ext cx="102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0160" y="1547640"/>
            <a:ext cx="1308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6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40" y="2581200"/>
            <a:ext cx="2265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560 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88000" y="2627280"/>
            <a:ext cx="18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491080"/>
            <a:ext cx="2016000" cy="1824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17080" y="2556000"/>
            <a:ext cx="63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78160" y="2627280"/>
            <a:ext cx="384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25800" y="2627280"/>
            <a:ext cx="491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10520" y="2627280"/>
            <a:ext cx="111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5080" y="3203640"/>
            <a:ext cx="2199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870кг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73800" y="3203640"/>
            <a:ext cx="500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53640" y="3157560"/>
            <a:ext cx="63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0160" y="3203640"/>
            <a:ext cx="802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94520" y="3132000"/>
            <a:ext cx="802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520" y="3780000"/>
            <a:ext cx="207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730ц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1440" y="3780000"/>
            <a:ext cx="436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78520" y="3851280"/>
            <a:ext cx="500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5440" y="3780000"/>
            <a:ext cx="111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46520" y="3851280"/>
            <a:ext cx="491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280" y="4524480"/>
            <a:ext cx="2199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480кг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25640" y="4452840"/>
            <a:ext cx="4366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36200" y="4452840"/>
            <a:ext cx="6303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62360" y="4452840"/>
            <a:ext cx="491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78520" y="4500720"/>
            <a:ext cx="111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5000" y="324000"/>
            <a:ext cx="88081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ма урока: Деление многознач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трёхзначн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360" y="1606680"/>
            <a:ext cx="3678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1016:1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70720" y="1676520"/>
            <a:ext cx="604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640" y="4381560"/>
            <a:ext cx="33613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. 63 № 3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13640" y="4308480"/>
            <a:ext cx="17139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70720" y="5316480"/>
            <a:ext cx="1113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8360" y="2195640"/>
            <a:ext cx="70966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000-41656:82+908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2520" y="3995640"/>
            <a:ext cx="75326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54049+3070*93-735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4880" y="1619280"/>
            <a:ext cx="102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5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4520" y="1547640"/>
            <a:ext cx="1590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394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4880" y="1619280"/>
            <a:ext cx="1590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485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4320" y="3492360"/>
            <a:ext cx="187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2855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59240" y="3419640"/>
            <a:ext cx="187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3395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8320" y="4716360"/>
            <a:ext cx="187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3322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5320" y="1933560"/>
            <a:ext cx="7320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ему же на уроке училис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1120" y="3373560"/>
            <a:ext cx="765900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огли бы вы достичь ц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оодиноч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4572000"/>
            <a:ext cx="2031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9280" y="2484360"/>
            <a:ext cx="8424720" cy="15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. 63 № 311,  313 (2 ст.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03280" y="3995640"/>
            <a:ext cx="32907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0:41:27Z</dcterms:created>
  <dc:creator/>
  <dc:description/>
  <dc:language>en-US</dc:language>
  <cp:lastModifiedBy>Админитратор</cp:lastModifiedBy>
  <dcterms:modified xsi:type="dcterms:W3CDTF">2013-04-09T20:39:05Z</dcterms:modified>
  <cp:revision>4</cp:revision>
  <dc:subject/>
  <dc:title>Слайд 1</dc:title>
</cp:coreProperties>
</file>