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761-D2F9-424F-BA0C-108A9879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A40-CD37-4ACB-BF85-F25C9BB2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822-7EE5-44CE-A328-2A8FF11A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6F0-6EEE-4ABB-B54F-E8655390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94E-409D-485D-894C-612A7959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486-A52B-45AC-9F8C-0CDAD129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2C6-ACAA-41AC-AC6E-28EEE73A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2E4-3095-4FED-8204-1885BD61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7B8-5505-413B-9744-7152876B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6D1-9685-4AF9-84A9-5C0AFE6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076-2538-4D22-9E7C-FE293E70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062-CE6B-45C1-92E7-B0715E71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78C4-031C-4633-BA04-7AE168906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ление многозначного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трёхзначн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52480" y="5923080"/>
            <a:ext cx="289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: Прудникова Светлана Юрь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СОШ г.Калязи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звенел, друзья, зв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инается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дохнуть вы все усп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теперь вперед – за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ка нас ж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инаем устный с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тный сч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8320" y="126828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0:100)+(560-60):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9800" y="1773360"/>
            <a:ext cx="24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(200+300: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6880" y="227664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*100:(200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5440" y="3036960"/>
            <a:ext cx="61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ьши число 1918804 на 8 сот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53440" y="126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53440" y="17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344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4520" y="30686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918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760" y="3500280"/>
            <a:ext cx="72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ьши на 4 единицы получен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73680" y="350028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91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6680" y="4005360"/>
            <a:ext cx="67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ьши в 1000 раз получен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2880" y="400536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9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2160" y="479736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.04.19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5300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8 апреля  1918 года отмечают праздник советского времени, о котором не многие помнят: этот день считается днём учреждения в советской России военных комиссариа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27720" y="2852640"/>
            <a:ext cx="3300480" cy="4005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20" y="2995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.04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800" y="350028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вариант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432:94              812*9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вариант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703: 67            470*3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8720" y="31860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7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3800" y="328464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7364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5440" y="45086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3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5800" y="450864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1419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Админитратор</cp:lastModifiedBy>
  <dcterms:modified xsi:type="dcterms:W3CDTF">2013-04-07T18:56:25Z</dcterms:modified>
  <cp:revision>5</cp:revision>
  <dc:subject/>
  <dc:title>Слайд 1</dc:title>
</cp:coreProperties>
</file>