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10A-BF08-422B-878E-39F07D99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F894-9764-41A4-A0DA-5703F41D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A58-63EB-4038-9307-1F1CBC57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042-CB21-4CF2-9A8F-430C7F2F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F2E-B46A-40FA-9759-3BE5DD99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33A-E0BB-4B27-B9B1-57178D44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B96-BE3C-4BE3-AD89-B799B68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E7C-3A81-43EB-A47E-12A40A14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1C1-39F1-41FB-92D3-F9DE84FF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02E-ADEB-4775-B64C-3D64D4F9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7496-7E0E-4BAD-90E8-A5A04CDD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FB0-C76A-46E8-993C-EAC689F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D85-D735-4FC4-BAFF-6E7CFD8B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ление многозначного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трёхзначно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52480" y="5923080"/>
            <a:ext cx="289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готовила: Прудникова Светлана Юрьев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СОШ г.Калязи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звенел, друзья, зв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инается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дохнуть вы все усп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теперь вперед – за д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матика нас жд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инаем устный сч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стный сче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8320" y="126828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0:100)+(560-60):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9800" y="1773360"/>
            <a:ext cx="24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(200+300: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6880" y="227664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*100:(200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55440" y="3036960"/>
            <a:ext cx="61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и число 1918804 на 8 сот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3440" y="126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653440" y="17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3440" y="227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54520" y="3068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18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760" y="3500280"/>
            <a:ext cx="72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и на 4 единицы получен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73680" y="35002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6680" y="400536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меньши в 1000 раз полученн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42880" y="400536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2160" y="4797360"/>
            <a:ext cx="186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.04.19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53006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8 апреля  1918 года отмечают праздник советского времени, о котором не многие помнят: этот день считается днём учреждения в советской России военных комиссариа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427720" y="2852640"/>
            <a:ext cx="3300480" cy="4005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20" y="29955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.04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800" y="350028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вариант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432:94              812*9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вариант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703: 67            470*3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8720" y="31860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7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3800" y="32846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7364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5440" y="45086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3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85800" y="450864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1419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Админитратор</cp:lastModifiedBy>
  <dcterms:modified xsi:type="dcterms:W3CDTF">2013-04-07T18:56:25Z</dcterms:modified>
  <cp:revision>5</cp:revision>
  <dc:subject/>
  <dc:title>Слайд 1</dc:title>
</cp:coreProperties>
</file>