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Iyatta" initials="I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<Relationship Id="rId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2-08-15T02:17:54.296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96A-B7A9-4DCF-B552-C6456188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8C6-58CF-4DAC-8187-3834581A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84B-2219-45CB-8AC3-C5A503A2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47A-5582-4739-80B9-214CD37D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0505-914B-4481-9D1B-5CAA4CB7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6C95-6E61-4933-8925-A006F948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84AC-8F55-49B7-ABBA-004E3F73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B312-EC51-47F9-A6B4-1E9C546C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F434-D46F-4207-8454-FCE3D82F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9DCA-5F68-4A78-908B-CC7CE2D6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38A5-867A-4292-A9D9-B3EC78FC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9A8-900F-4D58-8AFE-E54C27AB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7DAC-9EB2-4344-82AE-3F49B9FD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2DCE-B485-4046-9103-FD5697F3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CDCE-5083-4ADA-8B5B-6F3B76B7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90B8-5131-46BE-B301-27433655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5095-F85A-43B6-B94B-458DCA38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E12BA-6013-4C75-A98A-D353A262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658D0-DA34-4A04-8A67-3AE41DFF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B6206-B03E-49B5-84AB-077C627B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6F777-6117-457B-8C4C-AA9CB5B2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80BD3-08D7-4BF3-9958-BB37EC5F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F75-510E-4833-9787-79B1B134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433C7-4F39-4DB3-A9E3-C1ABB0D1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495F5-F358-407D-B111-57671C1D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14F68-99A8-4511-A4A3-D574FF29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47A5F-C1AE-48B1-AB17-E7D06363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FAF76-C1AB-4844-A046-0B8DD06C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EBC7F-5E7E-4666-9A4B-9F74BCED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82CC3-ECDF-40B0-8FBB-399AB00D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A2222-3386-4BF3-9E75-A4F054E1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1E6B9-8FAF-4139-8158-DDDF528E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9E194-40C9-40B8-A405-6A1DC347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9E6-6687-45B7-B551-A62DCEF0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06246-8F55-4F19-9EE9-577455D3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E3CB8-2D8E-42F4-AF7E-8D184AAE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C1BBB-3AA8-4E97-9A4C-B6D7B5F9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5FE01-8F9E-4972-BAB3-2790C070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7BB15-4B1E-4C05-8CB0-6F4F5F1D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6530F-2C82-448B-AB85-9621909D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5462D-0594-465D-AEFC-375AA1E3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C824F-49F2-4D1D-A219-00546635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FC8E1-62EC-45A3-9F66-F51911CE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C07-B596-4A9C-A028-C55F0AC2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B1FC-CC13-4C1C-AE2E-1F595CC6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393A-B88F-42B1-B79F-D7CDAB5A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008-394E-4ED8-8C61-88007637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2E7-EE99-4E59-8B8C-663FC92F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d60204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f0d0e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b1d1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c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c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1a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1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1a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0241-879F-4882-A7A7-A375458AFF0F}" type="slidenum">
              <a:rPr b="0" lang="en-US" sz="1200" spc="-1" strike="noStrike">
                <a:solidFill>
                  <a:srgbClr val="4b251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c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c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d60204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f0d0e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c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c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7de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b1d1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cd4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cd4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cd4c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8EA4-B13E-44CE-9CBD-0E5900DAF5FE}" type="slidenum">
              <a:rPr b="0" lang="en-US" sz="1200" spc="-1" strike="noStrike">
                <a:solidFill>
                  <a:srgbClr val="dcd4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d60204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9f0d0e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c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c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7de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7dec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b1d1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cd4c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cd4c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cd4c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F4B3-663A-401A-9F47-F2968DBC3CA4}" type="slidenum">
              <a:rPr b="0" lang="en-US" sz="1200" spc="-1" strike="noStrike">
                <a:solidFill>
                  <a:srgbClr val="dcd4c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cd8e00">
                  <a:alpha val="45098"/>
                </a:srgbClr>
              </a:gs>
              <a:gs pos="100000">
                <a:srgbClr val="d60204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9f0d0e">
                  <a:alpha val="45098"/>
                </a:srgbClr>
              </a:gs>
              <a:gs pos="100000">
                <a:srgbClr val="ffb4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f271c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f271c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c32d2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eb80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c32d2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b1d1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c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c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1a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1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1a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1131-18E1-47BF-A357-AD8779AC0FC7}" type="slidenum">
              <a:rPr b="0" lang="en-US" sz="1200" spc="-1" strike="noStrike">
                <a:solidFill>
                  <a:srgbClr val="4b251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3" descr=""/>
          <p:cNvPicPr/>
          <p:nvPr/>
        </p:nvPicPr>
        <p:blipFill>
          <a:blip r:embed="rId2"/>
          <a:stretch/>
        </p:blipFill>
        <p:spPr>
          <a:xfrm flipH="1" rot="3160200">
            <a:off x="6107040" y="1101600"/>
            <a:ext cx="2692440" cy="2593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1547640" y="5445000"/>
            <a:ext cx="6532560" cy="1071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411280" y="620640"/>
            <a:ext cx="45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0000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c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0000"/>
                </a:solidFill>
                <a:latin typeface="Times New Roman"/>
              </a:rPr>
              <a:t>Детский сад комбинированного вида №711</a:t>
            </a:r>
            <a:endParaRPr b="0" lang="en-US" sz="16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98" name="WordArt 4"/>
          <p:cNvSpPr txBox="1"/>
          <p:nvPr/>
        </p:nvSpPr>
        <p:spPr>
          <a:xfrm>
            <a:off x="1116000" y="2060640"/>
            <a:ext cx="4464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нь 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наний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3" descr=""/>
          <p:cNvPicPr/>
          <p:nvPr/>
        </p:nvPicPr>
        <p:blipFill>
          <a:blip r:embed="rId2"/>
          <a:stretch/>
        </p:blipFill>
        <p:spPr>
          <a:xfrm>
            <a:off x="3564000" y="3860640"/>
            <a:ext cx="1871640" cy="1793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3"/>
          <a:stretch/>
        </p:blipFill>
        <p:spPr>
          <a:xfrm>
            <a:off x="1332000" y="5661000"/>
            <a:ext cx="6156360" cy="1009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539640" y="765000"/>
            <a:ext cx="3600720" cy="2971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5003640" y="765000"/>
            <a:ext cx="3600720" cy="296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6156360" y="3860640"/>
            <a:ext cx="2386080" cy="2146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611280" y="3860640"/>
            <a:ext cx="223200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20:46:42Z</dcterms:created>
  <dc:creator>Iyatta</dc:creator>
  <dc:description/>
  <dc:language>en-US</dc:language>
  <cp:lastModifiedBy>@</cp:lastModifiedBy>
  <dcterms:modified xsi:type="dcterms:W3CDTF">2013-04-09T17:20:26Z</dcterms:modified>
  <cp:revision>13</cp:revision>
  <dc:subject/>
  <dc:title>Слайд 1</dc:title>
</cp:coreProperties>
</file>