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Iyatta" initials="I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<Relationship Id="rId9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2-08-15T02:17:54.296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B540-9247-4D3C-AEDF-2B821FF15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6CA5-2C2A-48D0-9E9C-F155A08A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FF2B-068C-4899-97FA-BDC898ACF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13DE-F395-4D9B-99CD-294772B24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4D4E-E4EC-477E-88A2-D5289D98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FCEA-01A6-4788-9D7B-FC9FEB16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A83D-0EF7-40A3-92D6-EB539136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31A7-D655-4FB3-B1D2-760449BF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A0BB-BCB1-4E5B-A23B-2DEF03E1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2996-5435-4124-BD71-E4EF1D63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115E-520A-4E86-8C6F-3BE165F5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96A9-F779-414D-AB35-78283663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0E5B-9D67-4BED-B478-866932A3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E5C3-B022-4ADB-B105-9EF89FE1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7E6C-12FA-4159-80F4-52BC8A9E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B209-405B-48C8-BEE6-552EC32B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BC58-4F6F-4332-A260-7D08ECECA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9896E-5305-4C96-832C-2C80D9894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D0B43-D16F-4ACD-8704-F60E114C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F92D6-657D-4C9A-B504-EC8A0758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14CFB-80ED-4DB7-B861-37EDB67E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60C31-042B-4919-A300-F2B86802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D4AE-609A-4805-8828-1C190219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C9CF4-7744-4AB0-8EFF-E5C34826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FDDEB-AF75-4CC3-9D3C-3EB22E50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3613F-EFA9-4633-832D-D009F5C7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CA4C1-1F5D-4EE7-BC29-1EEA04E2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BEC5A-9969-42AD-80E9-75DFF73E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825BF-5976-455F-82A6-CA7015F50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F0323-AF2F-4B83-899D-203F4FEF1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1E80C-0115-4B5F-908B-2973F602A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F7045-1E26-4167-9709-44A1F075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BD36A-413C-4DA9-9622-2055658C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50FB-7BBE-45F0-93CD-C1C3D53F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3129A-CD0B-4EE7-B45B-861F12C6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1E39B-03C0-44DD-99B9-6A279475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3D76A-67A6-47BE-B844-7A8D6684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6A21D-FDA9-492B-9319-D4EE3850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76EB8-71F6-40BB-996A-D9F40A04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CFC37-E8D7-4344-ABA2-DC08B724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8C18B-2810-44B9-91F7-DCB7D998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940EA-9D80-4401-A817-A678DA41E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7FDA9-22AE-4FB2-8989-7C71CF1B6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3A5B-BD0F-4107-A217-9A615DE7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3EFA-C178-4A33-872D-70458847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E715-7D7F-4606-A1B9-F1D5F208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9AEC-8BDB-4DCB-A6A2-138E8A59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B80B-E29D-4A93-9687-CD2A6632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cd8e00">
                  <a:alpha val="45098"/>
                </a:srgbClr>
              </a:gs>
              <a:gs pos="100000">
                <a:srgbClr val="d60204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9f0d0e">
                  <a:alpha val="45098"/>
                </a:srgbClr>
              </a:gs>
              <a:gs pos="100000">
                <a:srgbClr val="ffb4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eb80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c32d2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b1d14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c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c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1a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1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1a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A49F-DE67-4FA8-9DA3-E3DDE319E8D2}" type="slidenum">
              <a:rPr b="0" lang="en-US" sz="1200" spc="-1" strike="noStrike">
                <a:solidFill>
                  <a:srgbClr val="4b251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c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c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cd8e00">
                  <a:alpha val="45098"/>
                </a:srgbClr>
              </a:gs>
              <a:gs pos="100000">
                <a:srgbClr val="d60204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9f0d0e">
                  <a:alpha val="45098"/>
                </a:srgbClr>
              </a:gs>
              <a:gs pos="100000">
                <a:srgbClr val="ffb4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c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c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7dec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eb80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c32d2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b1d14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cd4c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cd4c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cd4c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292F-C091-49E9-81A3-12E29B5DF924}" type="slidenum">
              <a:rPr b="0" lang="en-US" sz="1200" spc="-1" strike="noStrike">
                <a:solidFill>
                  <a:srgbClr val="dcd4c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cd8e00">
                  <a:alpha val="45098"/>
                </a:srgbClr>
              </a:gs>
              <a:gs pos="100000">
                <a:srgbClr val="d60204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9f0d0e">
                  <a:alpha val="45098"/>
                </a:srgbClr>
              </a:gs>
              <a:gs pos="100000">
                <a:srgbClr val="ffb4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c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c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7dec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eb80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c32d2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b1d14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cd4c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cd4c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cd4c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A02C-09A6-4731-B024-B4F6A588FE95}" type="slidenum">
              <a:rPr b="0" lang="en-US" sz="1200" spc="-1" strike="noStrike">
                <a:solidFill>
                  <a:srgbClr val="dcd4c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cd8e00">
                  <a:alpha val="45098"/>
                </a:srgbClr>
              </a:gs>
              <a:gs pos="100000">
                <a:srgbClr val="d60204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9f0d0e">
                  <a:alpha val="45098"/>
                </a:srgbClr>
              </a:gs>
              <a:gs pos="100000">
                <a:srgbClr val="ffb4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eb80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c32d2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b1d14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c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c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1a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1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1a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1A91-67B4-4DAF-A124-337C586E6CEF}" type="slidenum">
              <a:rPr b="0" lang="en-US" sz="1200" spc="-1" strike="noStrike">
                <a:solidFill>
                  <a:srgbClr val="4b251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Рисунок 3" descr=""/>
          <p:cNvPicPr/>
          <p:nvPr/>
        </p:nvPicPr>
        <p:blipFill>
          <a:blip r:embed="rId2"/>
          <a:stretch/>
        </p:blipFill>
        <p:spPr>
          <a:xfrm flipH="1" rot="3160200">
            <a:off x="6107040" y="1101600"/>
            <a:ext cx="2692440" cy="25938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"/>
          <p:cNvPicPr/>
          <p:nvPr/>
        </p:nvPicPr>
        <p:blipFill>
          <a:blip r:embed="rId3"/>
          <a:stretch/>
        </p:blipFill>
        <p:spPr>
          <a:xfrm>
            <a:off x="1547640" y="5445000"/>
            <a:ext cx="6532560" cy="1071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411280" y="620640"/>
            <a:ext cx="453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0000"/>
                </a:solidFill>
                <a:latin typeface="Times New Roman"/>
              </a:rPr>
              <a:t>Государственное образовательное учреждение</a:t>
            </a:r>
            <a:endParaRPr b="0" lang="en-US" sz="1600" spc="-1" strike="noStrike">
              <a:solidFill>
                <a:srgbClr val="c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0000"/>
                </a:solidFill>
                <a:latin typeface="Times New Roman"/>
              </a:rPr>
              <a:t>Детский сад комбинированного вида №711</a:t>
            </a:r>
            <a:endParaRPr b="0" lang="en-US" sz="1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98" name="WordArt 4"/>
          <p:cNvSpPr txBox="1"/>
          <p:nvPr/>
        </p:nvSpPr>
        <p:spPr>
          <a:xfrm>
            <a:off x="1116000" y="2060640"/>
            <a:ext cx="446400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нь 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наний</a:t>
            </a:r>
            <a:endParaRPr b="1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Рисунок 3" descr=""/>
          <p:cNvPicPr/>
          <p:nvPr/>
        </p:nvPicPr>
        <p:blipFill>
          <a:blip r:embed="rId2"/>
          <a:stretch/>
        </p:blipFill>
        <p:spPr>
          <a:xfrm>
            <a:off x="3564000" y="3860640"/>
            <a:ext cx="1871640" cy="1793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"/>
          <p:cNvPicPr/>
          <p:nvPr/>
        </p:nvPicPr>
        <p:blipFill>
          <a:blip r:embed="rId3"/>
          <a:stretch/>
        </p:blipFill>
        <p:spPr>
          <a:xfrm>
            <a:off x="1332000" y="5661000"/>
            <a:ext cx="6156360" cy="1009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539640" y="765000"/>
            <a:ext cx="3600720" cy="2971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5003640" y="765000"/>
            <a:ext cx="3600720" cy="296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6156360" y="3860640"/>
            <a:ext cx="2386080" cy="2146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7"/>
          <a:stretch/>
        </p:blipFill>
        <p:spPr>
          <a:xfrm>
            <a:off x="611280" y="3860640"/>
            <a:ext cx="223200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4T20:46:42Z</dcterms:created>
  <dc:creator>Iyatta</dc:creator>
  <dc:description/>
  <dc:language>en-US</dc:language>
  <cp:lastModifiedBy>@</cp:lastModifiedBy>
  <dcterms:modified xsi:type="dcterms:W3CDTF">2013-04-09T17:20:26Z</dcterms:modified>
  <cp:revision>13</cp:revision>
  <dc:subject/>
  <dc:title>Слайд 1</dc:title>
</cp:coreProperties>
</file>