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12.png" ContentType="image/png"/>
  <Override PartName="/ppt/media/image4.gif" ContentType="image/gi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5D0-F48D-4935-8632-202D7595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80A-CAE3-43D0-9879-D58345DF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298-2174-46F6-B40C-E0540C8D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109-AA4C-4B36-B1FC-DACA9483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81F-3FD1-4789-8086-42BEF049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960-E124-42B8-A6D9-144F8F94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A09-7EA5-4B15-9048-9BE08490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2DAB-0921-40AA-B891-3D3BDE1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C86-5D5C-4D88-BDB7-CF5A5B0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91F-323C-46A0-83B2-BF21AA2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C64-5171-4B91-9940-16CB4AE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5CBB-15D8-4017-B7C8-2AB76312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8E9E-4249-45F9-91EE-2BC6C491A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2604240" y="306360"/>
            <a:ext cx="393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WordArt 3"/>
          <p:cNvSpPr txBox="1"/>
          <p:nvPr/>
        </p:nvSpPr>
        <p:spPr>
          <a:xfrm>
            <a:off x="1692360" y="1916280"/>
            <a:ext cx="611964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168ff"/>
                    </a:gs>
                    <a:gs pos="100000">
                      <a:srgbClr val="ea00ad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деля иг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168ff"/>
                  </a:gs>
                  <a:gs pos="100000">
                    <a:srgbClr val="ea00ad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168ff"/>
                    </a:gs>
                    <a:gs pos="100000">
                      <a:srgbClr val="ea00ad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игруш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168ff"/>
                  </a:gs>
                  <a:gs pos="100000">
                    <a:srgbClr val="ea00ad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227160" y="3213000"/>
            <a:ext cx="2882880" cy="3456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3"/>
          <a:stretch/>
        </p:blipFill>
        <p:spPr>
          <a:xfrm>
            <a:off x="4500720" y="171360"/>
            <a:ext cx="3166920" cy="2968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4"/>
          <a:stretch/>
        </p:blipFill>
        <p:spPr>
          <a:xfrm>
            <a:off x="6012000" y="3284640"/>
            <a:ext cx="2962080" cy="33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"/>
          <p:cNvPicPr/>
          <p:nvPr/>
        </p:nvPicPr>
        <p:blipFill>
          <a:blip r:embed="rId5"/>
          <a:stretch/>
        </p:blipFill>
        <p:spPr>
          <a:xfrm>
            <a:off x="3276720" y="3645000"/>
            <a:ext cx="2582640" cy="24447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6"/>
          <a:stretch/>
        </p:blipFill>
        <p:spPr>
          <a:xfrm>
            <a:off x="1052640" y="115920"/>
            <a:ext cx="2890800" cy="29908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7"/>
          <a:srcRect l="25013" t="0" r="28348" b="3150"/>
          <a:stretch/>
        </p:blipFill>
        <p:spPr>
          <a:xfrm rot="21292800">
            <a:off x="7596000" y="1196640"/>
            <a:ext cx="1068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20:57Z</dcterms:created>
  <dc:creator>Федотова Виктория Александровна</dc:creator>
  <dc:description/>
  <dc:language>en-US</dc:language>
  <cp:lastModifiedBy>@</cp:lastModifiedBy>
  <dcterms:modified xsi:type="dcterms:W3CDTF">2013-04-09T19:43:36Z</dcterms:modified>
  <cp:revision>3</cp:revision>
  <dc:subject/>
  <dc:title>Слайд 1</dc:title>
</cp:coreProperties>
</file>