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gif" ContentType="image/gif"/>
  <Override PartName="/ppt/media/image12.png" ContentType="image/png"/>
  <Override PartName="/ppt/media/image4.gif" ContentType="image/gi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717-2779-4295-BB0D-1EBBB4EE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FC3-5E53-4BC6-A364-A9A93A2E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A3B3-2204-4136-B38C-21C5170B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2DEC-CE42-4458-B81F-2FC96808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8010-A859-4727-AA45-163EF57B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AEEE-66DC-492A-A9BC-789E3572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F64-DD87-4E17-BC2F-349EF5AC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956-9B58-4773-AB46-85787A89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D64B-8571-4875-8E53-1573517C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E41E-2B5B-4616-A43B-7A3E2136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3AA7-429A-45A8-A763-F073417A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16C-4840-447C-9687-23FB80B8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8765-56AF-4DAD-8C51-45F37122F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Admin\Рабочий стол\угадай\Синий.gif"/>
          <p:cNvPicPr/>
          <p:nvPr/>
        </p:nvPicPr>
        <p:blipFill>
          <a:blip r:embed="rId10"/>
          <a:stretch/>
        </p:blipFill>
        <p:spPr>
          <a:xfrm>
            <a:off x="6175440" y="6500880"/>
            <a:ext cx="1673280" cy="357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01" name="Скругленный прямоугольник 13"/>
          <p:cNvGrpSpPr/>
          <p:nvPr/>
        </p:nvGrpSpPr>
        <p:grpSpPr>
          <a:xfrm>
            <a:off x="208080" y="1206360"/>
            <a:ext cx="8582040" cy="5297760"/>
            <a:chOff x="208080" y="1206360"/>
            <a:chExt cx="8582040" cy="5297760"/>
          </a:xfrm>
        </p:grpSpPr>
        <p:pic>
          <p:nvPicPr>
            <p:cNvPr id="102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08080" y="1206360"/>
              <a:ext cx="8582040" cy="52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49" name="Скругленный прямоугольник 13"/>
          <p:cNvGrpSpPr/>
          <p:nvPr/>
        </p:nvGrpSpPr>
        <p:grpSpPr>
          <a:xfrm>
            <a:off x="208080" y="1206360"/>
            <a:ext cx="8582040" cy="5297760"/>
            <a:chOff x="208080" y="1206360"/>
            <a:chExt cx="8582040" cy="5297760"/>
          </a:xfrm>
        </p:grpSpPr>
        <p:pic>
          <p:nvPicPr>
            <p:cNvPr id="150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08080" y="1206360"/>
              <a:ext cx="8582040" cy="52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2604240" y="306360"/>
            <a:ext cx="393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етский сад комбинированного вида №7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WordArt 3"/>
          <p:cNvSpPr txBox="1"/>
          <p:nvPr/>
        </p:nvSpPr>
        <p:spPr>
          <a:xfrm>
            <a:off x="1692360" y="1916280"/>
            <a:ext cx="61196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168ff"/>
                    </a:gs>
                    <a:gs pos="100000">
                      <a:srgbClr val="ea00ad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деля игр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168ff"/>
                  </a:gs>
                  <a:gs pos="100000">
                    <a:srgbClr val="ea00ad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168ff"/>
                    </a:gs>
                    <a:gs pos="100000">
                      <a:srgbClr val="ea00ad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игрушк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168ff"/>
                  </a:gs>
                  <a:gs pos="100000">
                    <a:srgbClr val="ea00ad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"/>
          <p:cNvPicPr/>
          <p:nvPr/>
        </p:nvPicPr>
        <p:blipFill>
          <a:blip r:embed="rId2"/>
          <a:stretch/>
        </p:blipFill>
        <p:spPr>
          <a:xfrm>
            <a:off x="227160" y="3213000"/>
            <a:ext cx="2882880" cy="3456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"/>
          <p:cNvPicPr/>
          <p:nvPr/>
        </p:nvPicPr>
        <p:blipFill>
          <a:blip r:embed="rId3"/>
          <a:stretch/>
        </p:blipFill>
        <p:spPr>
          <a:xfrm>
            <a:off x="4500720" y="171360"/>
            <a:ext cx="3166920" cy="2968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"/>
          <p:cNvPicPr/>
          <p:nvPr/>
        </p:nvPicPr>
        <p:blipFill>
          <a:blip r:embed="rId4"/>
          <a:stretch/>
        </p:blipFill>
        <p:spPr>
          <a:xfrm>
            <a:off x="6012000" y="3284640"/>
            <a:ext cx="2962080" cy="3384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"/>
          <p:cNvPicPr/>
          <p:nvPr/>
        </p:nvPicPr>
        <p:blipFill>
          <a:blip r:embed="rId5"/>
          <a:stretch/>
        </p:blipFill>
        <p:spPr>
          <a:xfrm>
            <a:off x="3276720" y="3645000"/>
            <a:ext cx="2582640" cy="24447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"/>
          <p:cNvPicPr/>
          <p:nvPr/>
        </p:nvPicPr>
        <p:blipFill>
          <a:blip r:embed="rId6"/>
          <a:stretch/>
        </p:blipFill>
        <p:spPr>
          <a:xfrm>
            <a:off x="1052640" y="115920"/>
            <a:ext cx="2890800" cy="29908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7"/>
          <a:srcRect l="25013" t="0" r="28348" b="3150"/>
          <a:stretch/>
        </p:blipFill>
        <p:spPr>
          <a:xfrm rot="21292800">
            <a:off x="7596000" y="1196640"/>
            <a:ext cx="10681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20:57Z</dcterms:created>
  <dc:creator>Федотова Виктория Александровна</dc:creator>
  <dc:description/>
  <dc:language>en-US</dc:language>
  <cp:lastModifiedBy>@</cp:lastModifiedBy>
  <dcterms:modified xsi:type="dcterms:W3CDTF">2013-04-09T19:43:36Z</dcterms:modified>
  <cp:revision>3</cp:revision>
  <dc:subject/>
  <dc:title>Слайд 1</dc:title>
</cp:coreProperties>
</file>