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3B9-B3EF-4940-B7D6-528C4875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F44-8834-446E-8D5F-17AFA2C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600B-8D9B-4C39-ACEC-93106F44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1AF-24CA-4165-BEFD-10629B83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4471-EDF7-48E1-A9FD-61263F38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74FE-BFA3-4779-BB18-3CF2A8B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FC7E-B778-4B86-BE7E-09A4530D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5FA0-FD1C-4E37-BE38-FBA33E92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9107-569B-463A-B90F-732B9D50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F78-DA66-4FB1-BB21-21E310FF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C16B-F813-45EF-9441-7C177BDE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44D-E56E-43EB-9806-717E4251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EE79-DE67-4834-9144-3A736C6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D409-B138-46F8-904B-A05A7A8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A08-4680-42BE-9AE9-4546CD33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E926-C61A-4F28-A8BE-54F4892A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0CB1-4C81-43B5-8909-3525A280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4988-667F-40C9-91CC-BA54FE4C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AF03-09B8-48FA-BAF5-80C7187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CB94-782D-43B4-A2C1-F359A70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672B8-92BA-4BE8-AAC3-A21E2C1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FC2A-9238-43C6-B2DC-C08D0BF6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209-E52E-457E-B013-107F8F2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E2A9D-594F-4755-ABF8-2A75EA21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F7F9-AE14-4DAE-9648-E4255681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8673-7093-4540-A040-C66E0FE5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C4B3-C6D9-4182-9B3F-7CFEB624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BBC4-48DB-43EE-81B6-2AF8B15F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3B8E2-FA8A-47AF-AE28-A205E004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DCF3-C0D0-4AC3-A115-0911AD66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2799-0218-4BCB-87E8-1087E62A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2FB0-4889-426E-9822-04E4F72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2B89-F23F-4585-A41A-5C213D0B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3AF-A364-4B2E-9EC3-7ACA2A5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0804D-E6EF-4569-B8E5-9E3FA3E4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63B8-4655-4CC2-9610-1F7CC486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22D6-728C-48D8-97B5-8E609E36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F65A-86B2-4FE7-B9B8-CDC0595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4C05-7737-4670-BA34-60AF23E2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E7CB3-F22D-4C7C-B0D8-28AC72A7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5A26E-C022-410A-AD24-7FD50FD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84AA9-E582-495A-851B-8001ADF2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DB47-D137-4458-8271-AFDFC7DD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C37-3E3D-4480-95BD-3ADC14C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45C-CBFD-4602-B65E-441EF850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9AE-9695-40A7-B3A1-768C329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58B-7AC8-47E5-804A-9A13AF9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C76-019E-43DD-9BD7-A5D1307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C841-B765-433D-942E-5E4D18010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734A-B77D-464D-BB34-96BC079353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b280"/>
            </a:gs>
            <a:gs pos="100000">
              <a:srgbClr val="d1c39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8" descr="1 фон (30).png"/>
          <p:cNvPicPr/>
          <p:nvPr/>
        </p:nvPicPr>
        <p:blipFill>
          <a:blip r:embed="rId2"/>
          <a:stretch/>
        </p:blipFill>
        <p:spPr>
          <a:xfrm>
            <a:off x="4286160" y="5500800"/>
            <a:ext cx="1673280" cy="69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3" name="Рисунок 7" descr="1 фон (30).png"/>
          <p:cNvPicPr/>
          <p:nvPr/>
        </p:nvPicPr>
        <p:blipFill>
          <a:blip r:embed="rId3"/>
          <a:stretch/>
        </p:blipFill>
        <p:spPr>
          <a:xfrm>
            <a:off x="7358040" y="4786200"/>
            <a:ext cx="1673280" cy="69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4" name="Рисунок 6" descr="1 фон (30).png"/>
          <p:cNvPicPr/>
          <p:nvPr/>
        </p:nvPicPr>
        <p:blipFill>
          <a:blip r:embed="rId4"/>
          <a:stretch/>
        </p:blipFill>
        <p:spPr>
          <a:xfrm>
            <a:off x="6357960" y="5715000"/>
            <a:ext cx="2530440" cy="105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1D06-7089-431D-B722-3C450383E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5232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5232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52322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227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523227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81B0-BB1D-4BB0-B3A2-B7A36C71B5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40360" y="2015640"/>
            <a:ext cx="46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Monotype Corsiva"/>
              </a:rPr>
              <a:t>Книжкина</a:t>
            </a:r>
            <a:r>
              <a:rPr b="1" lang="ru-RU" sz="7200" spc="-1" strike="noStrike">
                <a:solidFill>
                  <a:srgbClr val="a50021"/>
                </a:solidFill>
                <a:latin typeface="Monotype Corsiv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Monotype Corsiva"/>
              </a:rPr>
              <a:t>неделя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260280"/>
            <a:ext cx="45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0812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2211480" cy="3240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987640" y="620640"/>
            <a:ext cx="2808360" cy="2228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156360" y="3860640"/>
            <a:ext cx="2509920" cy="273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39640" y="3860640"/>
            <a:ext cx="2392560" cy="273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203640" y="3429000"/>
            <a:ext cx="2643120" cy="2736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156360" y="333360"/>
            <a:ext cx="2530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5:34:33Z</dcterms:created>
  <dc:creator>@</dc:creator>
  <dc:description/>
  <dc:language>en-US</dc:language>
  <cp:lastModifiedBy>@</cp:lastModifiedBy>
  <dcterms:modified xsi:type="dcterms:W3CDTF">2013-04-09T19:06:32Z</dcterms:modified>
  <cp:revision>4</cp:revision>
  <dc:subject/>
  <dc:title>Слайд 1</dc:title>
</cp:coreProperties>
</file>