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787-E311-4004-9CE3-069D6EFB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F89-559C-4C17-AF3D-7026F0F7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9DF-879B-4932-989A-7C998797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0A7-EA87-422C-80DD-99879128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9589-0959-44C2-A936-2959DED5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4355-999D-46F7-A548-7F8179F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9699-D235-4D01-B9AC-5DDA7243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AE40-851E-4D00-9734-E0162AD5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3E7E-131A-4C14-AEC4-2D90B35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22DD-0E53-42F3-8EA2-432B66D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BE51-BBF4-42D5-B4B8-1FCB965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668-FA95-4835-A3E9-86E2635A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B4F1-8309-42F9-A133-7FD3E74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BED0-0A92-48E3-AE75-FFDC983C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F84F-1CE2-4D29-B764-8A80B7C1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D988-9F3E-4B17-8EF3-71E8C004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01B5-4A29-4345-BD98-BA27A912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D477A-4812-4692-BD3D-9A52C85D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80ED-D03D-4E99-A97C-E4FC4A38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2FCA-89FE-46D7-9911-BBD93D0D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1A2B-2AD4-4FC0-8515-A1EAD0AA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28AC-B204-476F-825E-61314418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4F3-C87E-49EB-AF1F-859B4CF2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33AA-09C2-4237-96E8-25A6F660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C143-3002-4AD0-BA79-7237BB8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787F-1D01-4B17-90C3-C76E08A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919B-E6F8-4A0E-BCE5-F785DEE1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F71F-8919-4DA1-AF2A-95236E88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DF74-D15C-40B6-A038-ED0905B1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87D0-64B6-45DA-A8E4-F0B409CC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A97B-FA23-4B70-9552-296530AE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4170F-2E54-49E3-A5E6-28ADD4D8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D17C-CDEB-4E6B-AC8A-4A9BFB45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5FC-8B2B-4A7E-B0D1-D6FFF616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EB40-F302-45DE-B3D7-196540E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AE0E-8000-4C30-9244-3FFEF583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CE43-F3D2-4951-B1EF-2B51F016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DE55-BB9B-4825-B23F-61466FE6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9790-ADEA-4F82-AC30-E52D4AE2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479A-BD33-4966-8329-A1F52A7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45B3-7ADA-460F-9090-20DD96F3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40FA-9B46-436C-9D42-6E8B3251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29D3-8026-4089-AD38-B4A45988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B0B-BB32-4AE6-9E34-E58D9F1D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7D3-9D50-498E-BCDD-96FD7DFB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557-151C-4921-9F47-28F7D3C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275-7EF8-4739-B142-C03B7677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3ED-FB67-4AE2-92F2-6E3DDE43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80F-CE0E-4715-ADAA-222B67F56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824F-DFC4-4DAB-BFE7-321F5B6F2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280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1 фон (30).png"/>
          <p:cNvPicPr/>
          <p:nvPr/>
        </p:nvPicPr>
        <p:blipFill>
          <a:blip r:embed="rId2"/>
          <a:stretch/>
        </p:blipFill>
        <p:spPr>
          <a:xfrm>
            <a:off x="4286160" y="5500800"/>
            <a:ext cx="1673280" cy="69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7" descr="1 фон (30).png"/>
          <p:cNvPicPr/>
          <p:nvPr/>
        </p:nvPicPr>
        <p:blipFill>
          <a:blip r:embed="rId3"/>
          <a:stretch/>
        </p:blipFill>
        <p:spPr>
          <a:xfrm>
            <a:off x="7358040" y="4786200"/>
            <a:ext cx="1673280" cy="6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Рисунок 6" descr="1 фон (30).png"/>
          <p:cNvPicPr/>
          <p:nvPr/>
        </p:nvPicPr>
        <p:blipFill>
          <a:blip r:embed="rId4"/>
          <a:stretch/>
        </p:blipFill>
        <p:spPr>
          <a:xfrm>
            <a:off x="6357960" y="5715000"/>
            <a:ext cx="2530440" cy="105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B9C-5D2A-45E5-8E2E-288E9A40A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93D5-D531-4196-B30C-5311A347A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40360" y="2015640"/>
            <a:ext cx="46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Monotype Corsiva"/>
              </a:rPr>
              <a:t>Книжкина</a:t>
            </a:r>
            <a:r>
              <a:rPr b="1" lang="ru-RU" sz="7200" spc="-1" strike="noStrike">
                <a:solidFill>
                  <a:srgbClr val="a50021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Monotype Corsiva"/>
              </a:rPr>
              <a:t>неделя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26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081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211480" cy="32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987640" y="620640"/>
            <a:ext cx="2808360" cy="2228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2509920" cy="273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39640" y="3860640"/>
            <a:ext cx="2392560" cy="2737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203640" y="3429000"/>
            <a:ext cx="2643120" cy="273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156360" y="333360"/>
            <a:ext cx="2530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5:34:33Z</dcterms:created>
  <dc:creator>@</dc:creator>
  <dc:description/>
  <dc:language>en-US</dc:language>
  <cp:lastModifiedBy>@</cp:lastModifiedBy>
  <dcterms:modified xsi:type="dcterms:W3CDTF">2013-04-09T19:06:32Z</dcterms:modified>
  <cp:revision>4</cp:revision>
  <dc:subject/>
  <dc:title>Слайд 1</dc:title>
</cp:coreProperties>
</file>