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5CB-545C-4234-A0AF-2660E428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586-C432-40F1-9F2A-8DFD3773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B3F-B6DF-4A37-830F-4175B513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89D-CC86-4FB4-9B8A-E5F8B8AC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C75-B93F-409B-83F5-2B2A1AB6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6F9-A8E3-4C85-9526-5E07D47F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A9B-DDB2-457D-93E7-EB7BBA07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601-567F-46E6-B526-4CB9336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C08-DACD-42F8-8EDD-D1444AD3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8D0-5696-4422-9D6B-D459CB6D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B2F-404D-41A6-80B2-0E138BEC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CB5-788D-4207-A15D-983AB8A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3F1C-7FB9-41E7-B409-1A8ACED3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image" Target="../media/image9.gif"/><Relationship Id="rId13" Type="http://schemas.openxmlformats.org/officeDocument/2006/relationships/image" Target="../media/image9.gif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258920" y="2060640"/>
            <a:ext cx="6915240" cy="21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 и Космо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484360" y="558972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Тематические занятия,</a:t>
            </a:r>
            <a:br>
              <a:rPr sz="1800"/>
            </a:b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посвящ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«Дню космонавт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411280" y="33336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26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881440" cy="1917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3635280" y="115920"/>
            <a:ext cx="2167200" cy="234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4"/>
          <a:stretch/>
        </p:blipFill>
        <p:spPr>
          <a:xfrm>
            <a:off x="324000" y="115920"/>
            <a:ext cx="3168360" cy="2343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5"/>
          <a:stretch/>
        </p:blipFill>
        <p:spPr>
          <a:xfrm>
            <a:off x="5940360" y="11592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6"/>
          <a:stretch/>
        </p:blipFill>
        <p:spPr>
          <a:xfrm>
            <a:off x="539640" y="4581360"/>
            <a:ext cx="2881440" cy="215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ttp://s5.rimg.info/6c154281511e1af706a07c291f19dc4b.gif"/>
          <p:cNvPicPr/>
          <p:nvPr/>
        </p:nvPicPr>
        <p:blipFill>
          <a:blip r:embed="rId7"/>
          <a:stretch/>
        </p:blipFill>
        <p:spPr>
          <a:xfrm rot="6720000">
            <a:off x="2245320" y="4026600"/>
            <a:ext cx="352764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http://www.simliresim.com/simli_resim/stars/027.gif"/>
          <p:cNvPicPr/>
          <p:nvPr/>
        </p:nvPicPr>
        <p:blipFill>
          <a:blip r:embed="rId8"/>
          <a:stretch/>
        </p:blipFill>
        <p:spPr>
          <a:xfrm>
            <a:off x="8265960" y="191628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ttp://www.simliresim.com/simli_resim/stars/027.gif"/>
          <p:cNvPicPr/>
          <p:nvPr/>
        </p:nvPicPr>
        <p:blipFill>
          <a:blip r:embed="rId9"/>
          <a:stretch/>
        </p:blipFill>
        <p:spPr>
          <a:xfrm>
            <a:off x="179280" y="11592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www.simliresim.com/simli_resim/stars/027.gif"/>
          <p:cNvPicPr/>
          <p:nvPr/>
        </p:nvPicPr>
        <p:blipFill>
          <a:blip r:embed="rId10"/>
          <a:stretch/>
        </p:blipFill>
        <p:spPr>
          <a:xfrm>
            <a:off x="179280" y="407664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http://www.simliresim.com/simli_resim/stars/027.gif"/>
          <p:cNvPicPr/>
          <p:nvPr/>
        </p:nvPicPr>
        <p:blipFill>
          <a:blip r:embed="rId11"/>
          <a:stretch/>
        </p:blipFill>
        <p:spPr>
          <a:xfrm>
            <a:off x="5580000" y="5981760"/>
            <a:ext cx="87804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http://www.simliresim.com/simli_resim/stars/027.gif"/>
          <p:cNvPicPr/>
          <p:nvPr/>
        </p:nvPicPr>
        <p:blipFill>
          <a:blip r:embed="rId12"/>
          <a:stretch/>
        </p:blipFill>
        <p:spPr>
          <a:xfrm>
            <a:off x="3059280" y="2060640"/>
            <a:ext cx="877680" cy="8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http://www.simliresim.com/simli_resim/stars/027.gif"/>
          <p:cNvPicPr/>
          <p:nvPr/>
        </p:nvPicPr>
        <p:blipFill>
          <a:blip r:embed="rId13"/>
          <a:stretch/>
        </p:blipFill>
        <p:spPr>
          <a:xfrm>
            <a:off x="5435640" y="0"/>
            <a:ext cx="877680" cy="876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item_4884"/>
          <p:cNvPicPr/>
          <p:nvPr/>
        </p:nvPicPr>
        <p:blipFill>
          <a:blip r:embed="rId14"/>
          <a:stretch/>
        </p:blipFill>
        <p:spPr>
          <a:xfrm>
            <a:off x="4140360" y="2997360"/>
            <a:ext cx="5003640" cy="3412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http://im2-tub-ru.yandex.net/i?id=169838927-66-72&amp;n=21"/>
          <p:cNvPicPr/>
          <p:nvPr/>
        </p:nvPicPr>
        <p:blipFill>
          <a:blip r:embed="rId15"/>
          <a:stretch/>
        </p:blipFill>
        <p:spPr>
          <a:xfrm rot="11675400">
            <a:off x="4984920" y="2606400"/>
            <a:ext cx="1535040" cy="126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8" descr="http://www.simliresim.com/simli_resim/stars/027.gif"/>
          <p:cNvPicPr/>
          <p:nvPr/>
        </p:nvPicPr>
        <p:blipFill>
          <a:blip r:embed="rId16"/>
          <a:stretch/>
        </p:blipFill>
        <p:spPr>
          <a:xfrm>
            <a:off x="2916360" y="5981760"/>
            <a:ext cx="8776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20:12:34Z</dcterms:created>
  <dc:creator>@</dc:creator>
  <dc:description/>
  <dc:language>en-US</dc:language>
  <cp:lastModifiedBy>@</cp:lastModifiedBy>
  <dcterms:modified xsi:type="dcterms:W3CDTF">2013-04-09T20:18:54Z</dcterms:modified>
  <cp:revision>3</cp:revision>
  <dc:subject/>
  <dc:title>Слайд 1</dc:title>
</cp:coreProperties>
</file>