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8D3-213D-4DA4-897A-7B496A8B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37EA-E38C-42BB-B818-8D691FB9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F03-46F5-478B-84B9-34CF7790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5D04-8679-429D-8195-C58041B9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2B6-C071-415A-A18B-7B4400DC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BA7-80C5-4550-9D19-471B1079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FEBE-FDD4-48D3-98AA-8DA04066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36B-795A-4AE3-877D-187759AC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345D-D0FD-47C5-805A-A2142EE1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871-AA1B-435B-8FB1-1AF90709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6321-85B5-4D0B-9D48-C6A8944B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1CD-A56F-4BBE-934F-3FA77200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CADD-3821-4E4D-B604-8774AAE08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9.gi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258920" y="2060640"/>
            <a:ext cx="6915240" cy="21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 и Космо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484360" y="5589720"/>
            <a:ext cx="44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Тематические занятия,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посвящен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«Дню космонавт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2411280" y="333360"/>
            <a:ext cx="45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Детский сад комбинированного вида №7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26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2881440" cy="1917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3635280" y="115920"/>
            <a:ext cx="2167200" cy="234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4"/>
          <a:stretch/>
        </p:blipFill>
        <p:spPr>
          <a:xfrm>
            <a:off x="324000" y="115920"/>
            <a:ext cx="3168360" cy="2343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5"/>
          <a:stretch/>
        </p:blipFill>
        <p:spPr>
          <a:xfrm>
            <a:off x="5940360" y="115920"/>
            <a:ext cx="2952720" cy="2328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6"/>
          <a:stretch/>
        </p:blipFill>
        <p:spPr>
          <a:xfrm>
            <a:off x="539640" y="4581360"/>
            <a:ext cx="2881440" cy="2151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http://s5.rimg.info/6c154281511e1af706a07c291f19dc4b.gif"/>
          <p:cNvPicPr/>
          <p:nvPr/>
        </p:nvPicPr>
        <p:blipFill>
          <a:blip r:embed="rId7"/>
          <a:stretch/>
        </p:blipFill>
        <p:spPr>
          <a:xfrm rot="6720000">
            <a:off x="2245320" y="4026600"/>
            <a:ext cx="3527640" cy="117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http://www.simliresim.com/simli_resim/stars/027.gif"/>
          <p:cNvPicPr/>
          <p:nvPr/>
        </p:nvPicPr>
        <p:blipFill>
          <a:blip r:embed="rId8"/>
          <a:stretch/>
        </p:blipFill>
        <p:spPr>
          <a:xfrm>
            <a:off x="8265960" y="1916280"/>
            <a:ext cx="878040" cy="876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http://www.simliresim.com/simli_resim/stars/027.gif"/>
          <p:cNvPicPr/>
          <p:nvPr/>
        </p:nvPicPr>
        <p:blipFill>
          <a:blip r:embed="rId9"/>
          <a:stretch/>
        </p:blipFill>
        <p:spPr>
          <a:xfrm>
            <a:off x="179280" y="115920"/>
            <a:ext cx="878040" cy="876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http://www.simliresim.com/simli_resim/stars/027.gif"/>
          <p:cNvPicPr/>
          <p:nvPr/>
        </p:nvPicPr>
        <p:blipFill>
          <a:blip r:embed="rId10"/>
          <a:stretch/>
        </p:blipFill>
        <p:spPr>
          <a:xfrm>
            <a:off x="179280" y="4076640"/>
            <a:ext cx="878040" cy="876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http://www.simliresim.com/simli_resim/stars/027.gif"/>
          <p:cNvPicPr/>
          <p:nvPr/>
        </p:nvPicPr>
        <p:blipFill>
          <a:blip r:embed="rId11"/>
          <a:stretch/>
        </p:blipFill>
        <p:spPr>
          <a:xfrm>
            <a:off x="5580000" y="5981760"/>
            <a:ext cx="878040" cy="876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http://www.simliresim.com/simli_resim/stars/027.gif"/>
          <p:cNvPicPr/>
          <p:nvPr/>
        </p:nvPicPr>
        <p:blipFill>
          <a:blip r:embed="rId12"/>
          <a:stretch/>
        </p:blipFill>
        <p:spPr>
          <a:xfrm>
            <a:off x="3059280" y="2060640"/>
            <a:ext cx="877680" cy="87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http://www.simliresim.com/simli_resim/stars/027.gif"/>
          <p:cNvPicPr/>
          <p:nvPr/>
        </p:nvPicPr>
        <p:blipFill>
          <a:blip r:embed="rId13"/>
          <a:stretch/>
        </p:blipFill>
        <p:spPr>
          <a:xfrm>
            <a:off x="5435640" y="0"/>
            <a:ext cx="877680" cy="876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5" descr="item_4884"/>
          <p:cNvPicPr/>
          <p:nvPr/>
        </p:nvPicPr>
        <p:blipFill>
          <a:blip r:embed="rId14"/>
          <a:stretch/>
        </p:blipFill>
        <p:spPr>
          <a:xfrm>
            <a:off x="4140360" y="2997360"/>
            <a:ext cx="5003640" cy="3412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7" descr="http://im2-tub-ru.yandex.net/i?id=169838927-66-72&amp;n=21"/>
          <p:cNvPicPr/>
          <p:nvPr/>
        </p:nvPicPr>
        <p:blipFill>
          <a:blip r:embed="rId15"/>
          <a:stretch/>
        </p:blipFill>
        <p:spPr>
          <a:xfrm rot="11675400">
            <a:off x="4984920" y="2606400"/>
            <a:ext cx="1535040" cy="1261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8" descr="http://www.simliresim.com/simli_resim/stars/027.gif"/>
          <p:cNvPicPr/>
          <p:nvPr/>
        </p:nvPicPr>
        <p:blipFill>
          <a:blip r:embed="rId16"/>
          <a:stretch/>
        </p:blipFill>
        <p:spPr>
          <a:xfrm>
            <a:off x="2916360" y="5981760"/>
            <a:ext cx="8776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20:12:34Z</dcterms:created>
  <dc:creator>@</dc:creator>
  <dc:description/>
  <dc:language>en-US</dc:language>
  <cp:lastModifiedBy>@</cp:lastModifiedBy>
  <dcterms:modified xsi:type="dcterms:W3CDTF">2013-04-09T20:18:54Z</dcterms:modified>
  <cp:revision>3</cp:revision>
  <dc:subject/>
  <dc:title>Слайд 1</dc:title>
</cp:coreProperties>
</file>