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600-1EB2-4760-9503-793836D8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A4E-85B9-4763-8C25-8C3BED1A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BD30-19BB-4F1D-950C-65B7D66B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90F-9339-4B8E-BCD6-5FE0B0BE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2463-B1EF-4C9E-A7AE-AB47E5F9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5D6-0665-47DC-9CA1-DB996015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5F2-0C47-4941-A676-8D9756A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BEC-A594-4873-88F0-6EA5BFC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D34-622F-4705-AAA7-1CB33050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ADF-DACF-4796-8B71-409C748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E7F-FFEF-478A-BF4D-0DA6860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08D-482A-48FF-91FD-3AA64531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3E6F-698D-4263-A327-097A1A1D97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1_&#1089;&#1077;&#1085;&#1090;&#1103;&#1073;&#1088;&#1103;" TargetMode="External"/><Relationship Id="rId2" Type="http://schemas.openxmlformats.org/officeDocument/2006/relationships/hyperlink" Target="http://ru.wikipedia.org/wiki/1920_&#1075;&#1086;&#1076;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5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6" Type="http://schemas.openxmlformats.org/officeDocument/2006/relationships/hyperlink" Target="http://ru.wikipedia.org/wiki/&#1056;&#1086;&#1089;&#1089;&#1080;&#1103;" TargetMode="External"/><Relationship Id="rId7" Type="http://schemas.openxmlformats.org/officeDocument/2006/relationships/hyperlink" Target="http://ru.wikipedia.org/wiki/&#1056;&#1086;&#1089;&#1089;&#1080;&#1103;" TargetMode="External"/><Relationship Id="rId8" Type="http://schemas.openxmlformats.org/officeDocument/2006/relationships/hyperlink" Target="http://ru.wikipedia.org/wiki/&#1057;&#1086;&#1102;&#1079;_&#1057;&#1086;&#1074;&#1077;&#1090;&#1089;&#1082;&#1080;&#1093;_&#1057;&#1086;&#1094;&#1080;&#1072;&#1083;&#1080;&#1089;&#1090;&#1080;&#1095;&#1077;&#1089;&#1082;&#1080;&#1093;_&#1056;&#1077;&#1089;&#1087;&#1091;&#1073;&#1083;&#1080;&#1082;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ru.wikipedia.org/wiki/&#1056;&#1086;&#1089;&#1089;&#1080;&#1103;" TargetMode="External"/><Relationship Id="rId11" Type="http://schemas.openxmlformats.org/officeDocument/2006/relationships/image" Target="../media/image6.png"/><Relationship Id="rId12" Type="http://schemas.openxmlformats.org/officeDocument/2006/relationships/hyperlink" Target="http://ru.wikipedia.org/wiki/&#1052;&#1086;&#1089;&#1082;&#1074;&#1072;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43;&#1048;&#1050;" TargetMode="External"/><Relationship Id="rId2" Type="http://schemas.openxmlformats.org/officeDocument/2006/relationships/hyperlink" Target="http://ru.wikipedia.org/wiki/&#1052;&#1091;&#1083;&#1100;&#1090;&#1080;&#1087;&#1083;&#1080;&#1082;&#1072;&#1094;&#1080;&#1103;" TargetMode="External"/><Relationship Id="rId3" Type="http://schemas.openxmlformats.org/officeDocument/2006/relationships/hyperlink" Target="http://ru.wikipedia.org/wiki/&#1044;&#1080;&#1072;&#1092;&#1080;&#1083;&#1100;&#1084;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4_&#1075;&#1086;&#1076;" TargetMode="External"/><Relationship Id="rId2" Type="http://schemas.openxmlformats.org/officeDocument/2006/relationships/hyperlink" Target="http://ru.wikipedia.org/wiki/&#1055;&#1086;&#1095;&#1105;&#1090;&#1085;&#1099;&#1077;_&#1079;&#1074;&#1072;&#1085;&#1080;&#1103;_&#1056;&#1057;&#1060;&#1057;&#1056;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ллюстрато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еонид Викторович Владимир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еонид Викторович Владимирск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1920 г.р., Москва) — русский график и самый популярный иллюстратор книг про Буратино А. Н. Толстого и про Изумрудный город А. М. Волкова, благодаря которым он получил широкую известность в России и странах бывшего СССР. Рисовал акварелью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9" descr="63206596_vladimirskiy"/>
          <p:cNvPicPr/>
          <p:nvPr/>
        </p:nvPicPr>
        <p:blipFill>
          <a:blip r:embed="rId1"/>
          <a:stretch/>
        </p:blipFill>
        <p:spPr>
          <a:xfrm>
            <a:off x="5219640" y="1557360"/>
            <a:ext cx="3051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нно иллюстрации Владимирского многие признают классическими для произведений Волкова. Ну а Буратино в том виде, в котором его знает и любит уже несколько поколений детей, бесспорно его заслу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6" descr="&amp;icy;&amp;lcy;&amp;lcy;&amp;yucy;&amp;scy;&amp;tcy;&amp;rcy;&amp;acy;&amp;tscy;&amp;icy;&amp;icy; &amp;Lcy;&amp;iecy;&amp;ocy;&amp;ncy;&amp;icy;&amp;dcy;&amp;acy; &amp;Vcy;&amp;lcy;&amp;acy;&amp;dcy;&amp;icy;&amp;mcy;&amp;icy;&amp;rcy;&amp;scy;&amp;kcy;&amp;ocy;&amp;gcy;&amp;ocy;"/>
          <p:cNvPicPr/>
          <p:nvPr/>
        </p:nvPicPr>
        <p:blipFill>
          <a:blip r:embed="rId1"/>
          <a:stretch/>
        </p:blipFill>
        <p:spPr>
          <a:xfrm>
            <a:off x="5076720" y="1052640"/>
            <a:ext cx="3430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ата рождения:</a:t>
            </a:r>
            <a:r>
              <a:rPr b="1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21 сентябр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192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92 год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PICT0528"/>
          <p:cNvPicPr/>
          <p:nvPr/>
        </p:nvPicPr>
        <p:blipFill>
          <a:blip r:embed="rId3"/>
          <a:stretch/>
        </p:blipFill>
        <p:spPr>
          <a:xfrm>
            <a:off x="4788000" y="1989000"/>
            <a:ext cx="3076560" cy="409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356000" y="7677000"/>
          <a:ext cx="416160" cy="53182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625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ажданство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4"/>
                        </a:rPr>
                        <a:t>  </a:t>
                      </a:r>
                      <a:r>
                        <a:rPr b="0" lang="ru-RU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5"/>
                        </a:rPr>
                        <a:t>СССР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6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7"/>
                        </a:rPr>
                        <a:t>Россия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нр: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нижная график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13" descr="Flag of the Soviet Union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042920" y="5119560"/>
            <a:ext cx="25923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Flag of Russia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71640" y="3429000"/>
            <a:ext cx="2305080" cy="15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4716360" y="7174080"/>
          <a:ext cx="208080" cy="731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3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ccff"/>
                          </a:solidFill>
                          <a:uFillTx/>
                          <a:latin typeface="Arial"/>
                          <a:hlinkClick r:id="rId12"/>
                        </a:rPr>
                        <a:t>Москва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сле войны с отличием окончил художественный факультет института кинематографистов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ГИК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на отделени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ультиплик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Его дипломной работой стал первый в истории ВГИК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иафиль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оздание которого дало Владимирскому «путевку в жизнь»: его пригласили работать главным художником на студию «Диафильм», где им было создано 10 лен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8" descr="&amp;Fcy;&amp;ocy;&amp;tcy;&amp;ocy;&amp;gcy;&amp;rcy;&amp;acy;&amp;fcy;&amp;icy;&amp;yacy;"/>
          <p:cNvPicPr/>
          <p:nvPr/>
        </p:nvPicPr>
        <p:blipFill>
          <a:blip r:embed="rId4"/>
          <a:stretch/>
        </p:blipFill>
        <p:spPr>
          <a:xfrm>
            <a:off x="5364000" y="1844640"/>
            <a:ext cx="28148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град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1974 год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ладимирскому было присвоено звание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Заслуженный деятель искусств РСФС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96 году стал лауреатом Всероссийского конкурса детских читательских симпат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2006 году награждён орденом Бурати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бота учениц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«А» клас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БОУ СОШ № 4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зловой Дарь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12:38:35Z</dcterms:created>
  <dc:creator>Анютик</dc:creator>
  <dc:description/>
  <dc:language>en-US</dc:language>
  <cp:lastModifiedBy>user</cp:lastModifiedBy>
  <dcterms:modified xsi:type="dcterms:W3CDTF">2013-04-10T16:54:41Z</dcterms:modified>
  <cp:revision>3</cp:revision>
  <dc:subject/>
  <dc:title>Иллюстратор</dc:title>
</cp:coreProperties>
</file>