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9F3-8DC5-4961-81F7-39CB7BF0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A0F-1D60-4720-B3B4-0B366FA1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086-87FD-408C-98E9-4A48E594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03C-9645-4B03-8025-EF453EBE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305-7E30-425D-A590-6E4D2AEC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237-D8AC-4D34-A5E3-680F5929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101-DDE3-40CA-AB46-93C296E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DE8-B555-4C2C-99B4-6C5C5EF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08C-7099-48DC-BBFA-2D7D0B5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F3C-BA64-49FB-8FD4-9F72DFB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F13-55EE-4A32-97D7-9219D17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C05-0DEB-48C4-BDAC-40FC5C9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C968-BFAF-4874-94EE-2FB4C24A61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9;&#1077;&#1085;&#1090;&#1103;&#1073;&#1088;&#1103;" TargetMode="External"/><Relationship Id="rId2" Type="http://schemas.openxmlformats.org/officeDocument/2006/relationships/hyperlink" Target="http://ru.wikipedia.org/wiki/1920_&#1075;&#1086;&#1076;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5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ru.wikipedia.org/wiki/&#1056;&#1086;&#1089;&#1089;&#1080;&#1103;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ru.wikipedia.org/wiki/&#1052;&#1086;&#1089;&#1082;&#1074;&#1072;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43;&#1048;&#1050;" TargetMode="External"/><Relationship Id="rId2" Type="http://schemas.openxmlformats.org/officeDocument/2006/relationships/hyperlink" Target="http://ru.wikipedia.org/wiki/&#1052;&#1091;&#1083;&#1100;&#1090;&#1080;&#1087;&#1083;&#1080;&#1082;&#1072;&#1094;&#1080;&#1103;" TargetMode="External"/><Relationship Id="rId3" Type="http://schemas.openxmlformats.org/officeDocument/2006/relationships/hyperlink" Target="http://ru.wikipedia.org/wiki/&#1044;&#1080;&#1072;&#1092;&#1080;&#1083;&#1100;&#1084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4_&#1075;&#1086;&#1076;" TargetMode="External"/><Relationship Id="rId2" Type="http://schemas.openxmlformats.org/officeDocument/2006/relationships/hyperlink" Target="http://ru.wikipedia.org/wiki/&#1055;&#1086;&#1095;&#1105;&#1090;&#1085;&#1099;&#1077;_&#1079;&#1074;&#1072;&#1085;&#1080;&#1103;_&#1056;&#1057;&#1060;&#1057;&#1056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ллюстра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онид Викторович Владимир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онид Викторович Владимирс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1920 г.р., Москва) — русский график и самый популярный иллюстратор книг про Буратино А. Н. Толстого и про Изумрудный город А. М. Волкова, благодаря которым он получил широкую известность в России и странах бывшего СССР. Рисовал акварелью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9" descr="63206596_vladimirskiy"/>
          <p:cNvPicPr/>
          <p:nvPr/>
        </p:nvPicPr>
        <p:blipFill>
          <a:blip r:embed="rId1"/>
          <a:stretch/>
        </p:blipFill>
        <p:spPr>
          <a:xfrm>
            <a:off x="5219640" y="1557360"/>
            <a:ext cx="3051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иллюстрации Владимирского многие признают классическими для произведений Волкова. Ну а Буратино в том виде, в котором его знает и любит уже несколько поколений детей, бесспорно его заслу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&amp;icy;&amp;lcy;&amp;lcy;&amp;yucy;&amp;scy;&amp;tcy;&amp;rcy;&amp;acy;&amp;tscy;&amp;icy;&amp;icy; &amp;Lcy;&amp;iecy;&amp;ocy;&amp;ncy;&amp;icy;&amp;dcy;&amp;acy; &amp;Vcy;&amp;lcy;&amp;acy;&amp;dcy;&amp;icy;&amp;mcy;&amp;icy;&amp;rcy;&amp;scy;&amp;kcy;&amp;ocy;&amp;gcy;&amp;ocy;"/>
          <p:cNvPicPr/>
          <p:nvPr/>
        </p:nvPicPr>
        <p:blipFill>
          <a:blip r:embed="rId1"/>
          <a:stretch/>
        </p:blipFill>
        <p:spPr>
          <a:xfrm>
            <a:off x="5076720" y="1052640"/>
            <a:ext cx="3430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r>
              <a:rPr b="1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 сентя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9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92 го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PICT0528"/>
          <p:cNvPicPr/>
          <p:nvPr/>
        </p:nvPicPr>
        <p:blipFill>
          <a:blip r:embed="rId3"/>
          <a:stretch/>
        </p:blipFill>
        <p:spPr>
          <a:xfrm>
            <a:off x="4788000" y="1989000"/>
            <a:ext cx="3076560" cy="409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356000" y="7677000"/>
          <a:ext cx="416160" cy="5318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6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жданство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4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5"/>
                        </a:rPr>
                        <a:t>СССР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6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7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нр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жная график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3" descr="Flag of the Soviet Union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42920" y="511956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Flag of Russia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71640" y="3429000"/>
            <a:ext cx="2305080" cy="15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716360" y="7174080"/>
          <a:ext cx="208080" cy="731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12"/>
                        </a:rPr>
                        <a:t>Моск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войны с отличием окончил художественный факультет института кинематографистов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Г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на отделени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ультиплик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Его дипломной работой стал первый в истории ВГИК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иафиль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здание которого дало Владимирскому «путевку в жизнь»: его пригласили работать главным художником на студию «Диафильм», где им было создано 10 лен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8" descr="&amp;Fcy;&amp;ocy;&amp;tcy;&amp;ocy;&amp;gcy;&amp;rcy;&amp;acy;&amp;fcy;&amp;icy;&amp;yacy;"/>
          <p:cNvPicPr/>
          <p:nvPr/>
        </p:nvPicPr>
        <p:blipFill>
          <a:blip r:embed="rId4"/>
          <a:stretch/>
        </p:blipFill>
        <p:spPr>
          <a:xfrm>
            <a:off x="5364000" y="1844640"/>
            <a:ext cx="281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град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1974 год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ладимирскому было присвоено звание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Заслуженный деятель искусств РСФС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96 году стал лауреатом Всероссийского конкурса детских читательских симпат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006 году награждён орденом Бурати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учениц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БОУ СОШ № 4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зловой Дарь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2:38:35Z</dcterms:created>
  <dc:creator>Анютик</dc:creator>
  <dc:description/>
  <dc:language>en-US</dc:language>
  <cp:lastModifiedBy>user</cp:lastModifiedBy>
  <dcterms:modified xsi:type="dcterms:W3CDTF">2013-04-10T16:54:41Z</dcterms:modified>
  <cp:revision>3</cp:revision>
  <dc:subject/>
  <dc:title>Иллюстратор</dc:title>
</cp:coreProperties>
</file>