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36A-F8F9-4951-B14C-0103B826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5DF-8DEE-4701-BEBD-E54FD027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697-58D3-42A2-80DA-4F328919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B83-7376-4112-8E3E-564AAC4C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A9A-D160-4259-805E-A8AC6CE2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DD8-B954-41C8-A362-9C4589FA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C7F-737D-413F-82CF-BF4FD729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600-DD66-49F3-BBBF-12AAEA5C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28D-EE1A-473C-8B5A-080F0BE6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065-EC06-4809-8EBE-21A15E73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8CC-D337-4B24-AA75-3AEE84BD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5EA-CF84-47B7-B76B-3755ED3D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61"/>
            </a:gs>
            <a:gs pos="50000">
              <a:srgbClr val="ffff66"/>
            </a:gs>
            <a:gs pos="100000">
              <a:srgbClr val="ff7f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BCD4-AB2E-4142-A4D3-FE3F1BE33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61"/>
            </a:gs>
            <a:gs pos="50000">
              <a:srgbClr val="ffff66"/>
            </a:gs>
            <a:gs pos="100000">
              <a:srgbClr val="ff7f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6680" y="116640"/>
            <a:ext cx="44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413000"/>
            <a:ext cx="78501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ая она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СЛЕНИЦ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6720" y="4124160"/>
            <a:ext cx="3905280" cy="2733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61"/>
            </a:gs>
            <a:gs pos="50000">
              <a:srgbClr val="ffff66"/>
            </a:gs>
            <a:gs pos="100000">
              <a:srgbClr val="ff7f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3095640" cy="2664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940360" y="3656160"/>
            <a:ext cx="3095640" cy="2884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5616720" cy="2959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79280" y="3645000"/>
            <a:ext cx="5616720" cy="2895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79280" y="2852640"/>
            <a:ext cx="183852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059280" y="2997360"/>
            <a:ext cx="4983120" cy="723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08:19:27Z</dcterms:created>
  <dc:creator>Сергей</dc:creator>
  <dc:description/>
  <dc:language>en-US</dc:language>
  <cp:lastModifiedBy>@</cp:lastModifiedBy>
  <dcterms:modified xsi:type="dcterms:W3CDTF">2013-04-09T19:14:04Z</dcterms:modified>
  <cp:revision>25</cp:revision>
  <dc:subject/>
  <dc:title>Слайд 1</dc:title>
</cp:coreProperties>
</file>