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980-1598-44D8-BA89-26A3FDA5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E97-36B2-4394-A494-0CFDA53A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9272-A412-4E82-8652-EDC58BEF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FC5-496C-4F73-A055-90056F3A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A4E-42EB-4CAC-8FF4-ACE5177B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2CE-C314-4B4C-87C9-B4694C6D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D54-FB21-44AC-8547-295A2CAD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8CC-33E8-4F6F-A270-3927B131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254-864D-4BDB-A4FB-C662733C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F1E7-AB54-473A-B7CD-E8A34347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87F-9466-481D-8D20-DAF5765D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8957-D55B-4336-9C18-F4BC38BB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61"/>
            </a:gs>
            <a:gs pos="50000">
              <a:srgbClr val="ffff66"/>
            </a:gs>
            <a:gs pos="100000">
              <a:srgbClr val="ff7f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844E-D857-4184-A738-6B6C388DA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61"/>
            </a:gs>
            <a:gs pos="50000">
              <a:srgbClr val="ffff66"/>
            </a:gs>
            <a:gs pos="100000">
              <a:srgbClr val="ff7f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6680" y="116640"/>
            <a:ext cx="44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1413000"/>
            <a:ext cx="78501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ая она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СЛЕНИЦ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076720" y="4124160"/>
            <a:ext cx="3905280" cy="2733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f61"/>
            </a:gs>
            <a:gs pos="50000">
              <a:srgbClr val="ffff66"/>
            </a:gs>
            <a:gs pos="100000">
              <a:srgbClr val="ff7f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3095640" cy="2664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940360" y="3656160"/>
            <a:ext cx="3095640" cy="2884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5616720" cy="2959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79280" y="3645000"/>
            <a:ext cx="5616720" cy="2895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79280" y="2852640"/>
            <a:ext cx="183852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059280" y="2997360"/>
            <a:ext cx="4983120" cy="723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08:19:27Z</dcterms:created>
  <dc:creator>Сергей</dc:creator>
  <dc:description/>
  <dc:language>en-US</dc:language>
  <cp:lastModifiedBy>@</cp:lastModifiedBy>
  <dcterms:modified xsi:type="dcterms:W3CDTF">2013-04-09T19:14:04Z</dcterms:modified>
  <cp:revision>25</cp:revision>
  <dc:subject/>
  <dc:title>Слайд 1</dc:title>
</cp:coreProperties>
</file>