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3D60-2312-4A92-82B9-DA99C39C3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2160" y="115560"/>
            <a:ext cx="897264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2160" y="765000"/>
            <a:ext cx="897264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2160" y="3565440"/>
            <a:ext cx="897264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38A5-8A45-4EC6-A25A-9AC623FC7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2160" y="115560"/>
            <a:ext cx="897264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2160" y="765000"/>
            <a:ext cx="43783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9720" y="765000"/>
            <a:ext cx="43783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2160" y="3565440"/>
            <a:ext cx="43783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9720" y="3565440"/>
            <a:ext cx="43783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3746-8D1E-49A2-B82C-576509EA4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2160" y="115560"/>
            <a:ext cx="897264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2160" y="765000"/>
            <a:ext cx="288900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25880" y="765000"/>
            <a:ext cx="288900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59960" y="765000"/>
            <a:ext cx="288900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2160" y="3565440"/>
            <a:ext cx="288900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25880" y="3565440"/>
            <a:ext cx="288900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59960" y="3565440"/>
            <a:ext cx="288900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BE9A-3886-4A78-B519-9BB617310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A46E0-7D6E-4B33-B9AA-1FAED8F5D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2160" y="115560"/>
            <a:ext cx="897264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2160" y="765000"/>
            <a:ext cx="8972640" cy="53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E39A3-D390-47E3-BEBE-A62207DA1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2160" y="115560"/>
            <a:ext cx="897264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2160" y="765000"/>
            <a:ext cx="897264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BF5D2-EBF2-47D7-B4A9-98DD5A9E2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2160" y="115560"/>
            <a:ext cx="897264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2160" y="765000"/>
            <a:ext cx="437832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9720" y="765000"/>
            <a:ext cx="437832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A5490-9E90-4980-A01B-1FD9D0667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2160" y="115560"/>
            <a:ext cx="897264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C7CEB-4441-4954-97A1-EFC18E522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2160" y="115560"/>
            <a:ext cx="8972640" cy="23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400FB-5687-4CC0-9265-59B3A4E63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2160" y="115560"/>
            <a:ext cx="897264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2160" y="765000"/>
            <a:ext cx="43783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9720" y="765000"/>
            <a:ext cx="437832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2160" y="3565440"/>
            <a:ext cx="43783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05D02-4AA4-4B4D-BE79-F6B35F31A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2160" y="115560"/>
            <a:ext cx="897264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2160" y="765000"/>
            <a:ext cx="8972640" cy="53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D739-60C4-4798-BC7F-1A893253D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2160" y="115560"/>
            <a:ext cx="897264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2160" y="765000"/>
            <a:ext cx="437832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9720" y="765000"/>
            <a:ext cx="43783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9720" y="3565440"/>
            <a:ext cx="43783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B7764-8A50-4358-9D72-F164386AB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2160" y="115560"/>
            <a:ext cx="897264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2160" y="765000"/>
            <a:ext cx="43783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9720" y="765000"/>
            <a:ext cx="43783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2160" y="3565440"/>
            <a:ext cx="897264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E9FEE-2DBF-4BED-8F27-4C4CEC7E1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2160" y="115560"/>
            <a:ext cx="897264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2160" y="765000"/>
            <a:ext cx="897264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92160" y="3565440"/>
            <a:ext cx="897264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EC65E-5EB4-4688-837A-0B7B4A98A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2160" y="115560"/>
            <a:ext cx="897264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2160" y="765000"/>
            <a:ext cx="43783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9720" y="765000"/>
            <a:ext cx="43783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2160" y="3565440"/>
            <a:ext cx="43783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9720" y="3565440"/>
            <a:ext cx="43783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BFB22-F450-47C8-BD46-F1102855B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2160" y="115560"/>
            <a:ext cx="897264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2160" y="765000"/>
            <a:ext cx="288900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25880" y="765000"/>
            <a:ext cx="288900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59960" y="765000"/>
            <a:ext cx="288900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92160" y="3565440"/>
            <a:ext cx="288900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25880" y="3565440"/>
            <a:ext cx="288900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59960" y="3565440"/>
            <a:ext cx="288900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E44BE-CB85-4F91-A661-8AF16BD0B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2160" y="115560"/>
            <a:ext cx="897264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2160" y="765000"/>
            <a:ext cx="897264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F2EE-232C-4AEC-B62C-FE3E5A3B0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2160" y="115560"/>
            <a:ext cx="897264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2160" y="765000"/>
            <a:ext cx="437832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9720" y="765000"/>
            <a:ext cx="437832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34C2-DBAA-4B8C-B856-BDD214B28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2160" y="115560"/>
            <a:ext cx="897264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7E27-61E6-4E91-8679-DA9477399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2160" y="115560"/>
            <a:ext cx="8972640" cy="23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1799-08F6-4E4F-983C-B1BD91B52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2160" y="115560"/>
            <a:ext cx="897264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2160" y="765000"/>
            <a:ext cx="43783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9720" y="765000"/>
            <a:ext cx="437832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2160" y="3565440"/>
            <a:ext cx="43783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653C-6AF1-49C2-8461-6B177D2C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2160" y="115560"/>
            <a:ext cx="897264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2160" y="765000"/>
            <a:ext cx="437832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9720" y="765000"/>
            <a:ext cx="43783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9720" y="3565440"/>
            <a:ext cx="43783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5E10-1AEF-4468-A894-6DFB59F3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2160" y="115560"/>
            <a:ext cx="897264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2160" y="765000"/>
            <a:ext cx="43783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9720" y="765000"/>
            <a:ext cx="437832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2160" y="3565440"/>
            <a:ext cx="8972640" cy="25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0C62-D998-4A57-9302-211634B1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2160" y="115560"/>
            <a:ext cx="897264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2160" y="765000"/>
            <a:ext cx="897264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4360" y="6473880"/>
            <a:ext cx="19065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431a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431a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626920" y="6473880"/>
            <a:ext cx="5257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431a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431a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956720" y="6473880"/>
            <a:ext cx="107928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431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F4E34-1D8F-4A9A-8722-A6819CD3EA34}" type="slidenum">
              <a:rPr b="0" lang="en-US" sz="1400" spc="-1" strike="noStrike">
                <a:solidFill>
                  <a:srgbClr val="3431a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4360" y="6473880"/>
            <a:ext cx="19065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431a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431a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626920" y="6473880"/>
            <a:ext cx="5257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431a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431a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956720" y="6473880"/>
            <a:ext cx="107928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431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983E9-378F-4797-863B-970B757681A9}" type="slidenum">
              <a:rPr b="0" lang="en-US" sz="1400" spc="-1" strike="noStrike">
                <a:solidFill>
                  <a:srgbClr val="3431a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6"/>
          <p:cNvSpPr/>
          <p:nvPr/>
        </p:nvSpPr>
        <p:spPr>
          <a:xfrm>
            <a:off x="1332000" y="189720"/>
            <a:ext cx="669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Times New Roman"/>
              </a:rPr>
              <a:t>Государственное образовательное учрежд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Times New Roman"/>
              </a:rPr>
              <a:t>Детский сад комбинированного вида №7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02120" y="4365720"/>
            <a:ext cx="471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зыкальный досуг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вященный</a:t>
            </a:r>
            <a:br>
              <a:rPr sz="1800"/>
            </a:br>
            <a:r>
              <a:rPr b="1" lang="ru-RU" sz="1800" spc="-1" strike="noStrike">
                <a:solidFill>
                  <a:srgbClr val="d77c75"/>
                </a:solidFill>
                <a:latin typeface="Arial"/>
              </a:rPr>
              <a:t>«Классической музыке в детском сад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187280" y="1557360"/>
            <a:ext cx="6915240" cy="211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 мире прекрасного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940360" y="549360"/>
            <a:ext cx="3008520" cy="3095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940360" y="3789360"/>
            <a:ext cx="3016440" cy="29178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179280" y="907920"/>
            <a:ext cx="5616720" cy="4213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7T09:48:06Z</dcterms:created>
  <dc:creator>@</dc:creator>
  <dc:description>freeppt.ru - Øàáëîíû äëÿ ñîçäàíèÿ ïðåçåíòàöèé. Ïðåçåíòàöèè ïî êóëüòóðå è èñêóññòâó</dc:description>
  <dc:language>en-US</dc:language>
  <cp:lastModifiedBy>@</cp:lastModifiedBy>
  <dcterms:modified xsi:type="dcterms:W3CDTF">2013-04-09T19:08:27Z</dcterms:modified>
  <cp:revision>7</cp:revision>
  <dc:subject>Øàáëîí PowerPoint</dc:subject>
  <dc:title>Слайд 1</dc:title>
</cp:coreProperties>
</file>