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112-2130-4A53-9B90-DA9B97C2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7C9-59E1-4BB6-A950-CABD924D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0EF-4E8B-4F61-A9BE-BE5BBAB4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99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21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99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8CA-7C9C-4A3C-92A4-8C01B310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546E-E1C1-498F-9DBF-8B284C22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E2CA-27E3-4FA8-A42A-F8AD6193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BA95-5877-482A-BAFA-21521667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F4A6-D321-4E0A-AE96-57DBDF81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C3C2-C6E7-4B8F-AAF6-4FD65A2E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2160" y="115560"/>
            <a:ext cx="8972640" cy="23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6DE-89D5-4F74-8196-07E3EBD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F7A5-9E4C-48F2-8997-F9DED32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886-6084-4607-ACA9-9BF92925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FDCC-6C17-424F-9247-379DA2B6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2ABE-58D3-4DF9-A120-A14F4F46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F01E-008C-4120-B265-ABCE398C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877E-A546-4E8C-A89C-F628EE88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99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21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99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4DE3-4B18-45E4-9D47-556F7A89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936-7FFC-479F-8479-009E4B7B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266-49BF-4D3E-8836-A681295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B3C-EF2F-4830-93AD-0746B9E2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2160" y="115560"/>
            <a:ext cx="8972640" cy="23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BD1-6A9B-4544-BBDC-2F80FC2A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D4B-DF03-413D-8FD2-D6D3F1D2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06B-3D08-4AA3-8F12-ECCDDB3A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9EF-22C0-4E99-ACBA-B056C102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4360" y="6473880"/>
            <a:ext cx="1906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26920" y="6473880"/>
            <a:ext cx="5257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956720" y="647388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5EA-E240-4B52-A665-6468D169EC7D}" type="slidenum"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4360" y="6473880"/>
            <a:ext cx="1906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626920" y="6473880"/>
            <a:ext cx="5257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956720" y="647388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E03F-D48F-46B7-AA7B-C628F1A946C9}" type="slidenum"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1332000" y="18972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2120" y="4365720"/>
            <a:ext cx="47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досуг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вященный</a:t>
            </a:r>
            <a:br>
              <a:rPr sz="1800"/>
            </a:br>
            <a:r>
              <a:rPr b="1" lang="ru-RU" sz="1800" spc="-1" strike="noStrike">
                <a:solidFill>
                  <a:srgbClr val="d77c75"/>
                </a:solidFill>
                <a:latin typeface="Arial"/>
              </a:rPr>
              <a:t>«Классической музыке в детском са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87280" y="1557360"/>
            <a:ext cx="6915240" cy="21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мире прекрасног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0360" y="549360"/>
            <a:ext cx="3008520" cy="30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0360" y="3789360"/>
            <a:ext cx="3016440" cy="291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9280" y="90792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9:48:06Z</dcterms:created>
  <dc:creator>@</dc:creator>
  <dc:description>freeppt.ru - Øàáëîíû äëÿ ñîçäàíèÿ ïðåçåíòàöèé. Ïðåçåíòàöèè ïî êóëüòóðå è èñêóññòâó</dc:description>
  <dc:language>en-US</dc:language>
  <cp:lastModifiedBy>@</cp:lastModifiedBy>
  <dcterms:modified xsi:type="dcterms:W3CDTF">2013-04-09T19:08:27Z</dcterms:modified>
  <cp:revision>7</cp:revision>
  <dc:subject>Øàáëîí PowerPoint</dc:subject>
  <dc:title>Слайд 1</dc:title>
</cp:coreProperties>
</file>