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9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083-BBFA-4B51-BA85-304B1391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F16-DCFF-42D3-8CA0-8A49AAF2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C69-46C5-4D5D-8679-E636B0D4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EB2-F4E0-4913-91A6-8D9FD447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2982-1EA6-4CB9-8B11-E2BB605C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BC0E-787F-484B-9530-1A5942C5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1021-B793-4CD3-AEBC-4FFFA74E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4E25-09F3-4B79-9908-6674D66E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0DFA-0DF0-4CBF-BA4E-55448678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A82B-3CAF-4F41-B8D8-CF4ACC26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0659-B24B-43ED-9B09-B4631233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D47-7554-4237-9A11-94B94B23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B5F9-0561-47AF-BC6A-230E0EFC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6E5B-1F1C-44E8-8FEF-CFD5F5D5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5C34-892A-4885-AC84-795C5EB4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A3FE-B867-4AFA-A27E-32726FCC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AEB8-6C98-4F37-9D91-0E9C4292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F64-0A45-4834-B287-649ED7A9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305-DCE7-425A-89A1-E292EC2D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B05-7482-4E62-9E9A-AB4DAAEC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5E2-51B7-411F-8EB6-AA8AE719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3FB-1668-4EF5-912D-4EC3029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258-CDA1-44CD-84B0-F662A94A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1C2-11A8-47D1-83FE-EAB98695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BB5C-DAED-44EB-B9B0-9418A5E99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99AE-CF22-41F4-B7E1-45E0DEC7E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ычаи народов ми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а Л.В. Зан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Йеме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сульманские женщины облачаются в длинные одежды, закрывающие их с ног до гловы, так, чтобы даже лица были закры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3343320" cy="321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508720" y="4221000"/>
            <a:ext cx="345600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азд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Голлан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декабря, в день св. Николая, Санта Клаус кладёт подарки в детские башмачки и забирает солому и морковку, приготовленную детьми для его ко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40360" y="1484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613480" y="3112920"/>
            <a:ext cx="35305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тал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января подарки разносит госпожа Бефана. Легенда гласит, что в день рождения Христа, она была занята и не могла его навестить, а теперь разыскивает его в каждом до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867280" y="549360"/>
            <a:ext cx="3029040" cy="2857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зраи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ень праздника Суккот (праздник радости и единства), люди сооружают у себя в саду маленькие хижины. Украшают их и накрывают стол. Это напоминает евреям жизнь их далёких пред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48360" y="115920"/>
            <a:ext cx="3095640" cy="2324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84720" y="191628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962680" y="4292640"/>
            <a:ext cx="31813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Мусульман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течение месяца РАМАДАН все мусульмане обязаны поститься. Днём им строжайше запрещается есть и пить. Когда рамадан заканчивается, они пируют и дарят друг другу подар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4048200" cy="295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4292640"/>
            <a:ext cx="4032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Росс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леница! В последнюю неделю перед Великим постом разрешается есть сливочное масло и мясные продукты. А также люди провожают зи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608360" y="1341360"/>
            <a:ext cx="4535640" cy="3568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788000" y="3959280"/>
            <a:ext cx="43560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му во всех странах празднуют Новый год по - разно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отличаются друг от друга стра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уда мы можем узнать об обычаях, праздниках, ритуалах других стран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читайте страницу 33 учеб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елитесь тем ,что нового, интересного узна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традь к учебнику, с.34 №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овить сообщение об обычаях какой-то стр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езентацию подготовила учитель начальных классов МБОУ «СОШ№31» г. Барнау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уравлёва Анна Михайл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знообразие пищи в мир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ди питаются, в основном, отварным рисом, либо лапшой с овощами, или рыбой, приправляют свою еду соевым соусом. Мяса едят очень ма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2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27640" y="3645000"/>
            <a:ext cx="3024000" cy="2852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227640" y="2276640"/>
            <a:ext cx="2916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тал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тальянцы любят спагетти (паста). Блюда из них готовят с самыми различными соус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2920" y="1989000"/>
            <a:ext cx="4038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40360" y="1628640"/>
            <a:ext cx="2133360" cy="251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31734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Герм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есь едят множество разных колбас и копчёностей, очень любят сосиски. Горячие сытные супы, маринованные овощи, ржаной хле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961080" cy="257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500720" y="4076640"/>
            <a:ext cx="2881080" cy="1901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7020000" y="3716280"/>
            <a:ext cx="2448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Афр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щины Африки выращивают зерно-просо,размалывают его в ступе, получается грубая мука. Из неё варят кашу, едят её с овощами и отрой приправ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356000" y="1413000"/>
            <a:ext cx="3333960" cy="245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8163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Росс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ссияне любят борщи, блины, пельмени, холодец, пир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211640" y="1341360"/>
            <a:ext cx="3095640" cy="215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020000" y="1484280"/>
            <a:ext cx="1904760" cy="1343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187280" y="4221000"/>
            <a:ext cx="38163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дежда в разных стран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н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нщины носят сари – шестиметровые куски шёлковой или хлопчатобумажной ткани, которые наматывают на себя, пододевая нижние юбки и короткие блуз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1598760" cy="374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372360" y="1413000"/>
            <a:ext cx="1761840" cy="260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020000" y="3789360"/>
            <a:ext cx="1638360" cy="277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508720" y="4076640"/>
            <a:ext cx="1719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Джунг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емена ходят в одних набедренных повязках. Часто они натирают кожу соком различных растений, чтобы отпугнуть насеком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00720" y="1341360"/>
            <a:ext cx="4319280" cy="2874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932360" y="400536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Шотланд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ужчины этой страны в национальные праздники надевают шотландские клетчатые юбки, на ногах – длинные гольфы и специальные туф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356000" y="2133720"/>
            <a:ext cx="518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3:52:39Z</dcterms:created>
  <dc:creator>1</dc:creator>
  <dc:description/>
  <dc:language>en-US</dc:language>
  <cp:lastModifiedBy>1</cp:lastModifiedBy>
  <dcterms:modified xsi:type="dcterms:W3CDTF">2013-03-26T12:17:08Z</dcterms:modified>
  <cp:revision>4</cp:revision>
  <dc:subject/>
  <dc:title>Обычпи народов мира</dc:title>
</cp:coreProperties>
</file>