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9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5DF5-441A-487C-82BB-86E5F2BA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EA14-EDBD-4C32-A71B-D769CAC8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655B-3D87-4999-ADB5-3F2E9563C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6A76-D13E-4E7B-843C-2D85478C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660E-6D93-415D-ACA0-95705E92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E979-6154-4EF0-ABB2-B8FA502C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0B1A-A281-499A-8FAD-892CF34E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476E-E0BA-4A8E-AA19-131DEB34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6F57-AA8E-4E07-81FE-9A2FE8CE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4226-2927-432E-9643-934DE1F9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36E1-213E-455F-BE0D-9FC4C798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CA68-617B-429E-AE5F-548E7C37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E51D-89B3-4AC1-A5DE-C092FEF2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B795-CE7A-42AA-813D-138527CB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56F1-EDCB-4363-978C-C898097F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203D-EF89-42C8-AD20-78DB8DA3E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2D2C-A158-41EA-B952-98BCE1401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C33B-3C48-41B7-A3F0-11FB92C0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220C-FD1C-4AA3-A5DE-BBAB1B0A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B23F-FC1D-49E6-B518-B74AA350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962A-D0AA-4739-9ED1-5E9108F3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90B7-A366-4C82-A8A1-671905BF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F744-D60F-41B9-9E72-8433D41B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4A31-9698-494C-815D-624CCDEB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DE60-58D1-4704-8323-53AA4D9036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6D8F-1799-4B90-9DF0-60D0DB1B98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Обычаи народов мир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стема Л.В. Занк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Йеме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усульманские женщины облачаются в длинные одежды, закрывающие их с ног до гловы, так, чтобы даже лица были закры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067280" y="1628640"/>
            <a:ext cx="3343320" cy="3210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5508720" y="4221000"/>
            <a:ext cx="3456000" cy="22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аздник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Голланд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 декабря, в день св. Николая, Санта Клаус кладёт подарки в детские башмачки и забирает солому и морковку, приготовленную детьми для его кон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140360" y="14842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613480" y="3112920"/>
            <a:ext cx="35305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Итал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 января подарки разносит госпожа Бефана. Легенда гласит, что в день рождения Христа, она была занята и не могла его навестить, а теперь разыскивает его в каждом дом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867280" y="549360"/>
            <a:ext cx="3029040" cy="28573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859280" y="3213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Израил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день праздника Суккот (праздник радости и единства), люди сооружают у себя в саду маленькие хижины. Украшают их и накрывают стол. Это напоминает евреям жизнь их далёких пред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048360" y="115920"/>
            <a:ext cx="3095640" cy="2324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284720" y="1916280"/>
            <a:ext cx="3097080" cy="2322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5962680" y="4292640"/>
            <a:ext cx="318132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Мусульман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течение месяца РАМАДАН все мусульмане обязаны поститься. Днём им строжайше запрещается есть и пить. Когда рамадан заканчивается, они пируют и дарят друг другу подар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859280" y="1413000"/>
            <a:ext cx="4048200" cy="2952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932360" y="4292640"/>
            <a:ext cx="403236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Росс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асленица! В последнюю неделю перед Великим постом разрешается есть сливочное масло и мясные продукты. А также люди провожают зим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608360" y="1341360"/>
            <a:ext cx="4535640" cy="3568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788000" y="3959280"/>
            <a:ext cx="435600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одумай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чему во всех странах празднуют Новый год по - разном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ем отличаются друг от друга стран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куда мы можем узнать об обычаях, праздниках, ритуалах других стран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читайте страницу 33 учебн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делитесь тем ,что нового, интересного узна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традь к учебнику, с.34 №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дготовить сообщение об обычаях какой-то стра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резентацию подготовила учитель начальных классов МБОУ «СОШ№31» г. Барнау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уравлёва Анна Михайло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Разнообразие пищи в мир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Кита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юди питаются, в основном, отварным рисом, либо лапшой с овощами, или рыбой, приправляют свою еду соевым соусом. Мяса едят очень мал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2920" y="19890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356000" y="155736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427640" y="3645000"/>
            <a:ext cx="3024000" cy="2852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227640" y="2276640"/>
            <a:ext cx="29163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Итал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тальянцы любят спагетти (паста). Блюда из них готовят с самыми различными соусам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42920" y="1989000"/>
            <a:ext cx="4038840" cy="4114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140360" y="1628640"/>
            <a:ext cx="2133360" cy="2519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796000" y="3645000"/>
            <a:ext cx="317340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Герма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десь едят множество разных колбас и копчёностей, очень любят сосиски. Горячие сытные супы, маринованные овощи, ржаной хле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716360" y="1413000"/>
            <a:ext cx="3961080" cy="2574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500720" y="4076640"/>
            <a:ext cx="2881080" cy="1901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7020000" y="3716280"/>
            <a:ext cx="244800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Афри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енщины Африки выращивают зерно-просо,размалывают его в ступе, получается грубая мука. Из неё варят кашу, едят её с овощами и отрой приправ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356000" y="1413000"/>
            <a:ext cx="3333960" cy="2457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932360" y="3789360"/>
            <a:ext cx="381636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Росс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оссияне любят борщи, блины, пельмени, холодец, пирог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211640" y="1341360"/>
            <a:ext cx="3095640" cy="2158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148360" y="342900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7020000" y="1484280"/>
            <a:ext cx="1904760" cy="1343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1187280" y="4221000"/>
            <a:ext cx="381636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Одежда в разных странах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Инд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енщины носят сари – шестиметровые куски шёлковой или хлопчатобумажной ткани, которые наматывают на себя, пододевая нижние юбки и короткие блуз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0" y="1557360"/>
            <a:ext cx="1598760" cy="3744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372360" y="1413000"/>
            <a:ext cx="1761840" cy="2600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7020000" y="3789360"/>
            <a:ext cx="1638360" cy="2771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5508720" y="4076640"/>
            <a:ext cx="171900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Джунгл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лемена ходят в одних набедренных повязках. Часто они натирают кожу соком различных растений, чтобы отпугнуть насеком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500720" y="1341360"/>
            <a:ext cx="4319280" cy="2874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4932360" y="4005360"/>
            <a:ext cx="3600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Шотланд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ужчины этой страны в национальные праздники надевают шотландские клетчатые юбки, на ногах – длинные гольфы и специальные туф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356000" y="2133720"/>
            <a:ext cx="51847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13:52:39Z</dcterms:created>
  <dc:creator>1</dc:creator>
  <dc:description/>
  <dc:language>en-US</dc:language>
  <cp:lastModifiedBy>1</cp:lastModifiedBy>
  <dcterms:modified xsi:type="dcterms:W3CDTF">2013-03-26T12:17:08Z</dcterms:modified>
  <cp:revision>4</cp:revision>
  <dc:subject/>
  <dc:title>Обычпи народов мира</dc:title>
</cp:coreProperties>
</file>