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AC6-27E1-4C0B-BB6D-6749B877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DF2-742C-4174-9A7A-FBBDB3A2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21B-15F5-4B72-ABE8-482B8090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9A4-56BD-4C80-B358-9567DDF5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551C-01BE-4E2C-A783-85C205F3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2281-1051-46BA-BB7D-CF5CD512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DFB0-E5D3-4FAB-B7FC-1927536A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E07-839D-4968-BC19-69F4ADB0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A0DA-AE70-47B8-938A-2D5699E2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E287-7829-40E5-9103-E5DD0534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B1CA-E8B0-427B-B9EE-4374F59C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4DA-3C40-4360-88EE-2B6B59D2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58E6-B290-4CCD-B949-1A8D8973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B947-B89E-4C29-89B6-DA5BAE9F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02E4-44E5-4C8C-B231-D793C482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709B-91C1-4873-96FC-4E5A79B4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2682-504B-4D96-B622-A29EEAA8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153-D6F9-41E9-8A7E-0B7BA741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F29-D314-4CA1-BCF6-3E5950B1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3D2-4BA7-4C1D-8BF2-C8DD0954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812-EAE1-4ED4-8B8E-BE622B0E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56E-3F27-481D-A458-203F919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526-F083-4BC1-9D4B-A37EF74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F94-FB7D-491B-93F4-0EACA6C1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51F5-E0CE-4330-9126-FD282113C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FE32-87E7-4B67-A562-982B02CFD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16320" y="693000"/>
            <a:ext cx="44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213372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Здравствуй, друг наш, светоф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673720" y="4660920"/>
            <a:ext cx="5190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ероприятия в рамках акции</a:t>
            </a:r>
            <a:br>
              <a:rPr sz="1800"/>
            </a:b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«МОСКВИЧИ С РОЖД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ЗА БЕЗОПАСНОСТЬ ДОРОЖНОГО ДВИЖЕНИЯ»</a:t>
            </a:r>
            <a:r>
              <a:rPr b="1" lang="en-US" sz="1800" spc="-1" strike="noStrike">
                <a:solidFill>
                  <a:srgbClr val="80008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Текст 2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881080" cy="2608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80000" y="134136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348000" y="1341360"/>
            <a:ext cx="2087640" cy="155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651640" y="3832200"/>
            <a:ext cx="3240000" cy="280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50920" y="1341360"/>
            <a:ext cx="2843280" cy="223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348000" y="5013360"/>
            <a:ext cx="2087640" cy="158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3708360" y="2924280"/>
            <a:ext cx="13827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@</cp:lastModifiedBy>
  <dcterms:modified xsi:type="dcterms:W3CDTF">2013-04-09T19:23:03Z</dcterms:modified>
  <cp:revision>14</cp:revision>
  <dc:subject/>
  <dc:title>Слайд 1</dc:title>
</cp:coreProperties>
</file>