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B1-D706-471F-A467-2E431021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472-C419-4CE2-97ED-B3CD4ACA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2DB-0759-4EE8-8631-6AE589BB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636-47FE-4B57-8FF5-96715D24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9B7-647C-43F0-883F-E593B091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D061-0244-4DFD-B5CB-AC449224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2F42-F1BC-4E66-8133-FAB942B4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778E-1689-49E3-AFA8-6C41C5D7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218E-2EEE-43F6-A6DB-74B29C9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282F-09D0-4011-B987-8D887BE3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4BA5-1729-4446-9500-284BD44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333-0EA7-47B3-88DA-21A1F4F6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523-CBE2-4A99-B1EF-C3D6DCFC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418F-CC5A-415E-B2A5-9A0639D1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6F35-BD8D-4E16-9CEC-6EFF8C8B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D776-2C26-41C8-B594-20B9A4E5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6694-0D32-4649-B6B3-09C8E710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2EF-B6F6-4816-BDF6-EFB8EF34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78C-6086-4801-B08E-A21DCB97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B7B-8713-4AF0-945F-1DFA0249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C4B-1A42-4609-9E8D-66D8B8AF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135-A041-45F5-AB0A-09A4D80B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114-FA30-4999-BA30-258F7924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D32-29EB-4C95-9A6C-5BBB3D0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90E7-8627-4418-8904-263108916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C075-EDB9-49BF-B1D3-1BE8348A2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16320" y="69300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213372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Здравствуй, друг наш, светоф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673720" y="4660920"/>
            <a:ext cx="5190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мероприятия в рамках акции</a:t>
            </a:r>
            <a:br>
              <a:rPr sz="1800"/>
            </a:b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«МОСКВИЧИ С РОЖД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Georgia"/>
              </a:rPr>
              <a:t>ЗА БЕЗОПАСНОСТЬ ДОРОЖНОГО ДВИЖЕНИЯ»</a:t>
            </a:r>
            <a:r>
              <a:rPr b="1" lang="en-US" sz="1800" spc="-1" strike="noStrike">
                <a:solidFill>
                  <a:srgbClr val="80008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Текст 2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2881080" cy="260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580000" y="134136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348000" y="1341360"/>
            <a:ext cx="2087640" cy="155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651640" y="3832200"/>
            <a:ext cx="3240000" cy="280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250920" y="1341360"/>
            <a:ext cx="2843280" cy="2238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3348000" y="5013360"/>
            <a:ext cx="2087640" cy="158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3708360" y="2924280"/>
            <a:ext cx="13827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@</cp:lastModifiedBy>
  <dcterms:modified xsi:type="dcterms:W3CDTF">2013-04-09T19:23:03Z</dcterms:modified>
  <cp:revision>14</cp:revision>
  <dc:subject/>
  <dc:title>Слайд 1</dc:title>
</cp:coreProperties>
</file>