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40F9-C72C-4333-85DC-3906809DD0FE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6F9F-A68F-4F7A-96C2-EEC69783A6F9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93C-2984-444E-B059-19D2CA17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48F-23D6-4F70-A35C-2AC74EB6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BF1-808E-48AD-91BD-6A574C0E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E8C-4FB3-4229-816A-97E14D56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E7B-AB8D-4233-9BC1-CF46293E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812-A334-4595-AA65-39A51BA8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F97-E240-41B0-BB48-6DA55264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B8F-8B3F-411B-8158-E22A41A4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84A-1A93-44DB-A50D-D83FB185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373-144F-4E38-9080-6E66A1E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516-C634-4191-B622-4B3E868D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0B3-A7B1-45F1-A07B-5283683D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3CCE-AD8B-4BAF-B1A6-F9EF64C31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49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" descr="stand_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:\Жанна\ФГОС\Рисунок1.jpg"/>
          <p:cNvPicPr/>
          <p:nvPr/>
        </p:nvPicPr>
        <p:blipFill>
          <a:blip r:embed="rId2"/>
          <a:stretch/>
        </p:blipFill>
        <p:spPr>
          <a:xfrm>
            <a:off x="468360" y="3314880"/>
            <a:ext cx="2450880" cy="3279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деятельности учителя, реализующего ФГОС начального общего 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4808520" y="4573440"/>
            <a:ext cx="368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готовил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рокина Жанна Васильевна, учитель начальных классов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аньшина Алла Германовна, учитель начальных класс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008160" y="623736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БОУ СОШ №15 г. Ковр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3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523880" y="743040"/>
            <a:ext cx="6309000" cy="125712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5"/>
          <p:cNvSpPr/>
          <p:nvPr/>
        </p:nvSpPr>
        <p:spPr>
          <a:xfrm>
            <a:off x="571680" y="2214720"/>
            <a:ext cx="36003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9"/>
          <p:cNvSpPr/>
          <p:nvPr/>
        </p:nvSpPr>
        <p:spPr>
          <a:xfrm>
            <a:off x="785880" y="3143160"/>
            <a:ext cx="36003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1"/>
          <p:cNvSpPr/>
          <p:nvPr/>
        </p:nvSpPr>
        <p:spPr>
          <a:xfrm>
            <a:off x="1000080" y="4000680"/>
            <a:ext cx="36003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2"/>
          <p:cNvSpPr/>
          <p:nvPr/>
        </p:nvSpPr>
        <p:spPr>
          <a:xfrm>
            <a:off x="1214280" y="4857840"/>
            <a:ext cx="36007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3"/>
          <p:cNvSpPr/>
          <p:nvPr/>
        </p:nvSpPr>
        <p:spPr>
          <a:xfrm>
            <a:off x="4643280" y="2714760"/>
            <a:ext cx="36007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ррекци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4"/>
          <p:cNvSpPr/>
          <p:nvPr/>
        </p:nvSpPr>
        <p:spPr>
          <a:xfrm>
            <a:off x="4929120" y="3571920"/>
            <a:ext cx="36003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ценк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5"/>
          <p:cNvSpPr/>
          <p:nvPr/>
        </p:nvSpPr>
        <p:spPr>
          <a:xfrm>
            <a:off x="5072040" y="4429080"/>
            <a:ext cx="36003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аморегуляц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4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347840" y="487440"/>
            <a:ext cx="6656400" cy="1859040"/>
          </a:xfrm>
          <a:prstGeom prst="rect">
            <a:avLst/>
          </a:prstGeom>
          <a:ln w="0">
            <a:noFill/>
          </a:ln>
        </p:spPr>
      </p:pic>
      <p:sp>
        <p:nvSpPr>
          <p:cNvPr id="148" name="Скругленный прямоугольник 5"/>
          <p:cNvSpPr/>
          <p:nvPr/>
        </p:nvSpPr>
        <p:spPr>
          <a:xfrm>
            <a:off x="571680" y="2428920"/>
            <a:ext cx="3600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253f"/>
                </a:solidFill>
                <a:latin typeface="Calibri"/>
              </a:rPr>
              <a:t>Общеучебны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6"/>
          <p:cNvSpPr/>
          <p:nvPr/>
        </p:nvSpPr>
        <p:spPr>
          <a:xfrm>
            <a:off x="4786200" y="2428920"/>
            <a:ext cx="3600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253f"/>
                </a:solidFill>
                <a:latin typeface="Calibri"/>
              </a:rPr>
              <a:t>Логическ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7"/>
          <p:cNvSpPr/>
          <p:nvPr/>
        </p:nvSpPr>
        <p:spPr>
          <a:xfrm>
            <a:off x="1500120" y="4143240"/>
            <a:ext cx="63579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253f"/>
                </a:solidFill>
                <a:latin typeface="Calibri"/>
              </a:rPr>
              <a:t>Постановка и решение проблем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9"/>
          <p:cNvCxnSpPr>
            <a:stCxn id="147" idx="2"/>
            <a:endCxn id="148" idx="0"/>
          </p:cNvCxnSpPr>
          <p:nvPr/>
        </p:nvCxnSpPr>
        <p:spPr>
          <a:xfrm flipH="1">
            <a:off x="2370960" y="1857240"/>
            <a:ext cx="2237400" cy="572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2" name="Прямая со стрелкой 14"/>
          <p:cNvCxnSpPr>
            <a:stCxn id="147" idx="2"/>
          </p:cNvCxnSpPr>
          <p:nvPr/>
        </p:nvCxnSpPr>
        <p:spPr>
          <a:xfrm>
            <a:off x="4605840" y="1857240"/>
            <a:ext cx="2180520" cy="572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3" name="Прямая со стрелкой 16"/>
          <p:cNvCxnSpPr>
            <a:stCxn id="147" idx="2"/>
            <a:endCxn id="150" idx="0"/>
          </p:cNvCxnSpPr>
          <p:nvPr/>
        </p:nvCxnSpPr>
        <p:spPr>
          <a:xfrm>
            <a:off x="4607280" y="1857240"/>
            <a:ext cx="1080" cy="2286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5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950760" y="743040"/>
            <a:ext cx="7498080" cy="1257120"/>
          </a:xfrm>
          <a:prstGeom prst="rect">
            <a:avLst/>
          </a:prstGeom>
          <a:ln w="0">
            <a:noFill/>
          </a:ln>
        </p:spPr>
      </p:pic>
      <p:sp>
        <p:nvSpPr>
          <p:cNvPr id="158" name="Скругленный прямоугольник 5"/>
          <p:cNvSpPr/>
          <p:nvPr/>
        </p:nvSpPr>
        <p:spPr>
          <a:xfrm>
            <a:off x="500040" y="2571840"/>
            <a:ext cx="40006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Планирова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8"/>
          <p:cNvSpPr/>
          <p:nvPr/>
        </p:nvSpPr>
        <p:spPr>
          <a:xfrm>
            <a:off x="4714920" y="3429000"/>
            <a:ext cx="400032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Постановка вопро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9"/>
          <p:cNvSpPr/>
          <p:nvPr/>
        </p:nvSpPr>
        <p:spPr>
          <a:xfrm>
            <a:off x="2286000" y="4929120"/>
            <a:ext cx="514368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Разрешение конфлик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11"/>
          <p:cNvCxnSpPr>
            <a:stCxn id="157" idx="2"/>
          </p:cNvCxnSpPr>
          <p:nvPr/>
        </p:nvCxnSpPr>
        <p:spPr>
          <a:xfrm flipH="1">
            <a:off x="4571640" y="1699920"/>
            <a:ext cx="108720" cy="32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2" name="Прямая со стрелкой 14"/>
          <p:cNvCxnSpPr>
            <a:stCxn id="157" idx="2"/>
          </p:cNvCxnSpPr>
          <p:nvPr/>
        </p:nvCxnSpPr>
        <p:spPr>
          <a:xfrm flipH="1">
            <a:off x="2356920" y="1699920"/>
            <a:ext cx="2323440" cy="8722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3" name="Прямая со стрелкой 16"/>
          <p:cNvCxnSpPr>
            <a:stCxn id="157" idx="2"/>
            <a:endCxn id="159" idx="0"/>
          </p:cNvCxnSpPr>
          <p:nvPr/>
        </p:nvCxnSpPr>
        <p:spPr>
          <a:xfrm>
            <a:off x="4678200" y="1700280"/>
            <a:ext cx="2037600" cy="1729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6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деятельности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тбор методов и технологий оценивания для создания внутришкольной системы оценки достижения планируем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выбор (или разработка) проверочных материалов для оценки предметных результатов (промежуточная аттестация и итоговые рабо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выбор (или составление) проверочных работ для выявления метапредметных результатов освоения ООП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внедрение такой формы накопительной оценки, как портфолио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бработка результатов промежуточной и итоговой аттестации в соответствии с нормами, определёнными ФГОС и внутришкольной системой оценки достижения планируем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70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нализ существующего оцени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Малая информативность (оценивание знаний академического характер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Не позволяет фиксировать незначительные про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Расплывчатость критери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остои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Возможность совмещения (предоставления в едином формате) текущих итоговых отме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78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Требования к системе оцени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амооценка и самоанализ ученика достиж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Использование критериальной системы оцени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Разнообразие видов, форм, методов, и объектов оцени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внешняя, внутренняя оц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убъективные и объективные метод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интегральная оц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дифференцированная оц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Оценивание как образовательных РЕЗУЛЬТАТОВ,  так и ПРОЦЕССА их формирования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Управляющая кнопка: домой 1"/>
          <p:cNvSpPr/>
          <p:nvPr/>
        </p:nvSpPr>
        <p:spPr>
          <a:xfrm>
            <a:off x="8263080" y="611352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12324" y="3837"/>
                </a:moveTo>
                <a:lnTo>
                  <a:pt x="14900" y="6448"/>
                </a:lnTo>
                <a:lnTo>
                  <a:pt x="14900" y="4707"/>
                </a:lnTo>
                <a:lnTo>
                  <a:pt x="16676" y="4707"/>
                </a:lnTo>
                <a:lnTo>
                  <a:pt x="16676" y="8224"/>
                </a:lnTo>
                <a:lnTo>
                  <a:pt x="19287" y="10800"/>
                </a:lnTo>
                <a:lnTo>
                  <a:pt x="17633" y="10800"/>
                </a:lnTo>
                <a:lnTo>
                  <a:pt x="17633" y="17989"/>
                </a:lnTo>
                <a:lnTo>
                  <a:pt x="7015" y="17989"/>
                </a:lnTo>
                <a:lnTo>
                  <a:pt x="7015" y="10800"/>
                </a:lnTo>
                <a:lnTo>
                  <a:pt x="5361" y="10800"/>
                </a:lnTo>
                <a:close/>
              </a:path>
              <a:path fill="darkenLess" w="24648" h="21600">
                <a:moveTo>
                  <a:pt x="14900" y="6448"/>
                </a:moveTo>
                <a:lnTo>
                  <a:pt x="14900" y="4707"/>
                </a:lnTo>
                <a:lnTo>
                  <a:pt x="16676" y="4707"/>
                </a:lnTo>
                <a:lnTo>
                  <a:pt x="16676" y="8224"/>
                </a:lnTo>
                <a:close/>
              </a:path>
              <a:path fill="darkenLess" w="24648" h="21600">
                <a:moveTo>
                  <a:pt x="11402" y="14299"/>
                </a:moveTo>
                <a:lnTo>
                  <a:pt x="13247" y="14299"/>
                </a:lnTo>
                <a:lnTo>
                  <a:pt x="13247" y="17989"/>
                </a:lnTo>
                <a:lnTo>
                  <a:pt x="17633" y="17989"/>
                </a:lnTo>
                <a:lnTo>
                  <a:pt x="17633" y="10800"/>
                </a:lnTo>
                <a:lnTo>
                  <a:pt x="7015" y="10800"/>
                </a:lnTo>
                <a:lnTo>
                  <a:pt x="7015" y="17989"/>
                </a:lnTo>
                <a:lnTo>
                  <a:pt x="1140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8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труктура ООП Н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Целевой разде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ояснительная записка к основной образовательной программе началь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ланируемые результаты освоения обучающимися основной образовательной программы началь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истема оценки достижения планируемых результатов освоения основной образовательной программы началь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89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труктура ООП Н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II.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одержательный раз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а формирования универсальных учебных действий у обучающихся на ступени началь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ы отдельных учебных предметов, курсов и курсов внеурочной деятельности (прило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а духовно-нравственного развития, воспитания обучающихся на ступени началь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а формирования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а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9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труктура ООП Н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2400" y="1196640"/>
            <a:ext cx="81802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III.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Организационный разд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Учебный план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лан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истема условий реализации основной образовательной программы в соответствии с требованиями Стандар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99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Направления В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2400" y="1196640"/>
            <a:ext cx="81802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Спортивно-оздоро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Социальное </a:t>
            </a:r>
            <a:r>
              <a:rPr b="0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Общеинтеллектуа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Общекультур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Духовно-нравственн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0" descr="Рисунок1.png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3"/>
          <p:cNvGrpSpPr/>
          <p:nvPr/>
        </p:nvGrpSpPr>
        <p:grpSpPr>
          <a:xfrm>
            <a:off x="68400" y="-534960"/>
            <a:ext cx="9075600" cy="7392600"/>
            <a:chOff x="68400" y="-534960"/>
            <a:chExt cx="9075600" cy="7392600"/>
          </a:xfrm>
        </p:grpSpPr>
        <p:sp>
          <p:nvSpPr>
            <p:cNvPr id="58" name="Rectangle 4"/>
            <p:cNvSpPr/>
            <p:nvPr/>
          </p:nvSpPr>
          <p:spPr>
            <a:xfrm>
              <a:off x="68400" y="-53496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9840" y="-22500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71280"/>
            <a:ext cx="36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4003"/>
                </a:solidFill>
                <a:latin typeface="Arial"/>
              </a:rPr>
              <a:t>Цель российского обра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00000" y="148428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39640" y="1125360"/>
            <a:ext cx="36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лноценное формирование и развитие способностей ученика самостоятельно очерчивать учебную проблему, формулировать алгоритм ее решения, контролировать процесс и оценивать полученный результа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184720" y="1484280"/>
            <a:ext cx="39592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адача – формирование и развитие мобильной, самореализующейся личности, способной к обучению на протяжении всей жизн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003640" y="73080"/>
            <a:ext cx="36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4003"/>
                </a:solidFill>
                <a:latin typeface="Arial"/>
              </a:rPr>
              <a:t>Задача образовательн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0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деятельности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разработать для своего класса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программу развития и воспитания обучающихся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, которая будет направлена на становление гражданской идентичности детей, укрепление их физического и психологического здоровья и т.д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выявить и отобрать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пособы и средства формирования универсальных учебных действий учащихся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 (проанализировать учебники, отобрать систему заданий и т.д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подготовить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рабочие программы 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по учебным предметам (курсам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отобрать и освоить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образовательные технологии деятельностного типа 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(например, в Образовательной системе «Школа 2100» это проблемно-диалогическая технология, технология формирования типа правильной читательской деятельности, технология оценивания образовательных достижений, проектная технолог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Данная задача прописана в новых должностных инструкциях как должностная обязанность учи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Управляющая кнопка: домой 1"/>
          <p:cNvSpPr/>
          <p:nvPr/>
        </p:nvSpPr>
        <p:spPr>
          <a:xfrm>
            <a:off x="8244000" y="6093000"/>
            <a:ext cx="595080" cy="525240"/>
          </a:xfrm>
          <a:custGeom>
            <a:avLst/>
            <a:gdLst>
              <a:gd name="textAreaLeft" fmla="*/ 33840 w 595080"/>
              <a:gd name="textAreaRight" fmla="*/ 561240 w 595080"/>
              <a:gd name="textAreaTop" fmla="*/ 33840 h 525240"/>
              <a:gd name="textAreaBottom" fmla="*/ 491400 h 525240"/>
            </a:gdLst>
            <a:ahLst/>
            <a:rect l="textAreaLeft" t="textAreaTop" r="textAreaRight" b="textAreaBottom"/>
            <a:pathLst>
              <a:path w="24470" h="21600">
                <a:moveTo>
                  <a:pt x="0" y="0"/>
                </a:moveTo>
                <a:lnTo>
                  <a:pt x="24470" y="0"/>
                </a:lnTo>
                <a:lnTo>
                  <a:pt x="24470" y="21600"/>
                </a:lnTo>
                <a:lnTo>
                  <a:pt x="0" y="21600"/>
                </a:lnTo>
                <a:close/>
              </a:path>
              <a:path fill="lightenLess" w="24470" h="21600">
                <a:moveTo>
                  <a:pt x="0" y="0"/>
                </a:moveTo>
                <a:lnTo>
                  <a:pt x="24470" y="0"/>
                </a:lnTo>
                <a:lnTo>
                  <a:pt x="23070" y="1400"/>
                </a:lnTo>
                <a:lnTo>
                  <a:pt x="1400" y="1400"/>
                </a:lnTo>
                <a:close/>
              </a:path>
              <a:path fill="darken" w="24470" h="21600">
                <a:moveTo>
                  <a:pt x="24470" y="0"/>
                </a:moveTo>
                <a:lnTo>
                  <a:pt x="24470" y="21600"/>
                </a:lnTo>
                <a:lnTo>
                  <a:pt x="23070" y="20200"/>
                </a:lnTo>
                <a:lnTo>
                  <a:pt x="23070" y="1400"/>
                </a:lnTo>
                <a:close/>
              </a:path>
              <a:path fill="darkenLess" w="24470" h="21600">
                <a:moveTo>
                  <a:pt x="24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0" y="20200"/>
                </a:lnTo>
                <a:close/>
              </a:path>
              <a:path fill="lighten" w="24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0" h="21600">
                <a:moveTo>
                  <a:pt x="12235" y="3837"/>
                </a:moveTo>
                <a:lnTo>
                  <a:pt x="14811" y="6448"/>
                </a:lnTo>
                <a:lnTo>
                  <a:pt x="14811" y="4707"/>
                </a:lnTo>
                <a:lnTo>
                  <a:pt x="16587" y="4707"/>
                </a:lnTo>
                <a:lnTo>
                  <a:pt x="16587" y="8224"/>
                </a:lnTo>
                <a:lnTo>
                  <a:pt x="19198" y="10800"/>
                </a:lnTo>
                <a:lnTo>
                  <a:pt x="17544" y="10800"/>
                </a:lnTo>
                <a:lnTo>
                  <a:pt x="17544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2" y="10800"/>
                </a:lnTo>
                <a:close/>
              </a:path>
              <a:path fill="darkenLess" w="24470" h="21600">
                <a:moveTo>
                  <a:pt x="14811" y="6448"/>
                </a:moveTo>
                <a:lnTo>
                  <a:pt x="14811" y="4707"/>
                </a:lnTo>
                <a:lnTo>
                  <a:pt x="16587" y="4707"/>
                </a:lnTo>
                <a:lnTo>
                  <a:pt x="16587" y="8224"/>
                </a:lnTo>
                <a:close/>
              </a:path>
              <a:path fill="darkenLess" w="24470" h="21600">
                <a:moveTo>
                  <a:pt x="11312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4" y="17989"/>
                </a:lnTo>
                <a:lnTo>
                  <a:pt x="17544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10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деятельности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привести список учебников в соответствие с Федеральным перечн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проверить всё используемое оборудование и проч. (в том числе имеющуюся в кабинете литературу) на предмет его соответствия нормам СанПиНа и другим документ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создать комфортную развивающую образовательную среду на базе учебного кабин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Управляющая кнопка: домой 1"/>
          <p:cNvSpPr/>
          <p:nvPr/>
        </p:nvSpPr>
        <p:spPr>
          <a:xfrm>
            <a:off x="8244000" y="6093000"/>
            <a:ext cx="595080" cy="525240"/>
          </a:xfrm>
          <a:custGeom>
            <a:avLst/>
            <a:gdLst>
              <a:gd name="textAreaLeft" fmla="*/ 33840 w 595080"/>
              <a:gd name="textAreaRight" fmla="*/ 561240 w 595080"/>
              <a:gd name="textAreaTop" fmla="*/ 33840 h 525240"/>
              <a:gd name="textAreaBottom" fmla="*/ 491400 h 525240"/>
            </a:gdLst>
            <a:ahLst/>
            <a:rect l="textAreaLeft" t="textAreaTop" r="textAreaRight" b="textAreaBottom"/>
            <a:pathLst>
              <a:path w="24470" h="21600">
                <a:moveTo>
                  <a:pt x="0" y="0"/>
                </a:moveTo>
                <a:lnTo>
                  <a:pt x="24470" y="0"/>
                </a:lnTo>
                <a:lnTo>
                  <a:pt x="24470" y="21600"/>
                </a:lnTo>
                <a:lnTo>
                  <a:pt x="0" y="21600"/>
                </a:lnTo>
                <a:close/>
              </a:path>
              <a:path fill="lightenLess" w="24470" h="21600">
                <a:moveTo>
                  <a:pt x="0" y="0"/>
                </a:moveTo>
                <a:lnTo>
                  <a:pt x="24470" y="0"/>
                </a:lnTo>
                <a:lnTo>
                  <a:pt x="23070" y="1400"/>
                </a:lnTo>
                <a:lnTo>
                  <a:pt x="1400" y="1400"/>
                </a:lnTo>
                <a:close/>
              </a:path>
              <a:path fill="darken" w="24470" h="21600">
                <a:moveTo>
                  <a:pt x="24470" y="0"/>
                </a:moveTo>
                <a:lnTo>
                  <a:pt x="24470" y="21600"/>
                </a:lnTo>
                <a:lnTo>
                  <a:pt x="23070" y="20200"/>
                </a:lnTo>
                <a:lnTo>
                  <a:pt x="23070" y="1400"/>
                </a:lnTo>
                <a:close/>
              </a:path>
              <a:path fill="darkenLess" w="24470" h="21600">
                <a:moveTo>
                  <a:pt x="24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0" y="20200"/>
                </a:lnTo>
                <a:close/>
              </a:path>
              <a:path fill="lighten" w="24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0" h="21600">
                <a:moveTo>
                  <a:pt x="12235" y="3837"/>
                </a:moveTo>
                <a:lnTo>
                  <a:pt x="14811" y="6448"/>
                </a:lnTo>
                <a:lnTo>
                  <a:pt x="14811" y="4707"/>
                </a:lnTo>
                <a:lnTo>
                  <a:pt x="16587" y="4707"/>
                </a:lnTo>
                <a:lnTo>
                  <a:pt x="16587" y="8224"/>
                </a:lnTo>
                <a:lnTo>
                  <a:pt x="19198" y="10800"/>
                </a:lnTo>
                <a:lnTo>
                  <a:pt x="17544" y="10800"/>
                </a:lnTo>
                <a:lnTo>
                  <a:pt x="17544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2" y="10800"/>
                </a:lnTo>
                <a:close/>
              </a:path>
              <a:path fill="darkenLess" w="24470" h="21600">
                <a:moveTo>
                  <a:pt x="14811" y="6448"/>
                </a:moveTo>
                <a:lnTo>
                  <a:pt x="14811" y="4707"/>
                </a:lnTo>
                <a:lnTo>
                  <a:pt x="16587" y="4707"/>
                </a:lnTo>
                <a:lnTo>
                  <a:pt x="16587" y="8224"/>
                </a:lnTo>
                <a:close/>
              </a:path>
              <a:path fill="darkenLess" w="24470" h="21600">
                <a:moveTo>
                  <a:pt x="11312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4" y="17989"/>
                </a:lnTo>
                <a:lnTo>
                  <a:pt x="17544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16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2"/>
          <p:cNvSpPr/>
          <p:nvPr/>
        </p:nvSpPr>
        <p:spPr>
          <a:xfrm>
            <a:off x="1042920" y="47628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4003"/>
                </a:solidFill>
                <a:latin typeface="Arial"/>
              </a:rPr>
              <a:t>Направления коррекционной работ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971640" y="234936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иагностическо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онсультативно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нформационно-просветительско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Управляющая кнопка: домой 1"/>
          <p:cNvSpPr/>
          <p:nvPr/>
        </p:nvSpPr>
        <p:spPr>
          <a:xfrm>
            <a:off x="8172360" y="6021360"/>
            <a:ext cx="666720" cy="596880"/>
          </a:xfrm>
          <a:custGeom>
            <a:avLst/>
            <a:gdLst>
              <a:gd name="textAreaLeft" fmla="*/ 38520 w 666720"/>
              <a:gd name="textAreaRight" fmla="*/ 628200 w 666720"/>
              <a:gd name="textAreaTop" fmla="*/ 38520 h 596880"/>
              <a:gd name="textAreaBottom" fmla="*/ 558360 h 596880"/>
            </a:gdLst>
            <a:ahLst/>
            <a:rect l="textAreaLeft" t="textAreaTop" r="textAreaRight" b="textAreaBottom"/>
            <a:pathLst>
              <a:path w="24126" h="21600">
                <a:moveTo>
                  <a:pt x="0" y="0"/>
                </a:moveTo>
                <a:lnTo>
                  <a:pt x="24126" y="0"/>
                </a:lnTo>
                <a:lnTo>
                  <a:pt x="24126" y="21600"/>
                </a:lnTo>
                <a:lnTo>
                  <a:pt x="0" y="21600"/>
                </a:lnTo>
                <a:close/>
              </a:path>
              <a:path fill="lightenLess" w="24126" h="21600">
                <a:moveTo>
                  <a:pt x="0" y="0"/>
                </a:moveTo>
                <a:lnTo>
                  <a:pt x="24126" y="0"/>
                </a:lnTo>
                <a:lnTo>
                  <a:pt x="22726" y="1400"/>
                </a:lnTo>
                <a:lnTo>
                  <a:pt x="1400" y="1400"/>
                </a:lnTo>
                <a:close/>
              </a:path>
              <a:path fill="darken" w="24126" h="21600">
                <a:moveTo>
                  <a:pt x="24126" y="0"/>
                </a:moveTo>
                <a:lnTo>
                  <a:pt x="24126" y="21600"/>
                </a:lnTo>
                <a:lnTo>
                  <a:pt x="22726" y="20200"/>
                </a:lnTo>
                <a:lnTo>
                  <a:pt x="22726" y="1400"/>
                </a:lnTo>
                <a:close/>
              </a:path>
              <a:path fill="darkenLess" w="24126" h="21600">
                <a:moveTo>
                  <a:pt x="24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6" y="20200"/>
                </a:lnTo>
                <a:close/>
              </a:path>
              <a:path fill="lighten" w="24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26" h="21600">
                <a:moveTo>
                  <a:pt x="12063" y="3837"/>
                </a:moveTo>
                <a:lnTo>
                  <a:pt x="14639" y="6448"/>
                </a:lnTo>
                <a:lnTo>
                  <a:pt x="14639" y="4707"/>
                </a:lnTo>
                <a:lnTo>
                  <a:pt x="16415" y="4707"/>
                </a:lnTo>
                <a:lnTo>
                  <a:pt x="16415" y="8224"/>
                </a:lnTo>
                <a:lnTo>
                  <a:pt x="19026" y="10800"/>
                </a:lnTo>
                <a:lnTo>
                  <a:pt x="17372" y="10800"/>
                </a:lnTo>
                <a:lnTo>
                  <a:pt x="17372" y="17989"/>
                </a:lnTo>
                <a:lnTo>
                  <a:pt x="6754" y="17989"/>
                </a:lnTo>
                <a:lnTo>
                  <a:pt x="6754" y="10800"/>
                </a:lnTo>
                <a:lnTo>
                  <a:pt x="5100" y="10800"/>
                </a:lnTo>
                <a:close/>
              </a:path>
              <a:path fill="darkenLess" w="24126" h="21600">
                <a:moveTo>
                  <a:pt x="14639" y="6448"/>
                </a:moveTo>
                <a:lnTo>
                  <a:pt x="14639" y="4707"/>
                </a:lnTo>
                <a:lnTo>
                  <a:pt x="16415" y="4707"/>
                </a:lnTo>
                <a:lnTo>
                  <a:pt x="16415" y="8224"/>
                </a:lnTo>
                <a:close/>
              </a:path>
              <a:path fill="darkenLess" w="24126" h="21600">
                <a:moveTo>
                  <a:pt x="11140" y="14299"/>
                </a:moveTo>
                <a:lnTo>
                  <a:pt x="12986" y="14299"/>
                </a:lnTo>
                <a:lnTo>
                  <a:pt x="12986" y="17989"/>
                </a:lnTo>
                <a:lnTo>
                  <a:pt x="17372" y="17989"/>
                </a:lnTo>
                <a:lnTo>
                  <a:pt x="17372" y="10800"/>
                </a:lnTo>
                <a:lnTo>
                  <a:pt x="6754" y="10800"/>
                </a:lnTo>
                <a:lnTo>
                  <a:pt x="6754" y="17989"/>
                </a:lnTo>
                <a:lnTo>
                  <a:pt x="11140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0" descr="Рисунок1.png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3"/>
          <p:cNvGrpSpPr/>
          <p:nvPr/>
        </p:nvGrpSpPr>
        <p:grpSpPr>
          <a:xfrm>
            <a:off x="68400" y="-534960"/>
            <a:ext cx="9075600" cy="7392600"/>
            <a:chOff x="68400" y="-534960"/>
            <a:chExt cx="9075600" cy="7392600"/>
          </a:xfrm>
        </p:grpSpPr>
        <p:sp>
          <p:nvSpPr>
            <p:cNvPr id="223" name="Rectangle 4"/>
            <p:cNvSpPr/>
            <p:nvPr/>
          </p:nvSpPr>
          <p:spPr>
            <a:xfrm>
              <a:off x="68400" y="-53496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339840" y="-22500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900000" y="148428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1014120" y="332280"/>
            <a:ext cx="6791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«Тот, кто, обращаясь к старому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пособен открывать новое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 шагать в ногу со временем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остоин быть учителем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онфу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400" y="-534960"/>
            <a:ext cx="9075600" cy="7392600"/>
            <a:chOff x="68400" y="-534960"/>
            <a:chExt cx="9075600" cy="7392600"/>
          </a:xfrm>
        </p:grpSpPr>
        <p:sp>
          <p:nvSpPr>
            <p:cNvPr id="229" name="Rectangle 4"/>
            <p:cNvSpPr/>
            <p:nvPr/>
          </p:nvSpPr>
          <p:spPr>
            <a:xfrm>
              <a:off x="68400" y="-53496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339840" y="-22500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900000" y="148428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997920" y="26244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писок используемых ресур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0680" y="845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.В. Бунеева, О.В. Чиндилова. Задачи педагогической деятельности учителя, реализующего ФГОС начального общего образования. «НШ плюс до и после» №3, 2011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ский коллектив: Фирсов В. Рекомендации по проектированию учебного процесса, направленного на достижение требований стандарта к результатам освоения основных образовательных программ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d2.uchebalegko.ru/docs/107500/index-1825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А. Вахрушев, Д.Д. Данилов  Как готовить учителей к введению ФГОС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chool2100.r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67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озунг Стандар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1360" y="2205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Научить учи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Школы:  корректирующ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Учителя : направляющ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stand_"/>
          <p:cNvPicPr/>
          <p:nvPr/>
        </p:nvPicPr>
        <p:blipFill>
          <a:blip r:embed="rId1"/>
          <a:stretch/>
        </p:blipFill>
        <p:spPr>
          <a:xfrm>
            <a:off x="4278240" y="0"/>
            <a:ext cx="48657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7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азличия стандар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андарты </a:t>
            </a: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поко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фиксируют достигнутое состояние начального образования и его 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андарты </a:t>
            </a: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поко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пределяют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три группы требований к основной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бразовательной программе начального общего образования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83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Тр + Тс + Ту – новая формула стандартов</a:t>
            </a: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23"/>
          <p:cNvSpPr/>
          <p:nvPr/>
        </p:nvSpPr>
        <p:spPr>
          <a:xfrm>
            <a:off x="468360" y="1773360"/>
            <a:ext cx="7877160" cy="4398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9"/>
          <p:cNvSpPr/>
          <p:nvPr/>
        </p:nvSpPr>
        <p:spPr>
          <a:xfrm>
            <a:off x="2716200" y="1862280"/>
            <a:ext cx="3713040" cy="1782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 результатам осво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разовательных програм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8"/>
          <p:cNvSpPr/>
          <p:nvPr/>
        </p:nvSpPr>
        <p:spPr>
          <a:xfrm>
            <a:off x="1042920" y="3645000"/>
            <a:ext cx="367020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К структуре основных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образовательных програм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4722840" y="3621240"/>
            <a:ext cx="3673440" cy="1873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К условиям реализ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основны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образовательных програм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0" descr="Рисунок1.png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3"/>
          <p:cNvGrpSpPr/>
          <p:nvPr/>
        </p:nvGrpSpPr>
        <p:grpSpPr>
          <a:xfrm>
            <a:off x="68400" y="-534960"/>
            <a:ext cx="9075600" cy="7392600"/>
            <a:chOff x="68400" y="-534960"/>
            <a:chExt cx="9075600" cy="7392600"/>
          </a:xfrm>
        </p:grpSpPr>
        <p:sp>
          <p:nvSpPr>
            <p:cNvPr id="92" name="Rectangle 4"/>
            <p:cNvSpPr/>
            <p:nvPr/>
          </p:nvSpPr>
          <p:spPr>
            <a:xfrm>
              <a:off x="68400" y="-53496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339840" y="-22500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4"/>
          <p:cNvCxnSpPr/>
          <p:nvPr/>
        </p:nvCxnSpPr>
        <p:spPr>
          <a:xfrm flipH="1">
            <a:off x="1907640" y="549000"/>
            <a:ext cx="2988720" cy="4309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6" name="Прямая со стрелкой 17"/>
          <p:cNvCxnSpPr/>
          <p:nvPr/>
        </p:nvCxnSpPr>
        <p:spPr>
          <a:xfrm>
            <a:off x="4932360" y="549000"/>
            <a:ext cx="2464560" cy="5180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97" name="Text Box 9"/>
          <p:cNvSpPr/>
          <p:nvPr/>
        </p:nvSpPr>
        <p:spPr>
          <a:xfrm>
            <a:off x="1258920" y="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4003"/>
                </a:solidFill>
                <a:latin typeface="Arial"/>
              </a:rPr>
              <a:t>Образовательные</a:t>
            </a:r>
            <a:r>
              <a:rPr b="1" lang="ru-RU" sz="3200" spc="-1" strike="noStrike">
                <a:solidFill>
                  <a:srgbClr val="c9400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94003"/>
                </a:solidFill>
                <a:latin typeface="Arial"/>
              </a:rPr>
              <a:t>результа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900000" y="148428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1125360"/>
            <a:ext cx="3600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Не подлежат итоговому контролю и аттестаци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Ценностные ориент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оциальные чув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Личностные кач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184720" y="1125360"/>
            <a:ext cx="395928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Подлежат проверке и итоговой аттестаци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редметные ЗУ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Метапредметные результаты-коммуникативные, регулятивные, познавательные УУ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3"/>
          <p:cNvGrpSpPr/>
          <p:nvPr/>
        </p:nvGrpSpPr>
        <p:grpSpPr>
          <a:xfrm>
            <a:off x="68400" y="-531720"/>
            <a:ext cx="9075600" cy="7392600"/>
            <a:chOff x="68400" y="-531720"/>
            <a:chExt cx="9075600" cy="7392600"/>
          </a:xfrm>
        </p:grpSpPr>
        <p:sp>
          <p:nvSpPr>
            <p:cNvPr id="102" name="Rectangle 4"/>
            <p:cNvSpPr/>
            <p:nvPr/>
          </p:nvSpPr>
          <p:spPr>
            <a:xfrm>
              <a:off x="68400" y="-53172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339840" y="-22176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extBox 11" descr=""/>
          <p:cNvPicPr/>
          <p:nvPr/>
        </p:nvPicPr>
        <p:blipFill>
          <a:blip r:embed="rId1"/>
          <a:stretch/>
        </p:blipFill>
        <p:spPr>
          <a:xfrm>
            <a:off x="73080" y="298440"/>
            <a:ext cx="8974080" cy="1231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487440" y="1484280"/>
            <a:ext cx="413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пособность субъ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  саморазвитию и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амосовершенствовани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утем сознательног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и активног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рисвоения новог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оциального опы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859280" y="1341360"/>
            <a:ext cx="3786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овокупность способов действия учащегося, обеспечивающих его способность к самостоятельному усвоению новых знаний и ум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4"/>
          <p:cNvCxnSpPr/>
          <p:nvPr/>
        </p:nvCxnSpPr>
        <p:spPr>
          <a:xfrm flipH="1">
            <a:off x="1907280" y="1052640"/>
            <a:ext cx="2652120" cy="38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09" name="Прямая со стрелкой 17"/>
          <p:cNvCxnSpPr>
            <a:stCxn id="105" idx="2"/>
          </p:cNvCxnSpPr>
          <p:nvPr/>
        </p:nvCxnSpPr>
        <p:spPr>
          <a:xfrm>
            <a:off x="4572000" y="1052640"/>
            <a:ext cx="2643840" cy="405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11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565440" y="3219480"/>
            <a:ext cx="2097000" cy="144468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6" descr=""/>
          <p:cNvPicPr/>
          <p:nvPr/>
        </p:nvPicPr>
        <p:blipFill>
          <a:blip r:embed="rId2"/>
          <a:stretch/>
        </p:blipFill>
        <p:spPr>
          <a:xfrm>
            <a:off x="2567160" y="1352520"/>
            <a:ext cx="430992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7" descr=""/>
          <p:cNvPicPr/>
          <p:nvPr/>
        </p:nvPicPr>
        <p:blipFill>
          <a:blip r:embed="rId3"/>
          <a:stretch/>
        </p:blipFill>
        <p:spPr>
          <a:xfrm>
            <a:off x="2359080" y="5022720"/>
            <a:ext cx="4572000" cy="1438560"/>
          </a:xfrm>
          <a:prstGeom prst="rect">
            <a:avLst/>
          </a:prstGeom>
          <a:ln w="0">
            <a:noFill/>
          </a:ln>
        </p:spPr>
      </p:pic>
      <p:pic>
        <p:nvPicPr>
          <p:cNvPr id="116" name="Скругленный прямоугольник 8" descr=""/>
          <p:cNvPicPr/>
          <p:nvPr/>
        </p:nvPicPr>
        <p:blipFill>
          <a:blip r:embed="rId4"/>
          <a:stretch/>
        </p:blipFill>
        <p:spPr>
          <a:xfrm>
            <a:off x="5943600" y="2786040"/>
            <a:ext cx="297504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Скругленный прямоугольник 9" descr=""/>
          <p:cNvPicPr/>
          <p:nvPr/>
        </p:nvPicPr>
        <p:blipFill>
          <a:blip r:embed="rId5"/>
          <a:stretch/>
        </p:blipFill>
        <p:spPr>
          <a:xfrm>
            <a:off x="401760" y="2719440"/>
            <a:ext cx="274320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18" name="Прямая со стрелкой 13"/>
          <p:cNvCxnSpPr/>
          <p:nvPr/>
        </p:nvCxnSpPr>
        <p:spPr>
          <a:xfrm flipH="1">
            <a:off x="4571280" y="4292280"/>
            <a:ext cx="1080" cy="78660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9" name="Прямая со стрелкой 17"/>
          <p:cNvCxnSpPr/>
          <p:nvPr/>
        </p:nvCxnSpPr>
        <p:spPr>
          <a:xfrm flipV="1">
            <a:off x="5579640" y="3572640"/>
            <a:ext cx="429480" cy="10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Прямая со стрелкой 19"/>
          <p:cNvCxnSpPr/>
          <p:nvPr/>
        </p:nvCxnSpPr>
        <p:spPr>
          <a:xfrm flipH="1">
            <a:off x="3058560" y="3499200"/>
            <a:ext cx="500760" cy="10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21" name="TextBox 14" descr=""/>
          <p:cNvPicPr/>
          <p:nvPr/>
        </p:nvPicPr>
        <p:blipFill>
          <a:blip r:embed="rId6"/>
          <a:stretch/>
        </p:blipFill>
        <p:spPr>
          <a:xfrm>
            <a:off x="622440" y="6480"/>
            <a:ext cx="7851600" cy="1803240"/>
          </a:xfrm>
          <a:prstGeom prst="rect">
            <a:avLst/>
          </a:prstGeom>
          <a:ln w="0">
            <a:noFill/>
          </a:ln>
        </p:spPr>
      </p:pic>
      <p:cxnSp>
        <p:nvCxnSpPr>
          <p:cNvPr id="122" name="Прямая со стрелкой 13"/>
          <p:cNvCxnSpPr/>
          <p:nvPr/>
        </p:nvCxnSpPr>
        <p:spPr>
          <a:xfrm flipV="1">
            <a:off x="4500360" y="2420640"/>
            <a:ext cx="113400" cy="83880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2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523880" y="743040"/>
            <a:ext cx="6242040" cy="125712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5"/>
          <p:cNvSpPr/>
          <p:nvPr/>
        </p:nvSpPr>
        <p:spPr>
          <a:xfrm>
            <a:off x="571680" y="2428920"/>
            <a:ext cx="3600360" cy="9144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амоопредел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6"/>
          <p:cNvSpPr/>
          <p:nvPr/>
        </p:nvSpPr>
        <p:spPr>
          <a:xfrm>
            <a:off x="4572000" y="3214800"/>
            <a:ext cx="39574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мыслообразова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7"/>
          <p:cNvSpPr/>
          <p:nvPr/>
        </p:nvSpPr>
        <p:spPr>
          <a:xfrm>
            <a:off x="1500120" y="4714920"/>
            <a:ext cx="4680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381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равственно-этическая ориент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9"/>
          <p:cNvCxnSpPr>
            <a:stCxn id="126" idx="2"/>
            <a:endCxn id="127" idx="0"/>
          </p:cNvCxnSpPr>
          <p:nvPr/>
        </p:nvCxnSpPr>
        <p:spPr>
          <a:xfrm flipH="1">
            <a:off x="2371320" y="1700280"/>
            <a:ext cx="2272320" cy="729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1" name="Прямая со стрелкой 11"/>
          <p:cNvCxnSpPr/>
          <p:nvPr/>
        </p:nvCxnSpPr>
        <p:spPr>
          <a:xfrm flipH="1">
            <a:off x="3928320" y="1714680"/>
            <a:ext cx="686520" cy="3000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2" name="Прямая со стрелкой 18"/>
          <p:cNvCxnSpPr>
            <a:stCxn id="126" idx="2"/>
          </p:cNvCxnSpPr>
          <p:nvPr/>
        </p:nvCxnSpPr>
        <p:spPr>
          <a:xfrm>
            <a:off x="4642200" y="1699920"/>
            <a:ext cx="1786680" cy="15152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34:38Z</dcterms:created>
  <dc:creator>ира</dc:creator>
  <dc:description/>
  <dc:language>en-US</dc:language>
  <cp:lastModifiedBy>С</cp:lastModifiedBy>
  <dcterms:modified xsi:type="dcterms:W3CDTF">2013-04-10T16:23:39Z</dcterms:modified>
  <cp:revision>62</cp:revision>
  <dc:subject/>
  <dc:title>Слайд 1</dc:title>
</cp:coreProperties>
</file>