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0CF-59D0-49E8-8EAC-107826AD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810E-5DCB-42B4-A8E0-01284512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AD25-87EC-4F80-9BC7-547230FE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1394-84C9-4C62-B308-8BB61DF4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63E0-2422-4ED6-8C7C-D8269B7B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B98D-58E3-4929-BF38-012A045F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7B94-76A9-4161-A7FF-889383C8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3493-1F54-4BF7-B7B4-8E7A14F6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4D0-114C-4097-B587-5935386E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D88C-E18C-4D24-B0CA-18573432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ABF-E3A0-486B-97CB-54B0388B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6F2B-4E17-4C96-B9AD-61C1074E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6709-5E7A-4B96-ABFD-ECBA80979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глийский молодёжный слен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4497120" y="3860640"/>
            <a:ext cx="446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а: Алёна Карнабед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еница 5 А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льга Михайловна Егунов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63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n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ов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ppers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уб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s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ги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ёдр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sser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ц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n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63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crank it on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mouth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ту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ds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ежо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bby, copper, cops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ицей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ck and neck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к о бок, ноздря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здр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one’s head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крыша» поех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d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старшеклассник, выпуск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63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`s up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is it going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- обе эти фраз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водятся на русский язык: как дел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63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амках работы было проведено анкетиро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56000" y="2060640"/>
            <a:ext cx="54007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692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Знаете ли Вы, что такое слен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льзуетесь ли Вы сленгом в повседневной жизн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риведите примеры молодёж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н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наете ли Вы, что такое сленг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Текст 2"/>
          <p:cNvGraphicFramePr/>
          <p:nvPr/>
        </p:nvGraphicFramePr>
        <p:xfrm>
          <a:off x="914400" y="11970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1970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льзуетесь ли Вы сленгом в повседневной жизн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Текст 2"/>
          <p:cNvGraphicFramePr/>
          <p:nvPr/>
        </p:nvGraphicFramePr>
        <p:xfrm>
          <a:off x="993600" y="1654200"/>
          <a:ext cx="8204400" cy="454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3600" y="1654200"/>
                    <a:ext cx="820440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987280" y="836280"/>
            <a:ext cx="54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ведите примеры молодёжного сленг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Текст 2"/>
          <p:cNvGraphicFramePr/>
          <p:nvPr/>
        </p:nvGraphicFramePr>
        <p:xfrm>
          <a:off x="914400" y="148428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48428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92000" y="1125000"/>
            <a:ext cx="74516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ечно сленг живёт жизнью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торая не подчиняется никаким правилам грамматики. Некоторые слова «умирают» очень быстро и им  на смену приходят новые, другие живут веками и иногда из сленга попадают в литературный язы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692360" y="1197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ль: изучение английского молодёжного сленга, его место в молодёжной культу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68360" y="2133720"/>
            <a:ext cx="64072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619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и систематизирова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 примеры сленговых лексем в английском язы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ть актуальность исслед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соцопро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выводы из собственны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люд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63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исследов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исательны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тистическ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кетирован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4764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ъекты исследов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лодёжь, учащиеся 5-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987640" y="2133720"/>
            <a:ext cx="504036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ипотез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92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.к. молодёжный сленг использует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тдельной группой общества, мог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едположить, что он понятен не вс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осителям язы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340000" y="2637000"/>
            <a:ext cx="626436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ято делить лексику на литературную и нелитературную. К последней относятся следующие типы: профессионализм, вульгаризм, жаргонизм, слен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рмин «сленг» в переводе с английского языка означае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19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чь социально и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онально обособленн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уппы в противополож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ному язык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разговорной речи экспрессив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ашенные элементы, несовпадающие 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ой литературного язы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ggar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lan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age/ rogue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lan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age = sl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692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ween the devil and the deep blue sea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жду двух огн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kick the bucket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ть дуб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My math exam was a do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замен п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ематике был еще то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7:39:51Z</dcterms:created>
  <dc:creator>Катенок</dc:creator>
  <dc:description/>
  <dc:language>en-US</dc:language>
  <cp:lastModifiedBy>Olga Egunova</cp:lastModifiedBy>
  <dcterms:modified xsi:type="dcterms:W3CDTF">2013-04-06T11:22:42Z</dcterms:modified>
  <cp:revision>16</cp:revision>
  <dc:subject/>
  <dc:title>Презентация PowerPoint</dc:title>
</cp:coreProperties>
</file>