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C8F-DC0E-4E99-9A16-1C832400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A27-0A69-4DAF-99FD-1DC98997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190-6DEF-4942-972C-2915850F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530-F95C-4CE3-A419-331D7551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A34-FC23-4F8D-9B93-F730AC53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8D6-A155-4BD6-BE60-32CAA9D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E1C-6F42-4DB7-A72A-2917788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3D6-33B2-4FD8-89BB-38BCB4B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AF5-FCA2-4117-BE75-C413F5AF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4D0-652A-44DE-A1E2-AD4749F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37A-9CA7-4849-8E31-D542600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9B3-3AB9-4E0F-B3DC-7741DEF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081-B6C9-4FFC-AD92-C652B26C8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йский молодёжный слен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97120" y="386064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Алёна Карнабед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 5 А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льга Михайловна Егуно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per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г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ёд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sser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ank it on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mouth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т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ds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жо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bby, copper, cops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ицей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k and neck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к о бок, ноздря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здр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one’s head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ыша» пое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таршеклассник, выпуск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`s u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it goin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- обе эти фра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ятся на русский язык: как д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63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амках работы было проведено анке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54007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692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наете ли Вы, что такое слен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ьзуетесь ли Вы сленгом в повседневной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ведите примеры молодёж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ете ли Вы, что такое сленг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Текст 2"/>
          <p:cNvGraphicFramePr/>
          <p:nvPr/>
        </p:nvGraphicFramePr>
        <p:xfrm>
          <a:off x="914400" y="11970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970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ьзуетесь ли Вы сленгом в повседневной жизн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Текст 2"/>
          <p:cNvGraphicFramePr/>
          <p:nvPr/>
        </p:nvGraphicFramePr>
        <p:xfrm>
          <a:off x="993600" y="1654200"/>
          <a:ext cx="8204400" cy="45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1654200"/>
                    <a:ext cx="82044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280" y="83628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едите примеры молодёжного слен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Текст 2"/>
          <p:cNvGraphicFramePr/>
          <p:nvPr/>
        </p:nvGraphicFramePr>
        <p:xfrm>
          <a:off x="914400" y="148428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842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125000"/>
            <a:ext cx="74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о сленг живёт жизнь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ая не подчиняется никаким правилам грамматики. Некоторые слова «умирают» очень быстро и им  на смену приходят новые, другие живут веками и иногда из сленга попадают в литературный язы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2360" y="1197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 изучение английского молодёжного сленга, его место в молодёжной культ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6407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1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и систематизиров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примеры сленговых лексем в английском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 актуальность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соцо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ы из собстве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63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тель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ёжь, учащиеся 5-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5040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.к. молодёжный сленг использу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дельной группой общества, мо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дположить, что он понятен не вс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сителям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2643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о делить лексику на литературную и нелитературную. К последней относятся следующие типы: профессионализм, вульгаризм, жаргонизм, слен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рмин «сленг» в переводе с английского языка означа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социально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 обособле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 в противополо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му язы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разговорной речи экспресси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ашенные элементы, несовпадающие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ой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ggar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a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age/ rogue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a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age = s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9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the devil and the deep blue sea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двух ог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ick the bucket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ду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My math exam was a do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замен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ке был еще т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Olga Egunova</cp:lastModifiedBy>
  <dcterms:modified xsi:type="dcterms:W3CDTF">2013-04-06T11:22:42Z</dcterms:modified>
  <cp:revision>16</cp:revision>
  <dc:subject/>
  <dc:title>Презентация PowerPoint</dc:title>
</cp:coreProperties>
</file>