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41A-488B-4FCA-83D0-182E9712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2D8C-5C17-48A1-942C-B13DED03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BF1-427B-4EDD-A823-78CB35D3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053-26AC-44CF-A251-32BCA903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E1B5-BD0B-4EB6-AD43-BB36FA8C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B142-5C1A-496B-A44B-F5E15215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199-2A03-4587-A9D5-8BAD7532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0D81-010B-4B3A-A92F-3AD5314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3917-3D37-4A29-B486-A88E9DC3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3D65-CCE6-4426-94B8-25859F53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23D4-B646-4119-AD2E-C8A6BBD1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187-322C-4C25-B588-E766F76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90D9-2817-429E-B98D-A429794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F48-3207-4E8D-8B05-437BAF0A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9CD6-0354-4A7A-BC29-A515DFB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E060-41B4-47C2-BCF0-80FE9BD1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B816-92D8-4816-A2CF-DC184944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84FE-24E2-4F10-A366-DE575017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F687-A083-410A-B097-75379924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5A9F-C0FC-4B66-899B-4D3E92A5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83FC-3715-48D9-A722-F5FAFE25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9497-8DFD-4DA0-9550-1E24FF7D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2CC-5684-4CB5-83EB-22FD169C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7B64-F954-45C0-B42E-25224709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260E-E143-4C9C-9521-FF63B55D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35704-6091-41E0-A961-633323D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1312-3140-4CA2-A5CF-2901C0D3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CC389-BE77-4C63-8476-E1E01C47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25AE-2A77-4DBB-B5B5-91729584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B31B-537E-4EE6-A9CB-AD9172C0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E7B2-50C7-47A7-B7A7-DE4C9CD5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0A348-DED0-432A-9301-A7886CE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4F21E-69DF-4C23-9FD2-C1ADC37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B239-69A7-4BDA-B1EA-3D11070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0D51-48BC-415B-8747-95BD405F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BAC3-4BEB-4586-94B7-40EB60F3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1BBE-4F67-448F-9F50-BED497FE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E0137-93EB-484B-BB8B-EA21993B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171C-0AC8-42CE-B5CF-09A5981C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CBFF-28BA-45CE-AD98-D5216AED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C53BE-7442-47F7-9F90-8FFBF4F4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96034-CC59-4B92-810A-5C928239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46015-0992-42FC-9AC7-1C72BE1D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E2D3-213D-4970-B500-21E275B4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78D-98FD-439A-8303-E44F7027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F88E-2949-4A49-8DCB-BDB0A5CD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92255-F954-4EBB-9B5C-0432DFB3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840C-6850-46FA-A311-AB5FEE26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0E3D-85F7-4347-B843-A11A663F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B8DBC-4813-496B-8920-783CA839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98946-AABE-4F00-8F96-E7AF8D5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CC57-27B5-491A-9F0F-FB5B632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10821-AE31-4EA1-82D8-383F692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54E91-D2FF-45B3-AC5D-7DB11256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1089A-CCF5-44F3-84AB-26D4FCA6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375-0981-4008-866C-5A875D5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CC58-8EC6-4B1E-A843-00BE6B3A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C8AF5-AFE3-4AB9-85E8-44E1C7AF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2B031-DACD-4AF5-B5D6-0C733D8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0D2FC-3323-4C0C-92F3-9E2CE6E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E9FC9-CA34-4D58-9B8A-1B234940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E2FD-0048-4945-AB80-8E56769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58046-1B04-4FCA-81E7-3AC6FD1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C619-BB0B-4FCA-A0EA-AAE4205E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A564D-6485-45A1-A55F-83AF99C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6197-3A4D-4F32-A904-D7BDAE4F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F83-E5A6-4A45-B686-5E50E44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0865-4BC4-4A6A-B37A-51FCB1BF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AEBDE-90B9-44DF-9895-F096AA9F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CEB5D-C97B-47AE-A503-0EC86EA2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EB4CF-B256-4940-A3FA-281C4FF3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F23E0-F666-4FDA-B9F6-DA51FEFD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C5EF3-3EFD-4B13-AC29-DB07FEF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111E9-C66F-41FF-8A68-6BA8930E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D1CC6-5A57-4D05-9D14-FC4E7CB9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9838A-B875-4862-952D-1D5B48B4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BA313-EBBB-47FA-9F6C-8D7D005A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3F6-50D7-4AA3-BEBE-89F33D93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37EC8-E787-4A22-A9B9-805EACE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352F-A275-424E-829E-06FE3D57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7DE3D-20F6-44FC-A287-7A921A1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72B77-8632-4D83-9900-37B32368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C281-1EE9-4587-B29F-ADDB0784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546-B1C3-4061-ACA9-EB1EBEB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605B-1E5A-4F3C-9827-EB6FEE3CDB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13E4-868B-46F2-97B7-2192383DB52B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6F26-20EE-4777-A27C-A143C34FFC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30C3-472E-425A-AB16-AE1CFA6D77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EBBC-4228-48C8-BC0A-2B28D57F9A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EF76-2405-405C-A536-FA3DD25A2A5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B81-7008-4434-89B6-301B90B49E7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Прямоугольник 4" descr=""/>
          <p:cNvPicPr/>
          <p:nvPr/>
        </p:nvPicPr>
        <p:blipFill>
          <a:blip r:embed="rId1"/>
          <a:stretch/>
        </p:blipFill>
        <p:spPr>
          <a:xfrm>
            <a:off x="-195120" y="1305000"/>
            <a:ext cx="9631080" cy="564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408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нформированность  об особенностях содержания образования, предусмотренного учебным планом, о проблемах и перспективах реализации  образовательной программы в ученическом классе. Ответственность за координацию деятельности учителей-предметников и родителей, прогнозирование и мониторинг успеваемости, содействие в разработке и реализации индивидуальных траекторий образования, планирование и реализация работы с одаренными и неуспевающими учащимися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t">
            <a:normAutofit fontScale="94000"/>
          </a:bodyPr>
          <a:p>
            <a:pPr marL="420840" indent="-35964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Cambria"/>
              </a:rPr>
              <a:t>Классный руководитель – профессионал, духовный посредник между обществом и ребенком в освоении культуры, накопленный  человечеством, организующий систему отношений через разнообразные виды воспитывающей деятельности классного коллектива, создающий  условия для индивидуального самовыражения каждого ребенка и развития каждой личности, сохранения неповторимости и раскрытия его потенциальных способностей, защиты  интересов детства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28600" y="457200"/>
            <a:ext cx="82296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05680" indent="-28008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Основное назначение классного руководителя обусловлено современной задачей, которую ставит перед собой общество, - максимальное развитие каждого ребенка, сохранение его неповторимости и раскрытие его потенциальных таланто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solidFill>
            <a:srgbClr val="31859c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10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Цель воспитательной деятельности классного руководителя: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создание психолого-педагогических условий для своевременного выявления и оптимального развития задатков и способностей детей (условия защищенности, безопасности, эмоционального комфорта)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Прямоугольник 3" descr=""/>
          <p:cNvPicPr/>
          <p:nvPr/>
        </p:nvPicPr>
        <p:blipFill>
          <a:blip r:embed="rId1"/>
          <a:stretch/>
        </p:blipFill>
        <p:spPr>
          <a:xfrm>
            <a:off x="-639720" y="-628560"/>
            <a:ext cx="9266040" cy="7175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609480"/>
            <a:ext cx="8229600" cy="5562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300" spc="-1" strike="noStrike">
                <a:solidFill>
                  <a:srgbClr val="ffffff"/>
                </a:solidFill>
                <a:latin typeface="Comic Sans MS"/>
              </a:rPr>
              <a:t>. Организация разнообразной  творческой, личностно и ответственно значимой  деятельности воспитанников как источника социально приемлемого опыта жизни, знаний, умений и навыков саморазвития, самоопределения и самореализации в жизни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2. Организация социально ценных отношений и переживаний воспитанников в классном сообществе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3. Создание классного коллектива как воспитывающей среды, обеспечивающей социализацию каждого ребенк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4. Коррекция индивидуального развития учащихся класса, способствующая свободному и полному раскрытию всех способностей школьника и их формированию совместно с семьей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5. Формирование воспитательной  системы класса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lus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6" descr=""/>
          <p:cNvPicPr/>
          <p:nvPr/>
        </p:nvPicPr>
        <p:blipFill>
          <a:blip r:embed="rId1"/>
          <a:stretch/>
        </p:blipFill>
        <p:spPr>
          <a:xfrm>
            <a:off x="-12600" y="755640"/>
            <a:ext cx="9375840" cy="4475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298440" y="73080"/>
            <a:ext cx="8547120" cy="16333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8088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Verdana"/>
              </a:rPr>
              <a:t>Осуществляет контроль за посещаемостью школы учащимися  класса, контролирует причины пропусков уроков, владеет информацией о состоянии здоровья учащихся класса, следит за ведением документации о заболеваемости учащихся, работает с листком здоровья  в классном журнале. Совместно с врачом и родителями он разрабатывает и реализует комплекс мер по охране и укреплению здоровья детей, вовлекает учащихся в занятия физкультурой и спортом, организует для них горячее питание, проводит инструктажи и ведет документацию по технике безопасности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59840" cy="1474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Информированность о межличностных взаимоотношениях в классе, о характере взаимоотношений между учащимися и учителями-предметниками, проведение диагностики межличностных отношений, оперативное регулирование  возникающих противоречий, определение задач оптимизации психологического климата в классе, выявление учащихся, имеющих проблемы в сфере межличностных отношений, привлечение для работы с детьми педагогов-психологов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0T09:24:0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