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DCB-9B1E-446B-868F-EAB889F6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819-F642-48BC-B522-D04ED1F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17B-9389-4FFD-ADDA-A0EF2645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E62-084B-427A-911F-123FB2C4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5424-769F-4F2F-926A-0E0C0FCA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811-ED0A-41B1-8526-6EA803B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E15-4D87-4588-A595-4FC67F7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38C7-79A8-48EF-8412-E1C4AC5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19D9-B6C8-4F13-AD43-B1100E9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12A0-C6DC-4770-B532-35217734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EE66-A9F8-4DF2-B808-597C021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C05-CEAE-451F-8065-CCF24B2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C4F-D03B-4FE3-8C59-6707225F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F57-AD48-4A5C-9E5E-469393AC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9EF-3D36-43AC-9B8E-3B5509D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672F-F6D8-4E6F-B9E9-FA0CE097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F5A2-6826-4D99-8E13-795CC333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3E97-C9F7-4ACA-808E-79B063AC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85F9-AF72-45E7-8F46-59F5CF4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23EA-E7F4-488E-BF0D-B50C2D2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086F-AA13-418B-8C93-F25D278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2BD8-F448-48FD-ADBA-BE5B9168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A19-3518-4BC7-B5D4-D2BE5ED0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3134-ABBD-4205-A0CB-57C9E88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A4DD-826E-4E1C-8D3F-CB1182B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C2CD-2781-403A-B126-1D69A39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3BEB-50C7-4151-B958-9271C16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E4F8-5486-4B51-8F96-DEA9253F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646D-B275-45BF-9B6E-0178F39D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3C9A-A8DF-46F7-AAC4-30A8F32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7AA41-CB2D-4D2A-8963-44717047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F2D9-6A92-4A5B-80CB-9AEA354D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0753-5DC2-4CA8-B6E7-0793762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617-2584-4221-9666-2E799E0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0C63-CE9B-4FDC-BCD5-D7DEA4AC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DFDA-0FED-44BC-82D4-4B27C54A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ABB9-1321-4D03-BB8A-5E4AFE9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BCC5-DF85-4EFF-9603-463251E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5CE8-27CE-446E-9E74-CBD71BD5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D9FA-AAA9-409E-B1A5-5751448D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05C7-270A-4B3C-BBD3-AF20191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AD96-82F8-4722-874C-9D612E8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45A6-F41F-4CD6-A3B2-9E06B26B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CBCD-9280-40D0-A48E-E411569F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0FA-8FA9-4290-B063-9EC62DE6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CF6E-4303-4621-8E3F-FE98D5D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9B5B-C780-4597-AEDB-4A74062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BAA0E-E90A-43FE-B89C-336D0999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D18D-9744-4DC9-BC50-9DCBAF54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2565-5631-4B35-855D-CFF9B206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8153-C6E0-434A-9184-75E31BC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AF5D-7343-421D-8034-20FD03A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5A6C-51ED-49E1-977B-0EFF8B4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9B2EA-1858-4450-B647-F5380F5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E568-0C55-4DF0-BACD-4D5838A7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3AD-5D86-423D-81FA-F97CA28E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6E0E-7A07-4082-A2F1-706B8747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B4BFD-AB93-487B-AAB3-42BDF274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B1ED7-26C0-416A-8CBD-BB1B59C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2BFD-1696-4E10-B175-C3C13F5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3C21-9493-409B-90A3-FAA7E00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E9F7-D7C9-422D-B2CD-EB7C1EF2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F372A-A011-47E2-9C3B-3955AC4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8D48-E603-44C3-81B6-33212E1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F95B-BB0C-4C54-B7CA-CB43600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B27A-7755-444D-8DB5-B69583D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972-59F0-42AB-8C15-9FB2876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A5BF-1096-45F2-866D-94928535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12A1-F16C-42A4-9405-8AE89275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6728-1D13-4B77-8301-90424ACE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E551-6877-43E0-A5AE-3D9F1181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B15C-74CB-48D3-AECB-14E8D36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BC67-AE86-4EA7-888A-763A5236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BB7F-25A7-42E3-BEE0-63CF5801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70F5-2A12-4186-9A2A-9B8AE1C6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90B03-F064-4BD9-8BDA-1251C1C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C2C9-DE5C-4280-98B1-E708A6D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D46-83B5-4F5B-AB87-CF41F72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4EFDE-FBC5-4AF7-9D71-5BD8CCF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9DA6C-96CF-44B3-BB3F-930A281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A2F59-35F2-4525-8832-499D78E0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C734-FA0F-497B-A69C-89660A71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B4B1-10E5-4C92-94B2-2DE8DFC8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4A6-3C82-4D07-9CCF-A54F5DE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C15-4BF9-4997-9388-3F83E6430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751B-8194-4CD4-A0F7-1A573660BD6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E4D-B347-43E8-A80B-A108D0766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4B4E-A7A0-437C-9F67-CA915CD4FC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8D5-B07A-4461-9409-7F59B7AA4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382-6763-4710-BE05-EA36336C117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C2F-2ED4-4EE5-BA57-D4F738EFDD6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1305000"/>
            <a:ext cx="9631080" cy="564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08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нформированность  об особенностях содержания образования, предусмотренного учебным планом, о проблемах и перспективах реализации  образовательной программы в ученическом классе. Ответственность за координацию деятельности учителей-предметников и родителей, прогнозирование и мониторинг успеваемости, содействие в разработке и реализации индивидуальных траекторий образования, планирование и реализация работы с одаренными и неуспевающими учащимися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t">
            <a:normAutofit fontScale="94000"/>
          </a:bodyPr>
          <a:p>
            <a:pPr marL="420840" indent="-359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Классный руководитель – профессионал, духовный посредник между обществом и ребенком в освоении культуры, накопленный  человечеством, организующий систему отношений через разнообразные виды воспитывающей деятельности классного коллектива, создающий  условия для индивидуального самовыражения каждого ребенка и развития каждой личности, сохранения неповторимости и раскрытия его потенциальных способностей, защиты  интересов детства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86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05680" indent="-280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Основное назначение классного руководителя обусловлено современной задачей, которую ставит перед собой общество, - максимальное развитие каждого ребенка, сохранение его неповторимости и раскрытие его потенциальных талант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solidFill>
            <a:srgbClr val="31859c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10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Цель воспитательной деятельности классного руководителя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оздание психолого-педагогических условий для своевременного выявления и оптимального развития задатков и способностей детей (условия защищенности, безопасности, эмоционального комфорта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3" descr=""/>
          <p:cNvPicPr/>
          <p:nvPr/>
        </p:nvPicPr>
        <p:blipFill>
          <a:blip r:embed="rId1"/>
          <a:stretch/>
        </p:blipFill>
        <p:spPr>
          <a:xfrm>
            <a:off x="-639720" y="-628560"/>
            <a:ext cx="9266040" cy="7175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300" spc="-1" strike="noStrike">
                <a:solidFill>
                  <a:srgbClr val="ffffff"/>
                </a:solidFill>
                <a:latin typeface="Comic Sans MS"/>
              </a:rPr>
              <a:t>. Организация разнообразной  творческой, личностно и ответственно значимой  деятельности воспитанников как источника социально приемлемого опыта жизни, знаний, умений и навыков саморазвития, самоопределения и самореализации в жизни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2. Организация социально ценных отношений и переживаний воспитанников в классном сообществе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3. Создание классного коллектива как воспитывающей среды, обеспечивающей социализацию каждого ребенк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4. Коррекция индивидуального развития учащихся класса, способствующая свободному и полному раскрытию всех способностей школьника и их формированию совместно с семьей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5. Формирование воспитательной  системы класс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6" descr=""/>
          <p:cNvPicPr/>
          <p:nvPr/>
        </p:nvPicPr>
        <p:blipFill>
          <a:blip r:embed="rId1"/>
          <a:stretch/>
        </p:blipFill>
        <p:spPr>
          <a:xfrm>
            <a:off x="-12600" y="755640"/>
            <a:ext cx="9375840" cy="4475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298440" y="73080"/>
            <a:ext cx="8547120" cy="1633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Осуществляет контроль за посещаемостью школы учащимися  класса, контролирует причины пропусков уроков, владеет информацией о состоянии здоровья учащихся класса, следит за ведением документации о заболеваемости учащихся, работает с листком здоровья  в классном журнале. Совместно с врачом и родителями он разрабатывает и реализует комплекс мер по охране и укреплению здоровья детей, вовлекает учащихся в занятия физкультурой и спортом, организует для них горячее питание, проводит инструктажи и ведет документацию по технике безопасности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59840" cy="1474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нформированность о межличностных взаимоотношениях в классе, о характере взаимоотношений между учащимися и учителями-предметниками, проведение диагностики межличностных отношений, оперативное регулирование  возникающих противоречий, определение задач оптимизации психологического климата в классе, выявление учащихся, имеющих проблемы в сфере межличностных отношений, привлечение для работы с детьми педагогов-психологов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0T09:24:0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