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802-A9DA-4ABB-AEE3-B809A085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965-12FC-4704-A42B-95AD4BF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A8B-73BE-4238-BC22-F34253B1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E0B-8F02-4D23-A289-CA1CAF6E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99BB-782F-4137-A751-175937F8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8FE16-D63B-44E8-96D3-B1B6A404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6A570-69DF-4DA5-B995-844606F7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B1F9-049E-4DD8-B5F1-F5096489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3DDEE-295C-4F24-9A53-D7445CD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27908-9BB1-4B09-A316-33AABF55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4920-71AC-4A2E-9803-8CEB4D65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8D0-686F-4E56-94E5-F86EFAE9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084E2-52CE-48A0-AACF-40D6D63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4ED2-7A00-41D1-9B6E-3014AB99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AE4B-1905-457F-AA83-B6CA3CC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F87B2-EBE3-485A-B7B5-08461D87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319AA-96CA-4447-81A5-B86F64DB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7B9-6DF1-41EB-9044-3C0B2F9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857-3139-4E69-910A-0AEEE0EA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DB3-C539-4F47-9465-852D601A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1A21-364B-47AA-8F5D-7F75E35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711-6BE7-482E-A774-FD4E403E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A11-EF86-4852-A464-018EE7C5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0DD-5167-4F4F-BE44-31D94E34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44CE-05A0-4671-9F91-044F921EF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683E-8097-4213-9301-401011B28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</a:rPr>
              <a:t>Презентация на тему </a:t>
            </a:r>
            <a:br>
              <a:rPr sz="3200"/>
            </a:b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«Использование географии в различных профессиях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7521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л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геолога связана с нахождением месторождения природных ископаемых. Он изучает особенности залегания и расположения различных пород. Геологи принимают участие в научно-исследовательской работе и экспедициях, связанных с изучением земных недр. Знания геологии также используются в строительстве, чтобы выявить особенности грунтов перед застройкой территори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Археолог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Археологи изучают культуру древних цивилизаций с помощью останков и следов их жизнедеятельности. В основном работа состоит в проведении раскопок и нахождении места для осуществления исследований. Ученые-археологи посвящают целые годы на свое открытие и по частям воссоздают быт и культуру древних цивилизаций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оцман, штурман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оцман является судоводителем. Это древняя морская профессия. Именно от лоцмана, а точнее от его знаний береговых особенностей, фарватера определенной местности и морской географии зависит безопасность судоходств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рофессия штурмана очень похожа на профессию лоцмана. Штурман осуществляет управление воздушным, наземным, водным и подводным транспортом. Он исследует курс, вычисляет пути перемещения транспорта, отмечает его на карте и следит за работой навигационных прибор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етеоролог, геодезис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етеорологи занимаются изучением факторов, которые влияют на погоду. Они постоянно следят за изменениями погодных условий, фиксируют, оценивают, обрабатывают и учитывают, на что могут повлиять такие изменения. Также метеорологи составляют прогноз погоды и изучают климат различных географических зо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Геодезисты занимаются изучением территории с помощью измерений, вычисления координат и составляют карты, которыми пользуются автомобилисты, строители и геол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ид, экскурсово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Гид или экскурсовод должен сопровождать туристов во время походов, экскурсий или круизов. Гид хорошо знает города и страны, в которых он проводит экскурсию, а также культурные и исторические памятники, и владеет иностранными языками. Прежде всего, гид должен отлично знать свою страну, ее историю, культуру, архитектурные памятник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ереводчи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Работа переводчиков очень разнообразна. Они знают много языков и занимаются переводом текстов, документов различного направления, фильмов и книг. Могут также сопровождать делегации и переводить устную речь. Вовремя изучения языка, будущий переводчик также изучает обычаи, культуру, историю и географию страны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уристический операто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Хорошо разбираются в географических и климатических особенностях разных стран туристические операторы. Они помогут вам выбрать наиболее подходящий тур с учетом ваших предпочтений, интересов и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Лесник, леснич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есник – это лесной сторож. Он охраняет свой участок леса от незаконных порубок, охоты и пр. работник государственной лесной охраны, штатный сотрудник лесничества. За лесником закрепляется лесной обход, ему выдаётся паспорт участка, форменное обмундирование, может выдаваться охотничье оружи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Лесничий — специалист по лесному хозяйству, руководитель лесничества. Подчиняется директору и главному лесничему лесхоза, леспромхоза или другого предприятия лесного хозяйства, непосредственно руководит всеми работами в лесничестве, отвечает за состояние и охрану лесов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нятие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География-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единый комплекс наук, изучающих географическую оболочку Земли и акцентирующихся на выявлении пространственно-временных закономерностей;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свод знаний о пространственно-временных особенностях какой-либо территории, объекта, явления или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проблемы геораф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Проблема единства географии как науки и поиск единого объекта иссле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Проблема «теоретической географии» и философских основ в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роблема «утраты» практических наук (землеустройство, мелиорация и пр.) и общественного интереса к географ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Направления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Социально- эконом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Физиче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Социально- экономическая географ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циально-экономическая география изучает территориальную организацию общества, подразделяется на четыре отраслевых бл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изическая географ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ъектом изучения физической географии является географическая оболочка в целом, составляющие её природные комплексы и компон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дача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дача географии — выявить специфику взаимодействия всех этих разнородных процессов на каждой территории, обобщить имеющиеся материалы и создать яркий, запоминающийся образ места — то есть решить вначале задачу описания территории (и частично — объяснения происходящих на ней процесс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ормирование географи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новоположником науки географии является выдающийся древнегреческий ученый Эратосфен, живший в III веке до нашей эры. Он первым ввел термин“география”, Ведь именно так назвал он свой трехтомный труд, который , к сожалению, полностью до нас не доше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География в профессиях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География -  очень важная наука, которую нужно обязательно изучать в школе. Она помогает нам узнавать новое о нашей планете, о ее жителях, особенностях ее климата и о многом другом. География обогащает наши знания о разнообразных факторах, без которых мы не смогли бы существовать. С помощью этой науки мы узнаем интересные факты о других государствах, их особенностях. Также, география может помочь нам в будущем, так как ее знание должно присутствовать во многих нужных и полезных профессиях., таких как геолог, археолог,  лоцман,  штурман,  метеоролог,  геодезист,  гид, переводчик, туропера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16:52Z</dcterms:created>
  <dc:creator>Ирина</dc:creator>
  <dc:description/>
  <dc:language>en-US</dc:language>
  <cp:lastModifiedBy>мама</cp:lastModifiedBy>
  <dcterms:modified xsi:type="dcterms:W3CDTF">2013-04-10T16:18:18Z</dcterms:modified>
  <cp:revision>3</cp:revision>
  <dc:subject/>
  <dc:title>Презентация на тему  «Использование географии в различных профессиях»</dc:title>
</cp:coreProperties>
</file>