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4D4-B122-41F9-B279-99C5EB28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2E01-E73C-485B-801A-76322AB8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847-D861-4176-A2CE-A88C06B8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437-E166-4BAB-B452-03B3681F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D5032-BECD-4C25-AD9E-678D1C78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7E5E5-A618-48B3-87E4-D9115862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A6D73-52F1-495F-9D0C-FCE2048B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79069-B7F8-486D-926B-14850FC5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0F61C-3897-4690-B51E-1B9FEC72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CAF8E-A56D-42CC-B70B-0B74FBF3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68BF6-A557-430E-BC29-514B68AB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F7DF-48E9-4993-9C2F-0F04AB12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BD5B1-9AC2-4310-8D98-3D1E4A81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61456-833F-4C5D-B7E1-517B676D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E72C1-7248-4AD4-A11A-6F7B0532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D1DFB-C240-467A-B6C4-2E44F9B4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BBCA4-5ABB-4A3C-A9F6-03A4AF7D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2F3-A2E4-412B-96D8-A958665C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C63-CA15-49FF-9E12-C9C5E7EF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BC2-8D21-4D6F-BF7F-C486462D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DBE-9DD2-4AA8-B146-B04D637A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2C3-9AB0-44C4-9185-8FB256C2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E44-B917-47C1-BDC5-9F83E052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3AC-892D-4649-ABE0-CB506ED9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1FBB-9F4B-4C28-ABF7-BA87BAA20F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4095-502C-42BC-AC4D-EB27ADD85F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Презентация на тему </a:t>
            </a:r>
            <a:br>
              <a:rPr sz="3200"/>
            </a:b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«Использование географии в различных профессиях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429000"/>
            <a:ext cx="75214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еоло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бота геолога связана с нахождением месторождения природных ископаемых. Он изучает особенности залегания и расположения различных пород. Геологи принимают участие в научно-исследовательской работе и экспедициях, связанных с изучением земных недр. Знания геологии также используются в строительстве, чтобы выявить особенности грунтов перед застройкой территори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Археоло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Археологи изучают культуру древних цивилизаций с помощью останков и следов их жизнедеятельности. В основном работа состоит в проведении раскопок и нахождении места для осуществления исследований. Ученые-археологи посвящают целые годы на свое открытие и по частям воссоздают быт и культуру древних цивилизаций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Лоцман, штурм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Лоцман является судоводителем. Это древняя морская профессия. Именно от лоцмана, а точнее от его знаний береговых особенностей, фарватера определенной местности и морской географии зависит безопасность судоходств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офессия штурмана очень похожа на профессию лоцмана. Штурман осуществляет управление воздушным, наземным, водным и подводным транспортом. Он исследует курс, вычисляет пути перемещения транспорта, отмечает его на карте и следит за работой навигационных прибор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етеоролог, геодезис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етеорологи занимаются изучением факторов, которые влияют на погоду. Они постоянно следят за изменениями погодных условий, фиксируют, оценивают, обрабатывают и учитывают, на что могут повлиять такие изменения. Также метеорологи составляют прогноз погоды и изучают климат различных географических зон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Геодезисты занимаются изучением территории с помощью измерений, вычисления координат и составляют карты, которыми пользуются автомобилисты, строители и геолог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ид, экскурсовод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Гид или экскурсовод должен сопровождать туристов во время походов, экскурсий или круизов. Гид хорошо знает города и страны, в которых он проводит экскурсию, а также культурные и исторические памятники, и владеет иностранными языками. Прежде всего, гид должен отлично знать свою страну, ее историю, культуру, архитектурные памятник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ереводчи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бота переводчиков очень разнообразна. Они знают много языков и занимаются переводом текстов, документов различного направления, фильмов и книг. Могут также сопровождать делегации и переводить устную речь. Вовремя изучения языка, будущий переводчик также изучает обычаи, культуру, историю и географию страны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уристический оператор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Хорошо разбираются в географических и климатических особенностях разных стран туристические операторы. Они помогут вам выбрать наиболее подходящий тур с учетом ваших предпочтений, интересов и возмож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Лесник, леснич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Лесник – это лесной сторож. Он охраняет свой участок леса от незаконных порубок, охоты и пр. работник государственной лесной охраны, штатный сотрудник лесничества. За лесником закрепляется лесной обход, ему выдаётся паспорт участка, форменное обмундирование, может выдаваться охотничье оружие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Лесничий — специалист по лесному хозяйству, руководитель лесничества. Подчиняется директору и главному лесничему лесхоза, леспромхоза или другого предприятия лесного хозяйства, непосредственно руководит всеми работами в лесничестве, отвечает за состояние и охрану лесов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нятие Географ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География- 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единый комплекс наук, изучающих географическую оболочку Земли и акцентирующихся на выявлении пространственно-временных закономерностей;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свод знаний о пространственно-временных особенностях какой-либо территории, объекта, явления или процес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проблемы геораф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Проблема единства географии как науки и поиск единого объекта исслед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Проблема «теоретической географии» и философских основ в географ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Проблема «утраты» практических наук (землеустройство, мелиорация и пр.) и общественного интереса к географ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аправления географ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Социально- эконом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Физ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оциально- экономическая географ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циально-экономическая география изучает территориальную организацию общества, подразделяется на четыре отраслевых бл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Физическая географ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ъектом изучения физической географии является географическая оболочка в целом, составляющие её природные комплексы и компонен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ча географ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дача географии — выявить специфику взаимодействия всех этих разнородных процессов на каждой территории, обобщить имеющиеся материалы и создать яркий, запоминающийся образ места — то есть решить вначале задачу описания территории (и частично — объяснения происходящих на ней процессо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Формирование географ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оположником науки географии является выдающийся древнегреческий ученый Эратосфен, живший в III веке до нашей эры. Он первым ввел термин“география”, Ведь именно так назвал он свой трехтомный труд, который , к сожалению, полностью до нас не доше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еография в профессиях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География -  очень важная наука, которую нужно обязательно изучать в школе. Она помогает нам узнавать новое о нашей планете, о ее жителях, особенностях ее климата и о многом другом. География обогащает наши знания о разнообразных факторах, без которых мы не смогли бы существовать. С помощью этой науки мы узнаем интересные факты о других государствах, их особенностях. Также, география может помочь нам в будущем, так как ее знание должно присутствовать во многих нужных и полезных профессиях., таких как геолог, археолог,  лоцман,  штурман,  метеоролог,  геодезист,  гид, переводчик, туроперат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5:16:52Z</dcterms:created>
  <dc:creator>Ирина</dc:creator>
  <dc:description/>
  <dc:language>en-US</dc:language>
  <cp:lastModifiedBy>мама</cp:lastModifiedBy>
  <dcterms:modified xsi:type="dcterms:W3CDTF">2013-04-10T16:18:18Z</dcterms:modified>
  <cp:revision>3</cp:revision>
  <dc:subject/>
  <dc:title>Презентация на тему  «Использование географии в различных профессиях»</dc:title>
</cp:coreProperties>
</file>