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B670-E739-483C-81D1-8C5129C09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965F-D614-4D73-9794-630DEF55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AAA4-D821-4437-BB45-367A655BC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6277-2C30-4F44-946E-17EB3049C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5E06-0E92-485F-A8CC-4D533E8A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D95D-3962-403B-81D8-85630576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8652-79E9-461D-AA05-8F594AAC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417E-A1DA-4412-B272-D0CEEB05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C337-14A3-4A41-9F98-8B85E6EC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4FE8-C507-42D8-88A5-979B95A5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3A06-3BC7-49DF-94A1-D2903DBF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78B7-82EB-42A5-8370-E749189B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28C2-856F-4ABE-BCA1-26244582AE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Das  ist  mein  lieblings   Tier.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Es  hei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ß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  Eichhornchen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19280" y="2133720"/>
            <a:ext cx="6265800" cy="34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Eichhornchen  im  Alpenwal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92360" y="2276640"/>
            <a:ext cx="5543640" cy="32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Eichhornchen ist  klein, rot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ber  es kann  schwarz, grau und rotlich   sein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76360" y="2349360"/>
            <a:ext cx="635796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Es  hat  sehr  schonen,  langen,  flaumigen  Schwanz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6645240" cy="36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Eichhorchen  lebt  im  Wald,  im  Park. Sein Nest  macht  es im  Baumhollung, Starenhauschen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4292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Es  frisst  Beeren,  Pilze,  Nusse, Samen, Eichel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693576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Gewicht  Eichhorchen  ist  es 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von 250  bis  340gr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6716880" cy="36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Eichhorchen  leben 10 – 12 Jahre.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e  bringen  im  Jahr  20 – 30 Kinder.Die  Mutter  futtert  sie 40-50 Tage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16000" y="2349360"/>
            <a:ext cx="671832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hr  Sprung  ist  3-4  Meter  la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687096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Im  kalten Winter Eichhorchen konnen leben  in  Gruppen, um  sich  zu  erwarmen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068880" cy="33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7T15:22:35Z</dcterms:created>
  <dc:creator>Нина</dc:creator>
  <dc:description/>
  <dc:language>en-US</dc:language>
  <cp:lastModifiedBy>Нина</cp:lastModifiedBy>
  <dcterms:modified xsi:type="dcterms:W3CDTF">2013-04-10T17:28:19Z</dcterms:modified>
  <cp:revision>14</cp:revision>
  <dc:subject/>
  <dc:title>Слайд 1</dc:title>
</cp:coreProperties>
</file>