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68AE-94D7-427B-89E2-A0C8C099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5D4-68E8-4BAC-A4E3-FB1D61D0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144-1F77-467E-93A0-EF39B3A2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FDB-61AE-48D1-BF07-8A29A7FE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254-77CA-4EF6-9A1F-EB40CBD6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121E-88E8-4B51-8890-2B7B95D1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0F1-9EA4-476A-89F7-6F090069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431-F4EB-4BEB-9E88-81A9B9D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03EC-E565-4738-84CB-E1045806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6288-34BF-4F86-B48C-E573B185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ACF-0673-4D4B-B46E-1D4915E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287-2A7C-49C8-A4D5-09635BE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5748-09D9-414E-AEA8-92961A35E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as  ist  mein  lieblings   Tier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hei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ß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  Eichhornch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6265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ichhornchen  im  Alpenwal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54364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ichhornchen ist  klein, rot</a:t>
            </a: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ber  es kann  schwarz, grau und rotlich   sei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35796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hat  sehr  schonen,  langen,  flaumigen  Schwanz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4524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ichhorchen  lebt  im  Wald,  im  Park. Sein Nest  macht  es im  Baumhollung, Starenhausche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292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s  frisst  Beeren,  Pilze,  Nusse, Samen, Eichel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69357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Gewicht  Eichhorchen  ist  es 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von 250  bis  340gr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7168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ichhorchen  leben 10 – 12 Jahre.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e  bringen  im  Jahr  20 – 30 Kinder.Die  Mutter  futtert  sie 40-50 Tage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67183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hr  Sprung  ist  3-4  Meter  la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7096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m  kalten Winter Eichhorchen konnen leben  in  Gruppen, um  sich  zu  erwarmen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06888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5:22:35Z</dcterms:created>
  <dc:creator>Нина</dc:creator>
  <dc:description/>
  <dc:language>en-US</dc:language>
  <cp:lastModifiedBy>Нина</cp:lastModifiedBy>
  <dcterms:modified xsi:type="dcterms:W3CDTF">2013-04-10T17:28:19Z</dcterms:modified>
  <cp:revision>14</cp:revision>
  <dc:subject/>
  <dc:title>Слайд 1</dc:title>
</cp:coreProperties>
</file>