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gif" ContentType="image/gif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6226-CDBB-4A4B-931A-6415BE57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1C8A-4432-4B22-BFEA-3A5D5653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0D79-CBD6-4F4B-B8C1-9C67976A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74686-F6B3-4F6A-A6E4-819B5AB6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6511-BE8E-4DF5-9180-928BB52F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2507-4BA8-47A2-ABAC-B5FE744A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D661-39B4-417B-BB3D-F5724719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C98F-F896-4818-8BC4-ABE5CB14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3E54-7ED7-47E0-81FA-22A77B28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50A1-7E79-43B9-A4B4-676D84D8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FFAA-16BF-4383-8FF8-683FA4E2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24640-B033-4395-81BA-A2F02C6B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6F7A-46B9-4991-8039-C479ABAA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99A1-4BEF-47AA-A46F-CD6E4FD5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8DE7-0805-4881-9ACE-4A8A66FA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F9E9-7ABD-46B2-856B-898064FE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A431-408D-43BA-9300-5211A6BA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F7E4-7462-40CD-82A1-78B45C3E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4A492-0C01-4578-8D84-35F41A53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002E-2D0A-4766-88C8-468286BB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21120-CD06-4009-BD80-C6A936E1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5F09-3331-4CC9-AE91-32188062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2A7B3-1DB5-47B6-8D58-DFFC374F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3C54-B526-4751-9B66-71176281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2E25-3E73-4BC2-8496-3CD1F4DC1B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B0FC-C45F-45C6-8A61-1C85AF4CC4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0" y="0"/>
            <a:ext cx="9144000" cy="58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                    </a:t>
            </a:r>
            <a:r>
              <a:rPr b="1" lang="ru-RU" sz="4800" spc="-1" strike="noStrike" u="sng">
                <a:solidFill>
                  <a:srgbClr val="cc3300"/>
                </a:solidFill>
                <a:uFillTx/>
                <a:latin typeface="Arial"/>
              </a:rPr>
              <a:t>САМООБРАЗОВАНИЕ</a:t>
            </a:r>
            <a:r>
              <a:rPr b="0" lang="ru-RU" sz="4800" spc="-1" strike="noStrike">
                <a:solidFill>
                  <a:srgbClr val="cc3300"/>
                </a:solidFill>
                <a:latin typeface="Arial"/>
              </a:rPr>
              <a:t> – 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приобретение знаний путем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самостоятельных   занятий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без помощи преподавателя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.И. ОЖЕГОВ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7" name="Picture 6" descr="pic3"/>
          <p:cNvPicPr/>
          <p:nvPr/>
        </p:nvPicPr>
        <p:blipFill>
          <a:blip r:embed="rId1"/>
          <a:stretch/>
        </p:blipFill>
        <p:spPr>
          <a:xfrm>
            <a:off x="5786280" y="4699080"/>
            <a:ext cx="3144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285840" y="642960"/>
            <a:ext cx="321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ru-RU" sz="4400" spc="-1" strike="noStrike" u="sng">
                <a:solidFill>
                  <a:srgbClr val="993300"/>
                </a:solidFill>
                <a:uFillTx/>
                <a:latin typeface="Arial"/>
              </a:rPr>
              <a:t>план</a:t>
            </a: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5357880" y="64296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3300"/>
                </a:solidFill>
                <a:uFillTx/>
                <a:latin typeface="Arial"/>
              </a:rPr>
              <a:t>программа</a:t>
            </a: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Arial"/>
            </a:endParaRPr>
          </a:p>
        </p:txBody>
      </p:sp>
      <p:cxnSp>
        <p:nvCxnSpPr>
          <p:cNvPr id="137" name="Прямая со стрелкой 4"/>
          <p:cNvCxnSpPr/>
          <p:nvPr/>
        </p:nvCxnSpPr>
        <p:spPr>
          <a:xfrm flipH="1">
            <a:off x="1641240" y="1785600"/>
            <a:ext cx="216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Прямая со стрелкой 6"/>
          <p:cNvCxnSpPr/>
          <p:nvPr/>
        </p:nvCxnSpPr>
        <p:spPr>
          <a:xfrm flipH="1">
            <a:off x="6857640" y="157140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TextBox 7"/>
          <p:cNvSpPr/>
          <p:nvPr/>
        </p:nvSpPr>
        <p:spPr>
          <a:xfrm>
            <a:off x="-428760" y="221472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учебный год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4605480" y="2286000"/>
            <a:ext cx="45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длительный период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20160" y="3214800"/>
            <a:ext cx="41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простая структура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4572000" y="321480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сложная структура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и содержание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6840" y="4786200"/>
            <a:ext cx="38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создаётся сразу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4581720" y="4786200"/>
            <a:ext cx="472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создаётся по этапам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или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корректируется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0" y="428760"/>
            <a:ext cx="93582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993300"/>
                </a:solidFill>
                <a:uFillTx/>
                <a:latin typeface="Arial"/>
              </a:rPr>
              <a:t>Как стимулировать самообразование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личный пример руководителя;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эффект заражения;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действеннаяличностная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проблематизация;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приглашение ярких людей;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посещение и анализ урока;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просвещение, разъяснение, аргументы в пользу самообразования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0" y="428760"/>
            <a:ext cx="9144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Arial"/>
              </a:rPr>
              <a:t>стимулирование    самообразования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по теме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компетентностный подход в обучении школьников» 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0" y="2857680"/>
            <a:ext cx="91440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00"/>
                </a:solidFill>
                <a:latin typeface="Arial"/>
              </a:rPr>
              <a:t>Этапы: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Просвещение, разъяснение, аргументы.      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                                    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(ПЕДСОВЕТ)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2.Действенная личностная проблематизация.    (ГОТОВИМ УРОК !)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3.Посещение, уроков. (ФЕСТИВАЛЬ !)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18"/>
            </a:gs>
            <a:gs pos="50000">
              <a:srgbClr val="99ff33"/>
            </a:gs>
            <a:gs pos="100000">
              <a:srgbClr val="4776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0" y="5868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lang="ru-RU" sz="7200" spc="-1" strike="noStrike">
                <a:solidFill>
                  <a:srgbClr val="cc3300"/>
                </a:solidFill>
                <a:latin typeface="Arial"/>
              </a:rPr>
              <a:t>Нельзя научить, </a:t>
            </a:r>
            <a:endParaRPr b="0" lang="en-US" sz="72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1" lang="ru-RU" sz="7200" spc="-1" strike="noStrike">
                <a:solidFill>
                  <a:srgbClr val="cc3300"/>
                </a:solidFill>
                <a:latin typeface="Arial"/>
              </a:rPr>
              <a:t>можно только </a:t>
            </a:r>
            <a:endParaRPr b="0" lang="en-US" sz="72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Arial"/>
              </a:rPr>
              <a:t>Н     научиться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».</a:t>
            </a:r>
            <a:endParaRPr b="0" lang="en-US" sz="4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9" name="Picture 5" descr="дети"/>
          <p:cNvPicPr/>
          <p:nvPr/>
        </p:nvPicPr>
        <p:blipFill>
          <a:blip r:embed="rId1"/>
          <a:stretch/>
        </p:blipFill>
        <p:spPr>
          <a:xfrm>
            <a:off x="7380360" y="4365720"/>
            <a:ext cx="1315800" cy="1873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6класс"/>
          <p:cNvPicPr/>
          <p:nvPr/>
        </p:nvPicPr>
        <p:blipFill>
          <a:blip r:embed="rId2"/>
          <a:stretch/>
        </p:blipFill>
        <p:spPr>
          <a:xfrm>
            <a:off x="0" y="2781360"/>
            <a:ext cx="25369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Подготовила учитель английского языка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857320" y="42148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818ff"/>
                </a:solidFill>
                <a:latin typeface="Arial"/>
              </a:rPr>
              <a:t>Мишхожева Анжела Хадокшуков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18"/>
            </a:gs>
            <a:gs pos="50000">
              <a:srgbClr val="66ff33"/>
            </a:gs>
            <a:gs pos="100000">
              <a:srgbClr val="2f76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785880"/>
            <a:ext cx="914400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666699"/>
                </a:solidFill>
                <a:uFillTx/>
                <a:latin typeface="Arial"/>
              </a:rPr>
              <a:t>само</a:t>
            </a:r>
            <a:r>
              <a:rPr b="1" lang="ru-RU" sz="5400" spc="-1" strike="noStrike" u="sng">
                <a:solidFill>
                  <a:srgbClr val="666699"/>
                </a:solidFill>
                <a:uFillTx/>
                <a:latin typeface="Arial"/>
              </a:rPr>
              <a:t>образование</a:t>
            </a: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 –</a:t>
            </a:r>
            <a:endParaRPr b="0" lang="en-US" sz="5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один из </a:t>
            </a:r>
            <a:r>
              <a:rPr b="1" lang="ru-RU" sz="6000" spc="-1" strike="noStrike" u="sng">
                <a:solidFill>
                  <a:srgbClr val="666699"/>
                </a:solidFill>
                <a:uFillTx/>
                <a:latin typeface="Arial"/>
              </a:rPr>
              <a:t>добровольных</a:t>
            </a: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путей повышения</a:t>
            </a:r>
            <a:endParaRPr b="0" lang="en-US" sz="5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профессионального </a:t>
            </a:r>
            <a:endParaRPr b="0" lang="en-US" sz="5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       </a:t>
            </a:r>
            <a:r>
              <a:rPr b="1" lang="ru-RU" sz="5400" spc="-1" strike="noStrike">
                <a:solidFill>
                  <a:srgbClr val="666699"/>
                </a:solidFill>
                <a:latin typeface="Arial"/>
              </a:rPr>
              <a:t>мастерства педагога</a:t>
            </a:r>
            <a:endParaRPr b="0" lang="en-US" sz="5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9" name="Picture 6" descr="Image700"/>
          <p:cNvPicPr/>
          <p:nvPr/>
        </p:nvPicPr>
        <p:blipFill>
          <a:blip r:embed="rId1"/>
          <a:stretch/>
        </p:blipFill>
        <p:spPr>
          <a:xfrm>
            <a:off x="7572240" y="285840"/>
            <a:ext cx="15717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14200" y="642960"/>
            <a:ext cx="878688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6699"/>
                </a:solidFill>
                <a:latin typeface="Arial"/>
              </a:rPr>
              <a:t>Главное  </a:t>
            </a:r>
            <a:endParaRPr b="0" lang="en-US" sz="6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666699"/>
                </a:solidFill>
                <a:latin typeface="Arial"/>
              </a:rPr>
              <a:t>в  </a:t>
            </a:r>
            <a:r>
              <a:rPr b="1" lang="ru-RU" sz="7200" spc="-1" strike="noStrike">
                <a:solidFill>
                  <a:srgbClr val="666699"/>
                </a:solidFill>
                <a:latin typeface="Arial"/>
              </a:rPr>
              <a:t>само</a:t>
            </a:r>
            <a:r>
              <a:rPr b="1" lang="ru-RU" sz="6000" spc="-1" strike="noStrike">
                <a:solidFill>
                  <a:srgbClr val="666699"/>
                </a:solidFill>
                <a:latin typeface="Arial"/>
              </a:rPr>
              <a:t>образовании</a:t>
            </a:r>
            <a:endParaRPr b="0" lang="en-US" sz="6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i="1" lang="ru-RU" sz="8000" spc="-1" strike="noStrike" u="sng">
                <a:solidFill>
                  <a:srgbClr val="666699"/>
                </a:solidFill>
                <a:uFillTx/>
                <a:latin typeface="Arial"/>
              </a:rPr>
              <a:t>МОТИВ!</a:t>
            </a:r>
            <a:endParaRPr b="0" lang="en-US" sz="8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1" name="Рисунок 2" descr="i.jpg"/>
          <p:cNvPicPr/>
          <p:nvPr/>
        </p:nvPicPr>
        <p:blipFill>
          <a:blip r:embed="rId1"/>
          <a:stretch/>
        </p:blipFill>
        <p:spPr>
          <a:xfrm>
            <a:off x="4714920" y="2857680"/>
            <a:ext cx="3571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2"/>
          <p:cNvSpPr/>
          <p:nvPr/>
        </p:nvSpPr>
        <p:spPr>
          <a:xfrm>
            <a:off x="0" y="57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993300"/>
                </a:solidFill>
                <a:uFillTx/>
                <a:latin typeface="Arial"/>
              </a:rPr>
              <a:t>Источники самообразования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</p:txBody>
      </p:sp>
      <p:cxnSp>
        <p:nvCxnSpPr>
          <p:cNvPr id="113" name="Прямая со стрелкой 4"/>
          <p:cNvCxnSpPr/>
          <p:nvPr/>
        </p:nvCxnSpPr>
        <p:spPr>
          <a:xfrm flipH="1">
            <a:off x="2642760" y="1285560"/>
            <a:ext cx="35784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6"/>
          <p:cNvCxnSpPr/>
          <p:nvPr/>
        </p:nvCxnSpPr>
        <p:spPr>
          <a:xfrm flipH="1">
            <a:off x="4714560" y="135684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Прямая со стрелкой 8"/>
          <p:cNvCxnSpPr/>
          <p:nvPr/>
        </p:nvCxnSpPr>
        <p:spPr>
          <a:xfrm>
            <a:off x="6071040" y="1285560"/>
            <a:ext cx="42948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TextBox 14"/>
          <p:cNvSpPr/>
          <p:nvPr/>
        </p:nvSpPr>
        <p:spPr>
          <a:xfrm>
            <a:off x="300600" y="2143080"/>
            <a:ext cx="276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жизненный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0" y="3500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самопознание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572080" y="2000160"/>
            <a:ext cx="367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анализ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деятельности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8"/>
          <p:cNvSpPr/>
          <p:nvPr/>
        </p:nvSpPr>
        <p:spPr>
          <a:xfrm>
            <a:off x="1956960" y="533520"/>
            <a:ext cx="689688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993300"/>
                </a:solidFill>
                <a:uFillTx/>
                <a:latin typeface="Arial"/>
              </a:rPr>
              <a:t>Учитель – субъект </a:t>
            </a:r>
            <a:endParaRPr b="0" lang="en-US" sz="5400" spc="-1" strike="noStrike">
              <a:solidFill>
                <a:srgbClr val="9933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своего    </a:t>
            </a:r>
            <a:r>
              <a:rPr b="1" lang="ru-RU" sz="4800" spc="-1" strike="noStrike" u="sng">
                <a:solidFill>
                  <a:srgbClr val="993300"/>
                </a:solidFill>
                <a:uFillTx/>
                <a:latin typeface="Arial"/>
              </a:rPr>
              <a:t>развития</a:t>
            </a: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4800" spc="-1" strike="noStrike" u="sng">
                <a:solidFill>
                  <a:srgbClr val="993300"/>
                </a:solidFill>
                <a:uFillTx/>
                <a:latin typeface="Arial"/>
              </a:rPr>
              <a:t>и</a:t>
            </a: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        </a:t>
            </a: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постоянного 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профессионального 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993300"/>
                </a:solidFill>
                <a:uFillTx/>
                <a:latin typeface="Arial"/>
              </a:rPr>
              <a:t>само</a:t>
            </a:r>
            <a:r>
              <a:rPr b="1" lang="ru-RU" sz="4800" spc="-1" strike="noStrike" u="sng">
                <a:solidFill>
                  <a:srgbClr val="993300"/>
                </a:solidFill>
                <a:uFillTx/>
                <a:latin typeface="Arial"/>
              </a:rPr>
              <a:t>достраивания</a:t>
            </a:r>
            <a:r>
              <a:rPr b="0" lang="ru-RU" sz="4800" spc="-1" strike="noStrike" u="sng">
                <a:solidFill>
                  <a:srgbClr val="993300"/>
                </a:solidFill>
                <a:uFillTx/>
                <a:latin typeface="Arial"/>
              </a:rPr>
              <a:t>.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0" name="Рисунок 9" descr="iCA852L5B.jpg"/>
          <p:cNvPicPr/>
          <p:nvPr/>
        </p:nvPicPr>
        <p:blipFill>
          <a:blip r:embed="rId1"/>
          <a:stretch/>
        </p:blipFill>
        <p:spPr>
          <a:xfrm>
            <a:off x="0" y="714240"/>
            <a:ext cx="20001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0" y="-60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Двойная стрелка влево/вправо 3"/>
          <p:cNvSpPr/>
          <p:nvPr/>
        </p:nvSpPr>
        <p:spPr>
          <a:xfrm>
            <a:off x="3143160" y="1928880"/>
            <a:ext cx="3143520" cy="2000160"/>
          </a:xfrm>
          <a:prstGeom prst="leftRightArrow">
            <a:avLst>
              <a:gd name="adj1" fmla="val 50000"/>
              <a:gd name="adj2" fmla="val 50008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5086800" y="642960"/>
            <a:ext cx="38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«Рационалисты –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алгоритмисты»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5143680" y="4071960"/>
            <a:ext cx="4000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Arial"/>
              </a:rPr>
              <a:t>само</a:t>
            </a: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образовываются</a:t>
            </a:r>
            <a:r>
              <a:rPr b="0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стоянно,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но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по плану.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304200" y="714240"/>
            <a:ext cx="384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«Люди, укорененные 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в культуре»  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0" y="4071960"/>
            <a:ext cx="40719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Arial"/>
              </a:rPr>
              <a:t>само</a:t>
            </a:r>
            <a:r>
              <a:rPr b="1" lang="ru-RU" sz="2400" spc="-1" strike="noStrike" u="sng">
                <a:solidFill>
                  <a:srgbClr val="993300"/>
                </a:solidFill>
                <a:uFillTx/>
                <a:latin typeface="Arial"/>
              </a:rPr>
              <a:t>образовываются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стоянно, 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ничего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не планируют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7" name="Стрелка вниз 8"/>
          <p:cNvSpPr/>
          <p:nvPr/>
        </p:nvSpPr>
        <p:spPr>
          <a:xfrm>
            <a:off x="7358040" y="1571760"/>
            <a:ext cx="142920" cy="121428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Стрелка вниз 9"/>
          <p:cNvSpPr/>
          <p:nvPr/>
        </p:nvSpPr>
        <p:spPr>
          <a:xfrm>
            <a:off x="1571760" y="1643040"/>
            <a:ext cx="142920" cy="12859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9" name="Picture 3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3643200" y="4643280"/>
            <a:ext cx="179568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242640"/>
            <a:ext cx="885816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666699"/>
                </a:solidFill>
                <a:latin typeface="Arial"/>
              </a:rPr>
              <a:t>само</a:t>
            </a:r>
            <a:r>
              <a:rPr b="0" lang="ru-RU" sz="6600" spc="-1" strike="noStrike">
                <a:solidFill>
                  <a:srgbClr val="666699"/>
                </a:solidFill>
                <a:latin typeface="Arial"/>
              </a:rPr>
              <a:t>образование</a:t>
            </a:r>
            <a:r>
              <a:rPr b="0" lang="ru-RU" sz="6200" spc="-1" strike="noStrike">
                <a:solidFill>
                  <a:srgbClr val="666699"/>
                </a:solidFill>
                <a:latin typeface="Arial"/>
              </a:rPr>
              <a:t> –  </a:t>
            </a:r>
            <a:r>
              <a:rPr b="0" lang="ru-RU" sz="6600" spc="-1" strike="noStrike" u="sng">
                <a:solidFill>
                  <a:srgbClr val="666699"/>
                </a:solidFill>
                <a:uFillTx/>
                <a:latin typeface="Arial"/>
              </a:rPr>
              <a:t>произвольный,</a:t>
            </a:r>
            <a:endParaRPr b="0" lang="en-US" sz="6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6699"/>
                </a:solidFill>
                <a:latin typeface="Arial"/>
              </a:rPr>
              <a:t>   </a:t>
            </a:r>
            <a:r>
              <a:rPr b="0" lang="ru-RU" sz="6600" spc="-1" strike="noStrike" u="sng">
                <a:solidFill>
                  <a:srgbClr val="666699"/>
                </a:solidFill>
                <a:uFillTx/>
                <a:latin typeface="Arial"/>
              </a:rPr>
              <a:t>неуправляемый </a:t>
            </a:r>
            <a:endParaRPr b="0" lang="en-US" sz="6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6699"/>
                </a:solidFill>
                <a:latin typeface="Arial"/>
              </a:rPr>
              <a:t>     </a:t>
            </a:r>
            <a:r>
              <a:rPr b="0" lang="ru-RU" sz="6600" spc="-1" strike="noStrike">
                <a:solidFill>
                  <a:srgbClr val="666699"/>
                </a:solidFill>
                <a:latin typeface="Arial"/>
              </a:rPr>
              <a:t>процесс</a:t>
            </a:r>
            <a:r>
              <a:rPr b="0" lang="ru-RU" sz="6600" spc="-1" strike="noStrike" u="sng">
                <a:solidFill>
                  <a:srgbClr val="666699"/>
                </a:solidFill>
                <a:uFillTx/>
                <a:latin typeface="Arial"/>
              </a:rPr>
              <a:t> </a:t>
            </a:r>
            <a:endParaRPr b="0" lang="en-US" sz="6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6699"/>
                </a:solidFill>
                <a:latin typeface="Arial"/>
              </a:rPr>
              <a:t>     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6699"/>
                </a:solidFill>
                <a:latin typeface="Arial"/>
              </a:rPr>
              <a:t>                 </a:t>
            </a:r>
            <a:endParaRPr b="0" lang="en-US" sz="4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1" name="Picture 5" descr="maths"/>
          <p:cNvPicPr/>
          <p:nvPr/>
        </p:nvPicPr>
        <p:blipFill>
          <a:blip r:embed="rId1"/>
          <a:stretch/>
        </p:blipFill>
        <p:spPr>
          <a:xfrm>
            <a:off x="4678200" y="3770280"/>
            <a:ext cx="44658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0" y="466920"/>
            <a:ext cx="9144000" cy="79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8800" spc="-1" strike="noStrike">
                <a:solidFill>
                  <a:srgbClr val="cc3300"/>
                </a:solidFill>
                <a:latin typeface="Arial"/>
              </a:rPr>
              <a:t>само</a:t>
            </a:r>
            <a:r>
              <a:rPr b="0" i="1" lang="ru-RU" sz="6600" spc="-1" strike="noStrike">
                <a:solidFill>
                  <a:srgbClr val="cc3300"/>
                </a:solidFill>
                <a:latin typeface="Arial"/>
              </a:rPr>
              <a:t>образование</a:t>
            </a:r>
            <a:r>
              <a:rPr b="1" i="1" lang="ru-RU" sz="6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cc3300"/>
                </a:solidFill>
                <a:latin typeface="Arial"/>
              </a:rPr>
              <a:t> -</a:t>
            </a:r>
            <a:endParaRPr b="0" lang="en-US" sz="6000" spc="-1" strike="noStrike">
              <a:solidFill>
                <a:srgbClr val="99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 u="sng">
                <a:solidFill>
                  <a:srgbClr val="cc3300"/>
                </a:solidFill>
                <a:uFillTx/>
                <a:latin typeface="Arial"/>
              </a:rPr>
              <a:t>самоконтролируемый</a:t>
            </a:r>
            <a:endParaRPr b="0" lang="en-US" sz="6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i="1" lang="ru-RU" sz="6600" spc="-1" strike="noStrike">
                <a:solidFill>
                  <a:srgbClr val="cc3300"/>
                </a:solidFill>
                <a:latin typeface="Arial"/>
              </a:rPr>
              <a:t>процесс </a:t>
            </a:r>
            <a:endParaRPr b="0" lang="en-US" sz="6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62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666699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3" name="Picture 5" descr="pic3"/>
          <p:cNvPicPr/>
          <p:nvPr/>
        </p:nvPicPr>
        <p:blipFill>
          <a:blip r:embed="rId1"/>
          <a:stretch/>
        </p:blipFill>
        <p:spPr>
          <a:xfrm>
            <a:off x="5435640" y="4508640"/>
            <a:ext cx="3144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"/>
          <p:cNvSpPr/>
          <p:nvPr/>
        </p:nvSpPr>
        <p:spPr>
          <a:xfrm>
            <a:off x="0" y="39528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993300"/>
                </a:solidFill>
                <a:uFillTx/>
                <a:latin typeface="Arial"/>
              </a:rPr>
              <a:t>Проектные направления </a:t>
            </a:r>
            <a:r>
              <a:rPr b="1" lang="ru-RU" sz="4200" spc="-1" strike="noStrike">
                <a:solidFill>
                  <a:srgbClr val="993300"/>
                </a:solidFill>
                <a:latin typeface="Arial"/>
              </a:rPr>
              <a:t>:</a:t>
            </a:r>
            <a:endParaRPr b="0" lang="en-US" sz="42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расширение кругозора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развитие интеллекта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мировоззренческая подготовка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дидактическая подготовка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воспитательная подготовка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психологическая подготовка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дефектологическая подготовка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частнометодическая подготовка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подготовка в сфере ИКТ;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…</a:t>
            </a:r>
            <a:endParaRPr b="0" lang="en-US" sz="36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7:28:20Z</dcterms:created>
  <dc:creator>Sveta</dc:creator>
  <dc:description/>
  <dc:language>en-US</dc:language>
  <cp:lastModifiedBy>Admin</cp:lastModifiedBy>
  <dcterms:modified xsi:type="dcterms:W3CDTF">2013-04-09T21:35:58Z</dcterms:modified>
  <cp:revision>174</cp:revision>
  <dc:subject/>
  <dc:title>Слайд 1</dc:title>
</cp:coreProperties>
</file>