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gif" ContentType="image/gi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CAF0-6068-411A-99C0-8474B757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9E21-452E-42EE-A1EE-F9797DF5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F53E-49FA-432D-9D79-A09BE807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D1AA-D76B-4DCA-84FA-52B9D03F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480A-4F9F-4445-87D7-35993880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9CE5-8312-4FE1-92EB-6D109709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D613-00E6-49E8-A086-B441B0F1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71BC-C568-40EB-BD3D-9028CA89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99B3-59E3-4F46-95F8-638E9F12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B8CF-3DBD-4ACF-AC98-E1A2B7ED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9788-B50E-4CD1-B839-337C9B8D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5AFE-663F-4A06-9B7E-9256898C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66CB-27BC-42BE-BF16-32049662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5B0D-C139-4455-9552-B99A7DE3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6E14-A6C3-4810-A10F-F617DDC1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4D97-FBF4-434A-B70D-C7A1FF14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21C2-97C7-434B-AC85-3A527828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A231-D261-4F69-86E4-B614DC2F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BF48-92ED-4601-B778-F0D2FEE4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F02B-E0E8-480F-87E4-A35A6975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FD1D-A296-47B9-ACD8-0C2F9420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E979F-2549-457C-8956-2AE36FC0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8027-D87C-416F-ACA5-C37E26F8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6BB3-B764-430A-8DE4-7B4CFBB2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0A0E-9D08-409E-8061-3A32A979AC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CB14-BBCF-4164-B198-5B7477213F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0" y="0"/>
            <a:ext cx="9144000" cy="58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                    </a:t>
            </a:r>
            <a:r>
              <a:rPr b="1" lang="ru-RU" sz="4800" spc="-1" strike="noStrike" u="sng">
                <a:solidFill>
                  <a:srgbClr val="cc3300"/>
                </a:solidFill>
                <a:uFillTx/>
                <a:latin typeface="Arial"/>
              </a:rPr>
              <a:t>САМООБРАЗОВАНИЕ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 –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риобретение знаний путем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амостоятельных   занятий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без помощи преподавателя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.И. ОЖЕГОВ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7" name="Picture 6" descr="pic3"/>
          <p:cNvPicPr/>
          <p:nvPr/>
        </p:nvPicPr>
        <p:blipFill>
          <a:blip r:embed="rId1"/>
          <a:stretch/>
        </p:blipFill>
        <p:spPr>
          <a:xfrm>
            <a:off x="5786280" y="4699080"/>
            <a:ext cx="3144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85840" y="642960"/>
            <a:ext cx="32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ru-RU" sz="4400" spc="-1" strike="noStrike" u="sng">
                <a:solidFill>
                  <a:srgbClr val="993300"/>
                </a:solidFill>
                <a:uFillTx/>
                <a:latin typeface="Arial"/>
              </a:rPr>
              <a:t>план</a:t>
            </a: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5357880" y="64296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3300"/>
                </a:solidFill>
                <a:uFillTx/>
                <a:latin typeface="Arial"/>
              </a:rPr>
              <a:t>программа</a:t>
            </a: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cxnSp>
        <p:nvCxnSpPr>
          <p:cNvPr id="137" name="Прямая со стрелкой 4"/>
          <p:cNvCxnSpPr/>
          <p:nvPr/>
        </p:nvCxnSpPr>
        <p:spPr>
          <a:xfrm flipH="1">
            <a:off x="1641240" y="178560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Прямая со стрелкой 6"/>
          <p:cNvCxnSpPr/>
          <p:nvPr/>
        </p:nvCxnSpPr>
        <p:spPr>
          <a:xfrm flipH="1">
            <a:off x="6857640" y="157140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TextBox 7"/>
          <p:cNvSpPr/>
          <p:nvPr/>
        </p:nvSpPr>
        <p:spPr>
          <a:xfrm>
            <a:off x="-428760" y="221472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учебный год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605480" y="2286000"/>
            <a:ext cx="45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длительный период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0160" y="3214800"/>
            <a:ext cx="41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простая структура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4572000" y="321480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сложная структура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и содержание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6840" y="478620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создаётся сразу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4581720" y="4786200"/>
            <a:ext cx="472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создаётся по этапам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или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корректируется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0" y="428760"/>
            <a:ext cx="93582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993300"/>
                </a:solidFill>
                <a:uFillTx/>
                <a:latin typeface="Arial"/>
              </a:rPr>
              <a:t>Как стимулировать самообразование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личный пример руководителя;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эффект заражения;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действеннаяличностная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роблематизация;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риглашение ярких людей;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осещение и анализ урока;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росвещение, разъяснение, аргументы в пользу самообразования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0" y="42876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Arial"/>
              </a:rPr>
              <a:t>стимулирование    самообразования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по теме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компетентностный подход в обучении школьников» 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0" y="2857680"/>
            <a:ext cx="9144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Этапы: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Просвещение, разъяснение, аргументы.      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                                   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(ПЕДСОВЕТ)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2.Действенная личностная проблематизация.    (ГОТОВИМ УРОК !)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3.Посещение, уроков. (ФЕСТИВАЛЬ !)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18"/>
            </a:gs>
            <a:gs pos="50000">
              <a:srgbClr val="99ff33"/>
            </a:gs>
            <a:gs pos="100000">
              <a:srgbClr val="47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0" y="5868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lang="ru-RU" sz="7200" spc="-1" strike="noStrike">
                <a:solidFill>
                  <a:srgbClr val="cc3300"/>
                </a:solidFill>
                <a:latin typeface="Arial"/>
              </a:rPr>
              <a:t>Нельзя научить, </a:t>
            </a:r>
            <a:endParaRPr b="0" lang="en-US" sz="72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1" lang="ru-RU" sz="7200" spc="-1" strike="noStrike">
                <a:solidFill>
                  <a:srgbClr val="cc3300"/>
                </a:solidFill>
                <a:latin typeface="Arial"/>
              </a:rPr>
              <a:t>можно только </a:t>
            </a:r>
            <a:endParaRPr b="0" lang="en-US" sz="72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Arial"/>
              </a:rPr>
              <a:t>Н     научиться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».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9" name="Picture 5" descr="дети"/>
          <p:cNvPicPr/>
          <p:nvPr/>
        </p:nvPicPr>
        <p:blipFill>
          <a:blip r:embed="rId1"/>
          <a:stretch/>
        </p:blipFill>
        <p:spPr>
          <a:xfrm>
            <a:off x="7380360" y="4365720"/>
            <a:ext cx="1315800" cy="187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6класс"/>
          <p:cNvPicPr/>
          <p:nvPr/>
        </p:nvPicPr>
        <p:blipFill>
          <a:blip r:embed="rId2"/>
          <a:stretch/>
        </p:blipFill>
        <p:spPr>
          <a:xfrm>
            <a:off x="0" y="2781360"/>
            <a:ext cx="25369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одготовила учитель английского языка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57320" y="42148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818ff"/>
                </a:solidFill>
                <a:latin typeface="Arial"/>
              </a:rPr>
              <a:t>Мишхожева Анжела Хадокшуко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18"/>
            </a:gs>
            <a:gs pos="50000">
              <a:srgbClr val="66ff33"/>
            </a:gs>
            <a:gs pos="100000">
              <a:srgbClr val="2f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785880"/>
            <a:ext cx="914400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666699"/>
                </a:solidFill>
                <a:uFillTx/>
                <a:latin typeface="Arial"/>
              </a:rPr>
              <a:t>само</a:t>
            </a:r>
            <a:r>
              <a:rPr b="1" lang="ru-RU" sz="5400" spc="-1" strike="noStrike" u="sng">
                <a:solidFill>
                  <a:srgbClr val="666699"/>
                </a:solidFill>
                <a:uFillTx/>
                <a:latin typeface="Arial"/>
              </a:rPr>
              <a:t>образование</a:t>
            </a: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 –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один из </a:t>
            </a:r>
            <a:r>
              <a:rPr b="1" lang="ru-RU" sz="6000" spc="-1" strike="noStrike" u="sng">
                <a:solidFill>
                  <a:srgbClr val="666699"/>
                </a:solidFill>
                <a:uFillTx/>
                <a:latin typeface="Arial"/>
              </a:rPr>
              <a:t>добровольных</a:t>
            </a: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путей повышения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профессионального 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       </a:t>
            </a: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мастерства педагога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9" name="Picture 6" descr="Image700"/>
          <p:cNvPicPr/>
          <p:nvPr/>
        </p:nvPicPr>
        <p:blipFill>
          <a:blip r:embed="rId1"/>
          <a:stretch/>
        </p:blipFill>
        <p:spPr>
          <a:xfrm>
            <a:off x="7572240" y="285840"/>
            <a:ext cx="1571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14200" y="642960"/>
            <a:ext cx="878688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699"/>
                </a:solidFill>
                <a:latin typeface="Arial"/>
              </a:rPr>
              <a:t>Главное  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666699"/>
                </a:solidFill>
                <a:latin typeface="Arial"/>
              </a:rPr>
              <a:t>в  </a:t>
            </a:r>
            <a:r>
              <a:rPr b="1" lang="ru-RU" sz="7200" spc="-1" strike="noStrike">
                <a:solidFill>
                  <a:srgbClr val="666699"/>
                </a:solidFill>
                <a:latin typeface="Arial"/>
              </a:rPr>
              <a:t>само</a:t>
            </a:r>
            <a:r>
              <a:rPr b="1" lang="ru-RU" sz="6000" spc="-1" strike="noStrike">
                <a:solidFill>
                  <a:srgbClr val="666699"/>
                </a:solidFill>
                <a:latin typeface="Arial"/>
              </a:rPr>
              <a:t>образовании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i="1" lang="ru-RU" sz="8000" spc="-1" strike="noStrike" u="sng">
                <a:solidFill>
                  <a:srgbClr val="666699"/>
                </a:solidFill>
                <a:uFillTx/>
                <a:latin typeface="Arial"/>
              </a:rPr>
              <a:t>МОТИВ!</a:t>
            </a:r>
            <a:endParaRPr b="0" lang="en-US" sz="8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Рисунок 2" descr="i.jpg"/>
          <p:cNvPicPr/>
          <p:nvPr/>
        </p:nvPicPr>
        <p:blipFill>
          <a:blip r:embed="rId1"/>
          <a:stretch/>
        </p:blipFill>
        <p:spPr>
          <a:xfrm>
            <a:off x="4714920" y="2857680"/>
            <a:ext cx="3571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2"/>
          <p:cNvSpPr/>
          <p:nvPr/>
        </p:nvSpPr>
        <p:spPr>
          <a:xfrm>
            <a:off x="0" y="57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993300"/>
                </a:solidFill>
                <a:uFillTx/>
                <a:latin typeface="Arial"/>
              </a:rPr>
              <a:t>Источники самообразования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</p:txBody>
      </p:sp>
      <p:cxnSp>
        <p:nvCxnSpPr>
          <p:cNvPr id="113" name="Прямая со стрелкой 4"/>
          <p:cNvCxnSpPr/>
          <p:nvPr/>
        </p:nvCxnSpPr>
        <p:spPr>
          <a:xfrm flipH="1">
            <a:off x="2642760" y="1285560"/>
            <a:ext cx="35784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6"/>
          <p:cNvCxnSpPr/>
          <p:nvPr/>
        </p:nvCxnSpPr>
        <p:spPr>
          <a:xfrm flipH="1">
            <a:off x="4714560" y="135684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Прямая со стрелкой 8"/>
          <p:cNvCxnSpPr/>
          <p:nvPr/>
        </p:nvCxnSpPr>
        <p:spPr>
          <a:xfrm>
            <a:off x="6071040" y="1285560"/>
            <a:ext cx="42948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TextBox 14"/>
          <p:cNvSpPr/>
          <p:nvPr/>
        </p:nvSpPr>
        <p:spPr>
          <a:xfrm>
            <a:off x="300600" y="2143080"/>
            <a:ext cx="276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жизненный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0" y="3500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самопознание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572080" y="2000160"/>
            <a:ext cx="367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анализ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деятельности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8"/>
          <p:cNvSpPr/>
          <p:nvPr/>
        </p:nvSpPr>
        <p:spPr>
          <a:xfrm>
            <a:off x="1956960" y="533520"/>
            <a:ext cx="689688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993300"/>
                </a:solidFill>
                <a:uFillTx/>
                <a:latin typeface="Arial"/>
              </a:rPr>
              <a:t>Учитель – субъект 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своего    </a:t>
            </a:r>
            <a:r>
              <a:rPr b="1" lang="ru-RU" sz="4800" spc="-1" strike="noStrike" u="sng">
                <a:solidFill>
                  <a:srgbClr val="993300"/>
                </a:solidFill>
                <a:uFillTx/>
                <a:latin typeface="Arial"/>
              </a:rPr>
              <a:t>развития</a:t>
            </a: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4800" spc="-1" strike="noStrike" u="sng">
                <a:solidFill>
                  <a:srgbClr val="993300"/>
                </a:solidFill>
                <a:uFillTx/>
                <a:latin typeface="Arial"/>
              </a:rPr>
              <a:t>и</a:t>
            </a: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постоянного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профессионального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993300"/>
                </a:solidFill>
                <a:uFillTx/>
                <a:latin typeface="Arial"/>
              </a:rPr>
              <a:t>само</a:t>
            </a:r>
            <a:r>
              <a:rPr b="1" lang="ru-RU" sz="4800" spc="-1" strike="noStrike" u="sng">
                <a:solidFill>
                  <a:srgbClr val="993300"/>
                </a:solidFill>
                <a:uFillTx/>
                <a:latin typeface="Arial"/>
              </a:rPr>
              <a:t>достраивания</a:t>
            </a:r>
            <a:r>
              <a:rPr b="0" lang="ru-RU" sz="4800" spc="-1" strike="noStrike" u="sng">
                <a:solidFill>
                  <a:srgbClr val="993300"/>
                </a:solidFill>
                <a:uFillTx/>
                <a:latin typeface="Arial"/>
              </a:rPr>
              <a:t>.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Рисунок 9" descr="iCA852L5B.jpg"/>
          <p:cNvPicPr/>
          <p:nvPr/>
        </p:nvPicPr>
        <p:blipFill>
          <a:blip r:embed="rId1"/>
          <a:stretch/>
        </p:blipFill>
        <p:spPr>
          <a:xfrm>
            <a:off x="0" y="714240"/>
            <a:ext cx="20001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-60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Двойная стрелка влево/вправо 3"/>
          <p:cNvSpPr/>
          <p:nvPr/>
        </p:nvSpPr>
        <p:spPr>
          <a:xfrm>
            <a:off x="3143160" y="1928880"/>
            <a:ext cx="3143520" cy="2000160"/>
          </a:xfrm>
          <a:prstGeom prst="leftRightArrow">
            <a:avLst>
              <a:gd name="adj1" fmla="val 50000"/>
              <a:gd name="adj2" fmla="val 50008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086800" y="642960"/>
            <a:ext cx="38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«Рационалисты –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алгоритмисты»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5143680" y="4071960"/>
            <a:ext cx="4000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Arial"/>
              </a:rPr>
              <a:t>само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образовываются</a:t>
            </a:r>
            <a:r>
              <a:rPr b="0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стоянно,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но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о плану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304200" y="71424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«Люди, укорененные 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в культуре» 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0" y="4071960"/>
            <a:ext cx="4071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Arial"/>
              </a:rPr>
              <a:t>само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образовываются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стоянно, 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ничего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 планируют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Стрелка вниз 8"/>
          <p:cNvSpPr/>
          <p:nvPr/>
        </p:nvSpPr>
        <p:spPr>
          <a:xfrm>
            <a:off x="7358040" y="1571760"/>
            <a:ext cx="142920" cy="121428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Стрелка вниз 9"/>
          <p:cNvSpPr/>
          <p:nvPr/>
        </p:nvSpPr>
        <p:spPr>
          <a:xfrm>
            <a:off x="1571760" y="1643040"/>
            <a:ext cx="142920" cy="12859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9" name="Picture 3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3643200" y="4643280"/>
            <a:ext cx="17956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242640"/>
            <a:ext cx="885816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66699"/>
                </a:solidFill>
                <a:latin typeface="Arial"/>
              </a:rPr>
              <a:t>само</a:t>
            </a: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образование</a:t>
            </a:r>
            <a:r>
              <a:rPr b="0" lang="ru-RU" sz="6200" spc="-1" strike="noStrike">
                <a:solidFill>
                  <a:srgbClr val="666699"/>
                </a:solidFill>
                <a:latin typeface="Arial"/>
              </a:rPr>
              <a:t> –  </a:t>
            </a:r>
            <a:r>
              <a:rPr b="0" lang="ru-RU" sz="6600" spc="-1" strike="noStrike" u="sng">
                <a:solidFill>
                  <a:srgbClr val="666699"/>
                </a:solidFill>
                <a:uFillTx/>
                <a:latin typeface="Arial"/>
              </a:rPr>
              <a:t>произвольный,</a:t>
            </a: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ru-RU" sz="6600" spc="-1" strike="noStrike" u="sng">
                <a:solidFill>
                  <a:srgbClr val="666699"/>
                </a:solidFill>
                <a:uFillTx/>
                <a:latin typeface="Arial"/>
              </a:rPr>
              <a:t>неуправляемый </a:t>
            </a: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     </a:t>
            </a: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процесс</a:t>
            </a:r>
            <a:r>
              <a:rPr b="0" lang="ru-RU" sz="6600" spc="-1" strike="noStrike" u="sng">
                <a:solidFill>
                  <a:srgbClr val="666699"/>
                </a:solidFill>
                <a:uFillTx/>
                <a:latin typeface="Arial"/>
              </a:rPr>
              <a:t> </a:t>
            </a: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6699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6699"/>
                </a:solidFill>
                <a:latin typeface="Arial"/>
              </a:rPr>
              <a:t>                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1" name="Picture 5" descr="maths"/>
          <p:cNvPicPr/>
          <p:nvPr/>
        </p:nvPicPr>
        <p:blipFill>
          <a:blip r:embed="rId1"/>
          <a:stretch/>
        </p:blipFill>
        <p:spPr>
          <a:xfrm>
            <a:off x="4678200" y="3770280"/>
            <a:ext cx="44658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0" y="466920"/>
            <a:ext cx="9144000" cy="79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8800" spc="-1" strike="noStrike">
                <a:solidFill>
                  <a:srgbClr val="cc3300"/>
                </a:solidFill>
                <a:latin typeface="Arial"/>
              </a:rPr>
              <a:t>само</a:t>
            </a:r>
            <a:r>
              <a:rPr b="0" i="1" lang="ru-RU" sz="6600" spc="-1" strike="noStrike">
                <a:solidFill>
                  <a:srgbClr val="cc3300"/>
                </a:solidFill>
                <a:latin typeface="Arial"/>
              </a:rPr>
              <a:t>образование</a:t>
            </a:r>
            <a:r>
              <a:rPr b="1" i="1" lang="ru-RU" sz="6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 -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cc3300"/>
                </a:solidFill>
                <a:uFillTx/>
                <a:latin typeface="Arial"/>
              </a:rPr>
              <a:t>самоконтролируемый</a:t>
            </a: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ru-RU" sz="6600" spc="-1" strike="noStrike">
                <a:solidFill>
                  <a:srgbClr val="cc3300"/>
                </a:solidFill>
                <a:latin typeface="Arial"/>
              </a:rPr>
              <a:t>процесс </a:t>
            </a: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3" name="Picture 5" descr="pic3"/>
          <p:cNvPicPr/>
          <p:nvPr/>
        </p:nvPicPr>
        <p:blipFill>
          <a:blip r:embed="rId1"/>
          <a:stretch/>
        </p:blipFill>
        <p:spPr>
          <a:xfrm>
            <a:off x="5435640" y="4508640"/>
            <a:ext cx="3144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0" y="39528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993300"/>
                </a:solidFill>
                <a:uFillTx/>
                <a:latin typeface="Arial"/>
              </a:rPr>
              <a:t>Проектные направления </a:t>
            </a: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расширение кругозор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развитие интеллект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мировоззренческ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дидактическ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воспитательн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психологическ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дефектологическ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частнометодическ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подготовка в сфере ИКТ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…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7:28:20Z</dcterms:created>
  <dc:creator>Sveta</dc:creator>
  <dc:description/>
  <dc:language>en-US</dc:language>
  <cp:lastModifiedBy>Admin</cp:lastModifiedBy>
  <dcterms:modified xsi:type="dcterms:W3CDTF">2013-04-09T21:35:58Z</dcterms:modified>
  <cp:revision>174</cp:revision>
  <dc:subject/>
  <dc:title>Слайд 1</dc:title>
</cp:coreProperties>
</file>