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589E-AE47-44C6-ABE3-04BB94EB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17F0-2640-461E-AA9C-B5CB0202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A147-D354-4205-A26D-56471B6E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8950-5FFF-47D7-B44A-45BFFE71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5259-A746-47AA-9642-16FC89E9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B6A8-AA9F-45E2-B1F5-F6D55AE6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CF84-DF6D-40D6-B3E4-0A8F8051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52B4-68CD-41BC-886E-04E9C6F6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8B15-26E0-49D9-A4E7-30E074B7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6E04-BCA6-4DC2-8993-1FA36926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B1E4-7894-4D42-8B48-9CA4ED13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2D2A-02D3-46AA-A23E-224BA992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AD08-C1BE-4831-90F1-AB03B2887A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netically Modified Fo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.t. Cor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insecticidal protein from the bacteria Bacillus thuringiensis is put into co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: Corn is protected from pests, so chemical pesticides are not necess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3046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development: Banana Vaccin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ral proteins for infectious diseases such as Hepatitis B will be put into banan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: Ability to efficiently vaccinate people world-w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200400" y="2971800"/>
            <a:ext cx="187020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tential Safety Concer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s have multiple functions, especially when they work in conjunction with other g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may transfer genes that have other functions we don’t w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enes may develop new functions when they interact with a new gen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tential Safety Concer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smids: functions (especially undesirable ones) may transfer to other organisms in the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lination: When plants spread seeds, other farms could pick up transgenic traits without realizing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tential Safety Concer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 transgenic foods haven’t been around long, nobody can study the long-term effects of eating these foods y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se are just the safety issues–there’s a lot more to consid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for y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the benefits of golden rice worth the risks?  Why or why no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the benefits of Siberian tomatoes worth the risks?  Why or why no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you decide what type of genetically modified food is worth the risk of eat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U currently bans the importation of live genetically modified plants but does import genetically modified foods.  Is this good polic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netically Modified Foo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does not qualify as a genetically modified foo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us catt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ernsey dairy c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hode Island red chick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cco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) None of the abov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are almost no foods you eat that come from naturally occurring spe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rmers have been selectively breeding, cross-pollinating, etc. for thousands of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lant Genetic Modification (GM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e gene or genes artifici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can be described as “transgenic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gan in late 1970s – development of DNA mani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ined knowledge of how to cut DNA molecules at particular points and glue back together – recombinant DNA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vantages of G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cision – involve only individual genes that are desir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s can act on only a specific part of plant or a particular portion of its life cy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fety of protein produced by gene can be studied prior to use in GM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d crop y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d crop characteri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 pesticide use – insect resistant and/or herbicide resistant cr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advantages of G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est more time &amp; money than program of random mu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rriers and restrictions to GM crop development – regulations in some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fety?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M Statistic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2001, 6% of total world agriculture were GM cro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gt; 50% of world’s soybean crop is genetically mod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tries growing GM crops: US, Canada, Argentina, Uruguay, Mexico, Spain, Bulgaria, Ukraine, Romania, China, South Africa, Austral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olden R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itamin A-producing gene is taken out of a red pepper and put into r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: Could save millions of children world-wide from blind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581280" y="3124080"/>
            <a:ext cx="15685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berian Tomatoes (Strawberries, too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ti-freeze-producing gene is taken out of a flounder and put into tomato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: Tomatoes that can be shipped at lower temperatures, less rotting, less waste, and more profit for tomato grow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3200400" y="2971800"/>
            <a:ext cx="274320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23:16:31Z</dcterms:created>
  <dc:creator>Alison Lockman</dc:creator>
  <dc:description/>
  <dc:language>en-US</dc:language>
  <cp:lastModifiedBy>Зингейская СОШ</cp:lastModifiedBy>
  <dcterms:modified xsi:type="dcterms:W3CDTF">2013-02-27T07:06:50Z</dcterms:modified>
  <cp:revision>16</cp:revision>
  <dc:subject/>
  <dc:title>Finally…Genetically Modified Food</dc:title>
</cp:coreProperties>
</file>