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BBC-C4F7-4F2D-9CE9-6AE4EBFE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EF4-A4CE-463D-AFA4-698B6BCD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7F51-F8B7-462A-9DC1-EDD898EC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DE0-FD1D-4098-B6A9-DC606F0F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75B-6E21-4D25-9392-04D896FA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B50-236D-4B81-9EFE-68F04698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4BF-075C-4FC8-BC66-636F18F5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EAF-AD70-4573-ABE8-4875F9FA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59A-9C53-4E6A-B01D-E18766E5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B35F-AF6B-4DCF-A59C-F436243C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F4E-854A-417E-B697-8074B5E4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B3C-8DA5-4B6C-88C2-3D3FAAC2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8449-2DD3-4EA3-B47A-EF9DAA244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etically Modified F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.t. Co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secticidal protein from the bacteria Bacillus thuringiensis is put into c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: Corn is protected from pests, so chemical pesticides are not necess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04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development: Banana Vaccin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al proteins for infectious diseases such as Hepatitis B will be put into bana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: Ability to efficiently vaccinate people world-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18702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Safety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 have multiple functions, especially when they work in conjunction with other ge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may transfer genes that have other functions we don’t w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enes may develop new functions when they interact with a new gen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Safety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smids: functions (especially undesirable ones) may transfer to other organism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llination: When plants spread seeds, other farms could pick up transgenic traits without realizing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Safety Concer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transgenic foods haven’t been around long, nobody can study the long-term effects of eating these foods y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se are just the safety issues–there’s a lot more to consid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for y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the benefits of golden rice worth the risks?  Why or why n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the benefits of Siberian tomatoes worth the risks?  Why or why n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you decide what type of genetically modified food is worth the risk of eat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U currently bans the importation of live genetically modified plants but does import genetically modified foods.  Is this good polic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etically Modified Fo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does not qualify as a genetically modified foo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s cat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ernsey dairy c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hode Island red chick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cc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) None of the abov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almost no foods you eat that come from naturally occurring 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rmers have been selectively breeding, cross-pollinating, etc. for thousand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lant Genetic Modification (G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gene or genes artifici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can be described as “transgeni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gan in late 1970s – development of DN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ined knowledge of how to cut DNA molecules at particular points and glue back together – recombinant DNA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dvantages of G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cision – involve only individual genes that are desi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s can act on only a specific part of plant or a particular portion of its life cy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ty of protein produced by gene can be studied prior to use in GM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crop y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crop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pesticide use – insect resistant and/or herbicide resistant cr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advantages of G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st more time &amp; money than program of random mu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riers and restrictions to GM crop development – regulations in some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M Statis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2001, 6% of total world agriculture were GM cr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 50% of world’s soybean crop is genetically mod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ries growing GM crops: US, Canada, Argentina, Uruguay, Mexico, Spain, Bulgaria, Ukraine, Romania, China, South Africa, Austra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lden R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tamin A-producing gene is taken out of a red pepper and put into r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: Could save millions of children world-wide from blind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15685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berian Tomatoes (Strawberries, too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ti-freeze-producing gene is taken out of a flounder and put into tomat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: Tomatoes that can be shipped at lower temperatures, less rotting, less waste, and more profit for tomato gr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200400" y="2971800"/>
            <a:ext cx="27432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23:16:31Z</dcterms:created>
  <dc:creator>Alison Lockman</dc:creator>
  <dc:description/>
  <dc:language>en-US</dc:language>
  <cp:lastModifiedBy>Зингейская СОШ</cp:lastModifiedBy>
  <dcterms:modified xsi:type="dcterms:W3CDTF">2013-02-27T07:06:50Z</dcterms:modified>
  <cp:revision>16</cp:revision>
  <dc:subject/>
  <dc:title>Finally…Genetically Modified Food</dc:title>
</cp:coreProperties>
</file>