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move the slide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4179-7E5A-431B-A119-C3755E110F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5C21-C088-44CD-8A3A-9EDA1A5C2C62}" type="slidenum">
              <a:rPr b="0" lang="ru-RU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A7F6-9318-441A-974F-DCC0394D2D2F}" type="slidenum">
              <a:rPr b="0" lang="ru-RU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408E-019A-421C-B997-7818E85F6313}" type="slidenum">
              <a:rPr b="0" lang="ru-RU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BBB7-E7F0-46AE-8CC4-14FE2B7DB0DC}" type="slidenum">
              <a:rPr b="0" lang="ru-RU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4CD1-AC6C-4CDF-897B-B1CD3447C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5164-0F4C-4853-9D13-0329FB75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1AD2-6B14-4438-88D1-922D17811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4C50-A266-4E29-8E27-07E950524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5B7A-4331-48CE-B0A6-F18202491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5497-16A3-47EF-AEEA-0FBAB1B1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1789-024E-4ED7-8E18-1732C21A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A10B-9D66-443D-9631-6C282A27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EFFE-2069-4471-908E-22056C1A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469D-5052-454C-B6C0-F4787CB0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6A16-E904-40BA-8C19-5B5DCEA9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6217-4136-4458-8BAD-AE1E10F9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F720-E5B0-4583-92C2-00E87001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5641-FE3A-4881-9923-ACB02F39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FFA7-D681-4A9E-97CA-6A5F49D7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9292-78AC-4C5E-A177-CA6337B10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795F-E8AE-4254-840D-2F2E0B5F0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44453-123A-4BC4-AD7D-D10168EA6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06747-1AD2-44C6-864E-ACCF3D1D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268C2-EAB8-4D38-90B9-09F6FCA8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26995-07E2-4490-8829-91507127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EA543-0C84-4258-A32D-062214FC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876E-B41B-48BB-925A-E1D3383D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FFCB1-A796-4D97-BF8D-BAE9CCE5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78924-7102-41F9-9127-86180C28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E3146-4212-4460-8786-C1CD4B96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70E14-2D68-432E-8F34-97B3996F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A919B-8727-4F91-8683-305F743E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8D30E-EB0D-43C2-AF33-C1D9EF217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7A8EA-08A0-4AD2-A9AB-802CCE908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9E535-8659-42AF-8A46-C229610B1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EEB60-98D7-4D84-AD0C-EA2C648C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599C9-ED75-490C-B2DA-B20B552A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D384-DF5D-4C16-84E3-EFFBC6D7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3AF50-AD93-4AAF-9544-C7826ABF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973CF-1137-44CF-83A6-136BDA3D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61855-B7E7-4319-96E3-F78A9AF0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FF5A1-8485-40FC-9944-379EA8D8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F71B1-9CAF-473B-91DB-59B3350A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3A186-B0CD-45A0-B566-5A2B2050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8D692-1F28-4115-B058-912DA99B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0236E-4FAC-43FE-A5BF-59C9789A3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88ECA-E959-4293-9929-7603F306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7C0AB-29E6-4E70-B417-12F99BA26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01F1-A1D4-4100-9CD8-6728F810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22861-CE98-4AC8-9917-6360EBDD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2605B-3FFC-4C2F-AD82-31D2F20A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8CDA8-530E-4666-94D7-D383322B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F41EA-7DA5-4026-B404-79AB4E41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08A1A-17D5-4832-B8B4-5B989F96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C40C8-8500-48F7-AE70-B09C8CDB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E70D6-0F0D-4F5E-AE72-C08937D6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59454-ABF0-4DDA-B72E-4752AF18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F8BE6-1ED6-46AE-B53E-497DE497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C2BC9-A220-4556-8A48-B9EF2D3EF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B823-91A8-4625-ACE0-BE750AC4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0EBB2-7964-446F-8E2D-F1E40A955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0ECD-B0E8-4ED4-870F-9B54DB8B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4D64-CDBC-4844-A244-7F79AFF6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6AF2-B3C0-47E2-B335-754BFE8F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6DB7-3AB8-44DB-9DB8-02C3647E9B0A}" type="slidenum">
              <a:rPr b="0" lang="ru-RU" sz="1200" spc="-1" strike="noStrike">
                <a:solidFill>
                  <a:srgbClr val="dbf5f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-720" y="-30240"/>
            <a:ext cx="9068040" cy="6890040"/>
            <a:chOff x="-720" y="-30240"/>
            <a:chExt cx="9068040" cy="6890040"/>
          </a:xfrm>
        </p:grpSpPr>
        <p:sp>
          <p:nvSpPr>
            <p:cNvPr id="43" name="Straight Connector 109"/>
            <p:cNvSpPr/>
            <p:nvPr/>
          </p:nvSpPr>
          <p:spPr>
            <a:xfrm>
              <a:off x="1904040" y="0"/>
              <a:ext cx="1522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600200" y="0"/>
              <a:ext cx="3808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752480" y="0"/>
              <a:ext cx="3808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75600" y="0"/>
              <a:ext cx="228600" cy="6858000"/>
            </a:xfrm>
            <a:prstGeom prst="line">
              <a:avLst/>
            </a:prstGeom>
            <a:ln w="28440">
              <a:solidFill>
                <a:srgbClr val="0f6fc6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-720" y="0"/>
              <a:ext cx="22860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600200" y="0"/>
              <a:ext cx="914400" cy="6858000"/>
            </a:xfrm>
            <a:prstGeom prst="line">
              <a:avLst/>
            </a:prstGeom>
            <a:ln w="28440">
              <a:solidFill>
                <a:srgbClr val="0f6fc6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380880" y="0"/>
              <a:ext cx="457200" cy="6858000"/>
            </a:xfrm>
            <a:prstGeom prst="line">
              <a:avLst/>
            </a:prstGeom>
            <a:ln w="9360">
              <a:solidFill>
                <a:srgbClr val="0f6fc6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33160" y="0"/>
              <a:ext cx="380880" cy="6858000"/>
            </a:xfrm>
            <a:prstGeom prst="line">
              <a:avLst/>
            </a:prstGeom>
            <a:ln w="1260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066680" y="0"/>
              <a:ext cx="457200" cy="6858000"/>
            </a:xfrm>
            <a:prstGeom prst="line">
              <a:avLst/>
            </a:prstGeom>
            <a:ln w="38160">
              <a:solidFill>
                <a:srgbClr val="0f6fc6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52280" y="0"/>
              <a:ext cx="30456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523160" y="0"/>
              <a:ext cx="1522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32440" y="0"/>
              <a:ext cx="1522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685080" y="0"/>
              <a:ext cx="609480" cy="6858000"/>
            </a:xfrm>
            <a:prstGeom prst="line">
              <a:avLst/>
            </a:prstGeom>
            <a:ln w="1584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990360" y="0"/>
              <a:ext cx="1412640" cy="6858000"/>
            </a:xfrm>
            <a:prstGeom prst="line">
              <a:avLst/>
            </a:prstGeom>
            <a:ln w="9360">
              <a:solidFill>
                <a:srgbClr val="0f6fc6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135160" y="0"/>
              <a:ext cx="30312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361960" y="0"/>
              <a:ext cx="30456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371600" y="0"/>
              <a:ext cx="403200" cy="6858000"/>
            </a:xfrm>
            <a:prstGeom prst="line">
              <a:avLst/>
            </a:prstGeom>
            <a:ln w="1260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09480" y="0"/>
              <a:ext cx="352080" cy="6858000"/>
            </a:xfrm>
            <a:prstGeom prst="line">
              <a:avLst/>
            </a:prstGeom>
            <a:ln w="1584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370880" y="0"/>
              <a:ext cx="206280" cy="6858000"/>
            </a:xfrm>
            <a:prstGeom prst="line">
              <a:avLst/>
            </a:prstGeom>
            <a:ln w="50760">
              <a:solidFill>
                <a:srgbClr val="0f6fc6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989640" y="0"/>
              <a:ext cx="1522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218240" y="0"/>
              <a:ext cx="1522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418640" y="0"/>
              <a:ext cx="1522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114800" y="0"/>
              <a:ext cx="3808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267080" y="0"/>
              <a:ext cx="380880" cy="6858000"/>
            </a:xfrm>
            <a:prstGeom prst="line">
              <a:avLst/>
            </a:prstGeom>
            <a:ln w="47520">
              <a:solidFill>
                <a:srgbClr val="0f6fc6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590200" y="0"/>
              <a:ext cx="228600" cy="6858000"/>
            </a:xfrm>
            <a:prstGeom prst="line">
              <a:avLst/>
            </a:prstGeom>
            <a:ln w="28440">
              <a:solidFill>
                <a:srgbClr val="0f6fc6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513880" y="0"/>
              <a:ext cx="22860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274920" y="1440"/>
              <a:ext cx="2880" cy="6858000"/>
            </a:xfrm>
            <a:prstGeom prst="line">
              <a:avLst/>
            </a:prstGeom>
            <a:ln w="28440">
              <a:solidFill>
                <a:srgbClr val="0f6fc6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2895480" y="0"/>
              <a:ext cx="457200" cy="6858000"/>
            </a:xfrm>
            <a:prstGeom prst="line">
              <a:avLst/>
            </a:prstGeom>
            <a:ln w="47520">
              <a:solidFill>
                <a:srgbClr val="0f6fc6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047760" y="0"/>
              <a:ext cx="380880" cy="6858000"/>
            </a:xfrm>
            <a:prstGeom prst="line">
              <a:avLst/>
            </a:prstGeom>
            <a:ln w="50760">
              <a:solidFill>
                <a:srgbClr val="0f6fc6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581280" y="0"/>
              <a:ext cx="457200" cy="6858000"/>
            </a:xfrm>
            <a:prstGeom prst="line">
              <a:avLst/>
            </a:prstGeom>
            <a:ln w="38160">
              <a:solidFill>
                <a:srgbClr val="0f6fc6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666880" y="0"/>
              <a:ext cx="30456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037760" y="0"/>
              <a:ext cx="152280" cy="6858000"/>
            </a:xfrm>
            <a:prstGeom prst="line">
              <a:avLst/>
            </a:prstGeom>
            <a:ln w="50760">
              <a:solidFill>
                <a:srgbClr val="0f6fc6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047040" y="0"/>
              <a:ext cx="1522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285640" y="0"/>
              <a:ext cx="228600" cy="6858000"/>
            </a:xfrm>
            <a:prstGeom prst="line">
              <a:avLst/>
            </a:prstGeom>
            <a:ln w="1584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504960" y="0"/>
              <a:ext cx="1412640" cy="6858000"/>
            </a:xfrm>
            <a:prstGeom prst="line">
              <a:avLst/>
            </a:prstGeom>
            <a:ln w="9360">
              <a:solidFill>
                <a:srgbClr val="0f6fc6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4649760" y="0"/>
              <a:ext cx="30312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4952520" y="0"/>
              <a:ext cx="1522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3886200" y="0"/>
              <a:ext cx="403200" cy="6858000"/>
            </a:xfrm>
            <a:prstGeom prst="line">
              <a:avLst/>
            </a:prstGeom>
            <a:ln w="1260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124080" y="0"/>
              <a:ext cx="352080" cy="6858000"/>
            </a:xfrm>
            <a:prstGeom prst="line">
              <a:avLst/>
            </a:prstGeom>
            <a:ln w="1584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3885480" y="0"/>
              <a:ext cx="2062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504240" y="0"/>
              <a:ext cx="1522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3732840" y="0"/>
              <a:ext cx="1522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095160" y="0"/>
              <a:ext cx="152280" cy="6858000"/>
            </a:xfrm>
            <a:prstGeom prst="line">
              <a:avLst/>
            </a:prstGeom>
            <a:ln w="50760">
              <a:solidFill>
                <a:srgbClr val="0f6fc6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334120" y="0"/>
              <a:ext cx="3808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5943600" y="0"/>
              <a:ext cx="3808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105520" y="0"/>
              <a:ext cx="304560" cy="6858000"/>
            </a:xfrm>
            <a:prstGeom prst="line">
              <a:avLst/>
            </a:prstGeom>
            <a:ln w="28440">
              <a:solidFill>
                <a:srgbClr val="0f6fc6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267080" y="0"/>
              <a:ext cx="457200" cy="6858000"/>
            </a:xfrm>
            <a:prstGeom prst="line">
              <a:avLst/>
            </a:prstGeom>
            <a:ln w="38160">
              <a:solidFill>
                <a:srgbClr val="0f6fc6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5714280" y="0"/>
              <a:ext cx="1522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369040" y="0"/>
              <a:ext cx="1412640" cy="6858000"/>
            </a:xfrm>
            <a:prstGeom prst="line">
              <a:avLst/>
            </a:prstGeom>
            <a:ln w="9360">
              <a:solidFill>
                <a:srgbClr val="0f6fc6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326280" y="0"/>
              <a:ext cx="30312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172200" y="0"/>
              <a:ext cx="30456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5616720" y="0"/>
              <a:ext cx="403200" cy="6858000"/>
            </a:xfrm>
            <a:prstGeom prst="line">
              <a:avLst/>
            </a:prstGeom>
            <a:ln w="1260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5562000" y="0"/>
              <a:ext cx="2062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104800" y="0"/>
              <a:ext cx="1522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333400" y="0"/>
              <a:ext cx="1522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6781320" y="0"/>
              <a:ext cx="228600" cy="6858000"/>
            </a:xfrm>
            <a:prstGeom prst="line">
              <a:avLst/>
            </a:prstGeom>
            <a:ln w="28440">
              <a:solidFill>
                <a:srgbClr val="0f6fc6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6780960" y="0"/>
              <a:ext cx="22860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7466040" y="1440"/>
              <a:ext cx="2880" cy="6858000"/>
            </a:xfrm>
            <a:prstGeom prst="line">
              <a:avLst/>
            </a:prstGeom>
            <a:ln w="28440">
              <a:solidFill>
                <a:srgbClr val="0f6fc6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086600" y="0"/>
              <a:ext cx="457200" cy="6858000"/>
            </a:xfrm>
            <a:prstGeom prst="line">
              <a:avLst/>
            </a:prstGeom>
            <a:ln w="9360">
              <a:solidFill>
                <a:srgbClr val="0f6fc6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238880" y="0"/>
              <a:ext cx="380880" cy="6858000"/>
            </a:xfrm>
            <a:prstGeom prst="line">
              <a:avLst/>
            </a:prstGeom>
            <a:ln w="1260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7772400" y="0"/>
              <a:ext cx="457200" cy="6858000"/>
            </a:xfrm>
            <a:prstGeom prst="line">
              <a:avLst/>
            </a:prstGeom>
            <a:ln w="38160">
              <a:solidFill>
                <a:srgbClr val="0f6fc6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085880" y="0"/>
              <a:ext cx="1522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6933960" y="0"/>
              <a:ext cx="228600" cy="6858000"/>
            </a:xfrm>
            <a:prstGeom prst="line">
              <a:avLst/>
            </a:prstGeom>
            <a:ln w="1584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7467480" y="0"/>
              <a:ext cx="352080" cy="6858000"/>
            </a:xfrm>
            <a:prstGeom prst="line">
              <a:avLst/>
            </a:prstGeom>
            <a:ln w="15840">
              <a:solidFill>
                <a:srgbClr val="0f6fc6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7695360" y="0"/>
              <a:ext cx="1522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7923960" y="0"/>
              <a:ext cx="1522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8609760" y="0"/>
              <a:ext cx="1522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8305920" y="0"/>
              <a:ext cx="3808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8458200" y="0"/>
              <a:ext cx="380880" cy="6858000"/>
            </a:xfrm>
            <a:prstGeom prst="line">
              <a:avLst/>
            </a:prstGeom>
            <a:ln w="50760">
              <a:solidFill>
                <a:srgbClr val="0f6fc6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8228880" y="0"/>
              <a:ext cx="1522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8876880" y="-30240"/>
              <a:ext cx="190440" cy="688824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077320" y="0"/>
              <a:ext cx="403200" cy="6858000"/>
            </a:xfrm>
            <a:prstGeom prst="line">
              <a:avLst/>
            </a:prstGeom>
            <a:ln w="47520">
              <a:solidFill>
                <a:srgbClr val="0f6fc6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8989920" y="1440"/>
              <a:ext cx="2880" cy="6858000"/>
            </a:xfrm>
            <a:prstGeom prst="line">
              <a:avLst/>
            </a:prstGeom>
            <a:ln w="1584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5943240" y="0"/>
              <a:ext cx="75960" cy="6858000"/>
            </a:xfrm>
            <a:prstGeom prst="line">
              <a:avLst/>
            </a:prstGeom>
            <a:ln w="38160">
              <a:solidFill>
                <a:srgbClr val="0f6fc6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6400080" y="0"/>
              <a:ext cx="152280" cy="6858000"/>
            </a:xfrm>
            <a:prstGeom prst="line">
              <a:avLst/>
            </a:prstGeom>
            <a:ln w="47520">
              <a:solidFill>
                <a:srgbClr val="0f6fc6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6477120" y="0"/>
              <a:ext cx="380880" cy="6858000"/>
            </a:xfrm>
            <a:prstGeom prst="line">
              <a:avLst/>
            </a:prstGeom>
            <a:ln w="19080">
              <a:solidFill>
                <a:srgbClr val="0f6fc6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410080" y="0"/>
              <a:ext cx="304560" cy="6858000"/>
            </a:xfrm>
            <a:prstGeom prst="line">
              <a:avLst/>
            </a:prstGeom>
            <a:ln w="47520">
              <a:solidFill>
                <a:srgbClr val="0f6fc6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6400800" y="0"/>
              <a:ext cx="352080" cy="6858000"/>
            </a:xfrm>
            <a:prstGeom prst="line">
              <a:avLst/>
            </a:prstGeom>
            <a:ln w="15840">
              <a:solidFill>
                <a:srgbClr val="0f6fc6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010280" y="0"/>
              <a:ext cx="3808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162560" y="0"/>
              <a:ext cx="990360" cy="6858000"/>
            </a:xfrm>
            <a:prstGeom prst="line">
              <a:avLst/>
            </a:prstGeom>
            <a:ln w="28440">
              <a:solidFill>
                <a:srgbClr val="0f6fc6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4572000" y="0"/>
              <a:ext cx="457200" cy="6859800"/>
            </a:xfrm>
            <a:prstGeom prst="line">
              <a:avLst/>
            </a:prstGeom>
            <a:ln w="38160">
              <a:solidFill>
                <a:srgbClr val="0f6fc6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057400"/>
              <a:ext cx="4800600" cy="1440"/>
            </a:xfrm>
            <a:prstGeom prst="line">
              <a:avLst/>
            </a:prstGeom>
            <a:ln w="1908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4876920"/>
              <a:ext cx="4800600" cy="1440"/>
            </a:xfrm>
            <a:prstGeom prst="line">
              <a:avLst/>
            </a:prstGeom>
            <a:ln w="1908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4800600" y="2058840"/>
              <a:ext cx="1440" cy="2818080"/>
            </a:xfrm>
            <a:prstGeom prst="line">
              <a:avLst/>
            </a:prstGeom>
            <a:ln w="1908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460B-FBAA-4360-A1E1-7BC2DE615606}" type="slidenum">
              <a:rPr b="0" lang="ru-RU" sz="1200" spc="-1" strike="noStrike">
                <a:solidFill>
                  <a:srgbClr val="dbf5f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040" cy="4847040"/>
            <a:chOff x="-720" y="-30240"/>
            <a:chExt cx="9068040" cy="4847040"/>
          </a:xfrm>
        </p:grpSpPr>
        <p:sp>
          <p:nvSpPr>
            <p:cNvPr id="173" name="Straight Connector 7"/>
            <p:cNvSpPr/>
            <p:nvPr/>
          </p:nvSpPr>
          <p:spPr>
            <a:xfrm>
              <a:off x="1904040" y="-7920"/>
              <a:ext cx="1522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4" name="Straight Connector 8"/>
            <p:cNvSpPr/>
            <p:nvPr/>
          </p:nvSpPr>
          <p:spPr>
            <a:xfrm>
              <a:off x="1600200" y="-7920"/>
              <a:ext cx="3808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5" name="Straight Connector 9"/>
            <p:cNvSpPr/>
            <p:nvPr/>
          </p:nvSpPr>
          <p:spPr>
            <a:xfrm flipH="1">
              <a:off x="1752480" y="-7920"/>
              <a:ext cx="3808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6" name="Straight Connector 10"/>
            <p:cNvSpPr/>
            <p:nvPr/>
          </p:nvSpPr>
          <p:spPr>
            <a:xfrm flipH="1">
              <a:off x="75600" y="-7920"/>
              <a:ext cx="228600" cy="4824720"/>
            </a:xfrm>
            <a:prstGeom prst="line">
              <a:avLst/>
            </a:prstGeom>
            <a:ln w="28440">
              <a:solidFill>
                <a:srgbClr val="0f6fc6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7" name="Straight Connector 11"/>
            <p:cNvSpPr/>
            <p:nvPr/>
          </p:nvSpPr>
          <p:spPr>
            <a:xfrm>
              <a:off x="-720" y="-7920"/>
              <a:ext cx="22860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8" name="Straight Connector 12"/>
            <p:cNvSpPr/>
            <p:nvPr/>
          </p:nvSpPr>
          <p:spPr>
            <a:xfrm>
              <a:off x="1600200" y="-7920"/>
              <a:ext cx="914400" cy="4824720"/>
            </a:xfrm>
            <a:prstGeom prst="line">
              <a:avLst/>
            </a:prstGeom>
            <a:ln w="28440">
              <a:solidFill>
                <a:srgbClr val="0f6fc6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9" name="Straight Connector 13"/>
            <p:cNvSpPr/>
            <p:nvPr/>
          </p:nvSpPr>
          <p:spPr>
            <a:xfrm>
              <a:off x="380880" y="-7920"/>
              <a:ext cx="457200" cy="4824720"/>
            </a:xfrm>
            <a:prstGeom prst="line">
              <a:avLst/>
            </a:prstGeom>
            <a:ln w="9360">
              <a:solidFill>
                <a:srgbClr val="0f6fc6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0" name="Straight Connector 14"/>
            <p:cNvSpPr/>
            <p:nvPr/>
          </p:nvSpPr>
          <p:spPr>
            <a:xfrm flipH="1">
              <a:off x="533160" y="-7920"/>
              <a:ext cx="380880" cy="4824720"/>
            </a:xfrm>
            <a:prstGeom prst="line">
              <a:avLst/>
            </a:prstGeom>
            <a:ln w="1260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1" name="Straight Connector 15"/>
            <p:cNvSpPr/>
            <p:nvPr/>
          </p:nvSpPr>
          <p:spPr>
            <a:xfrm>
              <a:off x="1066680" y="-7920"/>
              <a:ext cx="457200" cy="4824720"/>
            </a:xfrm>
            <a:prstGeom prst="line">
              <a:avLst/>
            </a:prstGeom>
            <a:ln w="38160">
              <a:solidFill>
                <a:srgbClr val="0f6fc6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2" name="Straight Connector 16"/>
            <p:cNvSpPr/>
            <p:nvPr/>
          </p:nvSpPr>
          <p:spPr>
            <a:xfrm>
              <a:off x="152280" y="-7920"/>
              <a:ext cx="30456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3" name="Straight Connector 17"/>
            <p:cNvSpPr/>
            <p:nvPr/>
          </p:nvSpPr>
          <p:spPr>
            <a:xfrm>
              <a:off x="1523160" y="-7920"/>
              <a:ext cx="152280" cy="4824720"/>
            </a:xfrm>
            <a:prstGeom prst="line">
              <a:avLst/>
            </a:prstGeom>
            <a:ln w="57240">
              <a:solidFill>
                <a:srgbClr val="0f6fc6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4" name="Straight Connector 18"/>
            <p:cNvSpPr/>
            <p:nvPr/>
          </p:nvSpPr>
          <p:spPr>
            <a:xfrm>
              <a:off x="532440" y="-7920"/>
              <a:ext cx="1522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5" name="Straight Connector 19"/>
            <p:cNvSpPr/>
            <p:nvPr/>
          </p:nvSpPr>
          <p:spPr>
            <a:xfrm>
              <a:off x="228600" y="2880"/>
              <a:ext cx="457200" cy="4813560"/>
            </a:xfrm>
            <a:prstGeom prst="line">
              <a:avLst/>
            </a:prstGeom>
            <a:ln w="1584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6" name="Straight Connector 20"/>
            <p:cNvSpPr/>
            <p:nvPr/>
          </p:nvSpPr>
          <p:spPr>
            <a:xfrm flipH="1">
              <a:off x="990360" y="-7920"/>
              <a:ext cx="1412640" cy="4824720"/>
            </a:xfrm>
            <a:prstGeom prst="line">
              <a:avLst/>
            </a:prstGeom>
            <a:ln w="9360">
              <a:solidFill>
                <a:srgbClr val="0f6fc6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7" name="Straight Connector 21"/>
            <p:cNvSpPr/>
            <p:nvPr/>
          </p:nvSpPr>
          <p:spPr>
            <a:xfrm flipH="1">
              <a:off x="2135160" y="-7920"/>
              <a:ext cx="30312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8" name="Straight Connector 22"/>
            <p:cNvSpPr/>
            <p:nvPr/>
          </p:nvSpPr>
          <p:spPr>
            <a:xfrm flipH="1">
              <a:off x="2361960" y="-7920"/>
              <a:ext cx="30456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9" name="Straight Connector 23"/>
            <p:cNvSpPr/>
            <p:nvPr/>
          </p:nvSpPr>
          <p:spPr>
            <a:xfrm flipH="1">
              <a:off x="1371600" y="-7920"/>
              <a:ext cx="403200" cy="4824720"/>
            </a:xfrm>
            <a:prstGeom prst="line">
              <a:avLst/>
            </a:prstGeom>
            <a:ln w="1260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0" name="Straight Connector 24"/>
            <p:cNvSpPr/>
            <p:nvPr/>
          </p:nvSpPr>
          <p:spPr>
            <a:xfrm>
              <a:off x="609480" y="-7920"/>
              <a:ext cx="352080" cy="4824720"/>
            </a:xfrm>
            <a:prstGeom prst="line">
              <a:avLst/>
            </a:prstGeom>
            <a:ln w="1584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1" name="Straight Connector 25"/>
            <p:cNvSpPr/>
            <p:nvPr/>
          </p:nvSpPr>
          <p:spPr>
            <a:xfrm>
              <a:off x="1370880" y="-7920"/>
              <a:ext cx="2062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2" name="Straight Connector 26"/>
            <p:cNvSpPr/>
            <p:nvPr/>
          </p:nvSpPr>
          <p:spPr>
            <a:xfrm>
              <a:off x="989640" y="-7920"/>
              <a:ext cx="1522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3" name="Straight Connector 27"/>
            <p:cNvSpPr/>
            <p:nvPr/>
          </p:nvSpPr>
          <p:spPr>
            <a:xfrm>
              <a:off x="1218240" y="-7920"/>
              <a:ext cx="1522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4" name="Straight Connector 28"/>
            <p:cNvSpPr/>
            <p:nvPr/>
          </p:nvSpPr>
          <p:spPr>
            <a:xfrm>
              <a:off x="4418640" y="-7920"/>
              <a:ext cx="1522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5" name="Straight Connector 29"/>
            <p:cNvSpPr/>
            <p:nvPr/>
          </p:nvSpPr>
          <p:spPr>
            <a:xfrm>
              <a:off x="4114800" y="-7920"/>
              <a:ext cx="3808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6" name="Straight Connector 30"/>
            <p:cNvSpPr/>
            <p:nvPr/>
          </p:nvSpPr>
          <p:spPr>
            <a:xfrm flipH="1">
              <a:off x="4267080" y="-7920"/>
              <a:ext cx="380880" cy="4824720"/>
            </a:xfrm>
            <a:prstGeom prst="line">
              <a:avLst/>
            </a:prstGeom>
            <a:ln w="47520">
              <a:solidFill>
                <a:srgbClr val="0f6fc6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7" name="Straight Connector 31"/>
            <p:cNvSpPr/>
            <p:nvPr/>
          </p:nvSpPr>
          <p:spPr>
            <a:xfrm flipH="1">
              <a:off x="2590200" y="-7920"/>
              <a:ext cx="228600" cy="4824720"/>
            </a:xfrm>
            <a:prstGeom prst="line">
              <a:avLst/>
            </a:prstGeom>
            <a:ln w="28440">
              <a:solidFill>
                <a:srgbClr val="0f6fc6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8" name="Straight Connector 32"/>
            <p:cNvSpPr/>
            <p:nvPr/>
          </p:nvSpPr>
          <p:spPr>
            <a:xfrm>
              <a:off x="2513880" y="-7920"/>
              <a:ext cx="22860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9" name="Straight Connector 33"/>
            <p:cNvSpPr/>
            <p:nvPr/>
          </p:nvSpPr>
          <p:spPr>
            <a:xfrm flipH="1">
              <a:off x="3276360" y="-7920"/>
              <a:ext cx="1440" cy="4824720"/>
            </a:xfrm>
            <a:prstGeom prst="line">
              <a:avLst/>
            </a:prstGeom>
            <a:ln w="28440">
              <a:solidFill>
                <a:srgbClr val="0f6fc6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0" name="Straight Connector 34"/>
            <p:cNvSpPr/>
            <p:nvPr/>
          </p:nvSpPr>
          <p:spPr>
            <a:xfrm>
              <a:off x="2895480" y="-7920"/>
              <a:ext cx="457200" cy="4824720"/>
            </a:xfrm>
            <a:prstGeom prst="line">
              <a:avLst/>
            </a:prstGeom>
            <a:ln w="47520">
              <a:solidFill>
                <a:srgbClr val="0f6fc6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1" name="Straight Connector 35"/>
            <p:cNvSpPr/>
            <p:nvPr/>
          </p:nvSpPr>
          <p:spPr>
            <a:xfrm flipH="1">
              <a:off x="3047760" y="-7920"/>
              <a:ext cx="380880" cy="4824720"/>
            </a:xfrm>
            <a:prstGeom prst="line">
              <a:avLst/>
            </a:prstGeom>
            <a:ln w="1260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2" name="Straight Connector 36"/>
            <p:cNvSpPr/>
            <p:nvPr/>
          </p:nvSpPr>
          <p:spPr>
            <a:xfrm>
              <a:off x="3581280" y="-7920"/>
              <a:ext cx="457200" cy="4824720"/>
            </a:xfrm>
            <a:prstGeom prst="line">
              <a:avLst/>
            </a:prstGeom>
            <a:ln w="38160">
              <a:solidFill>
                <a:srgbClr val="0f6fc6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3" name="Straight Connector 37"/>
            <p:cNvSpPr/>
            <p:nvPr/>
          </p:nvSpPr>
          <p:spPr>
            <a:xfrm>
              <a:off x="2666880" y="-7920"/>
              <a:ext cx="30456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4" name="Straight Connector 38"/>
            <p:cNvSpPr/>
            <p:nvPr/>
          </p:nvSpPr>
          <p:spPr>
            <a:xfrm>
              <a:off x="4037760" y="-7920"/>
              <a:ext cx="1522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5" name="Straight Connector 39"/>
            <p:cNvSpPr/>
            <p:nvPr/>
          </p:nvSpPr>
          <p:spPr>
            <a:xfrm>
              <a:off x="3047040" y="-7920"/>
              <a:ext cx="1522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6" name="Straight Connector 40"/>
            <p:cNvSpPr/>
            <p:nvPr/>
          </p:nvSpPr>
          <p:spPr>
            <a:xfrm flipH="1">
              <a:off x="2285640" y="-7920"/>
              <a:ext cx="228600" cy="4824720"/>
            </a:xfrm>
            <a:prstGeom prst="line">
              <a:avLst/>
            </a:prstGeom>
            <a:ln w="1584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7" name="Straight Connector 41"/>
            <p:cNvSpPr/>
            <p:nvPr/>
          </p:nvSpPr>
          <p:spPr>
            <a:xfrm flipH="1">
              <a:off x="3504960" y="-7920"/>
              <a:ext cx="1412640" cy="4824720"/>
            </a:xfrm>
            <a:prstGeom prst="line">
              <a:avLst/>
            </a:prstGeom>
            <a:ln w="9360">
              <a:solidFill>
                <a:srgbClr val="0f6fc6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8" name="Straight Connector 42"/>
            <p:cNvSpPr/>
            <p:nvPr/>
          </p:nvSpPr>
          <p:spPr>
            <a:xfrm flipH="1">
              <a:off x="4649760" y="-7920"/>
              <a:ext cx="30312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9" name="Straight Connector 43"/>
            <p:cNvSpPr/>
            <p:nvPr/>
          </p:nvSpPr>
          <p:spPr>
            <a:xfrm flipH="1">
              <a:off x="4952520" y="-7920"/>
              <a:ext cx="1522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0" name="Straight Connector 44"/>
            <p:cNvSpPr/>
            <p:nvPr/>
          </p:nvSpPr>
          <p:spPr>
            <a:xfrm flipH="1">
              <a:off x="3886200" y="-7920"/>
              <a:ext cx="403200" cy="4824720"/>
            </a:xfrm>
            <a:prstGeom prst="line">
              <a:avLst/>
            </a:prstGeom>
            <a:ln w="1260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1" name="Straight Connector 45"/>
            <p:cNvSpPr/>
            <p:nvPr/>
          </p:nvSpPr>
          <p:spPr>
            <a:xfrm>
              <a:off x="3124080" y="-7920"/>
              <a:ext cx="352080" cy="4824720"/>
            </a:xfrm>
            <a:prstGeom prst="line">
              <a:avLst/>
            </a:prstGeom>
            <a:ln w="1584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2" name="Straight Connector 46"/>
            <p:cNvSpPr/>
            <p:nvPr/>
          </p:nvSpPr>
          <p:spPr>
            <a:xfrm>
              <a:off x="3885480" y="-7920"/>
              <a:ext cx="2062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3" name="Straight Connector 47"/>
            <p:cNvSpPr/>
            <p:nvPr/>
          </p:nvSpPr>
          <p:spPr>
            <a:xfrm>
              <a:off x="3504240" y="-7920"/>
              <a:ext cx="1522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4" name="Straight Connector 48"/>
            <p:cNvSpPr/>
            <p:nvPr/>
          </p:nvSpPr>
          <p:spPr>
            <a:xfrm>
              <a:off x="3732840" y="-7920"/>
              <a:ext cx="1522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5" name="Straight Connector 49"/>
            <p:cNvSpPr/>
            <p:nvPr/>
          </p:nvSpPr>
          <p:spPr>
            <a:xfrm>
              <a:off x="6095160" y="-7920"/>
              <a:ext cx="152280" cy="4824720"/>
            </a:xfrm>
            <a:prstGeom prst="line">
              <a:avLst/>
            </a:prstGeom>
            <a:ln w="57240">
              <a:solidFill>
                <a:srgbClr val="0f6fc6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6" name="Straight Connector 50"/>
            <p:cNvSpPr/>
            <p:nvPr/>
          </p:nvSpPr>
          <p:spPr>
            <a:xfrm>
              <a:off x="5334120" y="-7920"/>
              <a:ext cx="3808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7" name="Straight Connector 51"/>
            <p:cNvSpPr/>
            <p:nvPr/>
          </p:nvSpPr>
          <p:spPr>
            <a:xfrm flipH="1">
              <a:off x="5943600" y="-7920"/>
              <a:ext cx="3808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8" name="Straight Connector 52"/>
            <p:cNvSpPr/>
            <p:nvPr/>
          </p:nvSpPr>
          <p:spPr>
            <a:xfrm flipH="1">
              <a:off x="5105520" y="-7920"/>
              <a:ext cx="304560" cy="4824720"/>
            </a:xfrm>
            <a:prstGeom prst="line">
              <a:avLst/>
            </a:prstGeom>
            <a:ln w="28440">
              <a:solidFill>
                <a:srgbClr val="0f6fc6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9" name="Straight Connector 53"/>
            <p:cNvSpPr/>
            <p:nvPr/>
          </p:nvSpPr>
          <p:spPr>
            <a:xfrm>
              <a:off x="4267080" y="-7920"/>
              <a:ext cx="457200" cy="4824720"/>
            </a:xfrm>
            <a:prstGeom prst="line">
              <a:avLst/>
            </a:prstGeom>
            <a:ln w="38160">
              <a:solidFill>
                <a:srgbClr val="0f6fc6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0" name="Straight Connector 54"/>
            <p:cNvSpPr/>
            <p:nvPr/>
          </p:nvSpPr>
          <p:spPr>
            <a:xfrm>
              <a:off x="5714280" y="-7920"/>
              <a:ext cx="1522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1" name="Straight Connector 55"/>
            <p:cNvSpPr/>
            <p:nvPr/>
          </p:nvSpPr>
          <p:spPr>
            <a:xfrm flipH="1">
              <a:off x="5369040" y="-7920"/>
              <a:ext cx="1412640" cy="4824720"/>
            </a:xfrm>
            <a:prstGeom prst="line">
              <a:avLst/>
            </a:prstGeom>
            <a:ln w="9360">
              <a:solidFill>
                <a:srgbClr val="0f6fc6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2" name="Straight Connector 56"/>
            <p:cNvSpPr/>
            <p:nvPr/>
          </p:nvSpPr>
          <p:spPr>
            <a:xfrm flipH="1">
              <a:off x="6326280" y="-7920"/>
              <a:ext cx="30312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3" name="Straight Connector 57"/>
            <p:cNvSpPr/>
            <p:nvPr/>
          </p:nvSpPr>
          <p:spPr>
            <a:xfrm flipH="1">
              <a:off x="6172200" y="-7920"/>
              <a:ext cx="30456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4" name="Straight Connector 58"/>
            <p:cNvSpPr/>
            <p:nvPr/>
          </p:nvSpPr>
          <p:spPr>
            <a:xfrm flipH="1">
              <a:off x="5616720" y="-7920"/>
              <a:ext cx="403200" cy="4824720"/>
            </a:xfrm>
            <a:prstGeom prst="line">
              <a:avLst/>
            </a:prstGeom>
            <a:ln w="1260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5" name="Straight Connector 59"/>
            <p:cNvSpPr/>
            <p:nvPr/>
          </p:nvSpPr>
          <p:spPr>
            <a:xfrm>
              <a:off x="5562000" y="-7920"/>
              <a:ext cx="2062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6" name="Straight Connector 60"/>
            <p:cNvSpPr/>
            <p:nvPr/>
          </p:nvSpPr>
          <p:spPr>
            <a:xfrm>
              <a:off x="5104800" y="-7920"/>
              <a:ext cx="152280" cy="4824720"/>
            </a:xfrm>
            <a:prstGeom prst="line">
              <a:avLst/>
            </a:prstGeom>
            <a:ln w="57240">
              <a:solidFill>
                <a:srgbClr val="0f6fc6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7" name="Straight Connector 61"/>
            <p:cNvSpPr/>
            <p:nvPr/>
          </p:nvSpPr>
          <p:spPr>
            <a:xfrm>
              <a:off x="5257080" y="-7920"/>
              <a:ext cx="1522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8" name="Straight Connector 62"/>
            <p:cNvSpPr/>
            <p:nvPr/>
          </p:nvSpPr>
          <p:spPr>
            <a:xfrm flipH="1">
              <a:off x="6781320" y="-7920"/>
              <a:ext cx="228600" cy="4824720"/>
            </a:xfrm>
            <a:prstGeom prst="line">
              <a:avLst/>
            </a:prstGeom>
            <a:ln w="28440">
              <a:solidFill>
                <a:srgbClr val="0f6fc6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9" name="Straight Connector 63"/>
            <p:cNvSpPr/>
            <p:nvPr/>
          </p:nvSpPr>
          <p:spPr>
            <a:xfrm>
              <a:off x="6780960" y="-7920"/>
              <a:ext cx="22860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0" name="Straight Connector 64"/>
            <p:cNvSpPr/>
            <p:nvPr/>
          </p:nvSpPr>
          <p:spPr>
            <a:xfrm flipH="1">
              <a:off x="7467480" y="-7920"/>
              <a:ext cx="1440" cy="4824720"/>
            </a:xfrm>
            <a:prstGeom prst="line">
              <a:avLst/>
            </a:prstGeom>
            <a:ln w="28440">
              <a:solidFill>
                <a:srgbClr val="0f6fc6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1" name="Straight Connector 65"/>
            <p:cNvSpPr/>
            <p:nvPr/>
          </p:nvSpPr>
          <p:spPr>
            <a:xfrm>
              <a:off x="7086600" y="-7920"/>
              <a:ext cx="457200" cy="4824720"/>
            </a:xfrm>
            <a:prstGeom prst="line">
              <a:avLst/>
            </a:prstGeom>
            <a:ln w="9360">
              <a:solidFill>
                <a:srgbClr val="0f6fc6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2" name="Straight Connector 66"/>
            <p:cNvSpPr/>
            <p:nvPr/>
          </p:nvSpPr>
          <p:spPr>
            <a:xfrm flipH="1">
              <a:off x="7238880" y="-7920"/>
              <a:ext cx="380880" cy="4824720"/>
            </a:xfrm>
            <a:prstGeom prst="line">
              <a:avLst/>
            </a:prstGeom>
            <a:ln w="1260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3" name="Straight Connector 67"/>
            <p:cNvSpPr/>
            <p:nvPr/>
          </p:nvSpPr>
          <p:spPr>
            <a:xfrm>
              <a:off x="7772400" y="-7920"/>
              <a:ext cx="457200" cy="4824720"/>
            </a:xfrm>
            <a:prstGeom prst="line">
              <a:avLst/>
            </a:prstGeom>
            <a:ln w="38160">
              <a:solidFill>
                <a:srgbClr val="0f6fc6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4" name="Straight Connector 68"/>
            <p:cNvSpPr/>
            <p:nvPr/>
          </p:nvSpPr>
          <p:spPr>
            <a:xfrm>
              <a:off x="7085880" y="-7920"/>
              <a:ext cx="1522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5" name="Straight Connector 69"/>
            <p:cNvSpPr/>
            <p:nvPr/>
          </p:nvSpPr>
          <p:spPr>
            <a:xfrm flipH="1">
              <a:off x="6933960" y="-7920"/>
              <a:ext cx="228600" cy="4824720"/>
            </a:xfrm>
            <a:prstGeom prst="line">
              <a:avLst/>
            </a:prstGeom>
            <a:ln w="1584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6" name="Straight Connector 70"/>
            <p:cNvSpPr/>
            <p:nvPr/>
          </p:nvSpPr>
          <p:spPr>
            <a:xfrm>
              <a:off x="7467480" y="-7920"/>
              <a:ext cx="352080" cy="4824720"/>
            </a:xfrm>
            <a:prstGeom prst="line">
              <a:avLst/>
            </a:prstGeom>
            <a:ln w="15840">
              <a:solidFill>
                <a:srgbClr val="0f6fc6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7" name="Straight Connector 71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8" name="Straight Connector 72"/>
            <p:cNvSpPr/>
            <p:nvPr/>
          </p:nvSpPr>
          <p:spPr>
            <a:xfrm>
              <a:off x="7695360" y="-7920"/>
              <a:ext cx="1522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9" name="Straight Connector 73"/>
            <p:cNvSpPr/>
            <p:nvPr/>
          </p:nvSpPr>
          <p:spPr>
            <a:xfrm>
              <a:off x="7923960" y="-7920"/>
              <a:ext cx="1522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0" name="Straight Connector 74"/>
            <p:cNvSpPr/>
            <p:nvPr/>
          </p:nvSpPr>
          <p:spPr>
            <a:xfrm>
              <a:off x="8609760" y="-7920"/>
              <a:ext cx="1522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1" name="Straight Connector 75"/>
            <p:cNvSpPr/>
            <p:nvPr/>
          </p:nvSpPr>
          <p:spPr>
            <a:xfrm>
              <a:off x="8305920" y="-7920"/>
              <a:ext cx="3808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2" name="Straight Connector 76"/>
            <p:cNvSpPr/>
            <p:nvPr/>
          </p:nvSpPr>
          <p:spPr>
            <a:xfrm flipH="1">
              <a:off x="8458200" y="-7920"/>
              <a:ext cx="3808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3" name="Straight Connector 77"/>
            <p:cNvSpPr/>
            <p:nvPr/>
          </p:nvSpPr>
          <p:spPr>
            <a:xfrm>
              <a:off x="8228880" y="-7920"/>
              <a:ext cx="1522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4" name="Straight Connector 78"/>
            <p:cNvSpPr/>
            <p:nvPr/>
          </p:nvSpPr>
          <p:spPr>
            <a:xfrm flipH="1">
              <a:off x="8876880" y="-30240"/>
              <a:ext cx="190440" cy="484668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5" name="Straight Connector 79"/>
            <p:cNvSpPr/>
            <p:nvPr/>
          </p:nvSpPr>
          <p:spPr>
            <a:xfrm flipH="1">
              <a:off x="8077320" y="-7920"/>
              <a:ext cx="403200" cy="4824720"/>
            </a:xfrm>
            <a:prstGeom prst="line">
              <a:avLst/>
            </a:prstGeom>
            <a:ln w="47520">
              <a:solidFill>
                <a:srgbClr val="0f6fc6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6" name="Straight Connector 80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7" name="Straight Connector 81"/>
            <p:cNvSpPr/>
            <p:nvPr/>
          </p:nvSpPr>
          <p:spPr>
            <a:xfrm flipH="1">
              <a:off x="8989920" y="-7920"/>
              <a:ext cx="2880" cy="4824720"/>
            </a:xfrm>
            <a:prstGeom prst="line">
              <a:avLst/>
            </a:prstGeom>
            <a:ln w="1584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8" name="Straight Connector 82"/>
            <p:cNvSpPr/>
            <p:nvPr/>
          </p:nvSpPr>
          <p:spPr>
            <a:xfrm flipH="1">
              <a:off x="5943240" y="-7920"/>
              <a:ext cx="75960" cy="4824720"/>
            </a:xfrm>
            <a:prstGeom prst="line">
              <a:avLst/>
            </a:prstGeom>
            <a:ln w="38160">
              <a:solidFill>
                <a:srgbClr val="0f6fc6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9" name="Straight Connector 83"/>
            <p:cNvSpPr/>
            <p:nvPr/>
          </p:nvSpPr>
          <p:spPr>
            <a:xfrm>
              <a:off x="6400080" y="-7920"/>
              <a:ext cx="152280" cy="4824720"/>
            </a:xfrm>
            <a:prstGeom prst="line">
              <a:avLst/>
            </a:prstGeom>
            <a:ln w="47520">
              <a:solidFill>
                <a:srgbClr val="0f6fc6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0" name="Straight Connector 84"/>
            <p:cNvSpPr/>
            <p:nvPr/>
          </p:nvSpPr>
          <p:spPr>
            <a:xfrm>
              <a:off x="6477120" y="-7920"/>
              <a:ext cx="380880" cy="4824720"/>
            </a:xfrm>
            <a:prstGeom prst="line">
              <a:avLst/>
            </a:prstGeom>
            <a:ln w="19080">
              <a:solidFill>
                <a:srgbClr val="0f6fc6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1" name="Straight Connector 85"/>
            <p:cNvSpPr/>
            <p:nvPr/>
          </p:nvSpPr>
          <p:spPr>
            <a:xfrm flipH="1">
              <a:off x="5410080" y="-7920"/>
              <a:ext cx="304560" cy="4824720"/>
            </a:xfrm>
            <a:prstGeom prst="line">
              <a:avLst/>
            </a:prstGeom>
            <a:ln w="47520">
              <a:solidFill>
                <a:srgbClr val="0f6fc6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2" name="Straight Connector 86"/>
            <p:cNvSpPr/>
            <p:nvPr/>
          </p:nvSpPr>
          <p:spPr>
            <a:xfrm>
              <a:off x="6400800" y="-7920"/>
              <a:ext cx="352080" cy="4824720"/>
            </a:xfrm>
            <a:prstGeom prst="line">
              <a:avLst/>
            </a:prstGeom>
            <a:ln w="15840">
              <a:solidFill>
                <a:srgbClr val="0f6fc6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3" name="Straight Connector 87"/>
            <p:cNvSpPr/>
            <p:nvPr/>
          </p:nvSpPr>
          <p:spPr>
            <a:xfrm flipH="1">
              <a:off x="7010280" y="-7920"/>
              <a:ext cx="3808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4" name="Straight Connector 88"/>
            <p:cNvSpPr/>
            <p:nvPr/>
          </p:nvSpPr>
          <p:spPr>
            <a:xfrm flipH="1">
              <a:off x="7162560" y="-7920"/>
              <a:ext cx="990360" cy="4824720"/>
            </a:xfrm>
            <a:prstGeom prst="line">
              <a:avLst/>
            </a:prstGeom>
            <a:ln w="28440">
              <a:solidFill>
                <a:srgbClr val="0f6fc6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5" name="Straight Connector 89"/>
            <p:cNvSpPr/>
            <p:nvPr/>
          </p:nvSpPr>
          <p:spPr>
            <a:xfrm>
              <a:off x="4572000" y="-7920"/>
              <a:ext cx="457200" cy="4824720"/>
            </a:xfrm>
            <a:prstGeom prst="line">
              <a:avLst/>
            </a:prstGeom>
            <a:ln w="38160">
              <a:solidFill>
                <a:srgbClr val="0f6fc6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256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B86A-82A9-45B0-8A13-8739668079CF}" type="slidenum">
              <a:rPr b="0" lang="ru-RU" sz="1200" spc="-1" strike="noStrike">
                <a:solidFill>
                  <a:srgbClr val="04617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B67B-337B-4472-94C3-24E813B309BB}" type="slidenum">
              <a:rPr b="0" lang="ru-RU" sz="1200" spc="-1" strike="noStrike">
                <a:solidFill>
                  <a:srgbClr val="dbf5f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F1F4-F639-45AE-BE7A-F8D063F1D21A}" type="slidenum">
              <a:rPr b="0" lang="ru-RU" sz="1200" spc="-1" strike="noStrike">
                <a:solidFill>
                  <a:srgbClr val="dbf5f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6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" Target="slide12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" Target="slide22.xml"/><Relationship Id="rId7" Type="http://schemas.openxmlformats.org/officeDocument/2006/relationships/slide" Target="slide22.xml"/><Relationship Id="rId8" Type="http://schemas.openxmlformats.org/officeDocument/2006/relationships/slide" Target="slide22.xml"/><Relationship Id="rId9" Type="http://schemas.openxmlformats.org/officeDocument/2006/relationships/slide" Target="slide22.xml"/><Relationship Id="rId10" Type="http://schemas.openxmlformats.org/officeDocument/2006/relationships/slide" Target="slide22.xml"/><Relationship Id="rId11" Type="http://schemas.openxmlformats.org/officeDocument/2006/relationships/slide" Target="slide22.xml"/><Relationship Id="rId12" Type="http://schemas.openxmlformats.org/officeDocument/2006/relationships/slide" Target="slide22.xml"/><Relationship Id="rId13" Type="http://schemas.openxmlformats.org/officeDocument/2006/relationships/slide" Target="slide23.xml"/><Relationship Id="rId14" Type="http://schemas.openxmlformats.org/officeDocument/2006/relationships/slide" Target="slide23.xml"/><Relationship Id="rId15" Type="http://schemas.openxmlformats.org/officeDocument/2006/relationships/slide" Target="slide12.xml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22.xml"/><Relationship Id="rId3" Type="http://schemas.openxmlformats.org/officeDocument/2006/relationships/slide" Target="slide24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2.xml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25.xml"/><Relationship Id="rId7" Type="http://schemas.openxmlformats.org/officeDocument/2006/relationships/slide" Target="slide25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2.xml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image" Target="../media/image18.png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26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2.xml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22.xml"/><Relationship Id="rId3" Type="http://schemas.openxmlformats.org/officeDocument/2006/relationships/slide" Target="slide27.xml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28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2.xml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2.xml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slide" Target="slide29.xml"/><Relationship Id="rId15" Type="http://schemas.openxmlformats.org/officeDocument/2006/relationships/image" Target="../media/image22.pn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30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2.xml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image" Target="../media/image23.png"/><Relationship Id="rId1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31.xml"/><Relationship Id="rId11" Type="http://schemas.openxmlformats.org/officeDocument/2006/relationships/slide" Target="slide31.xml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image" Target="../media/image24.png"/><Relationship Id="rId1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6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6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6.xml"/><Relationship Id="rId3" Type="http://schemas.openxmlformats.org/officeDocument/2006/relationships/slide" Target="slide13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6.xml"/><Relationship Id="rId3" Type="http://schemas.openxmlformats.org/officeDocument/2006/relationships/slide" Target="slide13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6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6.xml"/><Relationship Id="rId3" Type="http://schemas.openxmlformats.org/officeDocument/2006/relationships/slide" Target="slide13.xml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9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2.xml"/><Relationship Id="rId3" Type="http://schemas.openxmlformats.org/officeDocument/2006/relationships/image" Target="../media/image7.png"/><Relationship Id="rId4" Type="http://schemas.openxmlformats.org/officeDocument/2006/relationships/slide" Target="slide10.xml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2.xml"/><Relationship Id="rId3" Type="http://schemas.openxmlformats.org/officeDocument/2006/relationships/image" Target="../media/image7.png"/><Relationship Id="rId4" Type="http://schemas.openxmlformats.org/officeDocument/2006/relationships/slide" Target="slide11.xm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3348000" y="5373360"/>
            <a:ext cx="5400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60167"/>
                </a:solidFill>
                <a:latin typeface="Arial"/>
              </a:rPr>
              <a:t>Выполнена учителем информатики МБУ школы № 40 г.о. Тольятти</a:t>
            </a:r>
            <a:endParaRPr b="0" lang="en-US" sz="2200" spc="-1" strike="noStrike">
              <a:solidFill>
                <a:srgbClr val="dbf5f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60167"/>
                </a:solidFill>
                <a:latin typeface="Arial"/>
              </a:rPr>
              <a:t>Демидовой Людмилой Альбертовной</a:t>
            </a:r>
            <a:endParaRPr b="0" lang="en-US" sz="2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2133720"/>
            <a:ext cx="493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60167"/>
                </a:solidFill>
                <a:latin typeface="Arial"/>
              </a:rPr>
              <a:t>Презентация для учащихся 3-го класса. Закрепление полученных ранее знаний. Работа в графическом редакторе </a:t>
            </a:r>
            <a:r>
              <a:rPr b="1" lang="en-US" sz="2800" spc="-1" strike="noStrike">
                <a:solidFill>
                  <a:srgbClr val="060167"/>
                </a:solidFill>
                <a:latin typeface="Arial"/>
              </a:rPr>
              <a:t>PAINT</a:t>
            </a:r>
            <a:r>
              <a:rPr b="1" lang="ru-RU" sz="2800" spc="-1" strike="noStrike">
                <a:solidFill>
                  <a:srgbClr val="060167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2000160" y="433440"/>
            <a:ext cx="4797360" cy="2279520"/>
          </a:xfrm>
          <a:prstGeom prst="rect">
            <a:avLst/>
          </a:prstGeom>
          <a:ln w="0">
            <a:noFill/>
          </a:ln>
        </p:spPr>
      </p:pic>
      <p:grpSp>
        <p:nvGrpSpPr>
          <p:cNvPr id="424" name="Группа 4"/>
          <p:cNvGrpSpPr/>
          <p:nvPr/>
        </p:nvGrpSpPr>
        <p:grpSpPr>
          <a:xfrm>
            <a:off x="2771640" y="3141720"/>
            <a:ext cx="3302280" cy="1971720"/>
            <a:chOff x="2771640" y="3141720"/>
            <a:chExt cx="3302280" cy="1971720"/>
          </a:xfrm>
        </p:grpSpPr>
        <p:sp>
          <p:nvSpPr>
            <p:cNvPr id="425" name="Овал 4">
              <a:hlinkClick r:id="rId2" action="ppaction://hlinksldjump"/>
            </p:cNvPr>
            <p:cNvSpPr/>
            <p:nvPr/>
          </p:nvSpPr>
          <p:spPr>
            <a:xfrm>
              <a:off x="2771640" y="3141720"/>
              <a:ext cx="3302280" cy="1971720"/>
            </a:xfrm>
            <a:prstGeom prst="ellipse">
              <a:avLst/>
            </a:prstGeom>
            <a:gradFill rotWithShape="0">
              <a:gsLst>
                <a:gs pos="0">
                  <a:srgbClr val="0f6fc6"/>
                </a:gs>
                <a:gs pos="100000">
                  <a:srgbClr val="91c6f7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26" name="Овал 4">
              <a:hlinkClick r:id="rId3" action="ppaction://hlinksldjump"/>
            </p:cNvPr>
            <p:cNvSpPr/>
            <p:nvPr/>
          </p:nvSpPr>
          <p:spPr>
            <a:xfrm>
              <a:off x="3255840" y="3430440"/>
              <a:ext cx="2333880" cy="1393920"/>
            </a:xfrm>
            <a:prstGeom prst="rect">
              <a:avLst/>
            </a:prstGeom>
            <a:noFill/>
            <a:ln w="0">
              <a:noFill/>
            </a:ln>
            <a:effectLst>
              <a:outerShdw dist="317520" dir="54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0" lang="ru-RU" sz="3200" spc="-1" strike="noStrike">
                  <a:solidFill>
                    <a:srgbClr val="5ff3ca"/>
                  </a:solidFill>
                  <a:latin typeface="Calibri"/>
                </a:rPr>
                <a:t>Перейти к третьему вопросу</a:t>
              </a:r>
              <a:endParaRPr b="0" lang="en-US" sz="32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2359080" y="433440"/>
            <a:ext cx="4797360" cy="2279520"/>
          </a:xfrm>
          <a:prstGeom prst="rect">
            <a:avLst/>
          </a:prstGeom>
          <a:ln w="0">
            <a:noFill/>
          </a:ln>
        </p:spPr>
      </p:pic>
      <p:grpSp>
        <p:nvGrpSpPr>
          <p:cNvPr id="428" name="Группа 4"/>
          <p:cNvGrpSpPr/>
          <p:nvPr/>
        </p:nvGrpSpPr>
        <p:grpSpPr>
          <a:xfrm>
            <a:off x="2998800" y="3141720"/>
            <a:ext cx="3301920" cy="1971720"/>
            <a:chOff x="2998800" y="3141720"/>
            <a:chExt cx="3301920" cy="1971720"/>
          </a:xfrm>
        </p:grpSpPr>
        <p:sp>
          <p:nvSpPr>
            <p:cNvPr id="429" name="Овал 5">
              <a:hlinkClick r:id="rId2" action="ppaction://hlinksldjump"/>
            </p:cNvPr>
            <p:cNvSpPr/>
            <p:nvPr/>
          </p:nvSpPr>
          <p:spPr>
            <a:xfrm>
              <a:off x="2998800" y="3141720"/>
              <a:ext cx="3301920" cy="1971720"/>
            </a:xfrm>
            <a:prstGeom prst="ellipse">
              <a:avLst/>
            </a:prstGeom>
            <a:gradFill rotWithShape="0">
              <a:gsLst>
                <a:gs pos="0">
                  <a:srgbClr val="0f6fc6"/>
                </a:gs>
                <a:gs pos="100000">
                  <a:srgbClr val="91c6f7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30" name="Овал 4">
              <a:hlinkClick r:id="rId3" action="ppaction://hlinksldjump"/>
            </p:cNvPr>
            <p:cNvSpPr/>
            <p:nvPr/>
          </p:nvSpPr>
          <p:spPr>
            <a:xfrm>
              <a:off x="3483000" y="3430440"/>
              <a:ext cx="2333520" cy="1393920"/>
            </a:xfrm>
            <a:prstGeom prst="rect">
              <a:avLst/>
            </a:prstGeom>
            <a:noFill/>
            <a:ln w="0">
              <a:noFill/>
            </a:ln>
            <a:effectLst>
              <a:outerShdw dist="317520" dir="54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0" lang="ru-RU" sz="3200" spc="-1" strike="noStrike">
                  <a:solidFill>
                    <a:srgbClr val="5ff3ca"/>
                  </a:solidFill>
                  <a:latin typeface="Calibri"/>
                </a:rPr>
                <a:t>Перейти к четвертому вопросу</a:t>
              </a:r>
              <a:endParaRPr b="0" lang="en-US" sz="32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1695600" y="573120"/>
            <a:ext cx="7308720" cy="2279520"/>
          </a:xfrm>
          <a:prstGeom prst="rect">
            <a:avLst/>
          </a:prstGeom>
          <a:ln w="0">
            <a:noFill/>
          </a:ln>
        </p:spPr>
      </p:pic>
      <p:pic>
        <p:nvPicPr>
          <p:cNvPr id="432" name="Объект 2" descr=""/>
          <p:cNvPicPr/>
          <p:nvPr/>
        </p:nvPicPr>
        <p:blipFill>
          <a:blip r:embed="rId2"/>
          <a:stretch/>
        </p:blipFill>
        <p:spPr>
          <a:xfrm>
            <a:off x="1620720" y="3187800"/>
            <a:ext cx="5627880" cy="19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Заголовок 1" descr=""/>
          <p:cNvPicPr/>
          <p:nvPr/>
        </p:nvPicPr>
        <p:blipFill>
          <a:blip r:embed="rId2"/>
          <a:stretch/>
        </p:blipFill>
        <p:spPr>
          <a:xfrm>
            <a:off x="457200" y="249120"/>
            <a:ext cx="8229600" cy="8604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49100"/>
                </a:solidFill>
                <a:uFillTx/>
                <a:latin typeface="Calibri"/>
                <a:hlinkClick r:id="rId3" action="ppaction://hlinksldjump"/>
              </a:rPr>
              <a:t>• рисуется тонкая линия выбранного цвета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49100"/>
                </a:solidFill>
                <a:uFillTx/>
                <a:latin typeface="Calibri"/>
                <a:hlinkClick r:id="rId4" action="ppaction://hlinksldjump"/>
              </a:rPr>
              <a:t>• можно рисовать линии разных форм и размеров.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49100"/>
                </a:solidFill>
                <a:uFillTx/>
                <a:latin typeface="Calibri"/>
                <a:hlinkClick r:id="rId5" action="ppaction://hlinksldjump"/>
              </a:rPr>
              <a:t>• рисование с эффектом распыления краски.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49100"/>
                </a:solidFill>
                <a:uFillTx/>
                <a:latin typeface="Calibri"/>
                <a:hlinkClick r:id="rId6" action="ppaction://hlinksldjump"/>
              </a:rPr>
              <a:t>• для стирания части рисунка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49100"/>
                </a:solidFill>
                <a:uFillTx/>
                <a:latin typeface="Calibri"/>
                <a:hlinkClick r:id="rId7" action="ppaction://hlinksldjump"/>
              </a:rPr>
              <a:t>• позволит закрасить выбранным цветом внутреннюю часть замкнутой    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49100"/>
                </a:solidFill>
                <a:uFillTx/>
                <a:latin typeface="Calibri"/>
                <a:hlinkClick r:id="rId8" action="ppaction://hlinksldjump"/>
              </a:rPr>
              <a:t>   области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49100"/>
                </a:solidFill>
                <a:uFillTx/>
                <a:latin typeface="Calibri"/>
                <a:hlinkClick r:id="rId9" action="ppaction://hlinksldjump"/>
              </a:rPr>
              <a:t>• предназначен для рисования прямой линии (отрезка) выбранного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49100"/>
                </a:solidFill>
                <a:uFillTx/>
                <a:latin typeface="Calibri"/>
                <a:hlinkClick r:id="rId10" action="ppaction://hlinksldjump"/>
              </a:rPr>
              <a:t>   цвета и толщины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49100"/>
                </a:solidFill>
                <a:uFillTx/>
                <a:latin typeface="Calibri"/>
                <a:hlinkClick r:id="rId11" action="ppaction://hlinksldjump"/>
              </a:rPr>
              <a:t>• предназначена для рисования  кривых линий, соединяющих заданные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49100"/>
                </a:solidFill>
                <a:uFillTx/>
                <a:latin typeface="Calibri"/>
                <a:hlinkClick r:id="rId12" action="ppaction://hlinksldjump"/>
              </a:rPr>
              <a:t>   точки, выбранного цвета и толщины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49100"/>
                </a:solidFill>
                <a:uFillTx/>
                <a:latin typeface="Calibri"/>
                <a:hlinkClick r:id="rId13" action="ppaction://hlinksldjump"/>
              </a:rPr>
              <a:t>• используется для рисования закрашенных и не закрашенных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49100"/>
                </a:solidFill>
                <a:uFillTx/>
                <a:latin typeface="Calibri"/>
                <a:hlinkClick r:id="rId14" action="ppaction://hlinksldjump"/>
              </a:rPr>
              <a:t>   прямоугольников и квадратов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49100"/>
                </a:solidFill>
                <a:uFillTx/>
                <a:latin typeface="Calibri"/>
                <a:hlinkClick r:id="rId15" action="ppaction://hlinksldjump"/>
              </a:rPr>
              <a:t>• рисование эллипсов и кругов разных размеров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435" name="Заголовок 1" descr=""/>
          <p:cNvPicPr/>
          <p:nvPr/>
        </p:nvPicPr>
        <p:blipFill>
          <a:blip r:embed="rId16"/>
          <a:stretch/>
        </p:blipFill>
        <p:spPr>
          <a:xfrm>
            <a:off x="469800" y="768240"/>
            <a:ext cx="836928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Заголовок 1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229600" cy="86040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2" action="ppaction://hlinksldjump"/>
              </a:rPr>
              <a:t>• рисуется тонкая линия выбранного цвета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3" action="ppaction://hlinksldjump"/>
              </a:rPr>
              <a:t>• можно рисовать линии разных форм и размеров.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4" action="ppaction://hlinksldjump"/>
              </a:rPr>
              <a:t>• рисование с эффектом распыления краски.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5" action="ppaction://hlinksldjump"/>
              </a:rPr>
              <a:t>• для стирания части рисунка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6" action="ppaction://hlinksldjump"/>
              </a:rPr>
              <a:t>• позволит закрасить выбранным цветом внутреннюю часть замкнутой    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7" action="ppaction://hlinksldjump"/>
              </a:rPr>
              <a:t>   области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8" action="ppaction://hlinksldjump"/>
              </a:rPr>
              <a:t>• предназначен для рисования прямой линии (отрезка) выбранного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9" action="ppaction://hlinksldjump"/>
              </a:rPr>
              <a:t>   цвета и толщины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0" action="ppaction://hlinksldjump"/>
              </a:rPr>
              <a:t>• предназначена для рисования  кривых линий, соединяющих заданные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1" action="ppaction://hlinksldjump"/>
              </a:rPr>
              <a:t>   точки, выбранного цвета и толщины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2" action="ppaction://hlinksldjump"/>
              </a:rPr>
              <a:t>• используется для рисования закрашенных и не закрашенных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3" action="ppaction://hlinksldjump"/>
              </a:rPr>
              <a:t>   прямоугольников и квадратов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4" action="ppaction://hlinksldjump"/>
              </a:rPr>
              <a:t>• рисование эллипсов и кругов разных размеров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438" name="Заголовок 1" descr=""/>
          <p:cNvPicPr/>
          <p:nvPr/>
        </p:nvPicPr>
        <p:blipFill>
          <a:blip r:embed="rId15"/>
          <a:stretch/>
        </p:blipFill>
        <p:spPr>
          <a:xfrm>
            <a:off x="433440" y="682560"/>
            <a:ext cx="840564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Заголовок 1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229600" cy="8604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2" action="ppaction://hlinksldjump"/>
              </a:rPr>
              <a:t>• рисуется тонкая линия выбранного цвета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3" action="ppaction://hlinksldjump"/>
              </a:rPr>
              <a:t>• можно рисовать линии разных форм и размеров.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4" action="ppaction://hlinksldjump"/>
              </a:rPr>
              <a:t>• рисование с эффектом распыления краски.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5" action="ppaction://hlinksldjump"/>
              </a:rPr>
              <a:t>• для стирания части рисунка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6" action="ppaction://hlinksldjump"/>
              </a:rPr>
              <a:t>• позволит закрасить выбранным цветом внутреннюю часть замкнутой    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7" action="ppaction://hlinksldjump"/>
              </a:rPr>
              <a:t>   области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8" action="ppaction://hlinksldjump"/>
              </a:rPr>
              <a:t>• предназначен для рисования прямой линии (отрезка) выбранного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9" action="ppaction://hlinksldjump"/>
              </a:rPr>
              <a:t>   цвета и толщины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0" action="ppaction://hlinksldjump"/>
              </a:rPr>
              <a:t>• предназначена для рисования  кривых линий, соединяющих заданные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1" action="ppaction://hlinksldjump"/>
              </a:rPr>
              <a:t>   точки, выбранного цвета и толщины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2" action="ppaction://hlinksldjump"/>
              </a:rPr>
              <a:t>• используется для рисования закрашенных и не закрашенных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3" action="ppaction://hlinksldjump"/>
              </a:rPr>
              <a:t>   прямоугольников и квадратов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4" action="ppaction://hlinksldjump"/>
              </a:rPr>
              <a:t>• рисование эллипсов и кругов разных размеров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441" name="Заголовок 1" descr=""/>
          <p:cNvPicPr/>
          <p:nvPr/>
        </p:nvPicPr>
        <p:blipFill>
          <a:blip r:embed="rId15"/>
          <a:stretch/>
        </p:blipFill>
        <p:spPr>
          <a:xfrm>
            <a:off x="433440" y="682560"/>
            <a:ext cx="840564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Заголовок 1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229600" cy="8604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2" action="ppaction://hlinksldjump"/>
              </a:rPr>
              <a:t>• рисуется тонкая линия выбранного цвета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3" action="ppaction://hlinksldjump"/>
              </a:rPr>
              <a:t>• можно рисовать линии разных форм и размеров.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4" action="ppaction://hlinksldjump"/>
              </a:rPr>
              <a:t>• рисование с эффектом распыления краски.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5" action="ppaction://hlinksldjump"/>
              </a:rPr>
              <a:t>• для стирания части рисунка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6" action="ppaction://hlinksldjump"/>
              </a:rPr>
              <a:t>• позволит закрасить выбранным цветом внутреннюю часть замкнутой    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7" action="ppaction://hlinksldjump"/>
              </a:rPr>
              <a:t>   области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8" action="ppaction://hlinksldjump"/>
              </a:rPr>
              <a:t>• предназначен для рисования прямой линии (отрезка) выбранного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9" action="ppaction://hlinksldjump"/>
              </a:rPr>
              <a:t>   цвета и толщины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0" action="ppaction://hlinksldjump"/>
              </a:rPr>
              <a:t>• предназначена для рисования  кривых линий, соединяющих заданные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1" action="ppaction://hlinksldjump"/>
              </a:rPr>
              <a:t>   точки, выбранного цвета и толщины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2" action="ppaction://hlinksldjump"/>
              </a:rPr>
              <a:t>• используется для рисования закрашенных и не закрашенных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3" action="ppaction://hlinksldjump"/>
              </a:rPr>
              <a:t>   прямоугольников и квадратов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4" action="ppaction://hlinksldjump"/>
              </a:rPr>
              <a:t>• рисование эллипсов и кругов разных размеров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444" name="Заголовок 1" descr=""/>
          <p:cNvPicPr/>
          <p:nvPr/>
        </p:nvPicPr>
        <p:blipFill>
          <a:blip r:embed="rId15"/>
          <a:stretch/>
        </p:blipFill>
        <p:spPr>
          <a:xfrm>
            <a:off x="433440" y="682560"/>
            <a:ext cx="844848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Заголовок 1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229600" cy="86040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2" action="ppaction://hlinksldjump"/>
              </a:rPr>
              <a:t>• рисуется тонкая линия выбранного цвета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3" action="ppaction://hlinksldjump"/>
              </a:rPr>
              <a:t>• можно рисовать линии разных форм и размеров.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bf5f9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dbf5f9"/>
                </a:solidFill>
                <a:latin typeface="Calibri"/>
              </a:rPr>
              <a:t>рисование с эффектом распыления краски.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bf5f9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dbf5f9"/>
                </a:solidFill>
                <a:latin typeface="Calibri"/>
              </a:rPr>
              <a:t>для стирания части рисунка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bf5f9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dbf5f9"/>
                </a:solidFill>
                <a:latin typeface="Calibri"/>
              </a:rPr>
              <a:t>позволит закрасить выбранным цветом внутреннюю часть замкнутой    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bf5f9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dbf5f9"/>
                </a:solidFill>
                <a:latin typeface="Calibri"/>
              </a:rPr>
              <a:t>области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bf5f9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dbf5f9"/>
                </a:solidFill>
                <a:latin typeface="Calibri"/>
              </a:rPr>
              <a:t>предназначен для рисования прямой линии (отрезка) выбранного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bf5f9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dbf5f9"/>
                </a:solidFill>
                <a:latin typeface="Calibri"/>
              </a:rPr>
              <a:t>цвета и толщины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bf5f9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dbf5f9"/>
                </a:solidFill>
                <a:latin typeface="Calibri"/>
              </a:rPr>
              <a:t>предназначена для рисования  кривых линий, соединяющих заданные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bf5f9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dbf5f9"/>
                </a:solidFill>
                <a:latin typeface="Calibri"/>
              </a:rPr>
              <a:t>точки, выбранного цвета и толщины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bf5f9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dbf5f9"/>
                </a:solidFill>
                <a:latin typeface="Calibri"/>
              </a:rPr>
              <a:t>используется для рисования закрашенных и не закрашенных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bf5f9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dbf5f9"/>
                </a:solidFill>
                <a:latin typeface="Calibri"/>
              </a:rPr>
              <a:t>прямоугольников и квадратов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bf5f9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dbf5f9"/>
                </a:solidFill>
                <a:latin typeface="Calibri"/>
              </a:rPr>
              <a:t>рисование эллипсов и кругов разных размеров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447" name="Заголовок 1" descr=""/>
          <p:cNvPicPr/>
          <p:nvPr/>
        </p:nvPicPr>
        <p:blipFill>
          <a:blip r:embed="rId4"/>
          <a:stretch/>
        </p:blipFill>
        <p:spPr>
          <a:xfrm>
            <a:off x="433440" y="682560"/>
            <a:ext cx="840564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Заголовок 1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229600" cy="8604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2" action="ppaction://hlinksldjump"/>
              </a:rPr>
              <a:t>• рисуется тонкая линия выбранного цвета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3" action="ppaction://hlinksldjump"/>
              </a:rPr>
              <a:t>• можно рисовать линии разных форм и размеров.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4" action="ppaction://hlinksldjump"/>
              </a:rPr>
              <a:t>• рисование с эффектом распыления краски.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5" action="ppaction://hlinksldjump"/>
              </a:rPr>
              <a:t>• для стирания части рисунка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6" action="ppaction://hlinksldjump"/>
              </a:rPr>
              <a:t>• позволит закрасить выбранным цветом внутреннюю часть замкнутой    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7" action="ppaction://hlinksldjump"/>
              </a:rPr>
              <a:t>   области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8" action="ppaction://hlinksldjump"/>
              </a:rPr>
              <a:t>• предназначен для рисования прямой линии (отрезка) выбранного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9" action="ppaction://hlinksldjump"/>
              </a:rPr>
              <a:t>   цвета и толщины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0" action="ppaction://hlinksldjump"/>
              </a:rPr>
              <a:t>• предназначена для рисования  кривых линий, соединяющих заданные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1" action="ppaction://hlinksldjump"/>
              </a:rPr>
              <a:t>   точки, выбранного цвета и толщины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2" action="ppaction://hlinksldjump"/>
              </a:rPr>
              <a:t>• используется для рисования закрашенных и не закрашенных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3" action="ppaction://hlinksldjump"/>
              </a:rPr>
              <a:t>   прямоугольников и квадратов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4" action="ppaction://hlinksldjump"/>
              </a:rPr>
              <a:t>• рисование эллипсов и кругов разных размеров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450" name="Заголовок 1" descr=""/>
          <p:cNvPicPr/>
          <p:nvPr/>
        </p:nvPicPr>
        <p:blipFill>
          <a:blip r:embed="rId15"/>
          <a:stretch/>
        </p:blipFill>
        <p:spPr>
          <a:xfrm>
            <a:off x="457200" y="743040"/>
            <a:ext cx="83818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Заголовок 1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229600" cy="8604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2" action="ppaction://hlinksldjump"/>
              </a:rPr>
              <a:t>• рисуется тонкая линия выбранного цвета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3" action="ppaction://hlinksldjump"/>
              </a:rPr>
              <a:t>• можно рисовать линии разных форм и размеров.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4" action="ppaction://hlinksldjump"/>
              </a:rPr>
              <a:t>• рисование с эффектом распыления краски.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5" action="ppaction://hlinksldjump"/>
              </a:rPr>
              <a:t>• для стирания части рисунка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6" action="ppaction://hlinksldjump"/>
              </a:rPr>
              <a:t>• позволит закрасить выбранным цветом внутреннюю часть замкнутой    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7" action="ppaction://hlinksldjump"/>
              </a:rPr>
              <a:t>   области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8" action="ppaction://hlinksldjump"/>
              </a:rPr>
              <a:t>• предназначен для рисования прямой линии (отрезка) выбранного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9" action="ppaction://hlinksldjump"/>
              </a:rPr>
              <a:t>   цвета и толщины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0" action="ppaction://hlinksldjump"/>
              </a:rPr>
              <a:t>• предназначена для рисования  кривых линий, соединяющих заданные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1" action="ppaction://hlinksldjump"/>
              </a:rPr>
              <a:t>   точки, выбранного цвета и толщины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2" action="ppaction://hlinksldjump"/>
              </a:rPr>
              <a:t>• используется для рисования закрашенных и не закрашенных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3" action="ppaction://hlinksldjump"/>
              </a:rPr>
              <a:t>   прямоугольников и квадратов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4" action="ppaction://hlinksldjump"/>
              </a:rPr>
              <a:t>• рисование овалов и кругов разных размеров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453" name="Заголовок 1" descr=""/>
          <p:cNvPicPr/>
          <p:nvPr/>
        </p:nvPicPr>
        <p:blipFill>
          <a:blip r:embed="rId15"/>
          <a:stretch/>
        </p:blipFill>
        <p:spPr>
          <a:xfrm>
            <a:off x="433440" y="682560"/>
            <a:ext cx="840564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539640" y="3213000"/>
            <a:ext cx="822960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alibri"/>
              </a:rPr>
              <a:t>Образовательная - </a:t>
            </a: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обобщить и систематизировать знания о возможностях и особенностях графической программы.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alibri"/>
              </a:rPr>
              <a:t>Воспитательная - </a:t>
            </a: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воспитание мотивов учения, положительного отношения к знаниям; формирование ответственности и требовательности к себе.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alibri"/>
              </a:rPr>
              <a:t>Развивающая - </a:t>
            </a: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развитие аналитического мышления и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познавательных умений.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00" name=""/>
          <p:cNvSpPr/>
          <p:nvPr/>
        </p:nvSpPr>
        <p:spPr>
          <a:xfrm>
            <a:off x="395280" y="2637000"/>
            <a:ext cx="41054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60167"/>
                </a:solidFill>
                <a:latin typeface="Calibri"/>
              </a:rPr>
              <a:t>Задачи урока:</a:t>
            </a: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1" name=""/>
          <p:cNvSpPr/>
          <p:nvPr/>
        </p:nvSpPr>
        <p:spPr>
          <a:xfrm>
            <a:off x="826920" y="404640"/>
            <a:ext cx="777564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60167"/>
                </a:solidFill>
                <a:latin typeface="Calibri"/>
              </a:rPr>
              <a:t>Тема урока:</a:t>
            </a:r>
            <a:r>
              <a:rPr b="1" lang="ru-RU" sz="3600" spc="-1" strike="noStrike">
                <a:solidFill>
                  <a:srgbClr val="fefefe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fefefe"/>
                </a:solidFill>
                <a:latin typeface="Calibri"/>
              </a:rPr>
              <a:t>Проверочная тестовая работа. Графический редактор </a:t>
            </a:r>
            <a:r>
              <a:rPr b="0" lang="en-US" sz="3600" spc="-1" strike="noStrike">
                <a:solidFill>
                  <a:srgbClr val="fefefe"/>
                </a:solidFill>
                <a:latin typeface="Calibri"/>
              </a:rPr>
              <a:t>Paint</a:t>
            </a:r>
            <a:r>
              <a:rPr b="0" lang="ru-RU" sz="3600" spc="-1" strike="noStrike">
                <a:solidFill>
                  <a:srgbClr val="fefefe"/>
                </a:solidFill>
                <a:latin typeface="Calibri"/>
              </a:rPr>
              <a:t>.</a:t>
            </a:r>
            <a:br>
              <a:rPr sz="3600"/>
            </a:br>
            <a:r>
              <a:rPr b="1" lang="ru-RU" sz="3600" spc="-1" strike="noStrike">
                <a:solidFill>
                  <a:srgbClr val="060167"/>
                </a:solidFill>
                <a:latin typeface="Calibri"/>
              </a:rPr>
              <a:t>Цель урока:</a:t>
            </a:r>
            <a:r>
              <a:rPr b="0" lang="ru-RU" sz="3600" spc="-1" strike="noStrike">
                <a:solidFill>
                  <a:srgbClr val="fefefe"/>
                </a:solidFill>
                <a:latin typeface="Calibri"/>
              </a:rPr>
              <a:t> Закрепление знаний, полученных на предидущих уроках.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Заголовок 1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229600" cy="86040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2" action="ppaction://hlinksldjump"/>
              </a:rPr>
              <a:t>• рисуется тонкая линия выбранного цвета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3" action="ppaction://hlinksldjump"/>
              </a:rPr>
              <a:t>• можно рисовать линии разных форм и размеров.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4" action="ppaction://hlinksldjump"/>
              </a:rPr>
              <a:t>• рисование с эффектом распыления краски.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5" action="ppaction://hlinksldjump"/>
              </a:rPr>
              <a:t>• для стирания части рисунка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6" action="ppaction://hlinksldjump"/>
              </a:rPr>
              <a:t>• позволит закрасить выбранным цветом внутреннюю часть замкнутой    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7" action="ppaction://hlinksldjump"/>
              </a:rPr>
              <a:t>   области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8" action="ppaction://hlinksldjump"/>
              </a:rPr>
              <a:t>• предназначен для рисования прямой линии (отрезка) выбранного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9" action="ppaction://hlinksldjump"/>
              </a:rPr>
              <a:t>   цвета и толщины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0" action="ppaction://hlinksldjump"/>
              </a:rPr>
              <a:t>• предназначена для рисования  кривых линий, соединяющих заданные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1" action="ppaction://hlinksldjump"/>
              </a:rPr>
              <a:t>   точки, выбранного цвета и толщины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2" action="ppaction://hlinksldjump"/>
              </a:rPr>
              <a:t>• используется для рисования закрашенных и не закрашенных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3" action="ppaction://hlinksldjump"/>
              </a:rPr>
              <a:t>   прямоугольников и квадратов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4" action="ppaction://hlinksldjump"/>
              </a:rPr>
              <a:t>• рисование эллипсов и кругов разных размеров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456" name="Заголовок 1" descr=""/>
          <p:cNvPicPr/>
          <p:nvPr/>
        </p:nvPicPr>
        <p:blipFill>
          <a:blip r:embed="rId15"/>
          <a:stretch/>
        </p:blipFill>
        <p:spPr>
          <a:xfrm>
            <a:off x="433440" y="682560"/>
            <a:ext cx="840564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Заголовок 1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229600" cy="8604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2" action="ppaction://hlinksldjump"/>
              </a:rPr>
              <a:t>• рисуется тонкая линия выбранного цвета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3" action="ppaction://hlinksldjump"/>
              </a:rPr>
              <a:t>• можно рисовать линии разных форм и размеров.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4" action="ppaction://hlinksldjump"/>
              </a:rPr>
              <a:t>• рисование с эффектом распыления краски.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5" action="ppaction://hlinksldjump"/>
              </a:rPr>
              <a:t>• для стирания части рисунка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6" action="ppaction://hlinksldjump"/>
              </a:rPr>
              <a:t>• позволит закрасить выбранным цветом внутреннюю часть замкнутой    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7" action="ppaction://hlinksldjump"/>
              </a:rPr>
              <a:t>   области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8" action="ppaction://hlinksldjump"/>
              </a:rPr>
              <a:t>• предназначен для рисования прямой линии (отрезка) выбранного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9" action="ppaction://hlinksldjump"/>
              </a:rPr>
              <a:t>   цвета и толщины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0" action="ppaction://hlinksldjump"/>
              </a:rPr>
              <a:t>• предназначена для рисования  кривых линий, соединяющих заданные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1" action="ppaction://hlinksldjump"/>
              </a:rPr>
              <a:t>   точки, выбранного цвета и толщины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2" action="ppaction://hlinksldjump"/>
              </a:rPr>
              <a:t>• используется для рисования закрашенных и не закрашенных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3" action="ppaction://hlinksldjump"/>
              </a:rPr>
              <a:t>   прямоугольников и квадратов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4" action="ppaction://hlinksldjump"/>
              </a:rPr>
              <a:t>• рисование эллипсов и кругов разных размеров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459" name="Заголовок 1" descr=""/>
          <p:cNvPicPr/>
          <p:nvPr/>
        </p:nvPicPr>
        <p:blipFill>
          <a:blip r:embed="rId15"/>
          <a:stretch/>
        </p:blipFill>
        <p:spPr>
          <a:xfrm>
            <a:off x="433440" y="682560"/>
            <a:ext cx="840564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Заголовок 1" descr=""/>
          <p:cNvPicPr/>
          <p:nvPr/>
        </p:nvPicPr>
        <p:blipFill>
          <a:blip r:embed="rId2"/>
          <a:stretch/>
        </p:blipFill>
        <p:spPr>
          <a:xfrm>
            <a:off x="1695600" y="573120"/>
            <a:ext cx="7308720" cy="2279520"/>
          </a:xfrm>
          <a:prstGeom prst="rect">
            <a:avLst/>
          </a:prstGeom>
          <a:ln w="0">
            <a:noFill/>
          </a:ln>
        </p:spPr>
      </p:pic>
      <p:pic>
        <p:nvPicPr>
          <p:cNvPr id="461" name="Объект 2" descr=""/>
          <p:cNvPicPr/>
          <p:nvPr/>
        </p:nvPicPr>
        <p:blipFill>
          <a:blip r:embed="rId3"/>
          <a:stretch/>
        </p:blipFill>
        <p:spPr>
          <a:xfrm>
            <a:off x="1620720" y="3187800"/>
            <a:ext cx="5627880" cy="19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Заголовок 1" descr=""/>
          <p:cNvPicPr/>
          <p:nvPr/>
        </p:nvPicPr>
        <p:blipFill>
          <a:blip r:embed="rId1"/>
          <a:stretch/>
        </p:blipFill>
        <p:spPr>
          <a:xfrm>
            <a:off x="2359080" y="433440"/>
            <a:ext cx="4797360" cy="2279520"/>
          </a:xfrm>
          <a:prstGeom prst="rect">
            <a:avLst/>
          </a:prstGeom>
          <a:ln w="0">
            <a:noFill/>
          </a:ln>
        </p:spPr>
      </p:pic>
      <p:grpSp>
        <p:nvGrpSpPr>
          <p:cNvPr id="463" name="Группа 4"/>
          <p:cNvGrpSpPr/>
          <p:nvPr/>
        </p:nvGrpSpPr>
        <p:grpSpPr>
          <a:xfrm>
            <a:off x="2994120" y="3141720"/>
            <a:ext cx="3301920" cy="1971720"/>
            <a:chOff x="2994120" y="3141720"/>
            <a:chExt cx="3301920" cy="1971720"/>
          </a:xfrm>
        </p:grpSpPr>
        <p:sp>
          <p:nvSpPr>
            <p:cNvPr id="464" name="Овал 5">
              <a:hlinkClick r:id="rId2" action="ppaction://hlinksldjump"/>
            </p:cNvPr>
            <p:cNvSpPr/>
            <p:nvPr/>
          </p:nvSpPr>
          <p:spPr>
            <a:xfrm>
              <a:off x="2994120" y="3141720"/>
              <a:ext cx="3301920" cy="1971720"/>
            </a:xfrm>
            <a:prstGeom prst="ellipse">
              <a:avLst/>
            </a:prstGeom>
            <a:gradFill rotWithShape="0">
              <a:gsLst>
                <a:gs pos="0">
                  <a:srgbClr val="0f6fc6"/>
                </a:gs>
                <a:gs pos="100000">
                  <a:srgbClr val="91c6f7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65" name="Овал 4">
              <a:hlinkClick r:id="rId3" action="ppaction://hlinksldjump"/>
            </p:cNvPr>
            <p:cNvSpPr/>
            <p:nvPr/>
          </p:nvSpPr>
          <p:spPr>
            <a:xfrm>
              <a:off x="3478320" y="3430440"/>
              <a:ext cx="2333520" cy="1393920"/>
            </a:xfrm>
            <a:prstGeom prst="rect">
              <a:avLst/>
            </a:prstGeom>
            <a:noFill/>
            <a:ln w="0">
              <a:noFill/>
            </a:ln>
            <a:effectLst>
              <a:outerShdw dist="317520" dir="54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0" lang="ru-RU" sz="3200" spc="-1" strike="noStrike" u="sng">
                  <a:solidFill>
                    <a:srgbClr val="f49100"/>
                  </a:solidFill>
                  <a:uFillTx/>
                  <a:latin typeface="Calibri"/>
                  <a:hlinkClick r:id="rId4" action="ppaction://hlinksldjump"/>
                </a:rPr>
                <a:t>Перейти к следующему вопросу</a:t>
              </a:r>
              <a:endParaRPr b="0" lang="en-US" sz="32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Заголовок 1" descr=""/>
          <p:cNvPicPr/>
          <p:nvPr/>
        </p:nvPicPr>
        <p:blipFill>
          <a:blip r:embed="rId1"/>
          <a:stretch/>
        </p:blipFill>
        <p:spPr>
          <a:xfrm>
            <a:off x="2359080" y="433440"/>
            <a:ext cx="4797360" cy="2279520"/>
          </a:xfrm>
          <a:prstGeom prst="rect">
            <a:avLst/>
          </a:prstGeom>
          <a:ln w="0">
            <a:noFill/>
          </a:ln>
        </p:spPr>
      </p:pic>
      <p:grpSp>
        <p:nvGrpSpPr>
          <p:cNvPr id="467" name="Группа 4"/>
          <p:cNvGrpSpPr/>
          <p:nvPr/>
        </p:nvGrpSpPr>
        <p:grpSpPr>
          <a:xfrm>
            <a:off x="2998800" y="3141720"/>
            <a:ext cx="3301920" cy="1971720"/>
            <a:chOff x="2998800" y="3141720"/>
            <a:chExt cx="3301920" cy="1971720"/>
          </a:xfrm>
        </p:grpSpPr>
        <p:sp>
          <p:nvSpPr>
            <p:cNvPr id="468" name="Овал 5">
              <a:hlinkClick r:id="rId2" action="ppaction://hlinksldjump"/>
            </p:cNvPr>
            <p:cNvSpPr/>
            <p:nvPr/>
          </p:nvSpPr>
          <p:spPr>
            <a:xfrm>
              <a:off x="2998800" y="3141720"/>
              <a:ext cx="3301920" cy="1971720"/>
            </a:xfrm>
            <a:prstGeom prst="ellipse">
              <a:avLst/>
            </a:prstGeom>
            <a:gradFill rotWithShape="0">
              <a:gsLst>
                <a:gs pos="0">
                  <a:srgbClr val="0f6fc6"/>
                </a:gs>
                <a:gs pos="100000">
                  <a:srgbClr val="91c6f7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69" name="Овал 4">
              <a:hlinkClick r:id="rId3" action="ppaction://hlinksldjump"/>
            </p:cNvPr>
            <p:cNvSpPr/>
            <p:nvPr/>
          </p:nvSpPr>
          <p:spPr>
            <a:xfrm>
              <a:off x="3483000" y="3430440"/>
              <a:ext cx="2333520" cy="1393920"/>
            </a:xfrm>
            <a:prstGeom prst="rect">
              <a:avLst/>
            </a:prstGeom>
            <a:noFill/>
            <a:ln w="0">
              <a:noFill/>
            </a:ln>
            <a:effectLst>
              <a:outerShdw dist="317520" dir="54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0" lang="ru-RU" sz="3200" spc="-1" strike="noStrike" u="sng">
                  <a:solidFill>
                    <a:srgbClr val="f49100"/>
                  </a:solidFill>
                  <a:uFillTx/>
                  <a:latin typeface="Calibri"/>
                  <a:hlinkClick r:id="rId4" action="ppaction://hlinksldjump"/>
                </a:rPr>
                <a:t>Перейти к следующему вопросу</a:t>
              </a:r>
              <a:endParaRPr b="0" lang="en-US" sz="32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Заголовок 1" descr=""/>
          <p:cNvPicPr/>
          <p:nvPr/>
        </p:nvPicPr>
        <p:blipFill>
          <a:blip r:embed="rId1"/>
          <a:stretch/>
        </p:blipFill>
        <p:spPr>
          <a:xfrm>
            <a:off x="2359080" y="433440"/>
            <a:ext cx="4797360" cy="2279520"/>
          </a:xfrm>
          <a:prstGeom prst="rect">
            <a:avLst/>
          </a:prstGeom>
          <a:ln w="0">
            <a:noFill/>
          </a:ln>
        </p:spPr>
      </p:pic>
      <p:grpSp>
        <p:nvGrpSpPr>
          <p:cNvPr id="471" name="Группа 4"/>
          <p:cNvGrpSpPr/>
          <p:nvPr/>
        </p:nvGrpSpPr>
        <p:grpSpPr>
          <a:xfrm>
            <a:off x="2998800" y="3141720"/>
            <a:ext cx="3301920" cy="1971720"/>
            <a:chOff x="2998800" y="3141720"/>
            <a:chExt cx="3301920" cy="1971720"/>
          </a:xfrm>
        </p:grpSpPr>
        <p:sp>
          <p:nvSpPr>
            <p:cNvPr id="472" name="Овал 5">
              <a:hlinkClick r:id="rId2" action="ppaction://hlinksldjump"/>
            </p:cNvPr>
            <p:cNvSpPr/>
            <p:nvPr/>
          </p:nvSpPr>
          <p:spPr>
            <a:xfrm>
              <a:off x="2998800" y="3141720"/>
              <a:ext cx="3301920" cy="1971720"/>
            </a:xfrm>
            <a:prstGeom prst="ellipse">
              <a:avLst/>
            </a:prstGeom>
            <a:gradFill rotWithShape="0">
              <a:gsLst>
                <a:gs pos="0">
                  <a:srgbClr val="0f6fc6"/>
                </a:gs>
                <a:gs pos="100000">
                  <a:srgbClr val="91c6f7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73" name="Овал 4">
              <a:hlinkClick r:id="rId3" action="ppaction://hlinksldjump"/>
            </p:cNvPr>
            <p:cNvSpPr/>
            <p:nvPr/>
          </p:nvSpPr>
          <p:spPr>
            <a:xfrm>
              <a:off x="3483000" y="3430440"/>
              <a:ext cx="2333520" cy="1393920"/>
            </a:xfrm>
            <a:prstGeom prst="rect">
              <a:avLst/>
            </a:prstGeom>
            <a:noFill/>
            <a:ln w="0">
              <a:noFill/>
            </a:ln>
            <a:effectLst>
              <a:outerShdw dist="317520" dir="54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0" lang="ru-RU" sz="3200" spc="-1" strike="noStrike" u="sng">
                  <a:solidFill>
                    <a:srgbClr val="f49100"/>
                  </a:solidFill>
                  <a:uFillTx/>
                  <a:latin typeface="Calibri"/>
                  <a:hlinkClick r:id="rId4" action="ppaction://hlinksldjump"/>
                </a:rPr>
                <a:t>Перейти к следующему вопросу</a:t>
              </a:r>
              <a:endParaRPr b="0" lang="en-US" sz="32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Заголовок 1" descr=""/>
          <p:cNvPicPr/>
          <p:nvPr/>
        </p:nvPicPr>
        <p:blipFill>
          <a:blip r:embed="rId1"/>
          <a:stretch/>
        </p:blipFill>
        <p:spPr>
          <a:xfrm>
            <a:off x="2359080" y="433440"/>
            <a:ext cx="4797360" cy="2279520"/>
          </a:xfrm>
          <a:prstGeom prst="rect">
            <a:avLst/>
          </a:prstGeom>
          <a:ln w="0">
            <a:noFill/>
          </a:ln>
        </p:spPr>
      </p:pic>
      <p:grpSp>
        <p:nvGrpSpPr>
          <p:cNvPr id="475" name="Группа 4"/>
          <p:cNvGrpSpPr/>
          <p:nvPr/>
        </p:nvGrpSpPr>
        <p:grpSpPr>
          <a:xfrm>
            <a:off x="2998800" y="3141720"/>
            <a:ext cx="3301920" cy="1971720"/>
            <a:chOff x="2998800" y="3141720"/>
            <a:chExt cx="3301920" cy="1971720"/>
          </a:xfrm>
        </p:grpSpPr>
        <p:sp>
          <p:nvSpPr>
            <p:cNvPr id="476" name="Овал 5">
              <a:hlinkClick r:id="rId2" action="ppaction://hlinksldjump"/>
            </p:cNvPr>
            <p:cNvSpPr/>
            <p:nvPr/>
          </p:nvSpPr>
          <p:spPr>
            <a:xfrm>
              <a:off x="2998800" y="3141720"/>
              <a:ext cx="3301920" cy="1971720"/>
            </a:xfrm>
            <a:prstGeom prst="ellipse">
              <a:avLst/>
            </a:prstGeom>
            <a:gradFill rotWithShape="0">
              <a:gsLst>
                <a:gs pos="0">
                  <a:srgbClr val="0f6fc6"/>
                </a:gs>
                <a:gs pos="100000">
                  <a:srgbClr val="91c6f7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77" name="Овал 4">
              <a:hlinkClick r:id="rId3" action="ppaction://hlinksldjump"/>
            </p:cNvPr>
            <p:cNvSpPr/>
            <p:nvPr/>
          </p:nvSpPr>
          <p:spPr>
            <a:xfrm>
              <a:off x="3483000" y="3430440"/>
              <a:ext cx="2333520" cy="1393920"/>
            </a:xfrm>
            <a:prstGeom prst="rect">
              <a:avLst/>
            </a:prstGeom>
            <a:noFill/>
            <a:ln w="0">
              <a:noFill/>
            </a:ln>
            <a:effectLst>
              <a:outerShdw dist="317520" dir="54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0" lang="ru-RU" sz="3200" spc="-1" strike="noStrike" u="sng">
                  <a:solidFill>
                    <a:srgbClr val="f49100"/>
                  </a:solidFill>
                  <a:uFillTx/>
                  <a:latin typeface="Calibri"/>
                  <a:hlinkClick r:id="rId4" action="ppaction://hlinksldjump"/>
                </a:rPr>
                <a:t>Перейти к следующему вопросу</a:t>
              </a:r>
              <a:endParaRPr b="0" lang="en-US" sz="32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Заголовок 1" descr=""/>
          <p:cNvPicPr/>
          <p:nvPr/>
        </p:nvPicPr>
        <p:blipFill>
          <a:blip r:embed="rId1"/>
          <a:stretch/>
        </p:blipFill>
        <p:spPr>
          <a:xfrm>
            <a:off x="2359080" y="433440"/>
            <a:ext cx="4797360" cy="2279520"/>
          </a:xfrm>
          <a:prstGeom prst="rect">
            <a:avLst/>
          </a:prstGeom>
          <a:ln w="0">
            <a:noFill/>
          </a:ln>
        </p:spPr>
      </p:pic>
      <p:grpSp>
        <p:nvGrpSpPr>
          <p:cNvPr id="479" name="Группа 4"/>
          <p:cNvGrpSpPr/>
          <p:nvPr/>
        </p:nvGrpSpPr>
        <p:grpSpPr>
          <a:xfrm>
            <a:off x="2998800" y="3141720"/>
            <a:ext cx="3301920" cy="1971720"/>
            <a:chOff x="2998800" y="3141720"/>
            <a:chExt cx="3301920" cy="1971720"/>
          </a:xfrm>
        </p:grpSpPr>
        <p:sp>
          <p:nvSpPr>
            <p:cNvPr id="480" name="Овал 5">
              <a:hlinkClick r:id="rId2" action="ppaction://hlinksldjump"/>
            </p:cNvPr>
            <p:cNvSpPr/>
            <p:nvPr/>
          </p:nvSpPr>
          <p:spPr>
            <a:xfrm>
              <a:off x="2998800" y="3141720"/>
              <a:ext cx="3301920" cy="1971720"/>
            </a:xfrm>
            <a:prstGeom prst="ellipse">
              <a:avLst/>
            </a:prstGeom>
            <a:gradFill rotWithShape="0">
              <a:gsLst>
                <a:gs pos="0">
                  <a:srgbClr val="0f6fc6"/>
                </a:gs>
                <a:gs pos="100000">
                  <a:srgbClr val="91c6f7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81" name="Овал 4">
              <a:hlinkClick r:id="rId3" action="ppaction://hlinksldjump"/>
            </p:cNvPr>
            <p:cNvSpPr/>
            <p:nvPr/>
          </p:nvSpPr>
          <p:spPr>
            <a:xfrm>
              <a:off x="3483000" y="3430440"/>
              <a:ext cx="2333520" cy="1393920"/>
            </a:xfrm>
            <a:prstGeom prst="rect">
              <a:avLst/>
            </a:prstGeom>
            <a:noFill/>
            <a:ln w="0">
              <a:noFill/>
            </a:ln>
            <a:effectLst>
              <a:outerShdw dist="317520" dir="54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0" lang="ru-RU" sz="3200" spc="-1" strike="noStrike" u="sng">
                  <a:solidFill>
                    <a:srgbClr val="f49100"/>
                  </a:solidFill>
                  <a:uFillTx/>
                  <a:latin typeface="Calibri"/>
                  <a:hlinkClick r:id="rId4" action="ppaction://hlinksldjump"/>
                </a:rPr>
                <a:t>Перейти к следующему вопросу</a:t>
              </a:r>
              <a:endParaRPr b="0" lang="en-US" sz="32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Заголовок 1" descr=""/>
          <p:cNvPicPr/>
          <p:nvPr/>
        </p:nvPicPr>
        <p:blipFill>
          <a:blip r:embed="rId1"/>
          <a:stretch/>
        </p:blipFill>
        <p:spPr>
          <a:xfrm>
            <a:off x="2359080" y="433440"/>
            <a:ext cx="4797360" cy="2279520"/>
          </a:xfrm>
          <a:prstGeom prst="rect">
            <a:avLst/>
          </a:prstGeom>
          <a:ln w="0">
            <a:noFill/>
          </a:ln>
        </p:spPr>
      </p:pic>
      <p:grpSp>
        <p:nvGrpSpPr>
          <p:cNvPr id="483" name="Группа 4"/>
          <p:cNvGrpSpPr/>
          <p:nvPr/>
        </p:nvGrpSpPr>
        <p:grpSpPr>
          <a:xfrm>
            <a:off x="2998800" y="3141720"/>
            <a:ext cx="3301920" cy="1971720"/>
            <a:chOff x="2998800" y="3141720"/>
            <a:chExt cx="3301920" cy="1971720"/>
          </a:xfrm>
        </p:grpSpPr>
        <p:sp>
          <p:nvSpPr>
            <p:cNvPr id="484" name="Овал 5">
              <a:hlinkClick r:id="rId2" action="ppaction://hlinksldjump"/>
            </p:cNvPr>
            <p:cNvSpPr/>
            <p:nvPr/>
          </p:nvSpPr>
          <p:spPr>
            <a:xfrm>
              <a:off x="2998800" y="3141720"/>
              <a:ext cx="3301920" cy="1971720"/>
            </a:xfrm>
            <a:prstGeom prst="ellipse">
              <a:avLst/>
            </a:prstGeom>
            <a:gradFill rotWithShape="0">
              <a:gsLst>
                <a:gs pos="0">
                  <a:srgbClr val="0f6fc6"/>
                </a:gs>
                <a:gs pos="100000">
                  <a:srgbClr val="91c6f7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85" name="Овал 4">
              <a:hlinkClick r:id="rId3" action="ppaction://hlinksldjump"/>
            </p:cNvPr>
            <p:cNvSpPr/>
            <p:nvPr/>
          </p:nvSpPr>
          <p:spPr>
            <a:xfrm>
              <a:off x="3483000" y="3430440"/>
              <a:ext cx="2333520" cy="1393920"/>
            </a:xfrm>
            <a:prstGeom prst="rect">
              <a:avLst/>
            </a:prstGeom>
            <a:noFill/>
            <a:ln w="0">
              <a:noFill/>
            </a:ln>
            <a:effectLst>
              <a:outerShdw dist="317520" dir="54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0" lang="ru-RU" sz="3200" spc="-1" strike="noStrike" u="sng">
                  <a:solidFill>
                    <a:srgbClr val="f49100"/>
                  </a:solidFill>
                  <a:uFillTx/>
                  <a:latin typeface="Calibri"/>
                  <a:hlinkClick r:id="rId4" action="ppaction://hlinksldjump"/>
                </a:rPr>
                <a:t>Перейти к следующему вопросу</a:t>
              </a:r>
              <a:endParaRPr b="0" lang="en-US" sz="32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Заголовок 1" descr=""/>
          <p:cNvPicPr/>
          <p:nvPr/>
        </p:nvPicPr>
        <p:blipFill>
          <a:blip r:embed="rId1"/>
          <a:stretch/>
        </p:blipFill>
        <p:spPr>
          <a:xfrm>
            <a:off x="2359080" y="433440"/>
            <a:ext cx="4797360" cy="2279520"/>
          </a:xfrm>
          <a:prstGeom prst="rect">
            <a:avLst/>
          </a:prstGeom>
          <a:ln w="0">
            <a:noFill/>
          </a:ln>
        </p:spPr>
      </p:pic>
      <p:grpSp>
        <p:nvGrpSpPr>
          <p:cNvPr id="487" name="Группа 4"/>
          <p:cNvGrpSpPr/>
          <p:nvPr/>
        </p:nvGrpSpPr>
        <p:grpSpPr>
          <a:xfrm>
            <a:off x="2998800" y="3141720"/>
            <a:ext cx="3301920" cy="1971720"/>
            <a:chOff x="2998800" y="3141720"/>
            <a:chExt cx="3301920" cy="1971720"/>
          </a:xfrm>
        </p:grpSpPr>
        <p:sp>
          <p:nvSpPr>
            <p:cNvPr id="488" name="Овал 5">
              <a:hlinkClick r:id="rId2" action="ppaction://hlinksldjump"/>
            </p:cNvPr>
            <p:cNvSpPr/>
            <p:nvPr/>
          </p:nvSpPr>
          <p:spPr>
            <a:xfrm>
              <a:off x="2998800" y="3141720"/>
              <a:ext cx="3301920" cy="1971720"/>
            </a:xfrm>
            <a:prstGeom prst="ellipse">
              <a:avLst/>
            </a:prstGeom>
            <a:gradFill rotWithShape="0">
              <a:gsLst>
                <a:gs pos="0">
                  <a:srgbClr val="0f6fc6"/>
                </a:gs>
                <a:gs pos="100000">
                  <a:srgbClr val="91c6f7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89" name="Овал 4"/>
            <p:cNvSpPr/>
            <p:nvPr/>
          </p:nvSpPr>
          <p:spPr>
            <a:xfrm>
              <a:off x="3483000" y="3430440"/>
              <a:ext cx="2333520" cy="1393920"/>
            </a:xfrm>
            <a:prstGeom prst="rect">
              <a:avLst/>
            </a:prstGeom>
            <a:noFill/>
            <a:ln w="0">
              <a:noFill/>
            </a:ln>
            <a:effectLst>
              <a:outerShdw dist="317520" dir="54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0" lang="ru-RU" sz="3200" spc="-1" strike="noStrike">
                  <a:solidFill>
                    <a:srgbClr val="5ff3ca"/>
                  </a:solidFill>
                  <a:latin typeface="Calibri"/>
                </a:rPr>
                <a:t>Перейти к следующему вопросу</a:t>
              </a:r>
              <a:endParaRPr b="0" lang="en-US" sz="32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3754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0167"/>
                </a:solidFill>
                <a:latin typeface="Calibri"/>
              </a:rPr>
              <a:t>Работа на уроке.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8820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Учащимся предлагается вспомнить особенности работы в изученном на предыдущих уроках графическом редакторе и пройти тест. Работа выполнятся каждым ребенком индивидуально на компьютере. Учитывая индивидуальные особенности каждого учащегося предусмотрено многократное прохождение  одного и того же вопроса. Время не учитывается. Выбирая правильный из нескольких ответов, учащийся переходит к следующему заданию. При неправильном ответе ему предлагается вернуться к началу и попробовать еще раз. Так происходит и закрепление полученных знаний. Перед учащимися ставиться цель – пройти тест до самого конца.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marL="264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В конце урока проводится рефлексия. Идет обсуждение, рассматриваются ошибки и их причины. Учащиеся рассказывают, что понравилось им и давалось легко, а что вызвало трудности. 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Заголовок 1" descr=""/>
          <p:cNvPicPr/>
          <p:nvPr/>
        </p:nvPicPr>
        <p:blipFill>
          <a:blip r:embed="rId1"/>
          <a:stretch/>
        </p:blipFill>
        <p:spPr>
          <a:xfrm>
            <a:off x="2359080" y="433440"/>
            <a:ext cx="4797360" cy="2279520"/>
          </a:xfrm>
          <a:prstGeom prst="rect">
            <a:avLst/>
          </a:prstGeom>
          <a:ln w="0">
            <a:noFill/>
          </a:ln>
        </p:spPr>
      </p:pic>
      <p:grpSp>
        <p:nvGrpSpPr>
          <p:cNvPr id="491" name="Группа 4"/>
          <p:cNvGrpSpPr/>
          <p:nvPr/>
        </p:nvGrpSpPr>
        <p:grpSpPr>
          <a:xfrm>
            <a:off x="2998800" y="3141720"/>
            <a:ext cx="3301920" cy="1971720"/>
            <a:chOff x="2998800" y="3141720"/>
            <a:chExt cx="3301920" cy="1971720"/>
          </a:xfrm>
        </p:grpSpPr>
        <p:sp>
          <p:nvSpPr>
            <p:cNvPr id="492" name="Овал 5"/>
            <p:cNvSpPr/>
            <p:nvPr/>
          </p:nvSpPr>
          <p:spPr>
            <a:xfrm>
              <a:off x="2998800" y="3141720"/>
              <a:ext cx="3301920" cy="1971720"/>
            </a:xfrm>
            <a:prstGeom prst="ellipse">
              <a:avLst/>
            </a:prstGeom>
            <a:gradFill rotWithShape="0">
              <a:gsLst>
                <a:gs pos="0">
                  <a:srgbClr val="0f6fc6"/>
                </a:gs>
                <a:gs pos="100000">
                  <a:srgbClr val="91c6f7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93" name="Овал 4"/>
            <p:cNvSpPr/>
            <p:nvPr/>
          </p:nvSpPr>
          <p:spPr>
            <a:xfrm>
              <a:off x="3483000" y="3430440"/>
              <a:ext cx="2333520" cy="1393920"/>
            </a:xfrm>
            <a:prstGeom prst="rect">
              <a:avLst/>
            </a:prstGeom>
            <a:noFill/>
            <a:ln w="0">
              <a:noFill/>
            </a:ln>
            <a:effectLst>
              <a:outerShdw dist="317520" dir="54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0" lang="ru-RU" sz="3200" spc="-1" strike="noStrike">
                  <a:solidFill>
                    <a:srgbClr val="5ff3ca"/>
                  </a:solidFill>
                  <a:latin typeface="Calibri"/>
                </a:rPr>
                <a:t>Перейти к следующему вопросу</a:t>
              </a:r>
              <a:endParaRPr b="0" lang="en-US" sz="32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Заголовок 1" descr=""/>
          <p:cNvPicPr/>
          <p:nvPr/>
        </p:nvPicPr>
        <p:blipFill>
          <a:blip r:embed="rId1"/>
          <a:stretch/>
        </p:blipFill>
        <p:spPr>
          <a:xfrm>
            <a:off x="2359080" y="433440"/>
            <a:ext cx="4797360" cy="2279520"/>
          </a:xfrm>
          <a:prstGeom prst="rect">
            <a:avLst/>
          </a:prstGeom>
          <a:ln w="0">
            <a:noFill/>
          </a:ln>
        </p:spPr>
      </p:pic>
      <p:grpSp>
        <p:nvGrpSpPr>
          <p:cNvPr id="495" name="Группа 4"/>
          <p:cNvGrpSpPr/>
          <p:nvPr/>
        </p:nvGrpSpPr>
        <p:grpSpPr>
          <a:xfrm>
            <a:off x="611280" y="3141720"/>
            <a:ext cx="7561080" cy="1971720"/>
            <a:chOff x="611280" y="3141720"/>
            <a:chExt cx="7561080" cy="1971720"/>
          </a:xfrm>
        </p:grpSpPr>
        <p:sp>
          <p:nvSpPr>
            <p:cNvPr id="496" name="Овал 5"/>
            <p:cNvSpPr/>
            <p:nvPr/>
          </p:nvSpPr>
          <p:spPr>
            <a:xfrm>
              <a:off x="611280" y="3141720"/>
              <a:ext cx="7561080" cy="1971720"/>
            </a:xfrm>
            <a:prstGeom prst="ellipse">
              <a:avLst/>
            </a:prstGeom>
            <a:gradFill rotWithShape="0">
              <a:gsLst>
                <a:gs pos="0">
                  <a:srgbClr val="0f6fc6"/>
                </a:gs>
                <a:gs pos="100000">
                  <a:srgbClr val="91c6f7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97" name="Овал 4"/>
            <p:cNvSpPr/>
            <p:nvPr/>
          </p:nvSpPr>
          <p:spPr>
            <a:xfrm>
              <a:off x="1719360" y="3430440"/>
              <a:ext cx="5344920" cy="1393920"/>
            </a:xfrm>
            <a:prstGeom prst="rect">
              <a:avLst/>
            </a:prstGeom>
            <a:noFill/>
            <a:ln w="0">
              <a:noFill/>
            </a:ln>
            <a:effectLst>
              <a:outerShdw dist="317520" dir="54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0" lang="ru-RU" sz="3200" spc="-1" strike="noStrike">
                  <a:solidFill>
                    <a:srgbClr val="5ff3ca"/>
                  </a:solidFill>
                  <a:latin typeface="Calibri"/>
                </a:rPr>
                <a:t>Посмотри результаты своей работы</a:t>
              </a:r>
              <a:endParaRPr b="0" lang="en-US" sz="32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3" descr=""/>
          <p:cNvPicPr/>
          <p:nvPr/>
        </p:nvPicPr>
        <p:blipFill>
          <a:blip r:embed="rId1"/>
          <a:stretch/>
        </p:blipFill>
        <p:spPr>
          <a:xfrm>
            <a:off x="2914560" y="692280"/>
            <a:ext cx="3346560" cy="3946320"/>
          </a:xfrm>
          <a:prstGeom prst="rect">
            <a:avLst/>
          </a:prstGeom>
          <a:ln w="0">
            <a:noFill/>
          </a:ln>
        </p:spPr>
      </p:pic>
      <p:sp>
        <p:nvSpPr>
          <p:cNvPr id="499" name="TextBox 1"/>
          <p:cNvSpPr/>
          <p:nvPr/>
        </p:nvSpPr>
        <p:spPr>
          <a:xfrm>
            <a:off x="395280" y="5148360"/>
            <a:ext cx="864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Tw Cen MT"/>
              </a:rPr>
              <a:t>Ты хорошо поработал и можешь передохнуть!</a:t>
            </a: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25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25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25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25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2"/>
          <a:stretch/>
        </p:blipFill>
        <p:spPr>
          <a:xfrm>
            <a:off x="0" y="1989000"/>
            <a:ext cx="4681440" cy="23288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1763280" y="4005000"/>
            <a:ext cx="3024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Ответь на все вопросы  и проверь свои знания!</a:t>
            </a:r>
            <a:endParaRPr b="0" lang="en-US" sz="22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2"/>
          <a:stretch/>
        </p:blipFill>
        <p:spPr>
          <a:xfrm>
            <a:off x="179280" y="47520"/>
            <a:ext cx="8710560" cy="8604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"/>
          <p:cNvPicPr/>
          <p:nvPr/>
        </p:nvPicPr>
        <p:blipFill>
          <a:blip r:embed="rId3"/>
          <a:stretch/>
        </p:blipFill>
        <p:spPr>
          <a:xfrm>
            <a:off x="420840" y="911160"/>
            <a:ext cx="82850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381880" cy="134604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971640" y="3020760"/>
            <a:ext cx="316872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ceff"/>
                </a:solidFill>
                <a:latin typeface="Calibri"/>
              </a:rPr>
              <a:t>Строка меню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410" name="Picture 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643280" y="1022400"/>
            <a:ext cx="3513240" cy="51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381880" cy="13460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1116000" y="2400480"/>
            <a:ext cx="33228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ceff"/>
                </a:solidFill>
                <a:latin typeface="Calibri"/>
              </a:rPr>
              <a:t>Панель инструментов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413" name="Picture 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716360" y="981000"/>
            <a:ext cx="3513240" cy="5103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753080" y="1762200"/>
            <a:ext cx="766800" cy="27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381880" cy="13460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899640" y="1773000"/>
            <a:ext cx="324972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ceff"/>
                </a:solidFill>
                <a:latin typeface="Calibri"/>
              </a:rPr>
              <a:t>Панель цветов (палитра</a:t>
            </a:r>
            <a:r>
              <a:rPr b="0" lang="ru-RU" sz="3200" spc="-1" strike="noStrike">
                <a:solidFill>
                  <a:srgbClr val="dbf5f9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417" name="Picture 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716360" y="981000"/>
            <a:ext cx="3513240" cy="5103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761000" y="5154480"/>
            <a:ext cx="3411360" cy="6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2206800" y="433440"/>
            <a:ext cx="4797360" cy="2279520"/>
          </a:xfrm>
          <a:prstGeom prst="rect">
            <a:avLst/>
          </a:prstGeom>
          <a:ln w="0">
            <a:noFill/>
          </a:ln>
        </p:spPr>
      </p:pic>
      <p:grpSp>
        <p:nvGrpSpPr>
          <p:cNvPr id="420" name="Группа 4"/>
          <p:cNvGrpSpPr/>
          <p:nvPr/>
        </p:nvGrpSpPr>
        <p:grpSpPr>
          <a:xfrm>
            <a:off x="2998800" y="3141720"/>
            <a:ext cx="3301920" cy="1971720"/>
            <a:chOff x="2998800" y="3141720"/>
            <a:chExt cx="3301920" cy="1971720"/>
          </a:xfrm>
        </p:grpSpPr>
        <p:sp>
          <p:nvSpPr>
            <p:cNvPr id="421" name="Овал 4">
              <a:hlinkClick r:id="rId2" action="ppaction://hlinksldjump"/>
            </p:cNvPr>
            <p:cNvSpPr/>
            <p:nvPr/>
          </p:nvSpPr>
          <p:spPr>
            <a:xfrm>
              <a:off x="2998800" y="3141720"/>
              <a:ext cx="3301920" cy="1971720"/>
            </a:xfrm>
            <a:prstGeom prst="ellipse">
              <a:avLst/>
            </a:prstGeom>
            <a:gradFill rotWithShape="0">
              <a:gsLst>
                <a:gs pos="0">
                  <a:srgbClr val="0f6fc6"/>
                </a:gs>
                <a:gs pos="100000">
                  <a:srgbClr val="91c6f7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22" name="Овал 4">
              <a:hlinkClick r:id="rId3" action="ppaction://hlinksldjump"/>
            </p:cNvPr>
            <p:cNvSpPr/>
            <p:nvPr/>
          </p:nvSpPr>
          <p:spPr>
            <a:xfrm>
              <a:off x="3483000" y="3430440"/>
              <a:ext cx="2333520" cy="1393920"/>
            </a:xfrm>
            <a:prstGeom prst="rect">
              <a:avLst/>
            </a:prstGeom>
            <a:noFill/>
            <a:ln w="0">
              <a:noFill/>
            </a:ln>
            <a:effectLst>
              <a:outerShdw dist="317520" dir="54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0" lang="ru-RU" sz="3200" spc="-1" strike="noStrike">
                  <a:solidFill>
                    <a:srgbClr val="5ff3ca"/>
                  </a:solidFill>
                  <a:latin typeface="Calibri"/>
                </a:rPr>
                <a:t>Перейти ко второму вопросу</a:t>
              </a:r>
              <a:endParaRPr b="0" lang="en-US" sz="32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07:59:54Z</dcterms:created>
  <dc:creator>Демидова</dc:creator>
  <dc:description/>
  <dc:language>en-US</dc:language>
  <cp:lastModifiedBy>Алена</cp:lastModifiedBy>
  <dcterms:modified xsi:type="dcterms:W3CDTF">2013-02-09T05:41:14Z</dcterms:modified>
  <cp:revision>27</cp:revision>
  <dc:subject/>
  <dc:title>Проверочная работа по теме: «Рисование в программе Paint»</dc:title>
</cp:coreProperties>
</file>