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249-294A-4FB2-94FE-5D83CC9765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795-72EB-4946-A108-27E0312E273D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0CB4-62C7-4325-BB6B-AB340F51C39B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F3FE-8799-4D71-AFAB-0474EED7AA71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EADF-50AE-4FA2-B416-D0D001731FF4}" type="slidenum">
              <a:rPr b="0" lang="ru-RU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8A3-DE5D-4BC4-9B95-416567B2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810-1652-4207-9943-1061C2D3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D98-B45A-4096-A456-DB3618BC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E09-B654-4278-B545-6FB21E66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7E90-2239-4DCA-ABC3-C94548B0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E1D1-8CE1-4E49-A7CB-86E92C8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0A79-13A8-4EDC-BA81-89929584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3F2C-276D-4276-9AB4-75B1F056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9C78-C93B-4724-B77C-6448A54C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B0DC-BD4D-4C14-BDAD-0E2489AF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E07C-F93F-432C-8F18-64DA54C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4B0-0335-4D74-A016-3FBC863C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496B-B122-48B8-A49E-986D9BF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34CE-49C5-4877-8376-5904F34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BE37-91B8-4291-9148-48CA70B5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AED-A62E-42BC-9256-D4DCF83D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64F4-FEC4-4BC1-B979-801C7099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5354-B2CE-4647-90E2-FA11DFA9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C0BB-A80E-44AD-983D-1D8F56D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D6720-87BA-44C6-8B2D-DEB96FB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4754-C16D-4E0B-B168-BD3EFFC0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98C6-09D5-4F15-8A90-208874C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990-A3BE-4C0D-87F3-AD8B2C7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DFF9-8BB8-4189-83DB-FC66141E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55E2-601C-4D62-B69D-B482B8A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0068-6EC5-44C2-AD30-D69BCD6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8BE1-5CEC-4CDF-8604-3D49539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EC9E-4FDC-45A2-8955-39A76FEB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ACA4-2ACE-450F-A33B-4A7EF585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3BD0-5E42-48C5-A785-2A0BAB21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C249F-A7BA-4E3D-971C-18D60135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C21F4-F38F-4B12-A533-D10C9EF5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E272-B8C1-457C-B6B5-2AE3E5A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458-55FF-4118-AE71-EDAECC3D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F72B4-064A-4278-B7EC-BD29DD99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8F90-7349-4A41-BD30-E68875B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4B60-FE84-47E8-BC4B-80CF5F9A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C20F-1ED7-4042-8550-C923547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25D7-21FE-461B-B629-79393BE9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1D19-D8B5-49A3-B235-89CC6D8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5832-1638-4359-B957-3557DAC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73B6-49FC-4656-AB4E-10116FC0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952CC-0AD0-4F8A-9ED3-1BC6ECC2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C6F1C-01FC-46C6-BB08-2E4A784A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FD0-34B4-4AB0-A740-44BE64D9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3271B-5D2E-49BC-AC72-499F4C65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0195A-625B-4379-9AFC-D7289277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7D29-6AFD-4DEF-9A63-95852DA4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5299-B288-4336-97BC-06BA6DAC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F99C5-BCAB-44C5-8B93-1D6767E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67E8-FEF8-46C9-98EC-02295BEF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766AC-EBE0-483B-9ECD-15AC9821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A2740-2BB4-4847-9620-F683A4E8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CEF8E-D9AD-4378-9177-86B061B8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FA3AF-2BCC-45AA-8DC9-455C4DF1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D69-59DD-4C48-A12F-BAD2683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0BAE-F9DB-4BED-A032-B66F075F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C1B-10AF-4FF1-B3BF-EA7C7B45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089-ECCE-4D10-9C5C-0975516C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28F-ABE2-4996-8398-EEF96A1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71A9-9918-4DC9-A485-EE5EF889DD41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0f6fc6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009d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36E1-D3CB-478B-B3C2-C6C1E2E39F7E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0f6fc6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0f6fc6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0f6fc6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0f6fc6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0f6fc6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0f6fc6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0f6fc6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0f6fc6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6864-065E-4F8A-9654-C381BCC87491}" type="slidenum">
              <a:rPr b="0" lang="ru-RU" sz="1200" spc="-1" strike="noStrike">
                <a:solidFill>
                  <a:srgbClr val="04617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6D02-C41F-4992-9A30-35A2B2EF903C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F47E-0D79-4671-B096-E7035497CD84}" type="slidenum">
              <a:rPr b="0" lang="ru-RU" sz="1200" spc="-1" strike="noStrike">
                <a:solidFill>
                  <a:srgbClr val="dbf5f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2.xml"/><Relationship Id="rId9" Type="http://schemas.openxmlformats.org/officeDocument/2006/relationships/slide" Target="slide22.xml"/><Relationship Id="rId10" Type="http://schemas.openxmlformats.org/officeDocument/2006/relationships/slide" Target="slide22.xml"/><Relationship Id="rId11" Type="http://schemas.openxmlformats.org/officeDocument/2006/relationships/slide" Target="slide22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3.xml"/><Relationship Id="rId15" Type="http://schemas.openxmlformats.org/officeDocument/2006/relationships/slide" Target="slide12.xml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2.xml"/><Relationship Id="rId3" Type="http://schemas.openxmlformats.org/officeDocument/2006/relationships/slide" Target="slide24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2.xml"/><Relationship Id="rId3" Type="http://schemas.openxmlformats.org/officeDocument/2006/relationships/slide" Target="slide27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28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29.xml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3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23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" Target="slide10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2.xml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348000" y="5373360"/>
            <a:ext cx="5400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0167"/>
                </a:solidFill>
                <a:latin typeface="Arial"/>
              </a:rPr>
              <a:t>Выполнена учителем информатики МБУ школы № 40 г.о. Тольятти</a:t>
            </a:r>
            <a:endParaRPr b="0" lang="en-US" sz="2200" spc="-1" strike="noStrike">
              <a:solidFill>
                <a:srgbClr val="dbf5f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60167"/>
                </a:solidFill>
                <a:latin typeface="Arial"/>
              </a:rPr>
              <a:t>Демидовой Людмилой Альбертовной</a:t>
            </a:r>
            <a:endParaRPr b="0" lang="en-US" sz="2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133720"/>
            <a:ext cx="49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0167"/>
                </a:solidFill>
                <a:latin typeface="Arial"/>
              </a:rPr>
              <a:t>Презентация для учащихся 3-го класса. Закрепление полученных ранее знаний. Работа в графическом редакторе </a:t>
            </a:r>
            <a:r>
              <a:rPr b="1" lang="en-US" sz="2800" spc="-1" strike="noStrike">
                <a:solidFill>
                  <a:srgbClr val="060167"/>
                </a:solidFill>
                <a:latin typeface="Arial"/>
              </a:rPr>
              <a:t>PAINT</a:t>
            </a:r>
            <a:r>
              <a:rPr b="1" lang="ru-RU" sz="2800" spc="-1" strike="noStrike">
                <a:solidFill>
                  <a:srgbClr val="06016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00016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24" name="Группа 4"/>
          <p:cNvGrpSpPr/>
          <p:nvPr/>
        </p:nvGrpSpPr>
        <p:grpSpPr>
          <a:xfrm>
            <a:off x="2771640" y="3141720"/>
            <a:ext cx="3302280" cy="1971720"/>
            <a:chOff x="2771640" y="3141720"/>
            <a:chExt cx="3302280" cy="1971720"/>
          </a:xfrm>
        </p:grpSpPr>
        <p:sp>
          <p:nvSpPr>
            <p:cNvPr id="425" name="Овал 4">
              <a:hlinkClick r:id="rId2" action="ppaction://hlinksldjump"/>
            </p:cNvPr>
            <p:cNvSpPr/>
            <p:nvPr/>
          </p:nvSpPr>
          <p:spPr>
            <a:xfrm>
              <a:off x="2771640" y="3141720"/>
              <a:ext cx="330228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26" name="Овал 4">
              <a:hlinkClick r:id="rId3" action="ppaction://hlinksldjump"/>
            </p:cNvPr>
            <p:cNvSpPr/>
            <p:nvPr/>
          </p:nvSpPr>
          <p:spPr>
            <a:xfrm>
              <a:off x="3255840" y="3430440"/>
              <a:ext cx="233388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треть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28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29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30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четверто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1695600" y="573120"/>
            <a:ext cx="7308720" cy="2279520"/>
          </a:xfrm>
          <a:prstGeom prst="rect">
            <a:avLst/>
          </a:prstGeom>
          <a:ln w="0">
            <a:noFill/>
          </a:ln>
        </p:spPr>
      </p:pic>
      <p:pic>
        <p:nvPicPr>
          <p:cNvPr id="432" name="Объект 2" descr=""/>
          <p:cNvPicPr/>
          <p:nvPr/>
        </p:nvPicPr>
        <p:blipFill>
          <a:blip r:embed="rId2"/>
          <a:stretch/>
        </p:blipFill>
        <p:spPr>
          <a:xfrm>
            <a:off x="1620720" y="3187800"/>
            <a:ext cx="56278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2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49100"/>
                </a:solidFill>
                <a:uFillTx/>
                <a:latin typeface="Calibri"/>
                <a:hlinkClick r:id="rId15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35" name="Заголовок 1" descr=""/>
          <p:cNvPicPr/>
          <p:nvPr/>
        </p:nvPicPr>
        <p:blipFill>
          <a:blip r:embed="rId16"/>
          <a:stretch/>
        </p:blipFill>
        <p:spPr>
          <a:xfrm>
            <a:off x="469800" y="768240"/>
            <a:ext cx="836928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38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41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44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4848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47" name="Заголовок 1" descr=""/>
          <p:cNvPicPr/>
          <p:nvPr/>
        </p:nvPicPr>
        <p:blipFill>
          <a:blip r:embed="rId4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0" name="Заголовок 1" descr=""/>
          <p:cNvPicPr/>
          <p:nvPr/>
        </p:nvPicPr>
        <p:blipFill>
          <a:blip r:embed="rId15"/>
          <a:stretch/>
        </p:blipFill>
        <p:spPr>
          <a:xfrm>
            <a:off x="457200" y="743040"/>
            <a:ext cx="83818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овал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3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539640" y="321300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alibri"/>
              </a:rPr>
              <a:t>Образовательная -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обобщить и систематизировать знания о возможностях и особенностях графической программы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alibri"/>
              </a:rPr>
              <a:t>Воспитательная -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воспитание мотивов учения, положительного отношения к знаниям; формирование ответственности и требовательности к себе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alibri"/>
              </a:rPr>
              <a:t>Развивающая -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развитие аналитического мышления и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познавательных умений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2637000"/>
            <a:ext cx="41054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60167"/>
                </a:solidFill>
                <a:latin typeface="Calibri"/>
              </a:rPr>
              <a:t>Задачи урока: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1" name=""/>
          <p:cNvSpPr/>
          <p:nvPr/>
        </p:nvSpPr>
        <p:spPr>
          <a:xfrm>
            <a:off x="826920" y="404640"/>
            <a:ext cx="777564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60167"/>
                </a:solidFill>
                <a:latin typeface="Calibri"/>
              </a:rPr>
              <a:t>Тема урока:</a:t>
            </a:r>
            <a:r>
              <a:rPr b="1" lang="ru-RU" sz="3600" spc="-1" strike="noStrike">
                <a:solidFill>
                  <a:srgbClr val="fefefe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efefe"/>
                </a:solidFill>
                <a:latin typeface="Calibri"/>
              </a:rPr>
              <a:t>Проверочная тестовая работа. Графический редактор </a:t>
            </a:r>
            <a:r>
              <a:rPr b="0" lang="en-US" sz="3600" spc="-1" strike="noStrike">
                <a:solidFill>
                  <a:srgbClr val="fefefe"/>
                </a:solidFill>
                <a:latin typeface="Calibri"/>
              </a:rPr>
              <a:t>Paint</a:t>
            </a:r>
            <a:r>
              <a:rPr b="0" lang="ru-RU" sz="3600" spc="-1" strike="noStrike">
                <a:solidFill>
                  <a:srgbClr val="fefefe"/>
                </a:solidFill>
                <a:latin typeface="Calibri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60167"/>
                </a:solidFill>
                <a:latin typeface="Calibri"/>
              </a:rPr>
              <a:t>Цель урока:</a:t>
            </a:r>
            <a:r>
              <a:rPr b="0" lang="ru-RU" sz="3600" spc="-1" strike="noStrike">
                <a:solidFill>
                  <a:srgbClr val="fefefe"/>
                </a:solidFill>
                <a:latin typeface="Calibri"/>
              </a:rPr>
              <a:t> Закрепление знаний, полученных на предидущих уроках.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6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860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2" action="ppaction://hlinksldjump"/>
              </a:rPr>
              <a:t>• рисуется тонкая линия выбранного цвета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3" action="ppaction://hlinksldjump"/>
              </a:rPr>
              <a:t>• можно рисовать линии разных форм и размеров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4" action="ppaction://hlinksldjump"/>
              </a:rPr>
              <a:t>• рисование с эффектом распыления краски.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5" action="ppaction://hlinksldjump"/>
              </a:rPr>
              <a:t>• для стирания части рисунка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6" action="ppaction://hlinksldjump"/>
              </a:rPr>
              <a:t>• позволит закрасить выбранным цветом внутреннюю часть замкнутой    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7" action="ppaction://hlinksldjump"/>
              </a:rPr>
              <a:t>   области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8" action="ppaction://hlinksldjump"/>
              </a:rPr>
              <a:t>• предназначен для рисования прямой линии (отрезка) выбранного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9" action="ppaction://hlinksldjump"/>
              </a:rPr>
              <a:t>  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0" action="ppaction://hlinksldjump"/>
              </a:rPr>
              <a:t>• предназначена для рисования  кривых линий, соединяющих заданные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1" action="ppaction://hlinksldjump"/>
              </a:rPr>
              <a:t>   точки, выбранного цвета и толщины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2" action="ppaction://hlinksldjump"/>
              </a:rPr>
              <a:t>• используется для рисования закрашенных и не закрашенных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3" action="ppaction://hlinksldjump"/>
              </a:rPr>
              <a:t>   прямоугольников и квадрат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49100"/>
                </a:solidFill>
                <a:uFillTx/>
                <a:latin typeface="Calibri"/>
                <a:hlinkClick r:id="rId14" action="ppaction://hlinksldjump"/>
              </a:rPr>
              <a:t>• рисование эллипсов и кругов разных размеров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59" name="Заголовок 1" descr=""/>
          <p:cNvPicPr/>
          <p:nvPr/>
        </p:nvPicPr>
        <p:blipFill>
          <a:blip r:embed="rId15"/>
          <a:stretch/>
        </p:blipFill>
        <p:spPr>
          <a:xfrm>
            <a:off x="433440" y="682560"/>
            <a:ext cx="840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2"/>
          <a:stretch/>
        </p:blipFill>
        <p:spPr>
          <a:xfrm>
            <a:off x="1695600" y="573120"/>
            <a:ext cx="7308720" cy="2279520"/>
          </a:xfrm>
          <a:prstGeom prst="rect">
            <a:avLst/>
          </a:prstGeom>
          <a:ln w="0">
            <a:noFill/>
          </a:ln>
        </p:spPr>
      </p:pic>
      <p:pic>
        <p:nvPicPr>
          <p:cNvPr id="461" name="Объект 2" descr=""/>
          <p:cNvPicPr/>
          <p:nvPr/>
        </p:nvPicPr>
        <p:blipFill>
          <a:blip r:embed="rId3"/>
          <a:stretch/>
        </p:blipFill>
        <p:spPr>
          <a:xfrm>
            <a:off x="1620720" y="3187800"/>
            <a:ext cx="56278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63" name="Группа 4"/>
          <p:cNvGrpSpPr/>
          <p:nvPr/>
        </p:nvGrpSpPr>
        <p:grpSpPr>
          <a:xfrm>
            <a:off x="2994120" y="3141720"/>
            <a:ext cx="3301920" cy="1971720"/>
            <a:chOff x="2994120" y="3141720"/>
            <a:chExt cx="3301920" cy="1971720"/>
          </a:xfrm>
        </p:grpSpPr>
        <p:sp>
          <p:nvSpPr>
            <p:cNvPr id="464" name="Овал 5">
              <a:hlinkClick r:id="rId2" action="ppaction://hlinksldjump"/>
            </p:cNvPr>
            <p:cNvSpPr/>
            <p:nvPr/>
          </p:nvSpPr>
          <p:spPr>
            <a:xfrm>
              <a:off x="299412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5" name="Овал 4">
              <a:hlinkClick r:id="rId3" action="ppaction://hlinksldjump"/>
            </p:cNvPr>
            <p:cNvSpPr/>
            <p:nvPr/>
          </p:nvSpPr>
          <p:spPr>
            <a:xfrm>
              <a:off x="347832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68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9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71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72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3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75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76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7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79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80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1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83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84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5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 u="sng">
                  <a:solidFill>
                    <a:srgbClr val="f49100"/>
                  </a:solidFill>
                  <a:uFillTx/>
                  <a:latin typeface="Calibri"/>
                  <a:hlinkClick r:id="rId4" action="ppaction://hlinksldjump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87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88" name="Овал 5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9" name="Овал 4"/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3754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0167"/>
                </a:solidFill>
                <a:latin typeface="Calibri"/>
              </a:rPr>
              <a:t>Работа на уроке.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82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Учащимся предлагается вспомнить особенности работы в изученном на предыдущих уроках графическом редакторе и пройти тест. Работа выполнятся каждым ребенком индивидуально на компьютере. Учитывая индивидуальные особенности каждого учащегося предусмотрено многократное прохождение  одного и того же вопроса. Время не учитывается. Выбирая правильный из нескольких ответов, учащийся переходит к следующему заданию. При неправильном ответе ему предлагается вернуться к началу и попробовать еще раз. Так происходит и закрепление полученных знаний. Перед учащимися ставиться цель – пройти тест до самого конца.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dbf5f9"/>
                </a:solidFill>
                <a:latin typeface="Calibri"/>
              </a:rPr>
              <a:t>В конце урока проводится рефлексия. Идет обсуждение, рассматриваются ошибки и их причины. Учащиеся рассказывают, что понравилось им и давалось легко, а что вызвало трудности. 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92" name="Овал 5"/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3" name="Овал 4"/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 следующе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Заголовок 1" descr=""/>
          <p:cNvPicPr/>
          <p:nvPr/>
        </p:nvPicPr>
        <p:blipFill>
          <a:blip r:embed="rId1"/>
          <a:stretch/>
        </p:blipFill>
        <p:spPr>
          <a:xfrm>
            <a:off x="235908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95" name="Группа 4"/>
          <p:cNvGrpSpPr/>
          <p:nvPr/>
        </p:nvGrpSpPr>
        <p:grpSpPr>
          <a:xfrm>
            <a:off x="611280" y="3141720"/>
            <a:ext cx="7561080" cy="1971720"/>
            <a:chOff x="611280" y="3141720"/>
            <a:chExt cx="7561080" cy="1971720"/>
          </a:xfrm>
        </p:grpSpPr>
        <p:sp>
          <p:nvSpPr>
            <p:cNvPr id="496" name="Овал 5"/>
            <p:cNvSpPr/>
            <p:nvPr/>
          </p:nvSpPr>
          <p:spPr>
            <a:xfrm>
              <a:off x="611280" y="3141720"/>
              <a:ext cx="756108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7" name="Овал 4"/>
            <p:cNvSpPr/>
            <p:nvPr/>
          </p:nvSpPr>
          <p:spPr>
            <a:xfrm>
              <a:off x="1719360" y="3430440"/>
              <a:ext cx="53449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осмотри результаты своей работы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2914560" y="692280"/>
            <a:ext cx="3346560" cy="39463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1"/>
          <p:cNvSpPr/>
          <p:nvPr/>
        </p:nvSpPr>
        <p:spPr>
          <a:xfrm>
            <a:off x="395280" y="5148360"/>
            <a:ext cx="864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w Cen MT"/>
              </a:rPr>
              <a:t>Ты хорошо поработал и можешь передохнуть!</a:t>
            </a:r>
            <a:endParaRPr b="0" lang="en-US" sz="3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2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2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0" y="1989000"/>
            <a:ext cx="4681440" cy="23288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763280" y="4005000"/>
            <a:ext cx="3024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Ответь на все вопросы  и проверь свои знания!</a:t>
            </a:r>
            <a:endParaRPr b="0" lang="en-US" sz="22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179280" y="47520"/>
            <a:ext cx="8710560" cy="86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420840" y="911160"/>
            <a:ext cx="8285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971640" y="3020760"/>
            <a:ext cx="31687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ceff"/>
                </a:solidFill>
                <a:latin typeface="Calibri"/>
              </a:rPr>
              <a:t>Строка меню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10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43280" y="1022400"/>
            <a:ext cx="3513240" cy="51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116000" y="2400480"/>
            <a:ext cx="332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ceff"/>
                </a:solidFill>
                <a:latin typeface="Calibri"/>
              </a:rPr>
              <a:t>Панель инструментов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13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981000"/>
            <a:ext cx="3513240" cy="5103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53080" y="1762200"/>
            <a:ext cx="76680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381880" cy="13460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899640" y="1773000"/>
            <a:ext cx="3249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ceff"/>
                </a:solidFill>
                <a:latin typeface="Calibri"/>
              </a:rPr>
              <a:t>Панель цветов (палитра</a:t>
            </a: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417" name="Picture 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981000"/>
            <a:ext cx="3513240" cy="5103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61000" y="5154480"/>
            <a:ext cx="3411360" cy="6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206800" y="433440"/>
            <a:ext cx="4797360" cy="2279520"/>
          </a:xfrm>
          <a:prstGeom prst="rect">
            <a:avLst/>
          </a:prstGeom>
          <a:ln w="0">
            <a:noFill/>
          </a:ln>
        </p:spPr>
      </p:pic>
      <p:grpSp>
        <p:nvGrpSpPr>
          <p:cNvPr id="420" name="Группа 4"/>
          <p:cNvGrpSpPr/>
          <p:nvPr/>
        </p:nvGrpSpPr>
        <p:grpSpPr>
          <a:xfrm>
            <a:off x="2998800" y="3141720"/>
            <a:ext cx="3301920" cy="1971720"/>
            <a:chOff x="2998800" y="3141720"/>
            <a:chExt cx="3301920" cy="1971720"/>
          </a:xfrm>
        </p:grpSpPr>
        <p:sp>
          <p:nvSpPr>
            <p:cNvPr id="421" name="Овал 4">
              <a:hlinkClick r:id="rId2" action="ppaction://hlinksldjump"/>
            </p:cNvPr>
            <p:cNvSpPr/>
            <p:nvPr/>
          </p:nvSpPr>
          <p:spPr>
            <a:xfrm>
              <a:off x="2998800" y="3141720"/>
              <a:ext cx="3301920" cy="1971720"/>
            </a:xfrm>
            <a:prstGeom prst="ellipse">
              <a:avLst/>
            </a:prstGeom>
            <a:gradFill rotWithShape="0">
              <a:gsLst>
                <a:gs pos="0">
                  <a:srgbClr val="0f6fc6"/>
                </a:gs>
                <a:gs pos="100000">
                  <a:srgbClr val="91c6f7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22" name="Овал 4">
              <a:hlinkClick r:id="rId3" action="ppaction://hlinksldjump"/>
            </p:cNvPr>
            <p:cNvSpPr/>
            <p:nvPr/>
          </p:nvSpPr>
          <p:spPr>
            <a:xfrm>
              <a:off x="3483000" y="3430440"/>
              <a:ext cx="2333520" cy="1393920"/>
            </a:xfrm>
            <a:prstGeom prst="rect">
              <a:avLst/>
            </a:prstGeom>
            <a:noFill/>
            <a:ln w="0">
              <a:noFill/>
            </a:ln>
            <a:effectLst>
              <a:outerShdw dist="317520" dir="5400000" blurRad="0" rotWithShape="0">
                <a:srgbClr val="000000">
                  <a:alpha val="1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0" lang="ru-RU" sz="3200" spc="-1" strike="noStrike">
                  <a:solidFill>
                    <a:srgbClr val="5ff3ca"/>
                  </a:solidFill>
                  <a:latin typeface="Calibri"/>
                </a:rPr>
                <a:t>Перейти ко второму вопросу</a:t>
              </a:r>
              <a:endParaRPr b="0" lang="en-US" sz="32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07:59:54Z</dcterms:created>
  <dc:creator>Демидова</dc:creator>
  <dc:description/>
  <dc:language>en-US</dc:language>
  <cp:lastModifiedBy>Алена</cp:lastModifiedBy>
  <dcterms:modified xsi:type="dcterms:W3CDTF">2013-02-09T05:41:14Z</dcterms:modified>
  <cp:revision>27</cp:revision>
  <dc:subject/>
  <dc:title>Проверочная работа по теме: «Рисование в программе Paint»</dc:title>
</cp:coreProperties>
</file>