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0624-559D-4A80-B338-F247A3222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AD1F-E17D-40D4-88D7-3264F319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A303-6540-47F7-9EC6-E95A6F1C8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2DDB-E57C-4DD9-901B-29F67FA94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C9BC-39CA-4030-B596-9E63EE719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D532-E90E-4BF9-AF34-00D68AEF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B88F-1788-4DC9-8EB5-CFA81B0B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8187-51E9-4EB8-B288-C7EEFAAA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771E-8FC8-4315-8CA0-D574FAF9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3110-80FF-46FC-BEF5-3E90F76D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D4DE-B8CB-425C-BD1B-E6E52D2C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D7EA-F894-4355-A711-BACC3D14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097F-2E62-47F6-9EB1-A57BD50A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C2A3-BAB3-434B-ADC5-F50E938B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5B2D-C1A0-4689-BFD8-39B56B20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7CF3-FE88-44B5-8C1A-A6AFC02CD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E2F8-BE20-4BA2-9883-885E89836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9D55-AB1C-49A9-BB21-1D9F4DDB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2DF1-FAA5-4B45-AC7E-E60C0F90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AB44-593B-4531-B165-EB24E10D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1B3A-7939-420A-99F0-398505F1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607E-22D2-42AE-BDFA-A03B92F6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6768-688B-48FC-B3F1-AD6F3D21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A5C7-CC48-48C8-9479-62035C19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6B43-49C0-4ECB-81BA-3A8FE13D83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7B88-0E07-465C-9E58-BC9B5DE450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Рождество в русской поэзии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олнила: Борисова Светлана Анатольевна, учитель начальных классов МКОУ «Тегульдетская СОШ», с.Тегульд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Александр Блок 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Сочельник в лесу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5280" y="1170000"/>
            <a:ext cx="40384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изу накрест обвязав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вечку к палке привязав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еет ангел невелик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еет лесом, светлолик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 снежно-белой тишине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т сосны порхнет к сосне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онет свечкою сучок 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еснет, вспыхнет огонек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круглится, задрожит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ак по нитке, побежит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ам и сям, и тут, и здесь…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имний лес сияет весь!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ак легко, как снежный пух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ождества крылатый дух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заряет небеса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водит праздник на леса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Чтоб от неба и земли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веты встретиться могли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Чтоб меж небом и землей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горелся луч иной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Чтоб от света малых свеч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линный луч, как острый меч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ердце светом пронизал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уть неложный указал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643280" y="1197000"/>
            <a:ext cx="408492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Вячеслав Иванов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В Рождественскую ночь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330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, как бы я желал, огнем пылая веры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 душу скорбную очистив от грехов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видеть полумрак убогой той пещеры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Для нас где воссияла Вечная Любовь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Где Дева над Христом стояла Пресвятая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зирая на Младенца взглядом, полным слез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Как будто страшные страданья прозревая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Что принял на Кресте за грешный мир Христос!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, как бы я хотел облить слезами ясли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Где возлежал Христос-Младенец, и с мольбой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рипасть, молить Его о том, чтобы погасли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 злоба, и вражда над грешною землей.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Чтоб человек в страстях, озлобленный, усталый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стерзанный тоской, жестокою борьбой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Забыл столетия больного идеалы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 вновь проникся крепкой верою святой,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42920" y="1341360"/>
            <a:ext cx="40388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 том, чтоб и ему, как пастырям смиренным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 Рождественскую ночь с небесной высоты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Звезда чудесная огнем своим священным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Блеснула, полная нездешней красоты.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 том, чтоб и его, усталого, больного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Как древних пастырей библейских и волхвов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на всегда б вела в ночь Рождества Христова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Туда, где родились и Правда, и Любовь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508720" y="4653000"/>
            <a:ext cx="3132000" cy="205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43280" y="333000"/>
            <a:ext cx="4105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вятая ночь</a:t>
            </a:r>
            <a:br>
              <a:rPr sz="2000"/>
            </a:br>
            <a:br>
              <a:rPr sz="18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авно померк закат огнистый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следний луч зари погас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ерцают звёзды, ночь чиста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близится полночи час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 дни грядущие спокоен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детый ризой световой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ир весь молитвенно настроен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ед Чудом тайны мировой…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лывёт Святая ночь незримо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вершая мира торжество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славословят Херувимы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ладенца-Бога Рождеств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Фёдор Пестряков (1862-1911), священник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3673440" cy="590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Коринфский Аполлон Аполлонович 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Христославы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384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од покровом ночи звездной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ремлет русское село;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сю дорогу, все тропинки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елым снегом замело…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ое-где огни по окнам,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ловно звездочки, горят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а огонь бежит сугробом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о звездой толпа ребят,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од оконцами стучатся,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«Рождество Твое» поют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«Христославы! Христославы!»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аздается там и тут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 в нестройном детском хоре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ак таинственна, чиста,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ак отрадна весть святая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 рождении Христа…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427640" y="2276640"/>
            <a:ext cx="4500360" cy="278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спользуемая литерату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ернет-источник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http://www.ippo.ru/pravoslavnye-prazdniki-v-literature-i-zhivopisi-/rozhdestvo-v-russkoy-poezii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яснительная запис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ждество Христово — величайший после Пасхи православный праздник, праздник прихода Бога в телесном облике в земную жизнь. Младенец родился в полутемном холодном хлеву в пригороде небольшого городка Вифлеема. На место Рождения Христа указывала яркая Вифлеемская звезда, за светом которой следовали три восточных царя (или волхва) Валтасар, Гаспар и Мельхиор, которые принесл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дар Божественному Младенцу золото, ладан и смирну. Золото — Царю, ладан — Богу, смирну — Человеку. Рождественские образы и мотивы широко распространены в творчестве русских поэтов. Стихи русских поэтов о Рождестве, собранные в данной подборке, иллюстрированы старыми рождественскими открытк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Афанасий Фет</a:t>
            </a:r>
            <a:br>
              <a:rPr sz="3200"/>
            </a:b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***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чь тиха. По тверди зыбко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везды южные дрожат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чи Матери с улыбко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ясли тихие глядят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и ушей, ни взоров лишних, 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т пропели петухи 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 за ангелами в вышни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авят Бога пастухи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Ясли тихо светят взору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зарен Марии лик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вездный хор к иному хору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ухом трепетным приник, -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над Ним горит высок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 звезда далеких стран: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 ней несут цари Восток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лато, смирну и ливан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842</a:t>
            </a:r>
            <a:br>
              <a:rPr sz="1600"/>
            </a:br>
            <a:br>
              <a:rPr sz="900"/>
            </a:b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716360" y="1484280"/>
            <a:ext cx="3573720" cy="474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Афанасий Фет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***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везда сияла на востоке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 из степных далеких стран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дые понесли пророк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дань злато, смирну и ливан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умлены ее красою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лхвы маститые пошл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 путеводною звездою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пали до лица земли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предо мной, в степи безвестной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зошла звезда твоих щедрот: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на свой луч в красе небесной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поздний вечер мой прольет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 у меня для приношень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и злата, ни ливана нет, -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ишь с фимиамом песнопень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дет к стопам твоим поэт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887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3049560" cy="474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Е. Львова</a:t>
            </a:r>
            <a:br>
              <a:rPr sz="3200"/>
            </a:b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Рождество Христово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лагословен тот день и час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гда Господь наш воплотился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гда на землю Он явился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тоб возвести на Небо нас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лагословен тот день, когда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верзлись вновь врата Эдема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д тихой весью Вифлеема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зошла чудесная звезда!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гда над храминой убогой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полночной звездной полумгле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оспели «Слава в вышних Богу!» 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возвестили мир земле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людям всем благоволенье!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лагословен тот день и час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гда в Христовом Воплощенье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везда спасения зажглась!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435640" y="1628640"/>
            <a:ext cx="2952720" cy="476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Лев Мей</a:t>
            </a:r>
            <a:br>
              <a:rPr sz="3200"/>
            </a:b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***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3745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 были времена чудес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бывалися слова пророка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дили ангелы с небес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везда катилась от Восток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р искупленья ожидал -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 в бедных яслях Вифлеем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 песнь хвалебную Эдем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ладенец дивный воссиял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загремел по Палестин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лас вопиющего в пустыне…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855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708000" y="1600200"/>
            <a:ext cx="525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067280" y="1628640"/>
            <a:ext cx="4717800" cy="399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91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Константин Льдов</a:t>
            </a:r>
            <a:br>
              <a:rPr sz="3200"/>
            </a:b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Волхвы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сиянье звёздном к дальней цел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пешит усердный караван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вот, леса зазеленели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серебрился Иордан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т, башни стен Ерусалим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ромады храмов и дворцов, 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горний свет неугасим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овёт всё дальше мудрец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уит звезда над Палестин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учи прозрачные свои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т, над уснувшею долин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ора пророка Ил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ё ниже, ниже свет небесный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т, Вифлеем — холмов гряда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над скалой пещеры тесн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тановилася звезд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355640" y="1125000"/>
            <a:ext cx="403884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Лучи небесные погасл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Янтарный отблеск фонар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Чуть озаряет ложе — ясл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Новорожденного Цар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олхвами вещий сон разгадан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Открылся Бог Своим раба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 смирну, золото и лад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Они несут к Его стопа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Младенец внемлет их рассказа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Небесный луч им светит вновь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 очах Христа — предвечный разум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 улыбке — вечная любов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906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093080" y="4581360"/>
            <a:ext cx="1741320" cy="204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Владимир Соловьев</a:t>
            </a:r>
            <a:br>
              <a:rPr sz="3200"/>
            </a:b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Имману-эль 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384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о тьму веков та ночь уж отступила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гда, устав от злобы и тревог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емля в объятьях неба опочила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 в тишине родился С-нами-Бог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 многое уж невозможно ныне: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Цари на небо больше не глядят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 пастыри не слушают в пустыне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к ангелы про Бога говорят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о вечное, что в эту ночь открылось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есокрушимо временем оно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 Слово вновь в душе твоей родилось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ожденное под яслями давно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а! С нами Бог,— не там, в шатре лазурном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е за пределами бесчисленных миров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е в злом огне, и не в дыханье бурном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 не в уснувшей памяти веков.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 здесь, теперь,— средь суеты случайной,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 потоке мутном жизненных тревог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ладеешь ты всерадостною тайной: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ессильно зло; мы вечны; с нами Бог!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892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508720" y="1484280"/>
            <a:ext cx="2646360" cy="417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Владимир Соловьев</a:t>
            </a:r>
            <a:br>
              <a:rPr sz="3200"/>
            </a:b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Ночь на Рождество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4000" y="691920"/>
            <a:ext cx="4032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усть все поругано веками преступлений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усть незапятнанным ничто не сбереглось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совести укор сильнее всех сомнений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 не погаснет то, что раз в душе зажглось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еликое не тщетно совершилось;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 даром средь людей явился Бог;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 земле недаром Небо преклонилось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распахнулся вечности чертог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незримой глубине сознанья мировог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точник истины живет, не заглушен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над руинами позора вековог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лагол ее звучит, как похоронный звон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одился в мире Свет, и Свет отвергнут тьмою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светит он во тьме, где грань добра и зла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 властью внешнею, а правдою самою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нязь века осужден и все его дела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894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Православное Рождество"/>
          <p:cNvPicPr/>
          <p:nvPr/>
        </p:nvPicPr>
        <p:blipFill>
          <a:blip r:embed="rId1"/>
          <a:stretch/>
        </p:blipFill>
        <p:spPr>
          <a:xfrm>
            <a:off x="6012000" y="3357720"/>
            <a:ext cx="2357280" cy="290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2:58:47Z</dcterms:created>
  <dc:creator>Admin</dc:creator>
  <dc:description/>
  <dc:language>en-US</dc:language>
  <cp:lastModifiedBy>Admin</cp:lastModifiedBy>
  <dcterms:modified xsi:type="dcterms:W3CDTF">2013-04-10T18:29:28Z</dcterms:modified>
  <cp:revision>5</cp:revision>
  <dc:subject/>
  <dc:title>Рождество в русской поэзии </dc:title>
</cp:coreProperties>
</file>