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51E-D450-4921-847D-608E67D9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1D2-3F89-47E3-BC25-12AF61E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DE8-013E-4192-85F0-848785F9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4B9-E55A-4000-8494-E06E9007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F7F7-E220-4E80-AEE6-704A309B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D722-728A-40B2-A65F-9E7DF672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BAA0-E2D7-46D8-9779-9F218AFC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3CE9-07AD-4F15-98B6-ACAEFFD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FF2E-5C34-4B4D-8503-32027B95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7F9F-421A-4EC9-A265-D802B549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223A-B7A7-4038-9431-A072A7C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C9D-4672-4E88-9955-06862B9D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A6AD-51F3-4567-A467-4C1D9155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47BC-B0C0-4AA6-B641-C60DCC2F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8EC3-BA85-486F-8A95-77748A80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41E0-24B0-4791-A652-4E623AA9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1C1-031B-46DB-96A2-24E0D71E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783-6A1D-46AC-9B4C-F98607F1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130-2E80-4EA1-BF40-8B5C7C06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6D2-3DDE-4636-AB11-73B88679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1C1-B2D9-462E-955E-17A55FFE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BBF-4D93-456D-BC3E-6B503ED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059-44D0-4F51-A647-A2111B2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286-A2C2-42AE-AFCF-38DDB4B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8BE-2C4B-48A8-9D72-620F48B63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698-7CC8-4A33-9E25-D89E5D991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Рождество в русской поэзии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Борисова Светлана Анатольевна, учитель начальных классов МКОУ «Тегульдетская СОШ», с.Тегульд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лександр Блок 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очельник в лесу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зу накрест обвязав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ечку к палке привязав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ет ангел невели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ет лесом, светлолик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 снежно-белой тишин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 сосны порхнет к сосне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нет свечкою сучок 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снет, вспыхнет огоне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круглится, задрожи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 по нитке, побежит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м и сям, и тут, и здесь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имний лес сияет весь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к легко, как снежный пух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ества крылатый ду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заряет небес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одит праздник на лес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 от неба и земл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еты встретиться могл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 меж небом и землей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горелся луч иной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 от света малых све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инный луч, как острый меч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рдце светом пронизал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уть неложный указал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0849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ячеслав Иванов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В Рождественскую ночь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330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, как бы я желал, огнем пылая вер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душу скорбную очистив от грехов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видеть полумрак убогой той пещеры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ля нас где воссияла Вечная Любовь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де Дева над Христом стояла Пресвятая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зирая на Младенца взглядом, полным слез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будто страшные страданья прозревая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то принял на Кресте за грешный мир Христос!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, как бы я хотел облить слезами ясли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де возлежал Христос-Младенец, и с мольбой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пасть, молить Его о том, чтобы погасли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злоба, и вражда над грешною землей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тоб человек в страстях, озлобленный, усталый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терзанный тоской, жестокою борьбой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был столетия больного идеал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вновь проникся крепкой верою святой,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 том, чтоб и ему, как пастырям смиренным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Рождественскую ночь с небесной высот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везда чудесная огнем своим священным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леснула, полная нездешней красоты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 том, чтоб и его, усталого, больного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древних пастырей библейских и волхвов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а всегда б вела в ночь Рождества Христов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уда, где родились и Правда, и Любовь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3132000" cy="20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3280" y="333000"/>
            <a:ext cx="410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вятая ночь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но померк закат огнист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ледний луч зари погас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рцают звёзды, ночь чист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близится полночи час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дни грядущие спокоен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етый ризой световой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ир весь молитвенно настроен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 Чудом тайны мировой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ывёт Святая ночь незримо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ершая мира торжество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славословят Херувимы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ладенца-Бога Рожде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Фёдор Пестряков (1862-1911), священник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673440" cy="590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оринфский Аполлон Аполлонович 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Христослав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 покровом ночи звездной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ремлет русское село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ю дорогу, все тропинк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лым снегом замело…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е-где огни по окнам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ловно звездочки, горят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огонь бежит сугробом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 звездой толпа ребят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 оконцами стучатся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Рождество Твое» поют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Христославы! Христославы!»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дается там и тут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 в нестройном детском хор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 таинственна, чист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 отрадна весть свята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 рождении Христа…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450036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-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ippo.ru/pravoslavnye-prazdniki-v-literature-i-zhivopisi-/rozhdestvo-v-russkoy-poezii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ждество Христово — величайший после Пасхи православный праздник, праздник прихода Бога в телесном облике в земную жизнь. Младенец родился в полутемном холодном хлеву в пригороде небольшого городка Вифлеема. На место Рождения Христа указывала яркая Вифлеемская звезда, за светом которой следовали три восточных царя (или волхва) Валтасар, Гаспар и Мельхиор, которые принесл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ар Божественному Младенцу золото, ладан и смирну. Золото — Царю, ладан — Богу, смирну — Человеку. Рождественские образы и мотивы широко распространены в творчестве русских поэтов. Стихи русских поэтов о Рождестве, собранные в данной подборке, иллюстрированы старыми рождественскими открыт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фанасий Фет</a:t>
            </a:r>
            <a:br>
              <a:rPr sz="32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чь тиха. По тверди зыб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везды южные дрожат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чи Матери с улыб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ясли тихие глядя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 ушей, ни взоров лишних,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 пропели петухи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 за ангелами в вышни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т Бога пастух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сли тихо светят взору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арен Марии лик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вездный хор к иному хор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хом трепетным приник, -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над Ним горит высок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 звезда далеких стран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 ней несут цари Восто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лато, смирну и ливан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42</a:t>
            </a:r>
            <a:br>
              <a:rPr sz="16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573720" cy="47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фанасий Фет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везда сияла на восток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 из степных далеких стра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дые понесли проро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дань злато, смирну и ливан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умлены ее красою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хвы маститые пош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 путеводною звездо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али до лица земл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едо мной, в степи безвестно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зошла звезда твоих щедрот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а свой луч в красе небес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оздний вечер мой пролье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 у меня для приношень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 злата, ни ливана нет,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шь с фимиамом песнопень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дет к стопам твоим поэ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87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049560" cy="47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Е. Львова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Рождество Христов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агословен тот день и час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Господь наш воплотился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 на землю Он явился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 возвести на Небо нас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агословен тот день, когд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рзлись вновь врата Эдема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 тихой весью Вифлеем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зошла чудесная звезда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над храминой убогой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ночной звездной полумгл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ели «Слава в вышних Богу!»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звестили мир земл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юдям всем благоволенье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агословен тот день и час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 в Христовом Воплощень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везда спасения зажглась!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95272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Лев Мей</a:t>
            </a:r>
            <a:br>
              <a:rPr sz="32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3745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были времена чудес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бывалися слова пророка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или ангелы с небес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езда катилась от Восто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скупленья ожидал 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 в бедных яслях Вифлее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песнь хвалебную Эде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ладенец дивный воссия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агремел по Палести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с вопиющего в пустыне…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5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708000" y="1600200"/>
            <a:ext cx="52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717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онстантин Льдов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Волхвы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сиянье звёздном к дальней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пешит усердный карав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от, леса зазеленел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серебрился Иорда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, башни стен Ерусалим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омады храмов и дворцов, 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горний свет неугаси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овёт всё дальше мудрец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ит звезда над Палести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 прозрачные свои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, над уснувшею доли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а пророка Ил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ниже, ниже свет небес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, Вифлеем — холмов гряда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над скалой пещеры те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ановилася звез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55640" y="1125000"/>
            <a:ext cx="403884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учи небесные погасл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Янтарный отблеск фонар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уть озаряет ложе — яс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оворожденного Цар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лхвами вещий сон разгада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ткрылся Бог Своим раб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смирну, золото и ла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ни несут к Его стоп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ладенец внемлет их рассказ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бесный луч им светит внов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очах Христа — предвечный разум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 улыбке — вечная любов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0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74132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Владимир Соловьев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Имману-эль 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 тьму веков та ночь уж отступил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гда, устав от злобы и тревог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 в объятьях неба опочил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 в тишине родился С-нами-Бог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многое уж невозможно ныне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Цари на небо больше не глядят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пастыри не слушают в пустыне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к ангелы про Бога говорят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 вечное, что в эту ночь открылос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сокрушимо временем оно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Слово вновь в душе твоей родилос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жденное под яслями давно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! С нами Бог,— не там, в шатре лазурно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 за пределами бесчисленных миров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 в злом огне, и не в дыханье бурно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не в уснувшей памяти веков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 здесь, теперь,— средь суеты случай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потоке мутном жизненных тревог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ладеешь ты всерадостною тайной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ссильно зло; мы вечны; с нами Бог!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89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64636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ладимир Соловьев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очь на Рождеств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4032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усть все поругано веками преступлени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усть незапятнанным ничто не сбереглос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совести укор сильнее всех сомнени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 не погаснет то, что раз в душе зажглось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кое не тщетно совершилось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даром средь людей явился Бог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 земле недаром Небо преклонилос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распахнулся вечности чертог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незримой глубине сознанья миро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чник истины живет, не заглушен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над руинами позора веко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лагол ее звучит, как похоронный звон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дился в мире Свет, и Свет отвергнут тьмою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светит он во тьме, где грань добра и зл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властью внешнею, а правдою само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нязь века осужден и все его дел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94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Православное Рождество"/>
          <p:cNvPicPr/>
          <p:nvPr/>
        </p:nvPicPr>
        <p:blipFill>
          <a:blip r:embed="rId1"/>
          <a:stretch/>
        </p:blipFill>
        <p:spPr>
          <a:xfrm>
            <a:off x="6012000" y="3357720"/>
            <a:ext cx="2357280" cy="29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58:47Z</dcterms:created>
  <dc:creator>Admin</dc:creator>
  <dc:description/>
  <dc:language>en-US</dc:language>
  <cp:lastModifiedBy>Admin</cp:lastModifiedBy>
  <dcterms:modified xsi:type="dcterms:W3CDTF">2013-04-10T18:29:28Z</dcterms:modified>
  <cp:revision>5</cp:revision>
  <dc:subject/>
  <dc:title>Рождество в русской поэзии </dc:title>
</cp:coreProperties>
</file>