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CF8-BF79-4F22-AF10-BD1A5568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FA6-FBAF-41D0-B8B6-EB26E56E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F19-784C-48FD-87BF-5461309B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6F9-BDED-46CE-80F3-D697223E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ADBF-FE90-4F52-AD5F-CAA1AA4B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DEF1-BC10-43B5-B4F8-63535C8D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43A0-519A-432C-8BF5-49AA7996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872E-B958-4E02-97B0-E85C6202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D90F-13FF-45FF-AABF-7B262EA6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0DD3-8021-427F-AA69-D3EAEECC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8B7F-9796-43F3-ABAB-B60B4FC1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632-B009-4AF8-B5D0-D33E4362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F4DD-51B3-4460-935E-E9C4675F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944F-D236-404C-A36D-DE16AE41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9118-367D-4760-86E1-E86A1470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7B7D-E145-4F64-AFFD-C45064B2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948C-23FA-4963-A535-77853543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34C76-C5A6-42D1-B203-336795C6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9F13C-2685-4D95-838F-A42888D1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96BB1-9E90-4B17-B437-B9774407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6BCBB-0452-4B24-9F8E-91C6A101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07270-08C2-4B4A-86AE-60E0A69C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A6A-F7C2-44B9-9A13-25B9C55E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A286E-5F1C-43D8-969B-D87D8809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576D7-3C26-4BB5-A4E5-0E7415B6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05935-9146-4ACB-8EF8-FE88771A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B6DE9-85CD-4279-9E1F-701741B8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36438-DFDB-4CEA-964C-5A6B1FF7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4C117-5C49-4347-867B-33CADF32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21BE0-379C-4D7A-A092-FEEE259F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B8BD-DF71-48BC-B67F-1990C5B4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6A51C-877F-4F78-84AA-E0CAB7B1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38FFE-F645-475D-8CF1-92C24C61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DA9-83F7-4020-9781-13E972B0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360F-4E59-4FE5-AB51-D976DCF4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E9FCF-AFF7-436F-91A5-751E3540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361D6-4FA0-4524-A61F-54DE4F40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A7A98-9946-4BC5-88DB-63FEE850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61165-5A65-4AB7-B5D1-F222A50B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ACB8-0BEC-4078-A9BA-4CDA6045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DF128-72ED-4863-AAFD-540D244E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1A9E5-67F6-40A5-A887-81008A17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363CA-996D-45CA-987C-88DB45F2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B14662-F06C-41BB-A165-F38096B6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E17-F594-4EB2-BD6D-6FA8F24A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03AF49-D037-4B6A-9FB2-DC72E26A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22F1E-BF01-4F6F-8297-F71BFDAA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D4295-937D-4959-A2B3-DBCBEFF1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39FAD2-CC7F-4593-8772-5247369C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ACD1C-9C88-489C-A6A8-8F16B545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96F15-B94B-4620-9E6D-3A088246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4AF2A9-92B6-435B-97F4-660B481D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550AA-110B-4BDE-81C1-391B6937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840C9-2A11-4824-8262-209F48E4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95625-026E-4A54-B0D8-66859356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904-5E8D-4B07-BEB0-4A221827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15D0B-5954-4579-80F0-0076FF80B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FE657-EF95-47F1-9521-2F4FA97A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9994A5-59E6-45B3-9302-85E82900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AAC57-3711-4032-9373-8BE380BD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3A4CA8-0866-4080-B70E-5EED2505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BF25A-E8CB-4D9F-8797-B6299E82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045F1-8F89-489B-9DF8-619D2F78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614C4-E50C-4BCE-BFD0-78770E44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FBCCB-AD1B-4C3B-8C27-9A70F3A6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92929-6D5F-4B16-A887-ED508FF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FB9-2219-4AE4-BCC5-DDE8F4CC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F18000-9C54-4534-8DFE-E05D13E8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96337-10E4-423A-A52E-B2DA7472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10B42-0279-43C6-B6B1-5EBE5122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5C9E6-36C1-4991-84DE-390A896C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9D7B10-289A-4BC2-842E-FB657D93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66BD11-23B4-4CC1-8A82-9373B140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3E6B39-1548-40F6-B7B9-4484652A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8E9DB-D761-4FF9-ADE1-183B8888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CDD404-B46D-4D74-A6E5-DF4E9EA0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7DEB5-7C6E-43A5-A3A2-BBD5614A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707-6F8D-4A01-A641-97515BE3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20CC4-7F95-4D11-87EA-386867C5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C71B5-A480-41FC-9DA9-D76FDEB3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4978D-6BCC-4CD1-B077-0C475847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260EA9-348E-4EAA-ACA1-A8C1B354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4E072E-8146-4C89-ADC9-DD06A7A5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140-D818-4609-AD12-41E1DF2E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CB58-4231-4319-ADD1-002B965D2B4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AE8D-FE81-4B17-90FB-9EFC4760925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A450-6AB8-4B63-A006-4F68B59CDAA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881C-A7F9-4D12-92AB-D7A06F7151C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0111-5289-4064-9F1A-D38FB1C2858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F57E-97AE-462C-B5C3-A2C9232A08B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1349-B5D5-4077-9C4E-69D3DC2349F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56880" y="785880"/>
            <a:ext cx="70009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КИ – 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ЛОВОЛОМКИ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68360" y="48690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Работу выполнил:    Савчиц Дмитри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Ученик 6 клас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МОУ Лице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entury Schoolbook"/>
              </a:rPr>
              <a:t>Руководитель:     Дино Вера Петров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651640" y="259920"/>
            <a:ext cx="2449440" cy="494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Ё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ОИХ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КАХ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!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5" descr="F:\5 класс проекты\фото\DSC00776.JPG"/>
          <p:cNvPicPr/>
          <p:nvPr/>
        </p:nvPicPr>
        <p:blipFill>
          <a:blip r:embed="rId1"/>
          <a:stretch/>
        </p:blipFill>
        <p:spPr>
          <a:xfrm>
            <a:off x="571680" y="714240"/>
            <a:ext cx="37861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2" descr=""/>
          <p:cNvPicPr/>
          <p:nvPr/>
        </p:nvPicPr>
        <p:blipFill>
          <a:blip r:embed="rId1"/>
          <a:stretch/>
        </p:blipFill>
        <p:spPr>
          <a:xfrm>
            <a:off x="5572080" y="0"/>
            <a:ext cx="3032280" cy="30114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0" y="2642760"/>
            <a:ext cx="78120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Танграм —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игра на разреза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i="1" lang="ru-RU" sz="2800" spc="-1" strike="noStrike">
                <a:solidFill>
                  <a:srgbClr val="3668c4"/>
                </a:solidFill>
                <a:latin typeface="Century Schoolbook"/>
              </a:rPr>
              <a:t>Исходная фигура разрезается на семь частей (танов)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Прямая соединительная линия 6"/>
          <p:cNvSpPr/>
          <p:nvPr/>
        </p:nvSpPr>
        <p:spPr>
          <a:xfrm>
            <a:off x="5572080" y="0"/>
            <a:ext cx="3000600" cy="30002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ая соединительная линия 8"/>
          <p:cNvSpPr/>
          <p:nvPr/>
        </p:nvSpPr>
        <p:spPr>
          <a:xfrm flipV="1">
            <a:off x="5643720" y="785520"/>
            <a:ext cx="2214360" cy="214308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ая соединительная линия 10"/>
          <p:cNvSpPr/>
          <p:nvPr/>
        </p:nvSpPr>
        <p:spPr>
          <a:xfrm flipH="1">
            <a:off x="6357960" y="0"/>
            <a:ext cx="730080" cy="7142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ая соединительная линия 12"/>
          <p:cNvSpPr/>
          <p:nvPr/>
        </p:nvSpPr>
        <p:spPr>
          <a:xfrm>
            <a:off x="7088040" y="0"/>
            <a:ext cx="1516320" cy="150480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ая соединительная линия 14"/>
          <p:cNvSpPr/>
          <p:nvPr/>
        </p:nvSpPr>
        <p:spPr>
          <a:xfrm flipH="1">
            <a:off x="7857720" y="785880"/>
            <a:ext cx="1800" cy="150012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F:\5 класс проекты\фото\DSC00769.JPG"/>
          <p:cNvPicPr/>
          <p:nvPr/>
        </p:nvPicPr>
        <p:blipFill>
          <a:blip r:embed="rId1"/>
          <a:srcRect l="0" t="14291" r="0" b="0"/>
          <a:stretch/>
        </p:blipFill>
        <p:spPr>
          <a:xfrm>
            <a:off x="1357200" y="428760"/>
            <a:ext cx="48736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F:\5 класс проекты\фото\DSC00779.JPG"/>
          <p:cNvPicPr/>
          <p:nvPr/>
        </p:nvPicPr>
        <p:blipFill>
          <a:blip r:embed="rId1"/>
          <a:stretch/>
        </p:blipFill>
        <p:spPr>
          <a:xfrm>
            <a:off x="857160" y="37861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F:\5 класс проекты\фото\DSC00780.JPG"/>
          <p:cNvPicPr/>
          <p:nvPr/>
        </p:nvPicPr>
        <p:blipFill>
          <a:blip r:embed="rId2"/>
          <a:stretch/>
        </p:blipFill>
        <p:spPr>
          <a:xfrm rot="17211600">
            <a:off x="5014440" y="24908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F:\5 класс проекты\фото\DSC00781.JPG"/>
          <p:cNvPicPr/>
          <p:nvPr/>
        </p:nvPicPr>
        <p:blipFill>
          <a:blip r:embed="rId3"/>
          <a:stretch/>
        </p:blipFill>
        <p:spPr>
          <a:xfrm>
            <a:off x="1571760" y="357120"/>
            <a:ext cx="39002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F:\5 класс проекты\фото\DSC00768.JPG"/>
          <p:cNvPicPr/>
          <p:nvPr/>
        </p:nvPicPr>
        <p:blipFill>
          <a:blip r:embed="rId1"/>
          <a:stretch/>
        </p:blipFill>
        <p:spPr>
          <a:xfrm>
            <a:off x="3143160" y="571680"/>
            <a:ext cx="2497320" cy="33289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F:\5 класс проекты\фото\DSC00775.JPG"/>
          <p:cNvPicPr/>
          <p:nvPr/>
        </p:nvPicPr>
        <p:blipFill>
          <a:blip r:embed="rId2"/>
          <a:stretch/>
        </p:blipFill>
        <p:spPr>
          <a:xfrm rot="15478800">
            <a:off x="536040" y="29890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F:\5 класс проекты\фото\DSC00778.JPG"/>
          <p:cNvPicPr/>
          <p:nvPr/>
        </p:nvPicPr>
        <p:blipFill>
          <a:blip r:embed="rId3"/>
          <a:srcRect l="0" t="8449" r="13304" b="0"/>
          <a:stretch/>
        </p:blipFill>
        <p:spPr>
          <a:xfrm rot="16598400">
            <a:off x="4795560" y="2873520"/>
            <a:ext cx="39067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КТУАЛЬНОСТ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63520" y="1267920"/>
            <a:ext cx="7386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entury Schoolbook"/>
              </a:rPr>
              <a:t>Игра способствует развитию у детей умения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entury Schoolbook"/>
              </a:rPr>
              <a:t>играть по правилам и выполнять инструкции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entury Schoolbook"/>
              </a:rPr>
              <a:t>наглядно-образного мышления, воображения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entury Schoolbook"/>
              </a:rPr>
              <a:t>внимания, понимания цвета, величины и формы,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entury Schoolbook"/>
              </a:rPr>
              <a:t>восприятия, комбинаторных способностей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7467480" cy="436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ДЕТСКАЯ СПАЛЬНЯ</a:t>
            </a: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—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ЭТО ОСОБАЯ КОМНАТА В КАЖДОМ ДОМЕ. </a:t>
            </a:r>
            <a:br>
              <a:rPr sz="2700"/>
            </a:br>
            <a:r>
              <a:rPr b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ВЫ СПРОСИТЕ ПОЧЕМУ?</a:t>
            </a:r>
            <a:br>
              <a:rPr sz="2700"/>
            </a:br>
            <a:r>
              <a:rPr b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 В СВОЕЙ КОМНАТЕ ДЕТИ НЕ ПРОСТО ЖИВУТ, ОНИ УЧАТСЯ, ИГРАЮТ, ОТДЫХАЮТ, РАЗВИВАЮТСЯ, В КОНЦЕ КОНЦОВ, ПОСТИГАЮТ ЭТОТ СЛОЖНЫЙ И МНОГООБРАЗНЫЙ МИР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3" descr="F:\5 класс проекты\фото\DSC00771.JPG"/>
          <p:cNvPicPr/>
          <p:nvPr/>
        </p:nvPicPr>
        <p:blipFill>
          <a:blip r:embed="rId1"/>
          <a:srcRect l="0" t="33216" r="0" b="9088"/>
          <a:stretch/>
        </p:blipFill>
        <p:spPr>
          <a:xfrm>
            <a:off x="285840" y="4910040"/>
            <a:ext cx="450036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ВЫ НЕ ЗАДУМЫВАЛИСЬ, ЧТО ПОЛКИ МОГУТ ИЗМЕНИТЬ КОМНАТУ,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Arial"/>
                <a:ea typeface="Arial"/>
              </a:rPr>
              <a:t>ПРИДАТЬ ЕЙ ДРУГИЕ ОКРАСКИ? 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2071800"/>
            <a:ext cx="3657600" cy="41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Вот тут начинает работать ваша фантазия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4" descr="F:\5 класс проекты\фото\DSC00772.JPG"/>
          <p:cNvPicPr/>
          <p:nvPr/>
        </p:nvPicPr>
        <p:blipFill>
          <a:blip r:embed="rId1"/>
          <a:srcRect l="0" t="11115" r="0" b="4448"/>
          <a:stretch/>
        </p:blipFill>
        <p:spPr>
          <a:xfrm>
            <a:off x="4286160" y="2428920"/>
            <a:ext cx="42865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  <a:ea typeface="Arial"/>
              </a:rPr>
              <a:t>ЦЕЛЬ МОЕЙ РАБО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Изготовить полку по игре «Танграм»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и с помощью неё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оформить детскую комнату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0:30:10Z</dcterms:created>
  <dc:creator>Дино</dc:creator>
  <dc:description/>
  <dc:language>en-US</dc:language>
  <cp:lastModifiedBy>пользователь</cp:lastModifiedBy>
  <dcterms:modified xsi:type="dcterms:W3CDTF">2013-04-10T03:35:25Z</dcterms:modified>
  <cp:revision>14</cp:revision>
  <dc:subject/>
  <dc:title>ПОЛКИ - ГОЛОВОЛОМКИ</dc:title>
</cp:coreProperties>
</file>