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155-6A61-4291-A33A-A95F6254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C7A-F2E2-4063-B2B1-452665E2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3BD-F8FA-49A5-AEDA-614ED483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2BC-70DD-43E9-9208-666CBF86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7ACC-1C3B-4528-97F3-107D2ED6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2D68-8486-4EA7-93E1-22C1FA5A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B6AF-A8CB-4BB7-A969-642ECD23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57E3-5989-44E2-9E4D-A6B8CF7B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7C63-DEB2-4812-9A57-EB6A3064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F3D5-C5D5-4DC9-A931-9EDB6139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43D8-C6BC-4C12-8337-A12220E8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858-F134-4D2D-AD66-5CE0AF8D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6847-357D-4D85-9C56-5BA76755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A9F2-63F6-4131-8238-68C1A5F2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1475-3AF3-47CA-8C9F-2AC1D180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850E-C156-4726-B785-2CDB4716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3F17-9BAB-44CA-8B8B-7300E073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CD9DA-E905-4F3A-A026-6F982114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9226A-B1CB-467E-AB85-B4A15E95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0AC5C-BD37-4E05-B6CF-9D4469A0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44010-18B6-4D4B-91B0-575BB1B0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96359-3FE7-4F7E-B4CF-53647A47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C6A-6F4C-4630-9A32-5A38792E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19FCD-26D0-4B13-A273-69F28D37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CE8ED-4F59-414C-A36A-C68F9ED0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B8CFB-32A3-489A-8AB3-EC12D4D6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C3413-4DF5-4140-9772-CFEE1B41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72B7A-CBDD-43C4-9E78-D586DB58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0F3BF-74FB-4594-9626-4AEB9B47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35BE9-16CA-4C2E-BC26-31467D36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2C863-C2A0-4C00-8F30-83EDC127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63131-9199-45D5-A743-ADAC0623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2CE3E-7689-4DC9-8D0F-032F57D6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486-E3F2-4199-83C8-7B1A6E99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FB0BE-2F64-48C7-85FB-D8AFF77B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1363F-F027-40BB-A91B-8D26E33B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071F9-7EA5-4D04-A315-2C5E059C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8FD0-CE04-4B69-BB2E-456D139D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E4890-4C30-4CA7-B93D-83C2B8D1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A28BE-4E45-44D9-AEB7-0A4DCEE5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808C7-9FC7-41D1-8E64-8CEAB101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A877A-BB20-49DE-8C43-5CF53780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30A25-12B3-4741-868A-56916209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B027F-4B03-4E01-B46E-9BDCB80D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D61-ACC7-4DC1-A632-A717F944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EC78E-0650-4855-9030-52CF4A86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1DB4A5-0119-4E18-894E-0826F882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BC86A-8749-4428-AB44-321CC865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BF654-892E-468E-89D3-DD641AB2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5F2A6-D680-4210-8075-F60DB723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F93FA-20EE-4A1D-B69C-BBC1A0D7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EFE5E-7C7F-420B-92D4-25369ECC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D1A5C9-3738-4437-A78F-2A5A2743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6C89D-EFB8-4E81-A0BD-96FE20C2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EB001-A3A4-48E6-AE4F-A7C4BD9E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98A-E0D8-476E-A109-AB055895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9D7748-1621-4F8D-A12E-8F0228B2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190036-4F44-4095-AD48-A3ACBDE7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12867-338E-44F3-89DA-1E3BA041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E52B1-C6EA-4D6B-8C89-C8656556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4A2B0F-BEFB-4303-A7A8-5EE6799E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9AFBC0-F22F-4ECE-80B1-ED3BF008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8251B0-D77A-40D7-91AD-F33BB8D5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A1540-B88C-49AD-9CB5-729B771E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7E729-5836-4070-A30E-A933BAFF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AD6AE-97FF-4C7F-93B1-7B537175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165-48AA-44F2-840D-D99556CD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04EDAB-C41A-4E95-B887-FFE8091A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4529B5-AB5F-414C-B816-0C6A1ADB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A5BDE-2CB3-41BD-929B-B65C3925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4FDBE7-9974-4975-8321-5DB2510A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2F435-1A2F-4AA5-8670-A5DF7941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767890-1309-482E-B25C-490F409E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627E0F-D818-4E4C-A65F-E4997C0D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284509-F9E6-4A66-9C41-1D622EB7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072B4-562C-4B0D-8725-0A2B4407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840F94-FAB9-4825-B6CF-95B90F72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292-83C7-4166-B816-FB69A954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BCBA4-BEAC-4574-BD5E-5680F752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252E5D-3891-4FF5-ACDE-829AD252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1A3487-8DB8-44E0-96ED-C360BFAA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E7ADA-B0DB-44ED-A57F-DA2B09AE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69F5A-1554-4CA8-8F0E-1347F9C0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D1F-74C3-40F8-882D-FD27804F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256F-A43E-4DB3-8D1B-3A7BF140BB9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2175-78AF-43B2-A10C-A224F4DDB5B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5C49-F375-42F4-8CD2-FF587A69EE3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EB35-8945-45B8-90BF-46F625A08D1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9F77-C503-460E-83DB-69BDC985823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68DE-A470-4702-8AB3-17779D38C3A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C964-2101-46D9-9CF5-502B1A27B1A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56880" y="785880"/>
            <a:ext cx="700092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КИ – 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ЛОВОЛОМКИ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68360" y="48690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Schoolbook"/>
              </a:rPr>
              <a:t>Работу выполнил:    Савчиц Дмитри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Schoolbook"/>
              </a:rPr>
              <a:t>Ученик 6 клас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Schoolbook"/>
              </a:rPr>
              <a:t>МОУ Лице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Schoolbook"/>
              </a:rPr>
              <a:t>Руководитель:     Дино Вера Петров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651640" y="259920"/>
            <a:ext cx="2449440" cy="494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Ё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ОИХ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КАХ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!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5" descr="F:\5 класс проекты\фото\DSC00776.JPG"/>
          <p:cNvPicPr/>
          <p:nvPr/>
        </p:nvPicPr>
        <p:blipFill>
          <a:blip r:embed="rId1"/>
          <a:stretch/>
        </p:blipFill>
        <p:spPr>
          <a:xfrm>
            <a:off x="571680" y="714240"/>
            <a:ext cx="37861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2" descr=""/>
          <p:cNvPicPr/>
          <p:nvPr/>
        </p:nvPicPr>
        <p:blipFill>
          <a:blip r:embed="rId1"/>
          <a:stretch/>
        </p:blipFill>
        <p:spPr>
          <a:xfrm>
            <a:off x="5572080" y="0"/>
            <a:ext cx="3032280" cy="30114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0" y="2642760"/>
            <a:ext cx="78120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Танграм —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игра на разреза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2800" spc="-1" strike="noStrike">
                <a:solidFill>
                  <a:srgbClr val="3668c4"/>
                </a:solidFill>
                <a:latin typeface="Century Schoolbook"/>
              </a:rPr>
              <a:t>Исходная фигура разрезается на семь частей (танов)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Прямая соединительная линия 6"/>
          <p:cNvSpPr/>
          <p:nvPr/>
        </p:nvSpPr>
        <p:spPr>
          <a:xfrm>
            <a:off x="5572080" y="0"/>
            <a:ext cx="3000600" cy="30002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ая соединительная линия 8"/>
          <p:cNvSpPr/>
          <p:nvPr/>
        </p:nvSpPr>
        <p:spPr>
          <a:xfrm flipV="1">
            <a:off x="5643720" y="785520"/>
            <a:ext cx="2214360" cy="21430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ая соединительная линия 10"/>
          <p:cNvSpPr/>
          <p:nvPr/>
        </p:nvSpPr>
        <p:spPr>
          <a:xfrm flipH="1">
            <a:off x="6357960" y="0"/>
            <a:ext cx="730080" cy="7142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ая соединительная линия 12"/>
          <p:cNvSpPr/>
          <p:nvPr/>
        </p:nvSpPr>
        <p:spPr>
          <a:xfrm>
            <a:off x="7088040" y="0"/>
            <a:ext cx="1516320" cy="1504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ая соединительная линия 14"/>
          <p:cNvSpPr/>
          <p:nvPr/>
        </p:nvSpPr>
        <p:spPr>
          <a:xfrm flipH="1">
            <a:off x="7857720" y="785880"/>
            <a:ext cx="1800" cy="150012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F:\5 класс проекты\фото\DSC00769.JPG"/>
          <p:cNvPicPr/>
          <p:nvPr/>
        </p:nvPicPr>
        <p:blipFill>
          <a:blip r:embed="rId1"/>
          <a:srcRect l="0" t="14291" r="0" b="0"/>
          <a:stretch/>
        </p:blipFill>
        <p:spPr>
          <a:xfrm>
            <a:off x="1357200" y="428760"/>
            <a:ext cx="48736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F:\5 класс проекты\фото\DSC00779.JPG"/>
          <p:cNvPicPr/>
          <p:nvPr/>
        </p:nvPicPr>
        <p:blipFill>
          <a:blip r:embed="rId1"/>
          <a:stretch/>
        </p:blipFill>
        <p:spPr>
          <a:xfrm>
            <a:off x="857160" y="37861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F:\5 класс проекты\фото\DSC00780.JPG"/>
          <p:cNvPicPr/>
          <p:nvPr/>
        </p:nvPicPr>
        <p:blipFill>
          <a:blip r:embed="rId2"/>
          <a:stretch/>
        </p:blipFill>
        <p:spPr>
          <a:xfrm rot="17211600">
            <a:off x="5014440" y="24908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F:\5 класс проекты\фото\DSC00781.JPG"/>
          <p:cNvPicPr/>
          <p:nvPr/>
        </p:nvPicPr>
        <p:blipFill>
          <a:blip r:embed="rId3"/>
          <a:stretch/>
        </p:blipFill>
        <p:spPr>
          <a:xfrm>
            <a:off x="1571760" y="357120"/>
            <a:ext cx="3900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F:\5 класс проекты\фото\DSC00768.JPG"/>
          <p:cNvPicPr/>
          <p:nvPr/>
        </p:nvPicPr>
        <p:blipFill>
          <a:blip r:embed="rId1"/>
          <a:stretch/>
        </p:blipFill>
        <p:spPr>
          <a:xfrm>
            <a:off x="3143160" y="571680"/>
            <a:ext cx="2497320" cy="3328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F:\5 класс проекты\фото\DSC00775.JPG"/>
          <p:cNvPicPr/>
          <p:nvPr/>
        </p:nvPicPr>
        <p:blipFill>
          <a:blip r:embed="rId2"/>
          <a:stretch/>
        </p:blipFill>
        <p:spPr>
          <a:xfrm rot="15478800">
            <a:off x="536040" y="29890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F:\5 класс проекты\фото\DSC00778.JPG"/>
          <p:cNvPicPr/>
          <p:nvPr/>
        </p:nvPicPr>
        <p:blipFill>
          <a:blip r:embed="rId3"/>
          <a:srcRect l="0" t="8449" r="13304" b="0"/>
          <a:stretch/>
        </p:blipFill>
        <p:spPr>
          <a:xfrm rot="16598400">
            <a:off x="4795560" y="2873520"/>
            <a:ext cx="39067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КТУАЛЬ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63520" y="1267920"/>
            <a:ext cx="7386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entury Schoolbook"/>
              </a:rPr>
              <a:t>Игра способствует развитию у детей умени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entury Schoolbook"/>
              </a:rPr>
              <a:t>играть по правилам и выполнять инструкции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entury Schoolbook"/>
              </a:rPr>
              <a:t>наглядно-образного мышления, воображения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entury Schoolbook"/>
              </a:rPr>
              <a:t>внимания, понимания цвета, величины и формы,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entury Schoolbook"/>
              </a:rPr>
              <a:t>восприятия, комбинаторных способносте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7467480" cy="436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ДЕТСКАЯ СПАЛЬНЯ</a:t>
            </a: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—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ЭТО ОСОБАЯ КОМНАТА В КАЖДОМ ДОМЕ. </a:t>
            </a:r>
            <a:br>
              <a:rPr sz="2700"/>
            </a:br>
            <a:r>
              <a:rPr b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ВЫ СПРОСИТЕ ПОЧЕМУ?</a:t>
            </a:r>
            <a:br>
              <a:rPr sz="2700"/>
            </a:br>
            <a:r>
              <a:rPr b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 В СВОЕЙ КОМНАТЕ ДЕТИ НЕ ПРОСТО ЖИВУТ, ОНИ УЧАТСЯ, ИГРАЮТ, ОТДЫХАЮТ, РАЗВИВАЮТСЯ, В КОНЦЕ КОНЦОВ, ПОСТИГАЮТ ЭТОТ СЛОЖНЫЙ И МНОГООБРАЗНЫЙ МИР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3" descr="F:\5 класс проекты\фото\DSC00771.JPG"/>
          <p:cNvPicPr/>
          <p:nvPr/>
        </p:nvPicPr>
        <p:blipFill>
          <a:blip r:embed="rId1"/>
          <a:srcRect l="0" t="33216" r="0" b="9088"/>
          <a:stretch/>
        </p:blipFill>
        <p:spPr>
          <a:xfrm>
            <a:off x="285840" y="4910040"/>
            <a:ext cx="450036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  <a:ea typeface="Arial"/>
              </a:rPr>
              <a:t>ВЫ НЕ ЗАДУМЫВАЛИСЬ, ЧТО ПОЛКИ МОГУТ ИЗМЕНИТЬ КОМНАТУ,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Arial"/>
                <a:ea typeface="Arial"/>
              </a:rPr>
              <a:t>ПРИДАТЬ ЕЙ ДРУГИЕ ОКРАСКИ? 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2071800"/>
            <a:ext cx="3657600" cy="41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Вот тут начинает работать ваша фантазия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4" descr="F:\5 класс проекты\фото\DSC00772.JPG"/>
          <p:cNvPicPr/>
          <p:nvPr/>
        </p:nvPicPr>
        <p:blipFill>
          <a:blip r:embed="rId1"/>
          <a:srcRect l="0" t="11115" r="0" b="4448"/>
          <a:stretch/>
        </p:blipFill>
        <p:spPr>
          <a:xfrm>
            <a:off x="4286160" y="2428920"/>
            <a:ext cx="42865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ЦЕЛЬ МОЕЙ РАБОТ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Изготовить полку по игре «Танграм»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и с помощью неё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оформить детскую комнату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0:30:10Z</dcterms:created>
  <dc:creator>Дино</dc:creator>
  <dc:description/>
  <dc:language>en-US</dc:language>
  <cp:lastModifiedBy>пользователь</cp:lastModifiedBy>
  <dcterms:modified xsi:type="dcterms:W3CDTF">2013-04-10T03:35:25Z</dcterms:modified>
  <cp:revision>14</cp:revision>
  <dc:subject/>
  <dc:title>ПОЛКИ - ГОЛОВОЛОМКИ</dc:title>
</cp:coreProperties>
</file>