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235-C7AE-4CE0-8E94-9E58187B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AEC-3C5A-4A28-A342-EBEDD2E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0398-D07C-4002-AB63-8889AA4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1BBF5-4044-4BE6-B09C-4C1B986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AB291-9908-4979-8DCE-5D7C6EB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81794-05BF-49D6-A30F-49F3D9C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D935-95B3-494C-B45E-8937993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36E23-0EC6-4CC0-B66C-9FD8C64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26083-DB44-4EF6-AFC2-5B551A3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A7E1A-D88B-4DDB-A4BE-5B0A79A0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0F23C-A01F-4F5C-A147-132EAF2A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B048-DCBC-4D59-8652-7B07101C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857-50E7-4D5C-AE56-D78FFB5E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8B96B-8B62-4CB2-8FB0-E838309F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DBB61-8C1F-4E57-951F-601824C7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FCCB-1B48-4088-A363-6FD36BA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5B150-ADFD-4183-B37D-C2809A4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17CD-E3D7-4FAB-B3A7-8D30F76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B4DC-789B-4B53-98B0-903D16C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49CC2-C012-4C3B-9818-0C3D419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54CD3-E55E-4EBA-9AC1-33447E29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81430-35AF-4082-A4AF-FEA46981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1303C-72A6-457D-807F-9295BD51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411-D750-4C9A-A4BE-E1F3F219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E2A86-A9ED-4640-B6C7-7F32FC0A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967-BBA2-4D4C-9773-5F280896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3B7A-AC38-42A2-AC5A-FFDAC465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D1BF-C741-4984-9420-AA67E905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6A04-F267-4E4D-A709-AB16C570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BF5-93AC-407F-8A64-AE163FE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172A-F9DA-4C01-8634-3846030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A38-E404-4823-8888-495C4BD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C65-E4E7-488D-A703-8E93334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665F-553C-42D5-98F9-21CC56E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9386-F6B0-4866-80C8-1CD981AB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4B8-21FD-4125-A210-C8744ABD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0C1A-9D2A-4868-99A3-6192307D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0E1-F555-4A30-8D71-B9408D8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D1AA-F34D-4DD0-9265-2971415D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04B5-5150-4C50-BDD7-F601BF2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9A59-CF06-419D-9246-ECF53AC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2477-FAA0-421C-8735-3F72544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9532-5A37-420E-A1E2-76CD78E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917-7D65-4BB1-A58C-6050F59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34AD-1890-4D8E-8D57-FFEDA90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98A6-AF68-4B25-AADD-B62B0E0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AC03-25A0-41BC-AE6F-928B759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BC08-6CFE-4EBB-B564-0EBE466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E059-1B64-4814-A2B1-001ED35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96C0-ABB3-446D-A221-1C25FFC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7D55-291C-45D7-8A9F-89B13959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5757-AE24-4497-8CB4-4EF69821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E879-DDBA-4D5C-963A-6B37487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523-851E-4EC0-8276-5B18B7F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4BB-FA03-4FED-9C54-B5A71D4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CC2B-F6C8-4140-B5DE-8D02786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5CBF-6417-4625-ADC5-2D06A4F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976B-4992-40D9-A087-351DD1A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F9DA-18C5-4A9D-9755-3FDF0C9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0713-8C92-41A8-A9FA-7A74C46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AE31-C372-4525-94C7-BE14695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6A25-FFC8-41FF-950D-7E96B55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564B-37F3-42A5-A663-E7ADE0BC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835E-385D-470C-B178-272CB9C9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CE04-31EB-413B-9B51-6F2802D8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9E0-36C8-422A-9285-5AAFFB07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78BD-95A9-4644-8658-200A20F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E3E3-E3C5-48AE-8AC1-8424AB14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8C1D-873B-4269-BA51-45A98EBE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754B-797E-411E-A6B8-0EA1BFD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27C8-EB98-48C3-A863-DB4C3CB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323A-40C3-4FB2-BF7D-708E28C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8E2D-F6B3-4CEF-8E7E-12987D2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E83E-B346-49BD-8617-C5BEAC9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7733-74C7-4E81-BEA2-117E853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98AB-133A-4B1D-B5BE-368FC82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192-1E19-46DF-A49A-F8C1A88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3877-96A1-4A47-81EA-B9EACEC5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1A5F-2614-4C84-80E1-65ECC6E0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BF8E-F7CB-4939-8913-11B4323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9211-89C0-41A8-9641-2C1F058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A210-F9B0-4668-A986-CA1BDBE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3D2B-7B35-4198-950C-CFAC731C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5BE9-31D7-4608-85D0-D6A27064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6A16-64E2-4AAA-A865-74020EB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8087-41AC-4CEC-AC35-9814C0F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6308-02B9-446D-8A9F-493735E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306-C3D5-44AA-BD36-E018A81B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842B-4BBA-41F1-BF69-638415F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100C-206C-4225-AF03-2AE282D0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58E11-4318-4FF1-995A-D25CB362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F30A-FDB8-4F97-9FE7-13F18792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62FE-322B-4341-926C-DA0C6C3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BDB6-560C-458D-882B-E70F605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FEE0-6408-4367-ABF5-25E7AD6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34D1-7EAC-4615-A9A5-2DE7114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B0BB-CF6F-4BE6-8C3B-2E7C109A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E808-2A99-4DA1-A273-3A2FAB4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5B6-B0ED-4AD5-A6E5-8CE24FD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D105-ACB8-4C99-AA72-F2FC584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B328-63AF-4CED-B103-511E163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3520-5783-4EBC-9640-2546202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0263-AA25-44DF-93FC-390CD90D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74D7-478B-4892-A6D2-15641A75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A673-BF2B-428C-84EF-C434A41D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C0A3-E37C-4431-AB34-4A55588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C71A-526F-48F3-A6CC-B7EAF07C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BE1C-32D0-4113-93EA-CBA4E32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EF530-26D9-47EE-A53B-CB68D11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569-228B-41F2-9A9A-B774D8E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6C87-4365-41BE-843E-470F71D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EBDF-4669-4B8D-B931-7A49D4B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E93F7-475D-490E-9208-8A8626D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8EE6-09A6-4059-B61C-A21B518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6F13-C083-478A-A4FA-6DB3E4DC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AE652-4957-4D1E-AA04-1B240C24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1ECB4-2D5A-4FA4-8A35-A7C38810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CBCCC-5247-47E5-BCAC-1AA55DAE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9CEEF-8BBE-4299-A1FB-BF648C2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5CA38-9389-4642-9C06-3030679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110-6676-4BF7-A633-8A0320243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098.png"/>
          <p:cNvPicPr/>
          <p:nvPr/>
        </p:nvPicPr>
        <p:blipFill>
          <a:blip r:embed="rId3"/>
          <a:stretch/>
        </p:blipFill>
        <p:spPr>
          <a:xfrm>
            <a:off x="60480" y="208080"/>
            <a:ext cx="1285560" cy="120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F6D-10DF-4E62-A876-D4D855AD5C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8228-DF61-4792-BAD0-CD4D645EA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23456.png"/>
          <p:cNvPicPr/>
          <p:nvPr/>
        </p:nvPicPr>
        <p:blipFill>
          <a:blip r:embed="rId3"/>
          <a:stretch/>
        </p:blipFill>
        <p:spPr>
          <a:xfrm>
            <a:off x="34920" y="142920"/>
            <a:ext cx="1325520" cy="128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FCF-33BC-4612-93BC-A06368854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2F2-0564-45D4-9954-005FBB8D6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7" descr="765123.png"/>
          <p:cNvPicPr/>
          <p:nvPr/>
        </p:nvPicPr>
        <p:blipFill>
          <a:blip r:embed="rId3"/>
          <a:stretch/>
        </p:blipFill>
        <p:spPr>
          <a:xfrm>
            <a:off x="63360" y="198360"/>
            <a:ext cx="131472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C4B-1365-4696-B534-71AB8D315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7" descr="765456.png"/>
          <p:cNvPicPr/>
          <p:nvPr/>
        </p:nvPicPr>
        <p:blipFill>
          <a:blip r:embed="rId3"/>
          <a:stretch/>
        </p:blipFill>
        <p:spPr>
          <a:xfrm>
            <a:off x="142920" y="214200"/>
            <a:ext cx="120312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6E0A-7CED-4B44-B0DB-8A38F67835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7" descr="98761234.png"/>
          <p:cNvPicPr/>
          <p:nvPr/>
        </p:nvPicPr>
        <p:blipFill>
          <a:blip r:embed="rId3"/>
          <a:stretch/>
        </p:blipFill>
        <p:spPr>
          <a:xfrm>
            <a:off x="142920" y="214200"/>
            <a:ext cx="123660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DA1-6DB9-478A-9185-0DD2C4E36A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7" descr="d7bd9ff42f39.png"/>
          <p:cNvPicPr/>
          <p:nvPr/>
        </p:nvPicPr>
        <p:blipFill>
          <a:blip r:embed="rId3"/>
          <a:stretch/>
        </p:blipFill>
        <p:spPr>
          <a:xfrm>
            <a:off x="63360" y="100080"/>
            <a:ext cx="1285920" cy="116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460-5696-4ED3-9BB7-BF67630597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413D-C563-496D-83D2-C918BF3535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1908000" y="261000"/>
            <a:ext cx="518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WordArt 9"/>
          <p:cNvSpPr txBox="1"/>
          <p:nvPr/>
        </p:nvSpPr>
        <p:spPr>
          <a:xfrm>
            <a:off x="2916360" y="2133720"/>
            <a:ext cx="525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деля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них игр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забав.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3527640" cy="2484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rcRect l="0" t="0" r="0" b="5190"/>
          <a:stretch/>
        </p:blipFill>
        <p:spPr>
          <a:xfrm>
            <a:off x="3218040" y="115920"/>
            <a:ext cx="2761920" cy="3457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3059280" cy="2808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84040" y="3500280"/>
            <a:ext cx="2760840" cy="3241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6772320" y="3500280"/>
            <a:ext cx="2243160" cy="316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0" y="189000"/>
            <a:ext cx="32306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29:37Z</dcterms:created>
  <dc:creator>@</dc:creator>
  <dc:description/>
  <dc:language>en-US</dc:language>
  <cp:lastModifiedBy>@</cp:lastModifiedBy>
  <dcterms:modified xsi:type="dcterms:W3CDTF">2013-04-09T19:08:59Z</dcterms:modified>
  <cp:revision>15</cp:revision>
  <dc:subject/>
  <dc:title>Слайд 1</dc:title>
</cp:coreProperties>
</file>