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924-34BB-437A-81F4-12CE5EB7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1C6-EE3F-49E0-9025-430C2EB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C3C33-3D64-4D04-A3BF-125FC6B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EE7B1-BE8A-4FAB-AEE4-886C3093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38C51-20D2-481F-9512-FBFDE7D7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1442-2F22-41F0-B281-18A01BB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33A4-B4CB-46D6-A854-5BBD0D9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04028-A238-453F-8445-0EB9F1E4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F94D5-7789-4863-8C16-0D3FDB59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F83E4-50CB-4115-9FE5-29C1D63D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EE06-C339-4579-A6AF-9A0876BB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4485-AB79-4048-9A76-44D2AAFF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95F-8020-4D98-8B86-96522D94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1EFE6-14F6-4A70-9570-F22DFCED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AB55A-D6F6-45B5-9E22-4B8BD7AD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33CEE-74DE-474C-AC5A-E21DE821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A1CD0-BE92-486A-8FE6-DED30ABA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B2E64-EE78-449F-85CA-4739905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7E8DC-BBB9-4E9A-A160-74137FCC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F3BE0-BA3E-487D-96A1-B38F443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4B50A-4E3A-4ED8-B159-07764044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BC82C-71D7-4D77-B5B9-5866F382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C5292-9397-4BC1-BCF5-95D79191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4808-D874-44ED-AD4A-9BDEF23A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D7572-E96F-45FB-B6C0-74D6AC78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80F0-F826-45BA-995A-2CA4D9D9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62BE-78B0-44C8-A1D0-6E734121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BA6B-06A0-4B6C-8BB7-5F0597B4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6CD4-52BD-4732-8645-EA187316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1677-36BB-4972-A7EE-3B1D8EAA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DD91-6A31-478D-8852-234DDCD6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6BF-A2A8-4D63-A887-410106E5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2605-57DC-4B47-8C49-36FC8E5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6BC7-506B-4398-B4F2-49D30863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AF7D-612B-462A-A13A-E4007E05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20CA-32C6-41E2-B6FC-5B69C1C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385F-CB74-4A47-BB6D-ABDE41AB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D8D-9D14-4D0D-BA8A-6D2336CC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160D-36F7-4D1C-84C8-36D2629F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0E50-504B-40A3-A557-DD7D901F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E331-0387-4BEA-8911-29EAF547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D8BE-B9DE-4330-9859-454F62F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014A7-7062-4587-961F-0CAD32A6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AD68-A1FE-4D67-BA20-016C7008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BBC97-D764-41B4-9EE6-E7924EA4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0029-2309-4C11-8AA8-B69BF9F6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5241-78E2-4F47-A86F-233187E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4147-8C41-4ECE-92B2-F0436AE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BFDD-A9D2-4161-A757-489A123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8C5CD-AF48-49D8-828A-4933CCFF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9BDC-E1D1-4A24-8249-26723298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3B4F-A0B7-4E93-AC86-94D68772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F4AB-F1B1-4B4B-9ABA-373B1888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D11B-DD32-4A3C-AD30-D52298E1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B50-FBF3-4271-A50D-FEB2B537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49A0F-8E2B-413E-8BB4-752F143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A570E-ABCC-4E83-BDA7-3DCC98C1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21044-82F8-4EF5-A3EE-3AECE26D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F403-AAD8-4EA9-ACE7-36252059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CBC8-B4EB-414A-8DBE-2B6F519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7F56-D3B2-4EE9-976C-5A06C953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1342-D996-40EE-92DD-E0F707F0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A56D-9DCA-4591-A18F-E189EE83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CEFE-5263-42C0-B926-75CB7A31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567CF-C63E-4A2D-8521-A928557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AD0-C413-4B38-98CD-B8196000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876EB-C4EC-4E5C-B0FA-9C7C831E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0B48A-279A-4250-BF6C-401CE26A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EA799-D109-45B8-9F57-04F6507F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29D3-8475-40C8-AE0E-072E0BD5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2B8D7-ADDA-46AB-B84C-929B4248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9581B-36D7-4C83-9AD4-C04BAA77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4647-AC13-4F83-9AE0-AB72BCD7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1056-D5B3-47EC-9BEC-E7EF372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7320B-DD07-42F5-A13F-E90EC9D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A194-CE07-497B-A45F-14D27C18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B09-3E66-4506-8410-94F50E8C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F7EFF-937E-4D68-AA7F-73F09415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1D21-CFDB-41ED-B2C3-CEB60669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A842A-B04B-44A5-9047-2192D261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B436-A5FC-49F4-8D77-72E6CB80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AC555-CEFA-4E36-94C1-86CDBEEF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275E3-0919-4810-8737-F2453161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F0E7-E668-4EB7-B6B2-8A0B268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7A5B6-ED15-4A75-BB28-CC84E0F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B960B-4C8D-4F76-868D-142036AD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88E10-8770-4170-9535-F0E9384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5B5-EC4B-432B-BAD1-ADAD84B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28A5D-BE12-49C1-AE36-E7D6015F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769D6-29A1-4744-A690-7028FE91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15B18-4376-4897-8198-0E2B5601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8B606-03E5-4FE9-B422-FC2DCC5F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FBB14-8BFA-473E-BE8E-94B67BAC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90778-E79A-4EE9-8575-93814FF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184B0-AFEA-4C71-88F0-76D231F1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BBD1B-2D8D-4A12-873A-BE9D9E3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FEEC9-9E03-455E-A238-BEA1ABB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0AAA-C483-433D-9C46-3553F173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5BC-0721-4BA4-BAD2-D742736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6AFB-E966-4C03-BB8E-140EF432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E1D3-8B17-4108-9409-68400A3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EE91-2308-4C20-9C22-EB0DE939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34867-50B7-459D-B55F-7B4E29A1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F3BC-809D-4C71-A16C-91FABE42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44B5-202C-48A9-A350-285DC0F0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1773F-AF62-4239-BCB0-C2AAECF0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C3C59-E0D2-4543-A374-1B3DC77C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F1DF-DA74-4D22-9CE2-E693B061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096C-044A-4616-BECB-7D26AE23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E4F-B497-462A-9B4E-ABF8B9E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595160" y="380520"/>
            <a:ext cx="7139520" cy="441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D104-4BE0-451B-87F2-D0D480C1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E8881-17B5-4B99-8527-50381B5A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670FD-CD16-462B-B09C-DB92A605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8AAFE-DA6C-4DB1-B488-1C7253E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F4FCD-6AC6-4F69-9D0F-764FCDF0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D59FD-4737-491D-B28D-F3CDFDE4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31DDA-D067-43AF-8CC7-87FE5DC1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D1297-63C9-4713-9D7D-A98A8C2F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F357C-11E6-40DA-995A-C8A5572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04CD4-08D9-4241-80C2-B324C9D1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623E-4802-450A-92C3-91ACD3DD4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098.png"/>
          <p:cNvPicPr/>
          <p:nvPr/>
        </p:nvPicPr>
        <p:blipFill>
          <a:blip r:embed="rId3"/>
          <a:stretch/>
        </p:blipFill>
        <p:spPr>
          <a:xfrm>
            <a:off x="60480" y="208080"/>
            <a:ext cx="1285560" cy="120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77D1-1CB9-4A00-9E40-166F1C139D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4DCB-BBC6-4B58-AEA0-56360676C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23456.png"/>
          <p:cNvPicPr/>
          <p:nvPr/>
        </p:nvPicPr>
        <p:blipFill>
          <a:blip r:embed="rId3"/>
          <a:stretch/>
        </p:blipFill>
        <p:spPr>
          <a:xfrm>
            <a:off x="34920" y="142920"/>
            <a:ext cx="1325520" cy="128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18FD-D407-49FC-96D7-6C3717D6C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36C7-2EB5-4964-90F7-1A617105C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Рисунок 7" descr="765123.png"/>
          <p:cNvPicPr/>
          <p:nvPr/>
        </p:nvPicPr>
        <p:blipFill>
          <a:blip r:embed="rId3"/>
          <a:stretch/>
        </p:blipFill>
        <p:spPr>
          <a:xfrm>
            <a:off x="63360" y="198360"/>
            <a:ext cx="1314720" cy="114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4082-A5D4-412B-A1CD-A354576C70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7" descr="765456.png"/>
          <p:cNvPicPr/>
          <p:nvPr/>
        </p:nvPicPr>
        <p:blipFill>
          <a:blip r:embed="rId3"/>
          <a:stretch/>
        </p:blipFill>
        <p:spPr>
          <a:xfrm>
            <a:off x="142920" y="214200"/>
            <a:ext cx="1203120" cy="115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A79-36E4-4D51-A1D6-C29EBE8434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7" descr="98761234.png"/>
          <p:cNvPicPr/>
          <p:nvPr/>
        </p:nvPicPr>
        <p:blipFill>
          <a:blip r:embed="rId3"/>
          <a:stretch/>
        </p:blipFill>
        <p:spPr>
          <a:xfrm>
            <a:off x="142920" y="214200"/>
            <a:ext cx="1236600" cy="107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F8AE-B422-4D38-9667-9FD2541593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7" descr="d7bd9ff42f39.png"/>
          <p:cNvPicPr/>
          <p:nvPr/>
        </p:nvPicPr>
        <p:blipFill>
          <a:blip r:embed="rId3"/>
          <a:stretch/>
        </p:blipFill>
        <p:spPr>
          <a:xfrm>
            <a:off x="63360" y="100080"/>
            <a:ext cx="1285920" cy="116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F78-3508-440F-8298-EF3356A4EA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95160" y="380520"/>
            <a:ext cx="7139520" cy="9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_AlgeriusBl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_AlgeriusBl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052-AB3C-4504-931F-6840AE8ED6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6"/>
          <p:cNvSpPr/>
          <p:nvPr/>
        </p:nvSpPr>
        <p:spPr>
          <a:xfrm>
            <a:off x="1908000" y="261000"/>
            <a:ext cx="518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Детский сад комбинированного вида №7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WordArt 9"/>
          <p:cNvSpPr txBox="1"/>
          <p:nvPr/>
        </p:nvSpPr>
        <p:spPr>
          <a:xfrm>
            <a:off x="2916360" y="2133720"/>
            <a:ext cx="5256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деля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имних игр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ccec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забав.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ccecff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132000" y="3860640"/>
            <a:ext cx="3527640" cy="2484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rcRect l="0" t="0" r="0" b="5190"/>
          <a:stretch/>
        </p:blipFill>
        <p:spPr>
          <a:xfrm>
            <a:off x="3218040" y="115920"/>
            <a:ext cx="2761920" cy="3457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940360" y="260280"/>
            <a:ext cx="3059280" cy="28083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84040" y="3500280"/>
            <a:ext cx="2760840" cy="3241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6772320" y="3500280"/>
            <a:ext cx="2243160" cy="316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0" y="189000"/>
            <a:ext cx="32306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09:29:37Z</dcterms:created>
  <dc:creator>@</dc:creator>
  <dc:description/>
  <dc:language>en-US</dc:language>
  <cp:lastModifiedBy>@</cp:lastModifiedBy>
  <dcterms:modified xsi:type="dcterms:W3CDTF">2013-04-09T19:08:59Z</dcterms:modified>
  <cp:revision>15</cp:revision>
  <dc:subject/>
  <dc:title>Слайд 1</dc:title>
</cp:coreProperties>
</file>